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16C3-64DD-4E5A-BE18-AA5792D4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941-4C5D-4873-BACF-ACDB3727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4DCA-2368-4ADD-BC58-96C79B7E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C9D-F874-42BF-B236-BE2299DB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8325-CE7D-41CA-BCFC-7A7E0DAA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D99-0EAD-4283-8C34-C30DBD7E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7CE-89DD-442E-9017-71094662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A8A-4443-448F-A40B-89CB3388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2209680" y="304920"/>
            <a:ext cx="69343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D05D-4B60-49E2-98DA-2129A565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7ED-FB35-4B81-B545-972DB9D9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D35-113C-4CE3-980E-7A127DEE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FAE0-435E-4FEF-9C4A-82F4438D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F385-9533-4713-B703-25F5B437CA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5"/>
          <p:cNvPicPr/>
          <p:nvPr/>
        </p:nvPicPr>
        <p:blipFill>
          <a:blip r:embed="rId2"/>
          <a:srcRect l="0" t="34492" r="0" b="0"/>
          <a:stretch/>
        </p:blipFill>
        <p:spPr>
          <a:xfrm>
            <a:off x="0" y="2362320"/>
            <a:ext cx="899172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2209680" y="30492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8E11-7F03-4D4A-AC81-4E9F2BFC5A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29" descr="5"/>
          <p:cNvPicPr/>
          <p:nvPr/>
        </p:nvPicPr>
        <p:blipFill>
          <a:blip r:embed="rId3"/>
          <a:srcRect l="0" t="11662" r="0" b="78837"/>
          <a:stretch/>
        </p:blipFill>
        <p:spPr>
          <a:xfrm>
            <a:off x="0" y="990720"/>
            <a:ext cx="8991720" cy="6508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30" descr=""/>
          <p:cNvPicPr/>
          <p:nvPr/>
        </p:nvPicPr>
        <p:blipFill>
          <a:blip r:embed="rId4"/>
          <a:srcRect l="44347" t="76841" r="44166" b="8322"/>
          <a:stretch/>
        </p:blipFill>
        <p:spPr>
          <a:xfrm>
            <a:off x="8686800" y="0"/>
            <a:ext cx="457200" cy="1247760"/>
          </a:xfrm>
          <a:prstGeom prst="rect">
            <a:avLst/>
          </a:prstGeom>
          <a:ln w="0">
            <a:noFill/>
          </a:ln>
        </p:spPr>
      </p:pic>
      <p:sp>
        <p:nvSpPr>
          <p:cNvPr id="11" name="Freeform 31"/>
          <p:cNvSpPr/>
          <p:nvPr/>
        </p:nvSpPr>
        <p:spPr>
          <a:xfrm>
            <a:off x="228600" y="249120"/>
            <a:ext cx="225360" cy="319320"/>
          </a:xfrm>
          <a:prstGeom prst="pie">
            <a:avLst/>
          </a:prstGeom>
          <a:solidFill>
            <a:srgbClr val="af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AutoShape 32"/>
          <p:cNvSpPr/>
          <p:nvPr/>
        </p:nvSpPr>
        <p:spPr>
          <a:xfrm flipV="1">
            <a:off x="0" y="1047240"/>
            <a:ext cx="22557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33"/>
          <p:cNvSpPr/>
          <p:nvPr/>
        </p:nvSpPr>
        <p:spPr>
          <a:xfrm>
            <a:off x="1986120" y="474840"/>
            <a:ext cx="528480" cy="331560"/>
          </a:xfrm>
          <a:prstGeom prst="pie">
            <a:avLst/>
          </a:prstGeom>
          <a:solidFill>
            <a:srgbClr val="af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34"/>
          <p:cNvSpPr/>
          <p:nvPr/>
        </p:nvSpPr>
        <p:spPr>
          <a:xfrm>
            <a:off x="641520" y="474840"/>
            <a:ext cx="417240" cy="331560"/>
          </a:xfrm>
          <a:prstGeom prst="pie">
            <a:avLst/>
          </a:prstGeom>
          <a:solidFill>
            <a:srgbClr val="af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35"/>
          <p:cNvSpPr/>
          <p:nvPr/>
        </p:nvSpPr>
        <p:spPr>
          <a:xfrm>
            <a:off x="1139760" y="474840"/>
            <a:ext cx="374760" cy="331560"/>
          </a:xfrm>
          <a:prstGeom prst="pie">
            <a:avLst/>
          </a:prstGeom>
          <a:solidFill>
            <a:srgbClr val="af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36"/>
          <p:cNvSpPr/>
          <p:nvPr/>
        </p:nvSpPr>
        <p:spPr>
          <a:xfrm>
            <a:off x="1550880" y="474840"/>
            <a:ext cx="428760" cy="341280"/>
          </a:xfrm>
          <a:prstGeom prst="pie">
            <a:avLst/>
          </a:prstGeom>
          <a:solidFill>
            <a:srgbClr val="af2d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Freeform 37"/>
          <p:cNvSpPr/>
          <p:nvPr/>
        </p:nvSpPr>
        <p:spPr>
          <a:xfrm>
            <a:off x="250920" y="596880"/>
            <a:ext cx="336600" cy="214200"/>
          </a:xfrm>
          <a:prstGeom prst="pie">
            <a:avLst/>
          </a:prstGeom>
          <a:solidFill>
            <a:srgbClr val="94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Freeform 38"/>
          <p:cNvSpPr/>
          <p:nvPr/>
        </p:nvSpPr>
        <p:spPr>
          <a:xfrm>
            <a:off x="488880" y="228600"/>
            <a:ext cx="336600" cy="214200"/>
          </a:xfrm>
          <a:prstGeom prst="pie">
            <a:avLst/>
          </a:prstGeom>
          <a:solidFill>
            <a:srgbClr val="9493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for PPpresen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57200" y="2362320"/>
            <a:ext cx="8305920" cy="29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2d2d"/>
                </a:solidFill>
                <a:latin typeface="Arial"/>
              </a:rPr>
              <a:t>Ожидания от национальной рейтинговой системы : как она будет работать на нашем ры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e7d83"/>
                </a:solidFill>
                <a:latin typeface="Arial"/>
              </a:rPr>
              <a:t>Еркен Калижа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e7d83"/>
                </a:solidFill>
                <a:latin typeface="Arial"/>
              </a:rPr>
              <a:t>Председатель 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e7d83"/>
                </a:solidFill>
                <a:latin typeface="Arial"/>
              </a:rPr>
              <a:t>АО «Рейтинговое агентство РФЦА» при содействии Рейтингового Агентства Малайз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e7d83"/>
                </a:solidFill>
                <a:latin typeface="Arial"/>
              </a:rPr>
              <a:t>12 сентября 200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e7d83"/>
                </a:solidFill>
                <a:latin typeface="Arial"/>
              </a:rPr>
              <a:t>II </a:t>
            </a:r>
            <a:r>
              <a:rPr b="1" lang="ru-RU" sz="1200" spc="-1" strike="noStrike">
                <a:solidFill>
                  <a:srgbClr val="7e7d83"/>
                </a:solidFill>
                <a:latin typeface="Arial"/>
              </a:rPr>
              <a:t>ежегодная конференция Казахстанской фондовой биржи по финансовому рын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Сотрудничество с </a:t>
            </a:r>
            <a:br>
              <a:rPr sz="2800"/>
            </a:b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банковским сект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 банковским сектором для создания совместной деятельности (рынки долгового капитал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госрочные инфраструктурные проекты, финансируемые рынком облиг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знание того, что рынок облигаций обеспечивает  структуризацию крупных рисков компаний и снижает ри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2d2d"/>
                </a:solidFill>
                <a:latin typeface="Tahoma"/>
              </a:rPr>
              <a:t>Должен ли рейтинг быть обязательным? </a:t>
            </a:r>
            <a:br>
              <a:rPr sz="2000"/>
            </a:br>
            <a:r>
              <a:rPr b="1" lang="ru-RU" sz="2000" spc="-1" strike="noStrike">
                <a:solidFill>
                  <a:srgbClr val="ad2d2d"/>
                </a:solidFill>
                <a:latin typeface="Tahoma"/>
              </a:rPr>
              <a:t>(опыт азиатских стр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 – для менее развитых рынков облигаций (большинство развивающихся экономик Аз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гуляторы играют важную роль, задавая первичный толчок рынку облиг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гуляторам надо установить прочную осно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 – для боле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ых рынков облигаций (в Азии: Япония, Тайван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роли регуляторов должны выступать инвес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нвесторы должны требовать рейтин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гулируемы рын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09680" y="204840"/>
            <a:ext cx="6934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d2d2d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09480" y="259092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609480" y="38098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5867280" y="144792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6248520" y="2514600"/>
            <a:ext cx="1981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685800" y="5029200"/>
            <a:ext cx="1981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6248520" y="33526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6095880" y="480060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505320" y="4876920"/>
            <a:ext cx="19810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1143000" y="1447920"/>
            <a:ext cx="1981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3429000" y="1447920"/>
            <a:ext cx="1981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3505320" y="31240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1219320" y="1523880"/>
            <a:ext cx="190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идер независимого мыш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3505320" y="1523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дёж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609480" y="266688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грать роль в развитии фондового ры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609480" y="380988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даптация к требованиям ры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762120" y="51055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дготовка к конкур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5943600" y="15238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торические показатели/ Опы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3581280" y="3352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ь Н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3352680" y="495288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именение лучших международных практ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6095880" y="25909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зависи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6324480" y="342900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ффективное распространение рейтин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6095880" y="487692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зрачный рейтинговый проце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44956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3124080" y="1828800"/>
            <a:ext cx="6098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 flipH="1">
            <a:off x="5333760" y="1828800"/>
            <a:ext cx="5331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 flipV="1">
            <a:off x="2666880" y="4038120"/>
            <a:ext cx="990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2"/>
          <p:cNvSpPr/>
          <p:nvPr/>
        </p:nvSpPr>
        <p:spPr>
          <a:xfrm flipH="1" flipV="1">
            <a:off x="5257800" y="4038120"/>
            <a:ext cx="8380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624852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>
            <a:off x="2590920" y="320040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5"/>
          <p:cNvSpPr/>
          <p:nvPr/>
        </p:nvSpPr>
        <p:spPr>
          <a:xfrm flipV="1">
            <a:off x="2590920" y="37339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6"/>
          <p:cNvSpPr/>
          <p:nvPr/>
        </p:nvSpPr>
        <p:spPr>
          <a:xfrm flipH="1">
            <a:off x="5486040" y="28195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7"/>
          <p:cNvSpPr/>
          <p:nvPr/>
        </p:nvSpPr>
        <p:spPr>
          <a:xfrm flipH="1" flipV="1">
            <a:off x="5486040" y="36572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8"/>
          <p:cNvSpPr/>
          <p:nvPr/>
        </p:nvSpPr>
        <p:spPr>
          <a:xfrm flipV="1">
            <a:off x="4495680" y="4038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04920"/>
            <a:ext cx="64767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2d2d"/>
                </a:solidFill>
                <a:latin typeface="Tahoma"/>
              </a:rPr>
              <a:t>Надёжность, Независимость и </a:t>
            </a:r>
            <a:br>
              <a:rPr sz="2000"/>
            </a:br>
            <a:r>
              <a:rPr b="1" lang="ru-RU" sz="2000" spc="-1" strike="noStrike">
                <a:solidFill>
                  <a:srgbClr val="ad2d2d"/>
                </a:solidFill>
                <a:latin typeface="Tahoma"/>
              </a:rPr>
              <a:t>Исторические показатели (</a:t>
            </a:r>
            <a:r>
              <a:rPr b="1" lang="en-US" sz="2000" spc="-1" strike="noStrike">
                <a:solidFill>
                  <a:srgbClr val="ad2d2d"/>
                </a:solidFill>
                <a:latin typeface="Tahoma"/>
              </a:rPr>
              <a:t>track rec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ачальном этапе развития, рейтинговый комитет с широкими полномочиями потенциально мог бы оказывать помощь в процессе «завоевания» дов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РА не должно испытывать никакого давления (государственного сектора, частного сектора)  - этому способствует диверсифицированная структура акцион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о публикуемые отчёты об изучении дефолта (после значительного количества присвоенных кредитных рейтингов) – послужит в качестве «Отчётной карты» для укрепления доверия и эксперта в кредитном сужд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2d2d"/>
                </a:solidFill>
                <a:latin typeface="Tahoma"/>
              </a:rPr>
              <a:t>Прозрачный процесс рейтинг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838080" y="1371600"/>
            <a:ext cx="2133720" cy="3808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838080" y="4419720"/>
            <a:ext cx="23623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838080" y="3352680"/>
            <a:ext cx="2133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838080" y="2666880"/>
            <a:ext cx="21337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838080" y="198108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2133720" y="5638680"/>
            <a:ext cx="2133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5715000" y="1371600"/>
            <a:ext cx="2133720" cy="4572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4952880" y="4419720"/>
            <a:ext cx="3810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5105520" y="2590920"/>
            <a:ext cx="3581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5715000" y="3124080"/>
            <a:ext cx="2743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5105520" y="3733920"/>
            <a:ext cx="3581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5105520" y="4952880"/>
            <a:ext cx="3581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5105520" y="5486400"/>
            <a:ext cx="3581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914400" y="13716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мит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838080" y="198108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ьба присвоить рей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2"/>
          <p:cNvSpPr/>
          <p:nvPr/>
        </p:nvSpPr>
        <p:spPr>
          <a:xfrm>
            <a:off x="838080" y="266688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яет информа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838080" y="342900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ки НРА проводят заседание руководящего состава с Эмите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914400" y="472428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6"/>
          <p:cNvSpPr/>
          <p:nvPr/>
        </p:nvSpPr>
        <p:spPr>
          <a:xfrm>
            <a:off x="838080" y="4419720"/>
            <a:ext cx="23623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итент принимает рейтинг 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яет 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ит пересмотреть рей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4952880" y="2590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а аналитиков НРА изучает информа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9"/>
          <p:cNvSpPr/>
          <p:nvPr/>
        </p:nvSpPr>
        <p:spPr>
          <a:xfrm>
            <a:off x="5715000" y="31240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ки НРА посещают территорию эмит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0"/>
          <p:cNvSpPr/>
          <p:nvPr/>
        </p:nvSpPr>
        <p:spPr>
          <a:xfrm>
            <a:off x="5105520" y="373392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ки НРА готовят рейтинговый отчёт для внутреннего рассмотр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1"/>
          <p:cNvSpPr/>
          <p:nvPr/>
        </p:nvSpPr>
        <p:spPr>
          <a:xfrm>
            <a:off x="5715000" y="14479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2"/>
          <p:cNvSpPr/>
          <p:nvPr/>
        </p:nvSpPr>
        <p:spPr>
          <a:xfrm>
            <a:off x="4876920" y="44197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овый отчёт сдаётся в Рейтинговый Комит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3"/>
          <p:cNvSpPr/>
          <p:nvPr/>
        </p:nvSpPr>
        <p:spPr>
          <a:xfrm>
            <a:off x="5105520" y="49528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ваивает рейтинг и извещает эмит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4"/>
          <p:cNvSpPr/>
          <p:nvPr/>
        </p:nvSpPr>
        <p:spPr>
          <a:xfrm>
            <a:off x="5105520" y="5486400"/>
            <a:ext cx="35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согласия эмитента оглашает рейтинг (делает его публичны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5"/>
          <p:cNvSpPr/>
          <p:nvPr/>
        </p:nvSpPr>
        <p:spPr>
          <a:xfrm>
            <a:off x="2133720" y="5638680"/>
            <a:ext cx="213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находится под наблюд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6"/>
          <p:cNvSpPr/>
          <p:nvPr/>
        </p:nvSpPr>
        <p:spPr>
          <a:xfrm>
            <a:off x="182880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7"/>
          <p:cNvSpPr/>
          <p:nvPr/>
        </p:nvSpPr>
        <p:spPr>
          <a:xfrm>
            <a:off x="182880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8"/>
          <p:cNvSpPr/>
          <p:nvPr/>
        </p:nvSpPr>
        <p:spPr>
          <a:xfrm>
            <a:off x="2971800" y="27432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>
            <a:off x="6858000" y="1828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0"/>
          <p:cNvSpPr/>
          <p:nvPr/>
        </p:nvSpPr>
        <p:spPr>
          <a:xfrm flipH="1">
            <a:off x="2971800" y="3200400"/>
            <a:ext cx="2743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1"/>
          <p:cNvSpPr/>
          <p:nvPr/>
        </p:nvSpPr>
        <p:spPr>
          <a:xfrm flipV="1">
            <a:off x="2971800" y="3428640"/>
            <a:ext cx="2743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2"/>
          <p:cNvSpPr/>
          <p:nvPr/>
        </p:nvSpPr>
        <p:spPr>
          <a:xfrm>
            <a:off x="685800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>
            <a:off x="685800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5"/>
          <p:cNvSpPr/>
          <p:nvPr/>
        </p:nvSpPr>
        <p:spPr>
          <a:xfrm>
            <a:off x="685800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6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7"/>
          <p:cNvSpPr/>
          <p:nvPr/>
        </p:nvSpPr>
        <p:spPr>
          <a:xfrm flipH="1">
            <a:off x="4266720" y="5715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8"/>
          <p:cNvSpPr/>
          <p:nvPr/>
        </p:nvSpPr>
        <p:spPr>
          <a:xfrm flipH="1">
            <a:off x="3200400" y="5029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9"/>
          <p:cNvSpPr/>
          <p:nvPr/>
        </p:nvSpPr>
        <p:spPr>
          <a:xfrm>
            <a:off x="3200400" y="5181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ad2d2d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нение лучшей международной практики в соответствии с местными потребно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Основы Кодекса Этики для Кредитных Рейтинговых Агентст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Декабрь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бровольный свод рекомендаций для НРА, разработанны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ждународной Организацией  Комиссий по ценным бумаг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OS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09680" y="17460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метр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OSC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чество и Целостность (всесторонность) рейтингов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висимость НРА и предотвращение конфликта интере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ственность НРА перед инвесторами и перед эмите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ытие Кодекса Этики и тесное общение с участниками ры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2d2d"/>
                </a:solidFill>
                <a:latin typeface="Tahoma"/>
              </a:rPr>
              <a:t>Эффективное распространение </a:t>
            </a:r>
            <a:br>
              <a:rPr sz="2400"/>
            </a:br>
            <a:r>
              <a:rPr b="1" lang="ru-RU" sz="2400" spc="-1" strike="noStrike">
                <a:solidFill>
                  <a:srgbClr val="ad2d2d"/>
                </a:solidFill>
                <a:latin typeface="Tahoma"/>
              </a:rPr>
              <a:t>рейтингов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временная и регулярная информация о рейтингах и рейтинговых действ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.е. о повышении, понижении, подтверждении или пересмотре прогноз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: печатные и электронные средства массов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б-сайт представляется важным инструментом для НРА и служит ориентиром для инвес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d2d2d"/>
                </a:solidFill>
                <a:latin typeface="Tahoma"/>
              </a:rPr>
              <a:t>Лидерство независимого мышл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РА должно позиционироваться на фондовом рынке как лидер независимого м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игается при помощи публикаций, т.е. через информационные обзоры рынка облигаций, экономические обзоры, статьи об анализе отрас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конференций и семинаров в условиях развития рынка облигаций очень важ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d2d2d"/>
                </a:solidFill>
                <a:latin typeface="Tahoma"/>
              </a:rPr>
              <a:t>Роль в развитии фондового рынк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развивающегося рынка, НРА необходимо играть роль квази-регулятора – не с точки зрения соответствия, но в плане обучения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ольшинстве развивающихся рынков, НРА синонимы роста на рынке облиг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с регуляторами для развития направлений по дальнейшему развитию рынка облиг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2d2d"/>
                </a:solidFill>
                <a:latin typeface="Tahoma"/>
              </a:rPr>
              <a:t>Обзор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е Национального Рейтингового Агентства (Н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деятельности Н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 Рейтингового Агентства Малайзии (Р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5720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ad2d2d"/>
                </a:solidFill>
                <a:latin typeface="Tahoma"/>
              </a:rPr>
              <a:t>Адаптация к требованиям рынк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ре развития рынка облигаций, НРА придётся адаптироваться к новым уровням сложности, чтобы отвечать дополнительным требованиям эмитентов, инвесторов и регуля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НРА развиваться для рассмотрения заграничных рейтингов, если казахстанские клиенты решат участвовать в заграничных проектах или инвести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Подготовка к конку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ере развития рынка появится возможность для работы более, чем одного национального рейтингового агентства (или международных рейтинговых агентст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енция между рейтинговыми агентствами будет выгодной для рынка, т.к. стандарты будут дифференцирующим фактором. Это также обеспечит продвижение концепции двойного/многократного рейт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ффилированность или долевое партнёрство с международными  рейтинговыми агент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РАМ - Ис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о в ноябре 1990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едоставления инвесторам облигаций руководства по корпоративному кредитному ри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ое: владельцы – финансов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зиатским Банком Развития назван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УЧШ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йтинговым агентством в А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тнё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&amp;Poor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09680" y="456840"/>
            <a:ext cx="693432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2d2d"/>
                </a:solidFill>
                <a:latin typeface="Tahoma"/>
              </a:rPr>
              <a:t>Опыт РАМ</a:t>
            </a:r>
            <a:r>
              <a:rPr b="1" lang="en-US" sz="2400" spc="-1" strike="noStrike">
                <a:solidFill>
                  <a:srgbClr val="ad2d2d"/>
                </a:solidFill>
                <a:latin typeface="Tahoma"/>
              </a:rPr>
              <a:t>:</a:t>
            </a:r>
            <a:r>
              <a:rPr b="1" lang="ru-RU" sz="2400" spc="-1" strike="noStrike">
                <a:solidFill>
                  <a:srgbClr val="ad2d2d"/>
                </a:solidFill>
                <a:latin typeface="Tahoma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ad2d2d"/>
                </a:solidFill>
                <a:latin typeface="Tahoma"/>
              </a:rPr>
              <a:t>Решающие факторы успе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висим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ёрдое с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стандарты, местные персп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 регуля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ющийся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09680" y="456840"/>
            <a:ext cx="693432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Международные связи 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ka Rating Agency Limited (“LRA”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 Л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% дочерняя компания 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местного рейтингового агентства, похожего на РАМ в Шри Ла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щийся подход/ развитие местных эксперт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Rating Information and Services Limited (“CRISL”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гладе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тнёрская ком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поддержка через Рейтинговый Ком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социация Кредитных Рейтинговых Агентств в Ази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ACRA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едатель Тренингового Ком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лен Сов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09680" y="456840"/>
            <a:ext cx="693432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Опыт РАМ в Шри Ла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технического опыта и методологии 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и РАМ  в понимании нужд эмитентов/инвесторов в условиях развивающейся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короткий срок обучения – выгода от ранних стратегий/ подходов Р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 персона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R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уала-Лумп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ирование специалистов РАМ в Шри Ланку для совместной работы над проект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ять выбор эмитентам/инвесторам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ирует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09680" y="204840"/>
            <a:ext cx="6934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d2d2d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Спасиб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ahoma"/>
              </a:rPr>
              <a:t>Еркен Калиж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ahoma"/>
              </a:rPr>
              <a:t>Председатель Пр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ahoma"/>
              </a:rPr>
              <a:t>АО «Рейтинговое агентство РФЦА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ahoma"/>
              </a:rPr>
              <a:t>050040 Тимирязева, 17, Алматы, Республика Казах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ahoma"/>
              </a:rPr>
              <a:t>Тел.: +7 (727) 258 44 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2d2d"/>
                </a:solidFill>
                <a:latin typeface="Tahoma"/>
              </a:rPr>
              <a:t>Предпосылки</a:t>
            </a:r>
            <a:br>
              <a:rPr sz="3600"/>
            </a:br>
            <a:r>
              <a:rPr b="1" lang="ru-RU" sz="3600" spc="-1" strike="noStrike">
                <a:solidFill>
                  <a:srgbClr val="ad2d2d"/>
                </a:solidFill>
                <a:latin typeface="Tahoma"/>
              </a:rPr>
              <a:t> для создания Н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е облигации/рынок ценных бумаг – создание кривой доход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, активная в области корпоративного кредит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упность адекватной финансовой информации/исторические показатели работы компаний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 rec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680" y="204840"/>
            <a:ext cx="6934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ad2d2d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838080" y="18288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429000" y="19051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914400" y="51814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914400" y="342900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5791320" y="1905120"/>
            <a:ext cx="16761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429000" y="35053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867280" y="4343400"/>
            <a:ext cx="2286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05320" y="5181480"/>
            <a:ext cx="16761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5867280" y="3505320"/>
            <a:ext cx="2286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914400" y="182880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оприятная правовая и нормативная б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3429000" y="20574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чая модель: Национа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5791320" y="19051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тельное требование рейт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838080" y="35053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трудничество с банковским секто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838080" y="5181480"/>
            <a:ext cx="198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валифицированные и опытные специалис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581280" y="358128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е Н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3581280" y="5257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декватная капитал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5867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Государственная форма собств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5867280" y="434340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Диверсифицированная структура акционе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426708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5"/>
          <p:cNvSpPr/>
          <p:nvPr/>
        </p:nvSpPr>
        <p:spPr>
          <a:xfrm flipH="1" flipV="1">
            <a:off x="5105520" y="396252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6"/>
          <p:cNvSpPr/>
          <p:nvPr/>
        </p:nvSpPr>
        <p:spPr>
          <a:xfrm flipV="1">
            <a:off x="426708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7"/>
          <p:cNvSpPr/>
          <p:nvPr/>
        </p:nvSpPr>
        <p:spPr>
          <a:xfrm>
            <a:off x="25909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8"/>
          <p:cNvSpPr/>
          <p:nvPr/>
        </p:nvSpPr>
        <p:spPr>
          <a:xfrm>
            <a:off x="2514600" y="228600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9"/>
          <p:cNvSpPr/>
          <p:nvPr/>
        </p:nvSpPr>
        <p:spPr>
          <a:xfrm flipV="1">
            <a:off x="2514600" y="434340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0"/>
          <p:cNvSpPr/>
          <p:nvPr/>
        </p:nvSpPr>
        <p:spPr>
          <a:xfrm flipH="1">
            <a:off x="4876920" y="236232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d2d2d"/>
                </a:solidFill>
                <a:latin typeface="Tahoma"/>
              </a:rPr>
              <a:t>Рабочая мод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под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ое рейтинговое агент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, REFINDO &amp; CRIS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ое рейтинговое аген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&amp;P, Moody’s, Fi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2d2d"/>
                </a:solidFill>
                <a:latin typeface="Tahoma"/>
              </a:rPr>
              <a:t>Правовая и нормативная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важно, чтобы Министерство финансов, Национальный Банк, АФН и другие организации поддерживали и поощряли деятельность Национального Рейтингового Агент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ое требования рейтингов для корпоративных облигаций и финансовых институтов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ая основа,  защищающая держателей облигаций и  поддерживающая обеспеченную активами секьюритиз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дуры банкротства/ 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/ располагаемое время/лишение прав пользования акти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Структура акционе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457200" y="1676520"/>
          <a:ext cx="556272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55627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6"/>
          <p:cNvSpPr/>
          <p:nvPr/>
        </p:nvSpPr>
        <p:spPr>
          <a:xfrm>
            <a:off x="6095880" y="1828800"/>
            <a:ext cx="259092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акого существенного влияния со стороны какого-либо акцион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итуциональные акцио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государственные акцио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09680" y="304920"/>
            <a:ext cx="69343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Адекватная капитализация</a:t>
            </a:r>
            <a:r>
              <a:rPr b="1" lang="ru-RU" sz="4000" spc="-1" strike="noStrike">
                <a:solidFill>
                  <a:srgbClr val="ad2d2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начальные капиталовложения должны быть достаточными для поддержки НРА в период становления и для обеспечения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едотвращения неправомерного давления финансирование должно обеспечиваться  собственным капиталом (без банковских заимствов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ционеры, которые будут участвовать в НРА длительно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d2d2d"/>
                </a:solidFill>
                <a:latin typeface="Tahoma"/>
              </a:rPr>
              <a:t>Рейтинговый персо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ный и квалифицированный аналитический персонал с навыками проведения презентаций и написания отчё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ое сотрудничество и установление связей по тренингам с РАМ будет полезным для подготовки основной группы рейтинговых аналит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2:50:03Z</dcterms:created>
  <dc:creator>user2</dc:creator>
  <dc:description/>
  <dc:language>en-US</dc:language>
  <cp:lastModifiedBy>Omarova</cp:lastModifiedBy>
  <dcterms:modified xsi:type="dcterms:W3CDTF">2008-09-17T09:33:01Z</dcterms:modified>
  <cp:revision>55</cp:revision>
  <dc:subject/>
  <dc:title>Слайд 1</dc:title>
</cp:coreProperties>
</file>