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6F43-1F69-48C7-8858-8FD03EB69E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FFB1-5F3A-4AD5-BD8E-29BEE1F57D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8347-ABC6-44A4-9208-0D7C2EA6EE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266B-28C9-4D2B-B88E-1AC65C2856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553D-DF5F-44B1-8CB9-26B0B7530F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9590-1CAB-4E62-8763-BA94681847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B5E8-EF91-4E7C-8EC5-10AD9B2981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A623-EE0F-4DC9-91DA-3B9DA76B95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DA3F-5BF6-45BB-856C-3FA5D91CCA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1CBF-6587-4707-BD44-B4B09D146D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06C7-AADB-402F-A94A-A6B1C034FF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8007-D161-4A51-8D0B-BF4D351C4D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1CC7-3536-45BC-997A-925B115BD5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56A9-4069-4458-BBAE-7436896877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63A7-79F6-4A65-8FE0-7107A87723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1643-C43C-4C51-9C87-633A14354E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926F-AE6A-472F-AD8B-ADB3882F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E5BF-00AC-420D-BEC8-AC1185A8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701E-4B0A-4C3E-AC9C-B568143C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744B-9CB7-423E-B3BB-1F61A036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BF36-9BF6-427A-BC1B-18F30C31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1F68-DA46-43A6-A140-0A389BA5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59B1-CBF8-4581-B683-876EB53A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5C47-AA72-465C-B2DB-0D454C20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C6A5-9D85-4133-9832-C3AEFB8E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160-27B9-4CEB-9D1B-5CE3A8A0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57B7-FB67-4104-9195-915F8348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662E-401A-4D11-8519-3202998B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4132-C5C8-4471-A807-F4BCE297C8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KASE_Last"/>
          <p:cNvPicPr/>
          <p:nvPr/>
        </p:nvPicPr>
        <p:blipFill>
          <a:blip r:embed="rId1"/>
          <a:stretch/>
        </p:blipFill>
        <p:spPr>
          <a:xfrm>
            <a:off x="7842240" y="189000"/>
            <a:ext cx="1079640" cy="934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3708360" y="2933640"/>
            <a:ext cx="52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овая версия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eb-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айта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0" descr=""/>
          <p:cNvPicPr/>
          <p:nvPr/>
        </p:nvPicPr>
        <p:blipFill>
          <a:blip r:embed="rId2"/>
          <a:stretch/>
        </p:blipFill>
        <p:spPr>
          <a:xfrm>
            <a:off x="4356000" y="299880"/>
            <a:ext cx="3400560" cy="723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2" descr="сканирование0004"/>
          <p:cNvPicPr/>
          <p:nvPr/>
        </p:nvPicPr>
        <p:blipFill>
          <a:blip r:embed="rId3"/>
          <a:stretch/>
        </p:blipFill>
        <p:spPr>
          <a:xfrm>
            <a:off x="0" y="0"/>
            <a:ext cx="360504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-27000"/>
            <a:ext cx="9144000" cy="95724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14480" y="115920"/>
            <a:ext cx="90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Эмит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2"/>
          <p:cNvSpPr/>
          <p:nvPr/>
        </p:nvSpPr>
        <p:spPr>
          <a:xfrm>
            <a:off x="614520" y="1117440"/>
            <a:ext cx="8548560" cy="72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По каждому эмитенту дан максимальный объём актуальной информаци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Общая информ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Рыночная стоимость компан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Список инструм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Акционеры (с возможностью просмотра архив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Финансовые показате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Документы за всю историю разделенные по группа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Последние 10 новостей эмитен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main.jpg"/>
          <p:cNvPicPr/>
          <p:nvPr/>
        </p:nvPicPr>
        <p:blipFill>
          <a:blip r:embed="rId1"/>
          <a:stretch/>
        </p:blipFill>
        <p:spPr>
          <a:xfrm>
            <a:off x="0" y="-1860480"/>
            <a:ext cx="9144000" cy="1908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30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-27000"/>
            <a:ext cx="9144000" cy="95724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4480" y="115920"/>
            <a:ext cx="90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ндекс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K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2"/>
          <p:cNvSpPr/>
          <p:nvPr/>
        </p:nvSpPr>
        <p:spPr>
          <a:xfrm>
            <a:off x="349200" y="1117440"/>
            <a:ext cx="8548560" cy="66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Значение индекса рассчитывается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n-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Представительский список акций с ценами, трендами и долей влияния на индек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Уже знакомый механизм график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Архивная выборка в удобном формате + Архив индекса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KASE_Shares,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числовой ряд которого продолжает Индекс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K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Последние 10 новостей с упоминанием Индекса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K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И ВСЕ ЭТО БЕСПЛАТНО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main.jpg"/>
          <p:cNvPicPr/>
          <p:nvPr/>
        </p:nvPicPr>
        <p:blipFill>
          <a:blip r:embed="rId1"/>
          <a:stretch/>
        </p:blipFill>
        <p:spPr>
          <a:xfrm>
            <a:off x="0" y="-1860480"/>
            <a:ext cx="9144000" cy="181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30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-27000"/>
            <a:ext cx="9144000" cy="95724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14480" y="115920"/>
            <a:ext cx="90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Фору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2"/>
          <p:cNvSpPr/>
          <p:nvPr/>
        </p:nvSpPr>
        <p:spPr>
          <a:xfrm>
            <a:off x="349200" y="1468440"/>
            <a:ext cx="85485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Новое программное обеспечение – новые возмож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Популяризация фондового рынка находит отражение и на форуме, а значит там формируется интересная аудитория из различных слоев финансовой сферы: и проф. участники, и новички, и работники бирж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Форум – саморазвивающаяся структура, возможно ваше участие в форуме сделает его интересне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-27000"/>
            <a:ext cx="9144000" cy="95724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14480" y="152280"/>
            <a:ext cx="90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5"/>
          <p:cNvSpPr/>
          <p:nvPr/>
        </p:nvSpPr>
        <p:spPr>
          <a:xfrm>
            <a:off x="-361800" y="4935600"/>
            <a:ext cx="289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050000, Казахста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г. Алматы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. Достык, 291/3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6" descr="KASE_Last"/>
          <p:cNvPicPr/>
          <p:nvPr/>
        </p:nvPicPr>
        <p:blipFill>
          <a:blip r:embed="rId1"/>
          <a:stretch/>
        </p:blipFill>
        <p:spPr>
          <a:xfrm>
            <a:off x="2793960" y="4583160"/>
            <a:ext cx="1935360" cy="167652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5054760" y="4935600"/>
            <a:ext cx="4089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елефоны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 (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7)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237 53 00,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272 98 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Факс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7)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272 09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-mail: kase@kase.kz </a:t>
            </a:r>
            <a:br>
              <a:rPr sz="2000"/>
            </a:br>
            <a:r>
              <a:rPr b="0" lang="en-US" sz="2000" spc="-1" strike="noStrike">
                <a:solidFill>
                  <a:srgbClr val="005799"/>
                </a:solidFill>
                <a:latin typeface="Arial Narrow"/>
              </a:rPr>
              <a:t>www.kase.k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773280" y="2317680"/>
            <a:ext cx="7621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главное – мы всегда открыты для конструктивного диалога и комментариев, т.к. верим что ничего невозможного н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-27000"/>
            <a:ext cx="9144000" cy="95724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14480" y="95400"/>
            <a:ext cx="90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Совершенно новый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web-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сай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2"/>
          <p:cNvSpPr/>
          <p:nvPr/>
        </p:nvSpPr>
        <p:spPr>
          <a:xfrm>
            <a:off x="433440" y="1228680"/>
            <a:ext cx="8548560" cy="43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4960" indent="-143496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Поменялось все:</a:t>
            </a:r>
            <a:br>
              <a:rPr sz="26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34960" indent="-1434960">
              <a:lnSpc>
                <a:spcPct val="2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Идеолог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34960" indent="-1434960">
              <a:lnSpc>
                <a:spcPct val="2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Программная платфор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34960" indent="-1434960">
              <a:lnSpc>
                <a:spcPct val="2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Методика поддержки и обно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34960" indent="-1434960">
              <a:lnSpc>
                <a:spcPct val="2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Дизай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m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389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30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30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-27000"/>
            <a:ext cx="9144000" cy="95724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14480" y="115920"/>
            <a:ext cx="90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Нов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2"/>
          <p:cNvSpPr/>
          <p:nvPr/>
        </p:nvSpPr>
        <p:spPr>
          <a:xfrm>
            <a:off x="349200" y="1517760"/>
            <a:ext cx="8548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Так ж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как и раньше делятся на новости рынка,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KASE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и новости сай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По многочисленным просьбам добавили возможность получать свежие новости по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R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30360" y="4273560"/>
            <a:ext cx="6083280" cy="2044800"/>
          </a:xfrm>
          <a:prstGeom prst="rect">
            <a:avLst/>
          </a:prstGeom>
          <a:ln w="0">
            <a:noFill/>
          </a:ln>
        </p:spPr>
      </p:pic>
      <p:sp>
        <p:nvSpPr>
          <p:cNvPr id="60" name="Скругленный прямоугольник 5"/>
          <p:cNvSpPr/>
          <p:nvPr/>
        </p:nvSpPr>
        <p:spPr>
          <a:xfrm>
            <a:off x="7194600" y="4273560"/>
            <a:ext cx="419040" cy="39996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-27000"/>
            <a:ext cx="9144000" cy="95724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14480" y="115920"/>
            <a:ext cx="90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Акции – общая стра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2"/>
          <p:cNvSpPr/>
          <p:nvPr/>
        </p:nvSpPr>
        <p:spPr>
          <a:xfrm>
            <a:off x="349200" y="1868400"/>
            <a:ext cx="854856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Нет списка всех акций, но есть поиск по коду и названию эмитен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Наиболее ликвидные акции за различные перио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Последние 10 сделок по акц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Реестр сделок в удобном для Вас формате (вывод на экран,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icrosoft Excel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или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omma Separated Values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main.jpg"/>
          <p:cNvPicPr/>
          <p:nvPr/>
        </p:nvPicPr>
        <p:blipFill>
          <a:blip r:embed="rId1"/>
          <a:stretch/>
        </p:blipFill>
        <p:spPr>
          <a:xfrm>
            <a:off x="0" y="-1816200"/>
            <a:ext cx="9144000" cy="132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30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-27000"/>
            <a:ext cx="9144000" cy="95724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14480" y="115920"/>
            <a:ext cx="90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Акции – страница конкретной а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2"/>
          <p:cNvSpPr/>
          <p:nvPr/>
        </p:nvSpPr>
        <p:spPr>
          <a:xfrm>
            <a:off x="349200" y="1246320"/>
            <a:ext cx="854856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Последние значения за сегодня, вчера, и последние 52 неде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График по архиву с расширенным функционал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Последние 10 сдел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Характеристика инструмента и выпус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Краткая информация об эмитенте и полный список инструментов этого эмитен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Последние 10 новостей компании с возможностью просмотра архива с декабря 1998 г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main.jpg"/>
          <p:cNvPicPr/>
          <p:nvPr/>
        </p:nvPicPr>
        <p:blipFill>
          <a:blip r:embed="rId1"/>
          <a:stretch/>
        </p:blipFill>
        <p:spPr>
          <a:xfrm>
            <a:off x="0" y="-1860480"/>
            <a:ext cx="9144000" cy="2181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30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-27000"/>
            <a:ext cx="9144000" cy="95724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14480" y="115920"/>
            <a:ext cx="90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Акции – архивный граф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5160" y="1457280"/>
            <a:ext cx="9029520" cy="439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07:44:47Z</dcterms:created>
  <dc:creator>Azamat</dc:creator>
  <dc:description/>
  <dc:language>en-US</dc:language>
  <cp:lastModifiedBy>Omarova</cp:lastModifiedBy>
  <dcterms:modified xsi:type="dcterms:W3CDTF">2008-09-17T09:40:19Z</dcterms:modified>
  <cp:revision>971</cp:revision>
  <dc:subject/>
  <dc:title>Презентация PowerPoint</dc:title>
</cp:coreProperties>
</file>