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77172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856800" y="74412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66720" y="4707000"/>
            <a:ext cx="5329440" cy="445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940752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771720" y="940752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37E7D5E-979F-4487-8890-BA5EDF3308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2080" y="940752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08AAB25-F750-4F9C-8EB9-5C2BC268D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7160" y="74448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720" y="4707000"/>
            <a:ext cx="532944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E26-F4D2-4D65-9BBB-8F897583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3FC-F88B-411A-8A10-AAB2B0B2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4AC-06BA-48D3-9894-11C1B77D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9E1-F0AC-47A2-9CB6-161044B4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3516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23D-FE76-402F-84C4-93B5E037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6EB8-BA06-4CF6-B10B-9DB03AD9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356B-2C05-4AF9-A1DD-90C3108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CCCA-DA61-4EAC-93D2-317FB827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267A-9A84-4BB3-B633-1EF5708A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B83C-42FA-4E25-9945-30E270CE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BBF-0DF4-4733-BAC5-DCAA5107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3516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5707-7FA5-4843-859F-68E294F3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5D62-D349-4418-B508-A3823AD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60EC-039C-4790-8EEA-0775C25B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D0B2-7216-4C12-8DCF-C20B94F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38A9-9701-4154-9EFA-40A3D302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25A7-2376-436A-AAA7-CC4C8666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0A1F-8EA4-4952-93F1-4671D875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081-56E6-4492-B982-466A03A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DB7-5454-4BF7-86D2-ACEE2C9F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3516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668-C4A7-49B7-A358-0857827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162-7141-4484-8DC1-5AD2DC50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616-FC30-4937-9E7E-F461759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753-E490-4E63-BD2A-2D5E234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raphnew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440" y="3086280"/>
            <a:ext cx="9191880" cy="3811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831960"/>
            <a:ext cx="8820000" cy="581040"/>
          </a:xfrm>
          <a:prstGeom prst="rect">
            <a:avLst/>
          </a:prstGeom>
          <a:solidFill>
            <a:srgbClr val="28785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499"/>
              </a:spcBef>
              <a:buClr>
                <a:srgbClr val="28785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CED3-185A-458C-8881-E1D74AE91CA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975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8785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30CC-31FF-4763-B8AC-9BC83C5CAD01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381720"/>
            <a:ext cx="8785080" cy="0"/>
          </a:xfrm>
          <a:prstGeom prst="line">
            <a:avLst/>
          </a:prstGeom>
          <a:ln w="63360">
            <a:solidFill>
              <a:srgbClr val="287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MICEXnew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317600" y="1376280"/>
            <a:ext cx="7851960" cy="549432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1"/>
          <p:cNvSpPr/>
          <p:nvPr/>
        </p:nvSpPr>
        <p:spPr>
          <a:xfrm>
            <a:off x="582480" y="692280"/>
            <a:ext cx="1513080" cy="77760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6156360" y="2012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7850"/>
                </a:solidFill>
                <a:latin typeface="Microsoft Sans Serif"/>
              </a:rPr>
              <a:t>2</a:t>
            </a:r>
            <a:r>
              <a:rPr b="1" lang="en-US" sz="1600" spc="-1" strike="noStrike">
                <a:solidFill>
                  <a:srgbClr val="287850"/>
                </a:solidFill>
                <a:latin typeface="Microsoft Sans Serif"/>
              </a:rPr>
              <a:t>6</a:t>
            </a:r>
            <a:r>
              <a:rPr b="1" lang="ru-RU" sz="1600" spc="-1" strike="noStrike">
                <a:solidFill>
                  <a:srgbClr val="287850"/>
                </a:solidFill>
                <a:latin typeface="Microsoft Sans Serif"/>
              </a:rPr>
              <a:t> мая</a:t>
            </a:r>
            <a:r>
              <a:rPr b="1" lang="en-US" sz="1600" spc="-1" strike="noStrike">
                <a:solidFill>
                  <a:srgbClr val="287850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287850"/>
                </a:solidFill>
                <a:latin typeface="Microsoft Sans Serif"/>
              </a:rPr>
              <a:t>200</a:t>
            </a:r>
            <a:r>
              <a:rPr b="1" lang="en-US" sz="1600" spc="-1" strike="noStrike">
                <a:solidFill>
                  <a:srgbClr val="287850"/>
                </a:solidFill>
                <a:latin typeface="Microsoft Sans Serif"/>
              </a:rPr>
              <a:t>8</a:t>
            </a:r>
            <a:r>
              <a:rPr b="1" lang="ru-RU" sz="1600" spc="-1" strike="noStrike">
                <a:solidFill>
                  <a:srgbClr val="287850"/>
                </a:solidFill>
                <a:latin typeface="Microsoft Sans Serif"/>
              </a:rPr>
              <a:t>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499"/>
              </a:spcBef>
              <a:buClr>
                <a:srgbClr val="28785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2" descr="Graphnew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440" y="3086280"/>
            <a:ext cx="9191880" cy="3811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0" y="831960"/>
            <a:ext cx="8820000" cy="581040"/>
          </a:xfrm>
          <a:prstGeom prst="rect">
            <a:avLst/>
          </a:prstGeom>
          <a:solidFill>
            <a:srgbClr val="28785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499"/>
              </a:spcBef>
              <a:buClr>
                <a:srgbClr val="28785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7557-7D32-4E40-988B-938BCE2FA4E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975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8785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4AFB-4D43-4325-9195-D3F3E444BD6D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0" y="6381720"/>
            <a:ext cx="8785080" cy="0"/>
          </a:xfrm>
          <a:prstGeom prst="line">
            <a:avLst/>
          </a:prstGeom>
          <a:ln w="63360">
            <a:solidFill>
              <a:srgbClr val="287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4319640" y="317520"/>
            <a:ext cx="504720" cy="2523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870280" y="1731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7850"/>
                </a:solidFill>
                <a:latin typeface="Times New Roman"/>
              </a:rPr>
              <a:t>ММ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822920" y="173160"/>
            <a:ext cx="15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7850"/>
                </a:solidFill>
                <a:latin typeface="Times New Roman"/>
              </a:rPr>
              <a:t>MIC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1504800"/>
            <a:ext cx="8266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7850"/>
                </a:solidFill>
                <a:latin typeface="Microsoft Sans Serif"/>
              </a:rPr>
              <a:t>Предпосылки создания</a:t>
            </a:r>
            <a:br>
              <a:rPr sz="2800"/>
            </a:br>
            <a:r>
              <a:rPr b="0" lang="en-US" sz="2800" spc="-1" strike="noStrike">
                <a:solidFill>
                  <a:srgbClr val="287850"/>
                </a:solidFill>
                <a:latin typeface="Microsoft Sans Serif"/>
              </a:rPr>
              <a:t>международного финансового центра в России</a:t>
            </a:r>
            <a:endParaRPr b="1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грамма социально-экономического развития России до 2020 г.</a:t>
            </a:r>
            <a:endParaRPr b="1" lang="en-US" sz="1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7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247-BF19-44CC-BD6B-DEF87750C109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Rectangle 3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Rectangle 3" descr=""/>
                  <p:cNvPicPr/>
                  <p:nvPr/>
                </p:nvPicPr>
                <p:blipFill>
                  <a:blip r:embed="rId2">
                    <a:alphaModFix amt="70000"/>
                  </a:blip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8C5B-CE54-4756-99BC-F67675AB89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Москва — признанный финансовый центр России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91" name="Rectangle 3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48320" y="1600200"/>
          <a:ext cx="4038480" cy="4600440"/>
        </p:xfrm>
        <a:graphic>
          <a:graphicData uri="http://schemas.openxmlformats.org/drawingml/2006/table">
            <a:tbl>
              <a:tblPr/>
              <a:tblGrid>
                <a:gridCol w="1065240"/>
                <a:gridCol w="782640"/>
                <a:gridCol w="1315800"/>
                <a:gridCol w="874800"/>
              </a:tblGrid>
              <a:tr h="4590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оп-10 регионов России по банковским актива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ги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Активы банков, млрд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бъем предоставленных кредитов, млрд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Число кредитных организа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93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165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анкт-Петербур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4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0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вердлов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4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0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осков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98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юмен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74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87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амар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5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1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спублика Татарста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57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01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овосибир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7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37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раснодарский 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ижегород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2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2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*на 1 января 2008 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A48-EF13-407D-9083-CAFC42EE0143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CFC6-97C1-4544-A009-CE4CBF303C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icrosoft Sans Serif"/>
              </a:rPr>
              <a:t>Положение Москвы среди европейских городов  (рейтинг </a:t>
            </a: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ECM)</a:t>
            </a:r>
            <a:endParaRPr b="1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229600" cy="4610160"/>
        </p:xfrm>
        <a:graphic>
          <a:graphicData uri="http://schemas.openxmlformats.org/drawingml/2006/table">
            <a:tbl>
              <a:tblPr/>
              <a:tblGrid>
                <a:gridCol w="449280"/>
                <a:gridCol w="3868560"/>
                <a:gridCol w="3911760"/>
              </a:tblGrid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елание зарубежных компаний открыть представ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тоимость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оступ к финансовым рын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валификация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нешние транспортные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изнес-клим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Знание яз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нутренни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ачество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остояние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468360" y="6453360"/>
            <a:ext cx="7991280" cy="27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Ист.: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Report “The European Cities Monitor 2007”</a:t>
            </a: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by Cushman&amp;Wake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16C5-DBAA-4920-8FCE-75DEBC154A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Создание МФЦ в Москве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404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Инвестиции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Налоги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Занятость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Имидж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4360" y="4280040"/>
            <a:ext cx="4348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Концентрированный офисный центр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Транспортная инфраструктура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Безопасность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Стабильное энергоснабжение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Современные коммуникации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1830240" cy="1436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1779480" cy="1803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 rot="5400000">
            <a:off x="3456000" y="42991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 rot="5400000">
            <a:off x="3455640" y="1930320"/>
            <a:ext cx="1187640" cy="1187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135D-F281-4A5D-A679-7D765AFB17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964720" cy="5106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03760" y="350028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НЬЮ-ЙОРК </a:t>
            </a:r>
            <a:r>
              <a:rPr b="0" lang="en-US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9240" y="3141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ЛОНДОН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5440" y="3357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ПАРИЖ </a:t>
            </a:r>
            <a:r>
              <a:rPr b="0" lang="en-US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321300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Century Gothic"/>
              </a:rPr>
              <a:t>ФРАНКФУ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7040" y="30621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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600" y="461340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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СИНГАП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360" y="4149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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Century Gothic"/>
              </a:rPr>
              <a:t>ГОНКО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42640" y="3716280"/>
            <a:ext cx="11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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Century Gothic"/>
              </a:rPr>
              <a:t>ТОК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6631-748C-4A69-B3D9-56283544D9A2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Москва — МФЦ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589F-B5EE-4C93-B73F-57C5369E17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F38D-BE45-4F6D-AE91-08279B4272E8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Контакты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Адрес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25009, Москва, Б. Кисловский пер., 13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Телефон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(+7 495) 234-48-11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Факс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(+7 495) 705-96-22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E-mail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info@micex.com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Интернет-сервер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www.micex.ru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2595-786D-40CC-990E-6FAD432EF0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Индекс международных финансовых центров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4038480" cy="46306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инансов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а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й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ью-Йор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Гонко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ингап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Цюр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ранкфу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ен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Чика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ок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и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648320" y="1600200"/>
          <a:ext cx="4038480" cy="46306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инансов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а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й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уб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токголь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адр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омб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23 (+3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68360" y="6453360"/>
            <a:ext cx="7991280" cy="27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Ист.: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Report “The Global Financial Centers Index 3”</a:t>
            </a: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by the Z/Yen  Group for the City of 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249E-5929-4998-98A6-C0C5B05B40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Что дает международный финансовый центр стране?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Мобилизует внутренние и внешние инвестиции и обеспечивает ускорение темпов роста ВВП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Приток квалифицированных кадров позволяет мобилизовать передовой опыт и знания и обеспечить инновационный рост экономики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Вовлеченность в глобальный финансовый рынок позволяет получить синергетический эффект от роста международной торговли и мировой экономики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Создает новые возможности для увеличения благосостояния страны и ее граждан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4457880"/>
            <a:ext cx="8136000" cy="916920"/>
          </a:xfrm>
          <a:prstGeom prst="rect">
            <a:avLst/>
          </a:prstGeom>
          <a:solidFill>
            <a:srgbClr val="008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ение и развитие МФЦ может происходить только в результате целенаправленной и активной политики со стороны правительства, муниципальных властей и бизнес-сообщества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5CC5-7E5B-4E51-B43F-C5C193ABB8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Бурный рост объема торгов на биржевых рынках России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460440" y="1603440"/>
          <a:ext cx="403236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344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Rectangle 3"/>
          <p:cNvGraphicFramePr/>
          <p:nvPr/>
        </p:nvGraphicFramePr>
        <p:xfrm>
          <a:off x="4649760" y="1603440"/>
          <a:ext cx="4032360" cy="21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9760" y="160344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Rectangle 3"/>
          <p:cNvGraphicFramePr/>
          <p:nvPr/>
        </p:nvGraphicFramePr>
        <p:xfrm>
          <a:off x="460440" y="3935520"/>
          <a:ext cx="403236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440" y="393552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Rectangle 3"/>
          <p:cNvGraphicFramePr/>
          <p:nvPr/>
        </p:nvGraphicFramePr>
        <p:xfrm>
          <a:off x="4649760" y="3935520"/>
          <a:ext cx="4032360" cy="21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9760" y="393552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8400" y="6453360"/>
            <a:ext cx="4298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icrosoft Sans Serif"/>
              </a:rPr>
              <a:t>* — январь–апр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3645000"/>
            <a:ext cx="223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Рост за три года в 9,4 р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364500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Рост за три года в 7р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6033960"/>
            <a:ext cx="223236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Рост за три года в 5,6 р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6033960"/>
            <a:ext cx="230328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Рост за три года в 23,4 р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C719-F4D4-4994-A3D6-34B7B29A9A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CF68-DE47-441A-A516-BD6FC3EF7CE7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Группа ММВБ вошла в TOP 20 мировых бирж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01760"/>
                <a:gridCol w="2544480"/>
                <a:gridCol w="1005120"/>
                <a:gridCol w="334800"/>
                <a:gridCol w="335160"/>
                <a:gridCol w="2477880"/>
                <a:gridCol w="1130400"/>
              </a:tblGrid>
              <a:tr h="531720">
                <a:tc gridSpan="7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энкинг бирж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по среднедневному обороту торгов акциями и облигациями в 2007 г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ирж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борот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лрд дол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ирж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борот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лрд дол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YSE Gro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7,7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ao Paulo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5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asda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1,77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slo Bø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London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3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JS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okyo SE Gro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ingapore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4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uronex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ombay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Deutsche Bör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7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3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Istanbul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hanghai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saka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7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ME Spanish Exchang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ursa Malay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orsa Ital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thens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Hong Kong Exchan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Irish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5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henzhen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Wiener Bör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Korea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Mexican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wiss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hailand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MX Nordic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Jakarta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6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SX Grou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5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el Aviv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ustralian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6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Warsaw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5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Группа ММВ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Cairo &amp; Alexandria 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aiwan SE Cor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7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antiago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ational Stock Exchange In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7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udapest S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9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merican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Philippine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Прямоугольник 4"/>
          <p:cNvSpPr/>
          <p:nvPr/>
        </p:nvSpPr>
        <p:spPr>
          <a:xfrm>
            <a:off x="525600" y="6448320"/>
            <a:ext cx="822312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Microsoft Sans Serif"/>
              </a:rPr>
              <a:t>Составлен по данным WFE и МАБ СНГ;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Microsoft Sans Serif"/>
              </a:rPr>
              <a:t>оборот торгов акциями, корпоративными и государственными облигациями без учета операций репо и первичных размещен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F759-054A-40A0-B1A2-2C402964F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Rectangle 3"/>
          <p:cNvGraphicFramePr/>
          <p:nvPr/>
        </p:nvGraphicFramePr>
        <p:xfrm>
          <a:off x="464832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Москва — основной центр ценообразования на фондовые активы российских компаний</a:t>
            </a:r>
            <a:endParaRPr b="1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8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7971-EA2E-46D3-9ECF-D0D20AF8D0AA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Rectangle 3"/>
          <p:cNvGraphicFramePr/>
          <p:nvPr/>
        </p:nvGraphicFramePr>
        <p:xfrm>
          <a:off x="471600" y="1600200"/>
          <a:ext cx="4010040" cy="452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00" y="1600200"/>
                    <a:ext cx="401004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BDF7-FCE0-4C24-993D-A266581F0A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Интернационализация российского финансового рынка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72" name="Rectangle 3"/>
          <p:cNvGraphicFramePr/>
          <p:nvPr/>
        </p:nvGraphicFramePr>
        <p:xfrm>
          <a:off x="457200" y="1627200"/>
          <a:ext cx="40384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27200"/>
                    <a:ext cx="40384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Rectangle 3"/>
          <p:cNvGraphicFramePr/>
          <p:nvPr/>
        </p:nvGraphicFramePr>
        <p:xfrm>
          <a:off x="4648320" y="1627200"/>
          <a:ext cx="4038480" cy="44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27200"/>
                    <a:ext cx="40384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539640" y="6453360"/>
            <a:ext cx="1871640" cy="246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icrosoft Sans Serif"/>
              </a:rPr>
              <a:t>*  — январь–апрель2008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3592-DA2E-4C59-B42B-105B86059EC6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0E89-29C9-4A58-A02A-87CAE67C85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МФЦ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и фондовые биржи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162080"/>
                <a:gridCol w="792000"/>
                <a:gridCol w="2084400"/>
              </a:tblGrid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инансовый цен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энкинг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GF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аличие биржи, ее место в мировом рейтинге бирж по объему торгов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Лонд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ью-Йор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 и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Гонкон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ингап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Цюр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ранкфу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ене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Чика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оки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и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218960"/>
                <a:gridCol w="735120"/>
                <a:gridCol w="2084400"/>
              </a:tblGrid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инансовый цент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энкинг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GF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аличие биржи, ее место в мировом рейтинге бирж по объему торгов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ост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ан-Франциск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убл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Пари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орон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жерс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Люксембур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Эдинбур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Гернс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ашингт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468360" y="6453360"/>
            <a:ext cx="6264360" cy="27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* По данным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World Federation of Exchanges </a:t>
            </a: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и МАБ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7DE3-2A50-40BA-A9B4-7DD345F753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Основные факторы конкурентоспособности МФЦ 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19600" cy="4708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icrosoft Sans Serif"/>
              </a:rPr>
              <a:t>Развитие финансовых рынков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Microsoft Sans Serif"/>
              </a:rPr>
              <a:t>Обороты торгов финансовыми инструментами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Microsoft Sans Serif"/>
              </a:rPr>
              <a:t>Разнообразие финансовых услуг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Microsoft Sans Serif"/>
              </a:rPr>
              <a:t>Доля международных финансов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Sans Serif"/>
              </a:rPr>
              <a:t>Бизнес-климат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Регулирование финансовой сферы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Уровень коррупции, экономическая свобода и простота ведения бизнеса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Sans Serif"/>
              </a:rPr>
              <a:t>Инфраструктура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Качество, стоимость и доступность коммерческой недвижимости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Энергобезопасность и надежность электронных коммуникаций 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Sans Serif"/>
              </a:rPr>
              <a:t>Рынок труда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Квалифицированный персонал 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Развитость бизнес-образования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Sans Serif"/>
              </a:rPr>
              <a:t>Общие факторы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Брэнд. Экология. Общие впечат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о городе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356000" y="1600200"/>
          <a:ext cx="4537080" cy="4446720"/>
        </p:xfrm>
        <a:graphic>
          <a:graphicData uri="http://schemas.openxmlformats.org/drawingml/2006/table">
            <a:tbl>
              <a:tblPr/>
              <a:tblGrid>
                <a:gridCol w="482760"/>
                <a:gridCol w="3152880"/>
                <a:gridCol w="901440"/>
              </a:tblGrid>
              <a:tr h="520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Приоритетность факторов конкурентоспосо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а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редний бал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оступность квалифицированного персон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гулятивная б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Microsoft Sans Serif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Microsoft Sans Serif"/>
                        </a:rPr>
                        <a:t>Доступ к международным финансовым рынк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Microsoft Sans Serif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оступ к клиен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лагоприятный бизнес-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тветственность и заинтересованность государственны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алогообложение корпоративного сек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перационные зат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оступ к профессиональным услуг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ачество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ультура и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ачество, цена и доступность коммерческой недвижи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алогообложение доходов 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6453360"/>
            <a:ext cx="7991280" cy="27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Ист.: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Report “The Global Financial Centers Index 3”</a:t>
            </a: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by the Z/Yen  Group for the City of 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E628-8B27-4F28-B95A-DC22E69AB7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08:14:04Z</dcterms:created>
  <dc:creator/>
  <dc:description/>
  <dc:language>en-US</dc:language>
  <cp:lastModifiedBy>Omarova</cp:lastModifiedBy>
  <dcterms:modified xsi:type="dcterms:W3CDTF">2008-09-17T08:21:36Z</dcterms:modified>
  <cp:revision>670</cp:revision>
  <dc:subject/>
  <dc:title>MICEX at Glance</dc:title>
</cp:coreProperties>
</file>