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</p:sldIdLst>
  <p:sldSz cx="9907588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6667a"/>
              </a:solidFill>
              <a:latin typeface="Verdana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6667a"/>
              </a:solidFill>
              <a:latin typeface="Verdan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dt" idx="1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6667a"/>
              </a:solidFill>
              <a:latin typeface="Verdan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 type="sldImg"/>
          </p:nvPr>
        </p:nvSpPr>
        <p:spPr>
          <a:xfrm>
            <a:off x="779400" y="767880"/>
            <a:ext cx="554040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Gill Sans"/>
              </a:rPr>
              <a:t>Click to move the slide</a:t>
            </a: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 type="ftr" idx="2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6667a"/>
              </a:solidFill>
              <a:latin typeface="Verdana"/>
            </a:endParaRPr>
          </a:p>
        </p:txBody>
      </p:sp>
      <p:sp>
        <p:nvSpPr>
          <p:cNvPr id="573" name="PlaceHolder 6"/>
          <p:cNvSpPr>
            <a:spLocks noGrp="1"/>
          </p:cNvSpPr>
          <p:nvPr>
            <p:ph type="sldNum" idx="3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ru-RU" sz="13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747A966-7F35-42DB-9CF9-409FAC37BF29}" type="slidenum">
              <a:rPr b="0" lang="ru-RU" sz="13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1" lang="en-US" sz="1300" spc="-1" strike="noStrike">
              <a:solidFill>
                <a:srgbClr val="46667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746679F-0620-4743-9731-FADBFCC37298}" type="slidenum">
              <a:rPr b="0" lang="ru-RU" sz="13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1" lang="en-US" sz="1300" spc="-1" strike="noStrike">
              <a:solidFill>
                <a:srgbClr val="46667a"/>
              </a:solidFill>
              <a:latin typeface="Verdana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779400" y="768240"/>
            <a:ext cx="5540400" cy="383724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ill Sans"/>
              </a:rPr>
              <a:t>Принцип работы системы заключается в выборе такого исторического поведения рынка, которое наиболее полно отражает текущее движение котировок и которое будет иметь место в краткосрочном будущем</a:t>
            </a: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Gill Sans"/>
              </a:rPr>
              <a:t>(в течение следующего торгового дня) с большей долей вероятности. На основании этих данных, выставляются лимит и стоп ордера на текущий торговый день. 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11863BE-7538-4048-AEA8-8B8EAE1AF9F7}" type="slidenum">
              <a:rPr b="0" lang="ru-RU" sz="13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1" lang="en-US" sz="1300" spc="-1" strike="noStrike">
              <a:solidFill>
                <a:srgbClr val="46667a"/>
              </a:solidFill>
              <a:latin typeface="Verdana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779400" y="768240"/>
            <a:ext cx="5540400" cy="383724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30402B2-8C9F-47B5-86AF-1F36181C867D}" type="slidenum">
              <a:rPr b="0" lang="ru-RU" sz="13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1" lang="en-US" sz="1300" spc="-1" strike="noStrike">
              <a:solidFill>
                <a:srgbClr val="46667a"/>
              </a:solidFill>
              <a:latin typeface="Verdana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779400" y="768240"/>
            <a:ext cx="5540400" cy="383724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9A4B9A6-AD70-4349-A51F-DBCAE675506E}" type="slidenum">
              <a:rPr b="0" lang="ru-RU" sz="13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1" lang="en-US" sz="1300" spc="-1" strike="noStrike">
              <a:solidFill>
                <a:srgbClr val="46667a"/>
              </a:solidFill>
              <a:latin typeface="Verdana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779400" y="768240"/>
            <a:ext cx="5540400" cy="383724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ill San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35080" algn="ctr">
              <a:spcBef>
                <a:spcPts val="1763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35080" indent="0" algn="ctr">
              <a:spcBef>
                <a:spcPts val="1763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35080" algn="ctr">
              <a:spcBef>
                <a:spcPts val="1763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35080" indent="0" algn="ctr">
              <a:spcBef>
                <a:spcPts val="1763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35080" algn="ctr">
              <a:spcBef>
                <a:spcPts val="1763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35080" indent="0" algn="ctr">
              <a:spcBef>
                <a:spcPts val="1763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35080" algn="ctr">
              <a:spcBef>
                <a:spcPts val="1763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35080" indent="0" algn="ctr">
              <a:spcBef>
                <a:spcPts val="1763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35080" indent="0" algn="ctr">
              <a:spcBef>
                <a:spcPts val="1763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35080" algn="ctr">
              <a:spcBef>
                <a:spcPts val="1763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35080" indent="0" algn="ctr">
              <a:spcBef>
                <a:spcPts val="1763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35080" algn="ctr">
              <a:spcBef>
                <a:spcPts val="1763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8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9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35080" indent="0" algn="ctr">
              <a:spcBef>
                <a:spcPts val="1763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35080" algn="ctr">
              <a:spcBef>
                <a:spcPts val="1763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35080" algn="ctr">
              <a:spcBef>
                <a:spcPts val="1763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5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6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35080" indent="0" algn="ctr">
              <a:spcBef>
                <a:spcPts val="1763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35080" indent="0" algn="ctr">
              <a:spcBef>
                <a:spcPts val="1763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35080" algn="ctr">
              <a:spcBef>
                <a:spcPts val="1763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35080" indent="0" algn="ctr">
              <a:spcBef>
                <a:spcPts val="1763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35080" algn="ctr">
              <a:spcBef>
                <a:spcPts val="1763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35080" indent="0" algn="ctr">
              <a:spcBef>
                <a:spcPts val="1763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35080" algn="ctr">
              <a:spcBef>
                <a:spcPts val="1763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35080" algn="ctr">
              <a:spcBef>
                <a:spcPts val="1763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35080" indent="0" algn="ctr">
              <a:spcBef>
                <a:spcPts val="1763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35080" algn="ctr">
              <a:spcBef>
                <a:spcPts val="1763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35080" indent="0" algn="ctr">
              <a:spcBef>
                <a:spcPts val="1763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35080" algn="ctr">
              <a:spcBef>
                <a:spcPts val="1763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35080" indent="0" algn="ctr">
              <a:spcBef>
                <a:spcPts val="1763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35080" algn="ctr">
              <a:spcBef>
                <a:spcPts val="1763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35080" indent="0" algn="ctr">
              <a:spcBef>
                <a:spcPts val="1763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6667a"/>
              </a:solidFill>
              <a:latin typeface="Verdana"/>
            </a:endParaRPr>
          </a:p>
        </p:txBody>
      </p:sp>
      <p:pic>
        <p:nvPicPr>
          <p:cNvPr id="1" name="Picture 3" descr="Logo"/>
          <p:cNvPicPr/>
          <p:nvPr/>
        </p:nvPicPr>
        <p:blipFill>
          <a:blip r:embed="rId2"/>
          <a:stretch/>
        </p:blipFill>
        <p:spPr>
          <a:xfrm>
            <a:off x="2484360" y="138240"/>
            <a:ext cx="4552920" cy="1207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968040" y="178920"/>
            <a:ext cx="7970760" cy="1714680"/>
          </a:xfrm>
          <a:prstGeom prst="rect">
            <a:avLst/>
          </a:prstGeom>
          <a:noFill/>
          <a:ln w="0">
            <a:noFill/>
          </a:ln>
        </p:spPr>
        <p:txBody>
          <a:bodyPr lIns="37440" rIns="37440" tIns="37440" bIns="3744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68040" y="1946160"/>
            <a:ext cx="7970760" cy="4019760"/>
          </a:xfrm>
          <a:prstGeom prst="rect">
            <a:avLst/>
          </a:prstGeom>
          <a:noFill/>
          <a:ln w="0">
            <a:noFill/>
          </a:ln>
        </p:spPr>
        <p:txBody>
          <a:bodyPr lIns="37440" rIns="37440" tIns="37440" bIns="37440" anchor="ctr">
            <a:normAutofit fontScale="82000"/>
          </a:bodyPr>
          <a:p>
            <a:pPr marL="506160" indent="-344520">
              <a:spcBef>
                <a:spcPts val="1763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74360" indent="-344880">
              <a:spcBef>
                <a:spcPts val="1763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042560" indent="-344520">
              <a:spcBef>
                <a:spcPts val="1763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311840" indent="-345960">
              <a:spcBef>
                <a:spcPts val="1763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580040" indent="-344520">
              <a:spcBef>
                <a:spcPts val="1763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580040" indent="-344520">
              <a:spcBef>
                <a:spcPts val="1763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580040" indent="-344520">
              <a:spcBef>
                <a:spcPts val="1763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68040" y="178920"/>
            <a:ext cx="7970760" cy="1714680"/>
          </a:xfrm>
          <a:prstGeom prst="rect">
            <a:avLst/>
          </a:prstGeom>
          <a:noFill/>
          <a:ln w="0">
            <a:noFill/>
          </a:ln>
        </p:spPr>
        <p:txBody>
          <a:bodyPr lIns="37440" rIns="37440" tIns="37440" bIns="3744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968040" y="1946160"/>
            <a:ext cx="3840120" cy="4019760"/>
          </a:xfrm>
          <a:prstGeom prst="rect">
            <a:avLst/>
          </a:prstGeom>
          <a:noFill/>
          <a:ln w="0">
            <a:noFill/>
          </a:ln>
        </p:spPr>
        <p:txBody>
          <a:bodyPr lIns="37440" rIns="37440" tIns="37440" bIns="37440" anchor="ctr">
            <a:normAutofit fontScale="77000"/>
          </a:bodyPr>
          <a:p>
            <a:pPr marL="431280" indent="-279720">
              <a:spcBef>
                <a:spcPts val="2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  <a:p>
            <a:pPr lvl="1" marL="683280" indent="-279720">
              <a:spcBef>
                <a:spcPts val="2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  <a:p>
            <a:pPr lvl="2" marL="936360" indent="-280800">
              <a:spcBef>
                <a:spcPts val="2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  <a:p>
            <a:pPr lvl="3" marL="1186920" indent="-279720">
              <a:spcBef>
                <a:spcPts val="2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  <a:p>
            <a:pPr lvl="4" marL="1440000" indent="-279720">
              <a:spcBef>
                <a:spcPts val="2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  <a:p>
            <a:pPr lvl="5" marL="1440000" indent="-279720">
              <a:spcBef>
                <a:spcPts val="2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  <a:p>
            <a:pPr lvl="6" marL="1440000" indent="-279720">
              <a:spcBef>
                <a:spcPts val="2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968040" y="178920"/>
            <a:ext cx="7970760" cy="1714680"/>
          </a:xfrm>
          <a:prstGeom prst="rect">
            <a:avLst/>
          </a:prstGeom>
          <a:noFill/>
          <a:ln w="0">
            <a:noFill/>
          </a:ln>
        </p:spPr>
        <p:txBody>
          <a:bodyPr lIns="37440" rIns="37440" tIns="37440" bIns="3744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968040" y="1946160"/>
            <a:ext cx="7970760" cy="4019760"/>
          </a:xfrm>
          <a:prstGeom prst="rect">
            <a:avLst/>
          </a:prstGeom>
          <a:noFill/>
          <a:ln w="0">
            <a:noFill/>
          </a:ln>
        </p:spPr>
        <p:txBody>
          <a:bodyPr lIns="37440" rIns="37440" tIns="37440" bIns="37440" anchor="t">
            <a:normAutofit fontScale="85000"/>
          </a:bodyPr>
          <a:p>
            <a:pPr marL="476280" indent="-308880">
              <a:spcBef>
                <a:spcPts val="2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  <a:p>
            <a:pPr lvl="1" marL="754200" indent="-308880">
              <a:spcBef>
                <a:spcPts val="2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  <a:p>
            <a:pPr lvl="2" marL="1033560" indent="-309960">
              <a:spcBef>
                <a:spcPts val="2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  <a:p>
            <a:pPr lvl="3" marL="1310040" indent="-308880">
              <a:spcBef>
                <a:spcPts val="2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  <a:p>
            <a:pPr lvl="4" marL="1589400" indent="-308880">
              <a:spcBef>
                <a:spcPts val="2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  <a:p>
            <a:pPr lvl="5" marL="1589400" indent="-308880">
              <a:spcBef>
                <a:spcPts val="2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  <a:p>
            <a:pPr lvl="6" marL="1589400" indent="-308880">
              <a:spcBef>
                <a:spcPts val="2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968040" y="178920"/>
            <a:ext cx="7970760" cy="1714680"/>
          </a:xfrm>
          <a:prstGeom prst="rect">
            <a:avLst/>
          </a:prstGeom>
          <a:noFill/>
          <a:ln w="0">
            <a:noFill/>
          </a:ln>
        </p:spPr>
        <p:txBody>
          <a:bodyPr lIns="37440" rIns="37440" tIns="37440" bIns="3744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5920920" y="1946160"/>
            <a:ext cx="3017880" cy="4019760"/>
          </a:xfrm>
          <a:prstGeom prst="rect">
            <a:avLst/>
          </a:prstGeom>
          <a:noFill/>
          <a:ln w="0">
            <a:noFill/>
          </a:ln>
        </p:spPr>
        <p:txBody>
          <a:bodyPr lIns="37440" rIns="37440" tIns="37440" bIns="37440" anchor="ctr">
            <a:normAutofit fontScale="65000"/>
          </a:bodyPr>
          <a:p>
            <a:pPr marL="364320" indent="-236160">
              <a:spcBef>
                <a:spcPts val="2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  <a:p>
            <a:pPr lvl="1" marL="576720" indent="-236160">
              <a:spcBef>
                <a:spcPts val="2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  <a:p>
            <a:pPr lvl="2" marL="790200" indent="-237240">
              <a:spcBef>
                <a:spcPts val="2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  <a:p>
            <a:pPr lvl="3" marL="1001880" indent="-236160">
              <a:spcBef>
                <a:spcPts val="2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  <a:p>
            <a:pPr lvl="4" marL="1215360" indent="-236160">
              <a:spcBef>
                <a:spcPts val="2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  <a:p>
            <a:pPr lvl="5" marL="1215360" indent="-236160">
              <a:spcBef>
                <a:spcPts val="2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  <a:p>
            <a:pPr lvl="6" marL="1215360" indent="-236160">
              <a:spcBef>
                <a:spcPts val="2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968040" y="178920"/>
            <a:ext cx="7970760" cy="1714680"/>
          </a:xfrm>
          <a:prstGeom prst="rect">
            <a:avLst/>
          </a:prstGeom>
          <a:noFill/>
          <a:ln w="0">
            <a:noFill/>
          </a:ln>
        </p:spPr>
        <p:txBody>
          <a:bodyPr lIns="37440" rIns="37440" tIns="37440" bIns="3744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68040" y="1946160"/>
            <a:ext cx="3840120" cy="4019760"/>
          </a:xfrm>
          <a:prstGeom prst="rect">
            <a:avLst/>
          </a:prstGeom>
          <a:noFill/>
          <a:ln w="0">
            <a:noFill/>
          </a:ln>
        </p:spPr>
        <p:txBody>
          <a:bodyPr lIns="37440" rIns="37440" tIns="37440" bIns="37440" anchor="ctr">
            <a:normAutofit fontScale="77000"/>
          </a:bodyPr>
          <a:p>
            <a:pPr marL="431280" indent="-279720">
              <a:spcBef>
                <a:spcPts val="2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  <a:p>
            <a:pPr lvl="1" marL="683280" indent="-279720">
              <a:spcBef>
                <a:spcPts val="2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  <a:p>
            <a:pPr lvl="2" marL="936360" indent="-280800">
              <a:spcBef>
                <a:spcPts val="2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  <a:p>
            <a:pPr lvl="3" marL="1186920" indent="-279720">
              <a:spcBef>
                <a:spcPts val="2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  <a:p>
            <a:pPr lvl="4" marL="1440000" indent="-279720">
              <a:spcBef>
                <a:spcPts val="2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  <a:p>
            <a:pPr lvl="5" marL="1440000" indent="-279720">
              <a:spcBef>
                <a:spcPts val="2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  <a:p>
            <a:pPr lvl="6" marL="1440000" indent="-279720">
              <a:spcBef>
                <a:spcPts val="2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body"/>
          </p:nvPr>
        </p:nvSpPr>
        <p:spPr>
          <a:xfrm>
            <a:off x="968040" y="893520"/>
            <a:ext cx="7970760" cy="5072040"/>
          </a:xfrm>
          <a:prstGeom prst="rect">
            <a:avLst/>
          </a:prstGeom>
          <a:noFill/>
          <a:ln w="0">
            <a:noFill/>
          </a:ln>
        </p:spPr>
        <p:txBody>
          <a:bodyPr lIns="37440" rIns="37440" tIns="37440" bIns="37440" anchor="ctr">
            <a:normAutofit fontScale="81000"/>
          </a:bodyPr>
          <a:p>
            <a:pPr marL="500040" indent="-340560">
              <a:spcBef>
                <a:spcPts val="3538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65000" indent="-340560">
              <a:spcBef>
                <a:spcPts val="3538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029600" indent="-340560">
              <a:spcBef>
                <a:spcPts val="3538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296000" indent="-342000">
              <a:spcBef>
                <a:spcPts val="3538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560600" indent="-340560">
              <a:spcBef>
                <a:spcPts val="3538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560600" indent="-340560">
              <a:spcBef>
                <a:spcPts val="3538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560600" indent="-340560">
              <a:spcBef>
                <a:spcPts val="3538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"/>
          <p:cNvSpPr/>
          <p:nvPr/>
        </p:nvSpPr>
        <p:spPr>
          <a:xfrm>
            <a:off x="0" y="0"/>
            <a:ext cx="9906120" cy="893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6667a"/>
              </a:solidFill>
              <a:latin typeface="Verdana"/>
            </a:endParaRPr>
          </a:p>
        </p:txBody>
      </p:sp>
      <p:pic>
        <p:nvPicPr>
          <p:cNvPr id="39" name="Picture 4" descr="Logo"/>
          <p:cNvPicPr/>
          <p:nvPr/>
        </p:nvPicPr>
        <p:blipFill>
          <a:blip r:embed="rId2"/>
          <a:stretch/>
        </p:blipFill>
        <p:spPr>
          <a:xfrm>
            <a:off x="3581280" y="87480"/>
            <a:ext cx="2853000" cy="75708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marL="575280" indent="-368640">
              <a:spcBef>
                <a:spcPts val="1763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64720" indent="-371520">
              <a:spcBef>
                <a:spcPts val="1763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150920" indent="-370080">
              <a:spcBef>
                <a:spcPts val="1763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440000" indent="-369720">
              <a:spcBef>
                <a:spcPts val="1763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728000" indent="-370080">
              <a:spcBef>
                <a:spcPts val="1763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728000" indent="-370080">
              <a:spcBef>
                <a:spcPts val="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728000" indent="-370080">
              <a:spcBef>
                <a:spcPts val="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68040" y="2089080"/>
            <a:ext cx="7970760" cy="2679840"/>
          </a:xfrm>
          <a:prstGeom prst="rect">
            <a:avLst/>
          </a:prstGeom>
          <a:noFill/>
          <a:ln w="0">
            <a:noFill/>
          </a:ln>
        </p:spPr>
        <p:txBody>
          <a:bodyPr lIns="37440" rIns="37440" tIns="37440" bIns="3744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body"/>
          </p:nvPr>
        </p:nvSpPr>
        <p:spPr>
          <a:xfrm>
            <a:off x="968040" y="3536640"/>
            <a:ext cx="7970760" cy="793800"/>
          </a:xfrm>
          <a:prstGeom prst="rect">
            <a:avLst/>
          </a:prstGeom>
          <a:noFill/>
          <a:ln w="0">
            <a:noFill/>
          </a:ln>
        </p:spPr>
        <p:txBody>
          <a:bodyPr lIns="37440" rIns="37440" tIns="37440" bIns="37440" anchor="t">
            <a:normAutofit fontScale="25000"/>
          </a:bodyPr>
          <a:p>
            <a:pPr marL="85680" indent="-85680" algn="ctr">
              <a:buClr>
                <a:srgbClr val="000000"/>
              </a:buClr>
              <a:buFont typeface="Gill Sans"/>
              <a:buChar char="•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ill Sans"/>
            </a:endParaRPr>
          </a:p>
          <a:p>
            <a:pPr lvl="1" marL="185760" indent="-71280" algn="ctr">
              <a:buClr>
                <a:srgbClr val="000000"/>
              </a:buClr>
              <a:buFont typeface="Gill Sans"/>
              <a:buChar char="–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ill Sans"/>
            </a:endParaRPr>
          </a:p>
          <a:p>
            <a:pPr lvl="2" marL="285480" indent="-56880" algn="ctr">
              <a:buClr>
                <a:srgbClr val="000000"/>
              </a:buClr>
              <a:buFont typeface="Gill Sans"/>
              <a:buChar char="•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ill Sans"/>
            </a:endParaRPr>
          </a:p>
          <a:p>
            <a:pPr lvl="3" marL="399960" indent="-56880" algn="ctr">
              <a:buClr>
                <a:srgbClr val="000000"/>
              </a:buClr>
              <a:buFont typeface="Gill Sans"/>
              <a:buChar char="–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ill Sans"/>
            </a:endParaRPr>
          </a:p>
          <a:p>
            <a:pPr lvl="4" marL="514080" indent="-56880" algn="ctr">
              <a:buClr>
                <a:srgbClr val="000000"/>
              </a:buClr>
              <a:buFont typeface="Gill Sans"/>
              <a:buChar char="»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ill Sans"/>
            </a:endParaRPr>
          </a:p>
          <a:p>
            <a:pPr lvl="5" marL="514080" indent="-56880" algn="ctr">
              <a:buClr>
                <a:srgbClr val="000000"/>
              </a:buClr>
              <a:buFont typeface="Gill Sans"/>
              <a:buChar char="»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ill Sans"/>
            </a:endParaRPr>
          </a:p>
          <a:p>
            <a:pPr lvl="6" marL="514080" indent="-56880" algn="ctr">
              <a:buClr>
                <a:srgbClr val="000000"/>
              </a:buClr>
              <a:buFont typeface="Gill Sans"/>
              <a:buChar char="»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968040" y="1152000"/>
            <a:ext cx="7970760" cy="2320920"/>
          </a:xfrm>
          <a:prstGeom prst="rect">
            <a:avLst/>
          </a:prstGeom>
          <a:noFill/>
          <a:ln w="0">
            <a:noFill/>
          </a:ln>
        </p:spPr>
        <p:txBody>
          <a:bodyPr lIns="37440" rIns="37440" tIns="37440" bIns="37440" anchor="b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68040" y="5180040"/>
            <a:ext cx="7970760" cy="1195200"/>
          </a:xfrm>
          <a:prstGeom prst="rect">
            <a:avLst/>
          </a:prstGeom>
          <a:noFill/>
          <a:ln w="0">
            <a:noFill/>
          </a:ln>
        </p:spPr>
        <p:txBody>
          <a:bodyPr lIns="37440" rIns="37440" tIns="37440" bIns="3744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68040" y="5180040"/>
            <a:ext cx="7970760" cy="1195200"/>
          </a:xfrm>
          <a:prstGeom prst="rect">
            <a:avLst/>
          </a:prstGeom>
          <a:noFill/>
          <a:ln w="0">
            <a:noFill/>
          </a:ln>
        </p:spPr>
        <p:txBody>
          <a:bodyPr lIns="37440" rIns="37440" tIns="37440" bIns="3744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body"/>
          </p:nvPr>
        </p:nvSpPr>
        <p:spPr>
          <a:xfrm>
            <a:off x="483840" y="3366720"/>
            <a:ext cx="4468680" cy="2320920"/>
          </a:xfrm>
          <a:prstGeom prst="rect">
            <a:avLst/>
          </a:prstGeom>
          <a:noFill/>
          <a:ln w="0">
            <a:noFill/>
          </a:ln>
        </p:spPr>
        <p:txBody>
          <a:bodyPr lIns="37440" rIns="37440" tIns="37440" bIns="37440" anchor="t">
            <a:normAutofit fontScale="76000"/>
          </a:bodyPr>
          <a:p>
            <a:pPr marL="260640" indent="-260640" algn="ctr">
              <a:buClr>
                <a:srgbClr val="000000"/>
              </a:buClr>
              <a:buFont typeface="Gill Sans"/>
              <a:buChar char="•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lvl="1" marL="564480" indent="-217080" algn="ctr">
              <a:buClr>
                <a:srgbClr val="000000"/>
              </a:buClr>
              <a:buFont typeface="Gill Sans"/>
              <a:buChar char="–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lvl="2" marL="868680" indent="-173520" algn="ctr">
              <a:buClr>
                <a:srgbClr val="000000"/>
              </a:buClr>
              <a:buFont typeface="Gill Sans"/>
              <a:buChar char="•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lvl="3" marL="1216080" indent="-173520" algn="ctr">
              <a:buClr>
                <a:srgbClr val="000000"/>
              </a:buClr>
              <a:buFont typeface="Gill Sans"/>
              <a:buChar char="–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lvl="4" marL="1563480" indent="-173520" algn="ctr">
              <a:buClr>
                <a:srgbClr val="000000"/>
              </a:buClr>
              <a:buFont typeface="Gill Sans"/>
              <a:buChar char="»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lvl="5" marL="1563480" indent="-173520" algn="ctr">
              <a:buClr>
                <a:srgbClr val="000000"/>
              </a:buClr>
              <a:buFont typeface="Gill Sans"/>
              <a:buChar char="»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lvl="6" marL="1563480" indent="-173520" algn="ctr">
              <a:buClr>
                <a:srgbClr val="000000"/>
              </a:buClr>
              <a:buFont typeface="Gill Sans"/>
              <a:buChar char="»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title"/>
          </p:nvPr>
        </p:nvSpPr>
        <p:spPr>
          <a:xfrm>
            <a:off x="483840" y="990360"/>
            <a:ext cx="4468680" cy="2322360"/>
          </a:xfrm>
          <a:prstGeom prst="rect">
            <a:avLst/>
          </a:prstGeom>
          <a:noFill/>
          <a:ln w="0">
            <a:noFill/>
          </a:ln>
        </p:spPr>
        <p:txBody>
          <a:bodyPr lIns="37440" rIns="37440" tIns="37440" bIns="37440" anchor="b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5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body"/>
          </p:nvPr>
        </p:nvSpPr>
        <p:spPr>
          <a:xfrm>
            <a:off x="483840" y="3366720"/>
            <a:ext cx="4468680" cy="2320920"/>
          </a:xfrm>
          <a:prstGeom prst="rect">
            <a:avLst/>
          </a:prstGeom>
          <a:noFill/>
          <a:ln w="0">
            <a:noFill/>
          </a:ln>
        </p:spPr>
        <p:txBody>
          <a:bodyPr lIns="37440" rIns="37440" tIns="37440" bIns="37440" anchor="t">
            <a:normAutofit fontScale="76000"/>
          </a:bodyPr>
          <a:p>
            <a:pPr marL="260640" indent="-260640" algn="ctr">
              <a:buClr>
                <a:srgbClr val="000000"/>
              </a:buClr>
              <a:buFont typeface="Gill Sans"/>
              <a:buChar char="•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lvl="1" marL="564480" indent="-217080" algn="ctr">
              <a:buClr>
                <a:srgbClr val="000000"/>
              </a:buClr>
              <a:buFont typeface="Gill Sans"/>
              <a:buChar char="–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lvl="2" marL="868680" indent="-173520" algn="ctr">
              <a:buClr>
                <a:srgbClr val="000000"/>
              </a:buClr>
              <a:buFont typeface="Gill Sans"/>
              <a:buChar char="•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lvl="3" marL="1216080" indent="-173520" algn="ctr">
              <a:buClr>
                <a:srgbClr val="000000"/>
              </a:buClr>
              <a:buFont typeface="Gill Sans"/>
              <a:buChar char="–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lvl="4" marL="1563480" indent="-173520" algn="ctr">
              <a:buClr>
                <a:srgbClr val="000000"/>
              </a:buClr>
              <a:buFont typeface="Gill Sans"/>
              <a:buChar char="»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lvl="5" marL="1563480" indent="-173520" algn="ctr">
              <a:buClr>
                <a:srgbClr val="000000"/>
              </a:buClr>
              <a:buFont typeface="Gill Sans"/>
              <a:buChar char="»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lvl="6" marL="1563480" indent="-173520" algn="ctr">
              <a:buClr>
                <a:srgbClr val="000000"/>
              </a:buClr>
              <a:buFont typeface="Gill Sans"/>
              <a:buChar char="»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title"/>
          </p:nvPr>
        </p:nvSpPr>
        <p:spPr>
          <a:xfrm>
            <a:off x="483840" y="990360"/>
            <a:ext cx="4468680" cy="2322360"/>
          </a:xfrm>
          <a:prstGeom prst="rect">
            <a:avLst/>
          </a:prstGeom>
          <a:noFill/>
          <a:ln w="0">
            <a:noFill/>
          </a:ln>
        </p:spPr>
        <p:txBody>
          <a:bodyPr lIns="37440" rIns="37440" tIns="37440" bIns="37440" anchor="b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5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968040" y="178920"/>
            <a:ext cx="7970760" cy="1714680"/>
          </a:xfrm>
          <a:prstGeom prst="rect">
            <a:avLst/>
          </a:prstGeom>
          <a:noFill/>
          <a:ln w="0">
            <a:noFill/>
          </a:ln>
        </p:spPr>
        <p:txBody>
          <a:bodyPr lIns="37440" rIns="37440" tIns="37440" bIns="3744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1"/>
          <p:cNvSpPr/>
          <p:nvPr/>
        </p:nvSpPr>
        <p:spPr>
          <a:xfrm>
            <a:off x="0" y="1554120"/>
            <a:ext cx="9906120" cy="5330880"/>
          </a:xfrm>
          <a:prstGeom prst="rect">
            <a:avLst/>
          </a:prstGeom>
          <a:solidFill>
            <a:srgbClr val="4666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6667a"/>
              </a:solidFill>
              <a:latin typeface="Verdana"/>
            </a:endParaRPr>
          </a:p>
        </p:txBody>
      </p:sp>
      <p:sp>
        <p:nvSpPr>
          <p:cNvPr id="575" name="Rectangle 3"/>
          <p:cNvSpPr/>
          <p:nvPr/>
        </p:nvSpPr>
        <p:spPr>
          <a:xfrm>
            <a:off x="3921120" y="6419880"/>
            <a:ext cx="205884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© 200</a:t>
            </a:r>
            <a:r>
              <a:rPr b="1" lang="ru-RU" sz="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 Unicorn IFC</a:t>
            </a:r>
            <a:endParaRPr b="1" lang="en-US" sz="800" spc="-1" strike="noStrike">
              <a:solidFill>
                <a:srgbClr val="46667a"/>
              </a:solidFill>
              <a:latin typeface="Verdana"/>
            </a:endParaRPr>
          </a:p>
        </p:txBody>
      </p:sp>
      <p:sp>
        <p:nvSpPr>
          <p:cNvPr id="576" name="Rectangle 5"/>
          <p:cNvSpPr/>
          <p:nvPr/>
        </p:nvSpPr>
        <p:spPr>
          <a:xfrm>
            <a:off x="-11160" y="1536840"/>
            <a:ext cx="9906120" cy="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6667a"/>
              </a:solidFill>
              <a:latin typeface="Verdana"/>
            </a:endParaRPr>
          </a:p>
        </p:txBody>
      </p:sp>
      <p:sp>
        <p:nvSpPr>
          <p:cNvPr id="577" name="AutoShape 10"/>
          <p:cNvSpPr/>
          <p:nvPr/>
        </p:nvSpPr>
        <p:spPr>
          <a:xfrm>
            <a:off x="272880" y="2760840"/>
            <a:ext cx="9539280" cy="2753640"/>
          </a:xfrm>
          <a:prstGeom prst="roundRect">
            <a:avLst>
              <a:gd name="adj" fmla="val 16667"/>
            </a:avLst>
          </a:prstGeom>
          <a:solidFill>
            <a:srgbClr val="46667a">
              <a:alpha val="1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Myriad Pro Light"/>
              </a:rPr>
              <a:t>Алгоритмический Трейдинг</a:t>
            </a: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 (АТ)</a:t>
            </a:r>
            <a:endParaRPr b="1" lang="en-US" sz="4800" spc="-1" strike="noStrike">
              <a:solidFill>
                <a:srgbClr val="46667a"/>
              </a:solidFill>
              <a:latin typeface="Verdan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1" lang="en-US" sz="4800" spc="-1" strike="noStrike">
              <a:solidFill>
                <a:srgbClr val="46667a"/>
              </a:solidFill>
              <a:latin typeface="Verdan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управление капиталом в условиях турбулентного рынка</a:t>
            </a:r>
            <a:endParaRPr b="1" lang="en-US" sz="3000" spc="-1" strike="noStrike">
              <a:solidFill>
                <a:srgbClr val="46667a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ectangle 1"/>
          <p:cNvSpPr/>
          <p:nvPr/>
        </p:nvSpPr>
        <p:spPr>
          <a:xfrm>
            <a:off x="0" y="1527120"/>
            <a:ext cx="9906120" cy="5330880"/>
          </a:xfrm>
          <a:prstGeom prst="rect">
            <a:avLst/>
          </a:prstGeom>
          <a:solidFill>
            <a:srgbClr val="4666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6667a"/>
              </a:solidFill>
              <a:latin typeface="Verdana"/>
            </a:endParaRPr>
          </a:p>
        </p:txBody>
      </p:sp>
      <p:sp>
        <p:nvSpPr>
          <p:cNvPr id="619" name="Rectangle 3"/>
          <p:cNvSpPr/>
          <p:nvPr/>
        </p:nvSpPr>
        <p:spPr>
          <a:xfrm>
            <a:off x="3921120" y="6419880"/>
            <a:ext cx="205884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© 200</a:t>
            </a:r>
            <a:r>
              <a:rPr b="1" lang="ru-RU" sz="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 Unicorn IFC</a:t>
            </a:r>
            <a:endParaRPr b="1" lang="en-US" sz="800" spc="-1" strike="noStrike">
              <a:solidFill>
                <a:srgbClr val="46667a"/>
              </a:solidFill>
              <a:latin typeface="Verdana"/>
            </a:endParaRPr>
          </a:p>
        </p:txBody>
      </p:sp>
      <p:sp>
        <p:nvSpPr>
          <p:cNvPr id="620" name="Rectangle 5"/>
          <p:cNvSpPr/>
          <p:nvPr/>
        </p:nvSpPr>
        <p:spPr>
          <a:xfrm>
            <a:off x="-11160" y="1536840"/>
            <a:ext cx="9906120" cy="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6667a"/>
              </a:solidFill>
              <a:latin typeface="Verdana"/>
            </a:endParaRPr>
          </a:p>
        </p:txBody>
      </p:sp>
      <p:sp>
        <p:nvSpPr>
          <p:cNvPr id="621" name="Rectangle 2"/>
          <p:cNvSpPr/>
          <p:nvPr/>
        </p:nvSpPr>
        <p:spPr>
          <a:xfrm>
            <a:off x="1857240" y="2182680"/>
            <a:ext cx="5678640" cy="5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ru-RU" sz="3500" spc="-1" strike="noStrike">
                <a:solidFill>
                  <a:srgbClr val="ffffff"/>
                </a:solidFill>
                <a:latin typeface="Arial"/>
              </a:rPr>
              <a:t>НАШИ </a:t>
            </a:r>
            <a:r>
              <a:rPr b="1" lang="ru-RU" sz="3500" spc="-1" strike="noStrike">
                <a:solidFill>
                  <a:srgbClr val="ffffff"/>
                </a:solidFill>
                <a:latin typeface="Myriad Pro Light"/>
              </a:rPr>
              <a:t>КОНТАКТЫ</a:t>
            </a:r>
            <a:endParaRPr b="1" lang="en-US" sz="3500" spc="-1" strike="noStrike">
              <a:solidFill>
                <a:srgbClr val="46667a"/>
              </a:solidFill>
              <a:latin typeface="Verdana"/>
            </a:endParaRPr>
          </a:p>
        </p:txBody>
      </p:sp>
      <p:sp>
        <p:nvSpPr>
          <p:cNvPr id="622" name="Rectangle 6"/>
          <p:cNvSpPr/>
          <p:nvPr/>
        </p:nvSpPr>
        <p:spPr>
          <a:xfrm>
            <a:off x="2720880" y="3645000"/>
            <a:ext cx="3905280" cy="12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АО «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NICORN IFC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»</a:t>
            </a:r>
            <a:endParaRPr b="1" lang="en-US" sz="2200" spc="-1" strike="noStrike">
              <a:solidFill>
                <a:srgbClr val="46667a"/>
              </a:solidFill>
              <a:latin typeface="Verdan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050000</a:t>
            </a:r>
            <a:endParaRPr b="1" lang="en-US" sz="2200" spc="-1" strike="noStrike">
              <a:solidFill>
                <a:srgbClr val="46667a"/>
              </a:solidFill>
              <a:latin typeface="Verdan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Республика Казахстан </a:t>
            </a:r>
            <a:endParaRPr b="1" lang="en-US" sz="2200" spc="-1" strike="noStrike">
              <a:solidFill>
                <a:srgbClr val="46667a"/>
              </a:solidFill>
              <a:latin typeface="Verdan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г. Алматы, м</a:t>
            </a:r>
            <a:r>
              <a:rPr b="0" lang="ru-RU" sz="2200" spc="-1" strike="noStrike">
                <a:solidFill>
                  <a:srgbClr val="ffffff"/>
                </a:solidFill>
                <a:latin typeface="Myriad Pro Light"/>
              </a:rPr>
              <a:t>-он Баганашыл </a:t>
            </a:r>
            <a:endParaRPr b="1" lang="en-US" sz="2200" spc="-1" strike="noStrike">
              <a:solidFill>
                <a:srgbClr val="46667a"/>
              </a:solidFill>
              <a:latin typeface="Verdan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Myriad Pro Light"/>
              </a:rPr>
              <a:t>Ул. Сыргабекова 7/2</a:t>
            </a:r>
            <a:endParaRPr b="1" lang="en-US" sz="2200" spc="-1" strike="noStrike">
              <a:solidFill>
                <a:srgbClr val="46667a"/>
              </a:solidFill>
              <a:latin typeface="Verdan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1" lang="en-US" sz="2200" spc="-1" strike="noStrike">
              <a:solidFill>
                <a:srgbClr val="46667a"/>
              </a:solidFill>
              <a:latin typeface="Verdan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Myriad Pro Light"/>
              </a:rPr>
              <a:t>Т. +7 (727) 2696283, 2697316</a:t>
            </a:r>
            <a:endParaRPr b="1" lang="en-US" sz="2200" spc="-1" strike="noStrike">
              <a:solidFill>
                <a:srgbClr val="46667a"/>
              </a:solidFill>
              <a:latin typeface="Verdan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Email: info@unic.kz</a:t>
            </a:r>
            <a:r>
              <a:rPr b="1" lang="ru-RU" sz="2200" spc="-1" strike="noStrike">
                <a:solidFill>
                  <a:srgbClr val="ffffff"/>
                </a:solidFill>
                <a:latin typeface="Myriad Pro Light"/>
              </a:rPr>
              <a:t> </a:t>
            </a:r>
            <a:r>
              <a:rPr b="1" lang="ru-RU" sz="2200" spc="-1" strike="noStrike">
                <a:solidFill>
                  <a:srgbClr val="ffffff"/>
                </a:solidFill>
                <a:latin typeface="Myriad Pro Light"/>
              </a:rPr>
              <a:t>	</a:t>
            </a:r>
            <a:endParaRPr b="1" lang="en-US" sz="2200" spc="-1" strike="noStrike">
              <a:solidFill>
                <a:srgbClr val="46667a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2"/>
          <p:cNvSpPr/>
          <p:nvPr/>
        </p:nvSpPr>
        <p:spPr>
          <a:xfrm>
            <a:off x="160200" y="830160"/>
            <a:ext cx="99061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lvl="1" marL="334800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ru-RU" sz="3500" spc="-1" strike="noStrike">
                <a:solidFill>
                  <a:srgbClr val="46667a"/>
                </a:solidFill>
                <a:latin typeface="Myriad Pro"/>
              </a:rPr>
              <a:t>АТ - определение</a:t>
            </a:r>
            <a:endParaRPr b="1" lang="en-US" sz="3500" spc="-1" strike="noStrike">
              <a:solidFill>
                <a:srgbClr val="46667a"/>
              </a:solidFill>
              <a:latin typeface="Verdana"/>
            </a:endParaRPr>
          </a:p>
        </p:txBody>
      </p:sp>
      <p:sp>
        <p:nvSpPr>
          <p:cNvPr id="579" name="Rectangle 3"/>
          <p:cNvSpPr/>
          <p:nvPr/>
        </p:nvSpPr>
        <p:spPr>
          <a:xfrm>
            <a:off x="399960" y="1909800"/>
            <a:ext cx="8666280" cy="44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1" lang="en-US" sz="4000" spc="-1" strike="noStrike">
              <a:solidFill>
                <a:srgbClr val="46667a"/>
              </a:solidFill>
              <a:latin typeface="Verdana"/>
            </a:endParaRPr>
          </a:p>
        </p:txBody>
      </p:sp>
      <p:sp>
        <p:nvSpPr>
          <p:cNvPr id="580" name="Rectangle 4"/>
          <p:cNvSpPr/>
          <p:nvPr/>
        </p:nvSpPr>
        <p:spPr>
          <a:xfrm>
            <a:off x="415800" y="1824120"/>
            <a:ext cx="9042480" cy="14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320" rIns="67320" tIns="33840" bIns="3384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Myriad Pro"/>
              </a:rPr>
              <a:t>Алгоритмический Трейдинг – вид торговой стратегии, основанной на использовании генетических и нейросетевых алгоритмов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3000" spc="-1" strike="noStrike">
              <a:solidFill>
                <a:srgbClr val="46667a"/>
              </a:solidFill>
              <a:latin typeface="Verdana"/>
            </a:endParaRPr>
          </a:p>
        </p:txBody>
      </p:sp>
      <p:sp>
        <p:nvSpPr>
          <p:cNvPr id="581" name="Rectangle 5"/>
          <p:cNvSpPr/>
          <p:nvPr/>
        </p:nvSpPr>
        <p:spPr>
          <a:xfrm>
            <a:off x="4950000" y="3389400"/>
            <a:ext cx="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1" lang="en-US" sz="4000" spc="-1" strike="noStrike">
              <a:solidFill>
                <a:srgbClr val="46667a"/>
              </a:solidFill>
              <a:latin typeface="Verdana"/>
            </a:endParaRPr>
          </a:p>
        </p:txBody>
      </p:sp>
      <p:sp>
        <p:nvSpPr>
          <p:cNvPr id="582" name="Rectangle 6"/>
          <p:cNvSpPr/>
          <p:nvPr/>
        </p:nvSpPr>
        <p:spPr>
          <a:xfrm>
            <a:off x="415800" y="3573360"/>
            <a:ext cx="9042480" cy="28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320" rIns="67320" tIns="33840" bIns="3384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Myriad Pro"/>
              </a:rPr>
              <a:t>Принцип работы «АТ» - отбор наиболее удачных образчиков поведения рынка в прошлом путем комбинации факторов, в точности описывающих историческое поведение рынка, и реализация/закрытие позиции в течение торгового дня.</a:t>
            </a:r>
            <a:endParaRPr b="1" lang="en-US" sz="3000" spc="-1" strike="noStrike">
              <a:solidFill>
                <a:srgbClr val="46667a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2"/>
          <p:cNvSpPr/>
          <p:nvPr/>
        </p:nvSpPr>
        <p:spPr>
          <a:xfrm>
            <a:off x="236520" y="906480"/>
            <a:ext cx="9394920" cy="5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ru-RU" sz="3500" spc="-1" strike="noStrike">
                <a:solidFill>
                  <a:srgbClr val="46667a"/>
                </a:solidFill>
                <a:latin typeface="Myriad Pro"/>
              </a:rPr>
              <a:t>Процедура оценки риск</a:t>
            </a:r>
            <a:r>
              <a:rPr b="1" lang="en-US" sz="3500" spc="-1" strike="noStrike">
                <a:solidFill>
                  <a:srgbClr val="46667a"/>
                </a:solidFill>
                <a:latin typeface="Myriad Pro"/>
              </a:rPr>
              <a:t>/</a:t>
            </a:r>
            <a:r>
              <a:rPr b="1" lang="ru-RU" sz="3500" spc="-1" strike="noStrike">
                <a:solidFill>
                  <a:srgbClr val="46667a"/>
                </a:solidFill>
                <a:latin typeface="Myriad Pro"/>
              </a:rPr>
              <a:t>доходности</a:t>
            </a:r>
            <a:endParaRPr b="1" lang="en-US" sz="3500" spc="-1" strike="noStrike">
              <a:solidFill>
                <a:srgbClr val="46667a"/>
              </a:solidFill>
              <a:latin typeface="Verdana"/>
            </a:endParaRPr>
          </a:p>
        </p:txBody>
      </p:sp>
      <p:graphicFrame>
        <p:nvGraphicFramePr>
          <p:cNvPr id="584" name=""/>
          <p:cNvGraphicFramePr/>
          <p:nvPr/>
        </p:nvGraphicFramePr>
        <p:xfrm>
          <a:off x="128520" y="1700280"/>
          <a:ext cx="9688680" cy="4626000"/>
        </p:xfrm>
        <a:graphic>
          <a:graphicData uri="http://schemas.openxmlformats.org/drawingml/2006/table">
            <a:tbl>
              <a:tblPr/>
              <a:tblGrid>
                <a:gridCol w="271440"/>
                <a:gridCol w="9417240"/>
              </a:tblGrid>
              <a:tr h="616680">
                <a:tc>
                  <a:txBody>
                    <a:bodyPr lIns="67320" rIns="67320" tIns="33840" bIns="33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Myriad Pro"/>
                        </a:rPr>
                        <a:t>1</a:t>
                      </a:r>
                      <a:endParaRPr b="1" lang="en-US" sz="2000" spc="-1" strike="noStrike">
                        <a:solidFill>
                          <a:srgbClr val="46667a"/>
                        </a:solidFill>
                        <a:latin typeface="Verdana"/>
                      </a:endParaRPr>
                    </a:p>
                  </a:txBody>
                  <a:tcPr anchor="t" marL="67320" marR="67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320" rIns="67320" tIns="33840" bIns="33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Myriad Pro"/>
                        </a:rPr>
                        <a:t>Формулировка торговой идеи и </a:t>
                      </a:r>
                      <a:r>
                        <a:rPr b="1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Myriad Pro"/>
                        </a:rPr>
                        <a:t>строгое описание правил</a:t>
                      </a:r>
                      <a:r>
                        <a:rPr b="1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рговой стратегии</a:t>
                      </a:r>
                      <a:endParaRPr b="1" lang="en-US" sz="1800" spc="-1" strike="noStrike">
                        <a:solidFill>
                          <a:srgbClr val="46667a"/>
                        </a:solidFill>
                        <a:latin typeface="Verdana"/>
                      </a:endParaRPr>
                    </a:p>
                  </a:txBody>
                  <a:tcPr anchor="t" marL="67320" marR="67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5520">
                <a:tc>
                  <a:txBody>
                    <a:bodyPr lIns="67320" rIns="67320" tIns="33840" bIns="33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Myriad Pro"/>
                        </a:rPr>
                        <a:t>2</a:t>
                      </a:r>
                      <a:endParaRPr b="1" lang="en-US" sz="2000" spc="-1" strike="noStrike">
                        <a:solidFill>
                          <a:srgbClr val="46667a"/>
                        </a:solidFill>
                        <a:latin typeface="Verdana"/>
                      </a:endParaRPr>
                    </a:p>
                  </a:txBody>
                  <a:tcPr anchor="t" marL="67320" marR="673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320" rIns="67320" tIns="33840" bIns="33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Myriad Pro"/>
                        </a:rPr>
                        <a:t>Предварительный тест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рговой стратегии</a:t>
                      </a:r>
                      <a:endParaRPr b="1" lang="en-US" sz="1800" spc="-1" strike="noStrike">
                        <a:solidFill>
                          <a:srgbClr val="46667a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7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Myriad Pro"/>
                        </a:rPr>
                        <a:t>На данном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тапе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Myriad Pro"/>
                        </a:rPr>
                        <a:t> происходит получение грубого представления о профиле доходности/риска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рговой стратегии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Myriad Pro"/>
                        </a:rPr>
                        <a:t>и отбор устойчивых.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Myriad Pro"/>
                        </a:rPr>
                        <a:t> </a:t>
                      </a:r>
                      <a:endParaRPr b="1" lang="en-US" sz="2000" spc="-1" strike="noStrike">
                        <a:solidFill>
                          <a:srgbClr val="46667a"/>
                        </a:solidFill>
                        <a:latin typeface="Verdana"/>
                      </a:endParaRPr>
                    </a:p>
                  </a:txBody>
                  <a:tcPr anchor="t" marL="67320" marR="673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7880">
                <a:tc>
                  <a:txBody>
                    <a:bodyPr lIns="67320" rIns="67320" tIns="33840" bIns="33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Myriad Pro"/>
                        </a:rPr>
                        <a:t>3</a:t>
                      </a:r>
                      <a:endParaRPr b="1" lang="en-US" sz="2000" spc="-1" strike="noStrike">
                        <a:solidFill>
                          <a:srgbClr val="46667a"/>
                        </a:solidFill>
                        <a:latin typeface="Verdana"/>
                      </a:endParaRPr>
                    </a:p>
                  </a:txBody>
                  <a:tcPr anchor="t" marL="67320" marR="673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320" rIns="67320" tIns="33840" bIns="33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Myriad Pro"/>
                        </a:rPr>
                        <a:t>Оптимизация и форвардный анализ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рговой стратегии</a:t>
                      </a:r>
                      <a:endParaRPr b="1" lang="en-US" sz="1800" spc="-1" strike="noStrike">
                        <a:solidFill>
                          <a:srgbClr val="46667a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7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Myriad Pro"/>
                        </a:rPr>
                        <a:t>Результаты данного шага дают оценку доходности/риска на основе симулирования торговой ситуации на исторических данных. Реальность симуляций достигается за счет оптимизации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авил торговой стратегии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Myriad Pro"/>
                        </a:rPr>
                        <a:t>на 1-м интервале времени и анализ доходности/риска оптимизированной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рговой стратегии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Myriad Pro"/>
                        </a:rPr>
                        <a:t>на последующем.</a:t>
                      </a:r>
                      <a:endParaRPr b="1" lang="en-US" sz="1800" spc="-1" strike="noStrike">
                        <a:solidFill>
                          <a:srgbClr val="46667a"/>
                        </a:solidFill>
                        <a:latin typeface="Verdana"/>
                      </a:endParaRPr>
                    </a:p>
                  </a:txBody>
                  <a:tcPr anchor="t" marL="67320" marR="673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4920">
                <a:tc>
                  <a:txBody>
                    <a:bodyPr lIns="67320" rIns="67320" tIns="33840" bIns="33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Myriad Pro"/>
                        </a:rPr>
                        <a:t>4</a:t>
                      </a:r>
                      <a:endParaRPr b="1" lang="en-US" sz="2000" spc="-1" strike="noStrike">
                        <a:solidFill>
                          <a:srgbClr val="46667a"/>
                        </a:solidFill>
                        <a:latin typeface="Verdana"/>
                      </a:endParaRPr>
                    </a:p>
                  </a:txBody>
                  <a:tcPr anchor="t" marL="67320" marR="673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7320" rIns="67320" tIns="33840" bIns="33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Myriad Pro"/>
                        </a:rPr>
                        <a:t>Решение об успешности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торговой стратегии</a:t>
                      </a:r>
                      <a:endParaRPr b="1" lang="en-US" sz="1800" spc="-1" strike="noStrike">
                        <a:solidFill>
                          <a:srgbClr val="46667a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7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Myriad Pro"/>
                        </a:rPr>
                        <a:t>Удовлетворяя набору критериев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 риск/доходности,  торговая стратегия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Myriad Pro"/>
                        </a:rPr>
                        <a:t>с большой долей уверенности считается успешной.</a:t>
                      </a:r>
                      <a:endParaRPr b="1" lang="en-US" sz="1800" spc="-1" strike="noStrike">
                        <a:solidFill>
                          <a:srgbClr val="46667a"/>
                        </a:solidFill>
                        <a:latin typeface="Verdana"/>
                      </a:endParaRPr>
                    </a:p>
                  </a:txBody>
                  <a:tcPr anchor="t" marL="67320" marR="673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2"/>
          <p:cNvSpPr/>
          <p:nvPr/>
        </p:nvSpPr>
        <p:spPr>
          <a:xfrm>
            <a:off x="1065240" y="1030320"/>
            <a:ext cx="8823240" cy="5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ru-RU" sz="3500" spc="-1" strike="noStrike">
                <a:solidFill>
                  <a:srgbClr val="46667a"/>
                </a:solidFill>
                <a:latin typeface="Arial"/>
              </a:rPr>
              <a:t>Р</a:t>
            </a:r>
            <a:r>
              <a:rPr b="1" lang="ru-RU" sz="3500" spc="-1" strike="noStrike">
                <a:solidFill>
                  <a:srgbClr val="46667a"/>
                </a:solidFill>
                <a:latin typeface="Myriad Pro"/>
              </a:rPr>
              <a:t>иски</a:t>
            </a:r>
            <a:endParaRPr b="1" lang="en-US" sz="3500" spc="-1" strike="noStrike">
              <a:solidFill>
                <a:srgbClr val="46667a"/>
              </a:solidFill>
              <a:latin typeface="Verdana"/>
            </a:endParaRPr>
          </a:p>
        </p:txBody>
      </p:sp>
      <p:graphicFrame>
        <p:nvGraphicFramePr>
          <p:cNvPr id="586" name=""/>
          <p:cNvGraphicFramePr/>
          <p:nvPr/>
        </p:nvGraphicFramePr>
        <p:xfrm>
          <a:off x="298440" y="1757520"/>
          <a:ext cx="9317160" cy="4839840"/>
        </p:xfrm>
        <a:graphic>
          <a:graphicData uri="http://schemas.openxmlformats.org/drawingml/2006/table">
            <a:tbl>
              <a:tblPr/>
              <a:tblGrid>
                <a:gridCol w="723960"/>
                <a:gridCol w="8593200"/>
              </a:tblGrid>
              <a:tr h="840240">
                <a:tc>
                  <a:txBody>
                    <a:bodyPr lIns="67320" rIns="67320" tIns="33840" bIns="33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Myriad Pro"/>
                        </a:rPr>
                        <a:t>1</a:t>
                      </a:r>
                      <a:endParaRPr b="1" lang="en-US" sz="1800" spc="-1" strike="noStrike">
                        <a:solidFill>
                          <a:srgbClr val="46667a"/>
                        </a:solidFill>
                        <a:latin typeface="Verdana"/>
                      </a:endParaRPr>
                    </a:p>
                  </a:txBody>
                  <a:tcPr anchor="t" marL="67320" marR="67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320" rIns="67320" tIns="33840" bIns="33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Myriad Pro"/>
                        </a:rPr>
                        <a:t>Ценовой риск</a:t>
                      </a:r>
                      <a:endParaRPr b="1" lang="en-US" sz="1800" spc="-1" strike="noStrike">
                        <a:solidFill>
                          <a:srgbClr val="46667a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7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Myriad Pro"/>
                        </a:rPr>
                        <a:t>Риск изменения стоимости средств, инвестируемых по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Myriad Pro"/>
                        </a:rPr>
                        <a:t>Т.</a:t>
                      </a:r>
                      <a:endParaRPr b="1" lang="en-US" sz="1800" spc="-1" strike="noStrike">
                        <a:solidFill>
                          <a:srgbClr val="46667a"/>
                        </a:solidFill>
                        <a:latin typeface="Verdana"/>
                      </a:endParaRPr>
                    </a:p>
                  </a:txBody>
                  <a:tcPr anchor="t" marL="67320" marR="67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5160">
                <a:tc>
                  <a:txBody>
                    <a:bodyPr lIns="67320" rIns="67320" tIns="33840" bIns="33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Myriad Pro"/>
                        </a:rPr>
                        <a:t>2</a:t>
                      </a:r>
                      <a:endParaRPr b="1" lang="en-US" sz="1800" spc="-1" strike="noStrike">
                        <a:solidFill>
                          <a:srgbClr val="46667a"/>
                        </a:solidFill>
                        <a:latin typeface="Verdana"/>
                      </a:endParaRPr>
                    </a:p>
                  </a:txBody>
                  <a:tcPr anchor="t" marL="67320" marR="673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320" rIns="67320" tIns="33840" bIns="33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Myriad Pro"/>
                        </a:rPr>
                        <a:t>Модельный риск</a:t>
                      </a:r>
                      <a:endParaRPr b="1" lang="en-US" sz="1800" spc="-1" strike="noStrike">
                        <a:solidFill>
                          <a:srgbClr val="46667a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7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Myriad Pro"/>
                        </a:rPr>
                        <a:t>Возможность реализации  убытков вследствие признания успешной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Myriad Pro"/>
                        </a:rPr>
                        <a:t>Т, не являющейся таковой.</a:t>
                      </a:r>
                      <a:endParaRPr b="1" lang="en-US" sz="1800" spc="-1" strike="noStrike">
                        <a:solidFill>
                          <a:srgbClr val="46667a"/>
                        </a:solidFill>
                        <a:latin typeface="Verdana"/>
                      </a:endParaRPr>
                    </a:p>
                  </a:txBody>
                  <a:tcPr anchor="t" marL="67320" marR="673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3360">
                <a:tc>
                  <a:txBody>
                    <a:bodyPr lIns="67320" rIns="67320" tIns="33840" bIns="33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Myriad Pro"/>
                        </a:rPr>
                        <a:t>3</a:t>
                      </a:r>
                      <a:endParaRPr b="1" lang="en-US" sz="1800" spc="-1" strike="noStrike">
                        <a:solidFill>
                          <a:srgbClr val="46667a"/>
                        </a:solidFill>
                        <a:latin typeface="Verdana"/>
                      </a:endParaRPr>
                    </a:p>
                  </a:txBody>
                  <a:tcPr anchor="t" marL="67320" marR="673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320" rIns="67320" tIns="33840" bIns="33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Myriad Pro"/>
                        </a:rPr>
                        <a:t>Базисный риск</a:t>
                      </a:r>
                      <a:endParaRPr b="1" lang="en-US" sz="1800" spc="-1" strike="noStrike">
                        <a:solidFill>
                          <a:srgbClr val="46667a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7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Myriad Pro"/>
                        </a:rPr>
                        <a:t>Кардинальное изменение характера динамики стоимости базисного актива по сравнению с историей.</a:t>
                      </a:r>
                      <a:endParaRPr b="1" lang="en-US" sz="1800" spc="-1" strike="noStrike">
                        <a:solidFill>
                          <a:srgbClr val="46667a"/>
                        </a:solidFill>
                        <a:latin typeface="Verdana"/>
                      </a:endParaRPr>
                    </a:p>
                  </a:txBody>
                  <a:tcPr anchor="t" marL="67320" marR="673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1080">
                <a:tc>
                  <a:txBody>
                    <a:bodyPr lIns="67320" rIns="67320" tIns="33840" bIns="33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Myriad Pro"/>
                        </a:rPr>
                        <a:t>4</a:t>
                      </a:r>
                      <a:endParaRPr b="1" lang="en-US" sz="1800" spc="-1" strike="noStrike">
                        <a:solidFill>
                          <a:srgbClr val="46667a"/>
                        </a:solidFill>
                        <a:latin typeface="Verdana"/>
                      </a:endParaRPr>
                    </a:p>
                  </a:txBody>
                  <a:tcPr anchor="t" marL="67320" marR="673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7320" rIns="67320" tIns="33840" bIns="33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Myriad Pro"/>
                        </a:rPr>
                        <a:t>Операционный риск</a:t>
                      </a:r>
                      <a:endParaRPr b="1" lang="en-US" sz="1800" spc="-1" strike="noStrike">
                        <a:solidFill>
                          <a:srgbClr val="46667a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7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Myriad Pro"/>
                        </a:rPr>
                        <a:t>Возможность реализации убытков вследствие нестрогого следования сигналам системы, ошибок систем (сбои электричества, проблемы с программным обеспечением и т.д.)</a:t>
                      </a:r>
                      <a:endParaRPr b="1" lang="en-US" sz="1800" spc="-1" strike="noStrike">
                        <a:solidFill>
                          <a:srgbClr val="46667a"/>
                        </a:solidFill>
                        <a:latin typeface="Verdana"/>
                      </a:endParaRPr>
                    </a:p>
                  </a:txBody>
                  <a:tcPr anchor="t" marL="67320" marR="673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4"/>
          <p:cNvSpPr/>
          <p:nvPr/>
        </p:nvSpPr>
        <p:spPr>
          <a:xfrm>
            <a:off x="776160" y="974880"/>
            <a:ext cx="7745400" cy="8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lvl="1" marL="334800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ru-RU" sz="3500" spc="-1" strike="noStrike">
                <a:solidFill>
                  <a:srgbClr val="46667a"/>
                </a:solidFill>
                <a:latin typeface="Myriad Pro"/>
              </a:rPr>
              <a:t>Преимущества Подхода</a:t>
            </a:r>
            <a:endParaRPr b="1" lang="en-US" sz="3500" spc="-1" strike="noStrike">
              <a:solidFill>
                <a:srgbClr val="46667a"/>
              </a:solidFill>
              <a:latin typeface="Verdana"/>
            </a:endParaRPr>
          </a:p>
        </p:txBody>
      </p:sp>
      <p:sp>
        <p:nvSpPr>
          <p:cNvPr id="588" name="Rectangle 5"/>
          <p:cNvSpPr/>
          <p:nvPr/>
        </p:nvSpPr>
        <p:spPr>
          <a:xfrm>
            <a:off x="415800" y="1485360"/>
            <a:ext cx="9417240" cy="36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lvl="1" marL="334800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1" lang="en-US" sz="3000" spc="-1" strike="noStrike">
              <a:solidFill>
                <a:srgbClr val="46667a"/>
              </a:solidFill>
              <a:latin typeface="Verdana"/>
            </a:endParaRPr>
          </a:p>
          <a:p>
            <a:pPr lvl="1" marL="334800">
              <a:lnSpc>
                <a:spcPct val="100000"/>
              </a:lnSpc>
              <a:buClr>
                <a:srgbClr val="c0c0c0"/>
              </a:buClr>
              <a:buSzPct val="125000"/>
              <a:buFont typeface="Verdana"/>
              <a:buChar char="•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Myriad Pro Light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Myriad Pro Light"/>
              </a:rPr>
              <a:t>Высокая доходность</a:t>
            </a:r>
            <a:endParaRPr b="1" lang="en-US" sz="3000" spc="-1" strike="noStrike">
              <a:solidFill>
                <a:srgbClr val="46667a"/>
              </a:solidFill>
              <a:latin typeface="Verdana"/>
            </a:endParaRPr>
          </a:p>
          <a:p>
            <a:pPr lvl="1" marL="334800">
              <a:lnSpc>
                <a:spcPct val="100000"/>
              </a:lnSpc>
              <a:buClr>
                <a:srgbClr val="c0c0c0"/>
              </a:buClr>
              <a:buSzPct val="125000"/>
              <a:buFont typeface="Verdana"/>
              <a:buChar char="•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Myriad Pro Light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Myriad Pro"/>
              </a:rPr>
              <a:t>Выгодное</a:t>
            </a:r>
            <a:r>
              <a:rPr b="0" lang="ru-RU" sz="3000" spc="-1" strike="noStrike">
                <a:solidFill>
                  <a:srgbClr val="000000"/>
                </a:solidFill>
                <a:latin typeface="Myriad Pro Light"/>
              </a:rPr>
              <a:t> соотношение риск/доходность</a:t>
            </a:r>
            <a:endParaRPr b="1" lang="en-US" sz="3000" spc="-1" strike="noStrike">
              <a:solidFill>
                <a:srgbClr val="46667a"/>
              </a:solidFill>
              <a:latin typeface="Verdana"/>
            </a:endParaRPr>
          </a:p>
          <a:p>
            <a:pPr lvl="1" marL="334800">
              <a:lnSpc>
                <a:spcPct val="100000"/>
              </a:lnSpc>
              <a:buClr>
                <a:srgbClr val="c0c0c0"/>
              </a:buClr>
              <a:buSzPct val="125000"/>
              <a:buFont typeface="Verdana"/>
              <a:buChar char="•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Myriad Pro Light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Myriad Pro Light"/>
              </a:rPr>
              <a:t>Активный Риск Менеджмент</a:t>
            </a:r>
            <a:endParaRPr b="1" lang="en-US" sz="3000" spc="-1" strike="noStrike">
              <a:solidFill>
                <a:srgbClr val="46667a"/>
              </a:solidFill>
              <a:latin typeface="Verdana"/>
            </a:endParaRPr>
          </a:p>
          <a:p>
            <a:pPr lvl="1" marL="334800">
              <a:lnSpc>
                <a:spcPct val="100000"/>
              </a:lnSpc>
              <a:buClr>
                <a:srgbClr val="c0c0c0"/>
              </a:buClr>
              <a:buSzPct val="125000"/>
              <a:buFont typeface="Verdana"/>
              <a:buChar char="•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Myriad Pro Light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Myriad Pro Light"/>
              </a:rPr>
              <a:t>Высокая Ликвидность (гарантия выхода)</a:t>
            </a:r>
            <a:endParaRPr b="1" lang="en-US" sz="3000" spc="-1" strike="noStrike">
              <a:solidFill>
                <a:srgbClr val="46667a"/>
              </a:solidFill>
              <a:latin typeface="Verdana"/>
            </a:endParaRPr>
          </a:p>
          <a:p>
            <a:pPr lvl="1" marL="334800">
              <a:lnSpc>
                <a:spcPct val="100000"/>
              </a:lnSpc>
              <a:buClr>
                <a:srgbClr val="c0c0c0"/>
              </a:buClr>
              <a:buSzPct val="125000"/>
              <a:buFont typeface="Verdana"/>
              <a:buChar char="•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Myriad Pro Light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Myriad Pro Light"/>
              </a:rPr>
              <a:t>Отсутствие кредитного риска контрагента</a:t>
            </a:r>
            <a:endParaRPr b="1" lang="en-US" sz="3000" spc="-1" strike="noStrike">
              <a:solidFill>
                <a:srgbClr val="46667a"/>
              </a:solidFill>
              <a:latin typeface="Verdana"/>
            </a:endParaRPr>
          </a:p>
          <a:p>
            <a:pPr lvl="1" marL="334800">
              <a:lnSpc>
                <a:spcPct val="100000"/>
              </a:lnSpc>
              <a:buClr>
                <a:srgbClr val="c0c0c0"/>
              </a:buClr>
              <a:buSzPct val="125000"/>
              <a:buFont typeface="Verdana"/>
              <a:buChar char="•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Myriad Pro Light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Myriad Pro Light"/>
              </a:rPr>
              <a:t>Минимальные временные затраты на принятие торговых решений</a:t>
            </a:r>
            <a:endParaRPr b="1" lang="en-US" sz="3000" spc="-1" strike="noStrike">
              <a:solidFill>
                <a:srgbClr val="46667a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0" y="758880"/>
            <a:ext cx="9906120" cy="8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6667a"/>
                </a:solidFill>
                <a:latin typeface="Myriad Pro Light"/>
              </a:rPr>
              <a:t>Контроль Рисков</a:t>
            </a:r>
            <a:endParaRPr b="1" lang="en-US" sz="3200" spc="-1" strike="noStrike">
              <a:solidFill>
                <a:srgbClr val="46667a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>
            <a:off x="3944880" y="2104920"/>
            <a:ext cx="1368360" cy="1152720"/>
          </a:xfrm>
          <a:prstGeom prst="rect">
            <a:avLst/>
          </a:prstGeom>
          <a:noFill/>
          <a:ln w="25560">
            <a:solidFill>
              <a:srgbClr val="4666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6667a"/>
                </a:solidFill>
                <a:latin typeface="Verdana"/>
              </a:rPr>
              <a:t>«АТ»</a:t>
            </a:r>
            <a:endParaRPr b="1" lang="en-US" sz="2800" spc="-1" strike="noStrike">
              <a:solidFill>
                <a:srgbClr val="46667a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>
            <a:off x="344520" y="2104920"/>
            <a:ext cx="2735280" cy="1152720"/>
          </a:xfrm>
          <a:prstGeom prst="rect">
            <a:avLst/>
          </a:prstGeom>
          <a:noFill/>
          <a:ln w="25560">
            <a:solidFill>
              <a:srgbClr val="4666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6667a"/>
                </a:solidFill>
                <a:latin typeface="Verdana"/>
              </a:rPr>
              <a:t>Исходные данные (рынок)</a:t>
            </a:r>
            <a:endParaRPr b="1" lang="en-US" sz="2000" spc="-1" strike="noStrike">
              <a:solidFill>
                <a:srgbClr val="46667a"/>
              </a:solidFill>
              <a:latin typeface="Verdana"/>
            </a:endParaRPr>
          </a:p>
        </p:txBody>
      </p:sp>
      <p:sp>
        <p:nvSpPr>
          <p:cNvPr id="592" name=""/>
          <p:cNvSpPr/>
          <p:nvPr/>
        </p:nvSpPr>
        <p:spPr>
          <a:xfrm>
            <a:off x="3081240" y="2681280"/>
            <a:ext cx="863640" cy="0"/>
          </a:xfrm>
          <a:prstGeom prst="line">
            <a:avLst/>
          </a:prstGeom>
          <a:ln w="25560">
            <a:solidFill>
              <a:srgbClr val="46667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6667a"/>
              </a:solidFill>
              <a:latin typeface="Verdana"/>
            </a:endParaRPr>
          </a:p>
        </p:txBody>
      </p:sp>
      <p:sp>
        <p:nvSpPr>
          <p:cNvPr id="593" name=""/>
          <p:cNvSpPr/>
          <p:nvPr/>
        </p:nvSpPr>
        <p:spPr>
          <a:xfrm>
            <a:off x="5313240" y="3112920"/>
            <a:ext cx="3168720" cy="0"/>
          </a:xfrm>
          <a:prstGeom prst="line">
            <a:avLst/>
          </a:prstGeom>
          <a:ln w="25560">
            <a:solidFill>
              <a:srgbClr val="46667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6667a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481960" y="2060640"/>
            <a:ext cx="863640" cy="3240000"/>
          </a:xfrm>
          <a:prstGeom prst="rect">
            <a:avLst/>
          </a:prstGeom>
          <a:noFill/>
          <a:ln w="25560">
            <a:solidFill>
              <a:srgbClr val="4666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667a"/>
                </a:solidFill>
                <a:latin typeface="Verdana"/>
              </a:rPr>
              <a:t>TC</a:t>
            </a:r>
            <a:r>
              <a:rPr b="1" lang="ru-RU" sz="2400" spc="-1" strike="noStrike">
                <a:solidFill>
                  <a:srgbClr val="46667a"/>
                </a:solidFill>
                <a:latin typeface="Verdana"/>
              </a:rPr>
              <a:t>*</a:t>
            </a:r>
            <a:endParaRPr b="1" lang="en-US" sz="2400" spc="-1" strike="noStrike">
              <a:solidFill>
                <a:srgbClr val="46667a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5313240" y="2249640"/>
            <a:ext cx="3168720" cy="0"/>
          </a:xfrm>
          <a:prstGeom prst="line">
            <a:avLst/>
          </a:prstGeom>
          <a:ln w="25560">
            <a:solidFill>
              <a:srgbClr val="46667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6667a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5816520" y="2828880"/>
            <a:ext cx="2305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6667a"/>
                </a:solidFill>
                <a:latin typeface="Verdana"/>
              </a:rPr>
              <a:t>Позиционный сигнал</a:t>
            </a:r>
            <a:endParaRPr b="1" lang="en-US" sz="1400" spc="-1" strike="noStrike">
              <a:solidFill>
                <a:srgbClr val="46667a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5816520" y="1960560"/>
            <a:ext cx="2305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6667a"/>
                </a:solidFill>
                <a:latin typeface="Verdana"/>
              </a:rPr>
              <a:t>Сигнал «стоп-ордер»</a:t>
            </a:r>
            <a:endParaRPr b="1" lang="en-US" sz="1400" spc="-1" strike="noStrike">
              <a:solidFill>
                <a:srgbClr val="46667a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>
            <a:off x="528840" y="5776920"/>
            <a:ext cx="2006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6667a"/>
                </a:solidFill>
                <a:latin typeface="Verdana"/>
              </a:rPr>
              <a:t>*Торговая система</a:t>
            </a:r>
            <a:endParaRPr b="1" lang="en-US" sz="1600" spc="-1" strike="noStrike">
              <a:solidFill>
                <a:srgbClr val="46667a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3008160" y="4148280"/>
            <a:ext cx="2016360" cy="1152360"/>
          </a:xfrm>
          <a:prstGeom prst="rect">
            <a:avLst/>
          </a:prstGeom>
          <a:noFill/>
          <a:ln w="25560">
            <a:solidFill>
              <a:srgbClr val="4666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6667a"/>
                </a:solidFill>
                <a:latin typeface="Verdana"/>
              </a:rPr>
              <a:t>Внешние риск-лимиты</a:t>
            </a:r>
            <a:endParaRPr b="1" lang="en-US" sz="2000" spc="-1" strike="noStrike">
              <a:solidFill>
                <a:srgbClr val="46667a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>
            <a:off x="5024520" y="4481640"/>
            <a:ext cx="3457440" cy="0"/>
          </a:xfrm>
          <a:prstGeom prst="line">
            <a:avLst/>
          </a:prstGeom>
          <a:ln w="25560">
            <a:solidFill>
              <a:srgbClr val="46667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6667a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>
            <a:off x="4952880" y="4194000"/>
            <a:ext cx="3457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6667a"/>
                </a:solidFill>
                <a:latin typeface="Verdana"/>
              </a:rPr>
              <a:t>Предельный «стоп-ордер»</a:t>
            </a:r>
            <a:endParaRPr b="1" lang="en-US" sz="1400" spc="-1" strike="noStrike">
              <a:solidFill>
                <a:srgbClr val="46667a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5024520" y="4941720"/>
            <a:ext cx="3457440" cy="0"/>
          </a:xfrm>
          <a:prstGeom prst="line">
            <a:avLst/>
          </a:prstGeom>
          <a:ln w="25560">
            <a:solidFill>
              <a:srgbClr val="46667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6667a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5619960" y="4656240"/>
            <a:ext cx="2050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6667a"/>
                </a:solidFill>
                <a:latin typeface="Verdana"/>
              </a:rPr>
              <a:t>Предельная просадка</a:t>
            </a:r>
            <a:endParaRPr b="1" lang="en-US" sz="1400" spc="-1" strike="noStrike">
              <a:solidFill>
                <a:srgbClr val="46667a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4"/>
          <p:cNvSpPr/>
          <p:nvPr/>
        </p:nvSpPr>
        <p:spPr>
          <a:xfrm>
            <a:off x="0" y="758880"/>
            <a:ext cx="9906120" cy="8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lvl="1" marL="334800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ru-RU" sz="3200" spc="-1" strike="noStrike">
                <a:solidFill>
                  <a:srgbClr val="46667a"/>
                </a:solidFill>
                <a:latin typeface="Myriad Pro Light"/>
              </a:rPr>
              <a:t>Профиль Стратегии</a:t>
            </a:r>
            <a:endParaRPr b="1" lang="en-US" sz="3200" spc="-1" strike="noStrike">
              <a:solidFill>
                <a:srgbClr val="46667a"/>
              </a:solidFill>
              <a:latin typeface="Verdana"/>
            </a:endParaRPr>
          </a:p>
        </p:txBody>
      </p:sp>
      <p:graphicFrame>
        <p:nvGraphicFramePr>
          <p:cNvPr id="605" name=""/>
          <p:cNvGraphicFramePr/>
          <p:nvPr/>
        </p:nvGraphicFramePr>
        <p:xfrm>
          <a:off x="360360" y="1701720"/>
          <a:ext cx="8840880" cy="2231640"/>
        </p:xfrm>
        <a:graphic>
          <a:graphicData uri="http://schemas.openxmlformats.org/drawingml/2006/table">
            <a:tbl>
              <a:tblPr/>
              <a:tblGrid>
                <a:gridCol w="3152880"/>
                <a:gridCol w="1725480"/>
                <a:gridCol w="1643040"/>
                <a:gridCol w="2319480"/>
              </a:tblGrid>
              <a:tr h="915120">
                <a:tc>
                  <a:txBody>
                    <a:bodyPr lIns="0" rIns="0" tIns="0" bIns="0" anchor="ctr">
                      <a:noAutofit/>
                    </a:bodyPr>
                    <a:p>
                      <a:pPr marL="235080">
                        <a:lnSpc>
                          <a:spcPct val="100000"/>
                        </a:lnSpc>
                        <a:spcBef>
                          <a:spcPts val="1763"/>
                        </a:spcBef>
                        <a:tabLst>
                          <a:tab algn="l" pos="0"/>
                          <a:tab algn="l" pos="673200"/>
                          <a:tab algn="l" pos="1346040"/>
                          <a:tab algn="l" pos="2019240"/>
                          <a:tab algn="l" pos="2692440"/>
                          <a:tab algn="l" pos="3365640"/>
                          <a:tab algn="l" pos="4038480"/>
                          <a:tab algn="l" pos="4711680"/>
                          <a:tab algn="l" pos="5384880"/>
                          <a:tab algn="l" pos="6058080"/>
                          <a:tab algn="l" pos="6730920"/>
                          <a:tab algn="l" pos="7404120"/>
                          <a:tab algn="l" pos="8077320"/>
                          <a:tab algn="l" pos="8750160"/>
                          <a:tab algn="l" pos="9423360"/>
                          <a:tab algn="l" pos="10096560"/>
                          <a:tab algn="l" pos="107697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Myriad Pro"/>
                        </a:rPr>
                        <a:t>Тип Стратегии</a:t>
                      </a:r>
                      <a:endParaRPr b="1" lang="en-US" sz="2000" spc="-1" strike="noStrike">
                        <a:solidFill>
                          <a:srgbClr val="46667a"/>
                        </a:solidFill>
                        <a:latin typeface="Verdana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235080" algn="ctr">
                        <a:lnSpc>
                          <a:spcPct val="100000"/>
                        </a:lnSpc>
                        <a:spcBef>
                          <a:spcPts val="1763"/>
                        </a:spcBef>
                        <a:tabLst>
                          <a:tab algn="l" pos="0"/>
                          <a:tab algn="l" pos="673200"/>
                          <a:tab algn="l" pos="1346040"/>
                          <a:tab algn="l" pos="2019240"/>
                          <a:tab algn="l" pos="2692440"/>
                          <a:tab algn="l" pos="3365640"/>
                          <a:tab algn="l" pos="4038480"/>
                          <a:tab algn="l" pos="4711680"/>
                          <a:tab algn="l" pos="5384880"/>
                          <a:tab algn="l" pos="6058080"/>
                          <a:tab algn="l" pos="6730920"/>
                          <a:tab algn="l" pos="7404120"/>
                          <a:tab algn="l" pos="8077320"/>
                          <a:tab algn="l" pos="8750160"/>
                          <a:tab algn="l" pos="9423360"/>
                          <a:tab algn="l" pos="10096560"/>
                          <a:tab algn="l" pos="107697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Myriad Pro"/>
                        </a:rPr>
                        <a:t>Дох-сть     (% годовых)</a:t>
                      </a:r>
                      <a:endParaRPr b="1" lang="en-US" sz="2000" spc="-1" strike="noStrike">
                        <a:solidFill>
                          <a:srgbClr val="46667a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235080" algn="ctr">
                        <a:lnSpc>
                          <a:spcPct val="100000"/>
                        </a:lnSpc>
                        <a:spcBef>
                          <a:spcPts val="1763"/>
                        </a:spcBef>
                        <a:tabLst>
                          <a:tab algn="l" pos="0"/>
                          <a:tab algn="l" pos="673200"/>
                          <a:tab algn="l" pos="1346040"/>
                          <a:tab algn="l" pos="2019240"/>
                          <a:tab algn="l" pos="2692440"/>
                          <a:tab algn="l" pos="3365640"/>
                          <a:tab algn="l" pos="4038480"/>
                          <a:tab algn="l" pos="4711680"/>
                          <a:tab algn="l" pos="5384880"/>
                          <a:tab algn="l" pos="6058080"/>
                          <a:tab algn="l" pos="6730920"/>
                          <a:tab algn="l" pos="7404120"/>
                          <a:tab algn="l" pos="8077320"/>
                          <a:tab algn="l" pos="8750160"/>
                          <a:tab algn="l" pos="9423360"/>
                          <a:tab algn="l" pos="10096560"/>
                          <a:tab algn="l" pos="107697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Myriad Pro"/>
                        </a:rPr>
                        <a:t>Доход под риском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Myriad Pro"/>
                        </a:rPr>
                        <a:t>*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Myriad Pro"/>
                        </a:rPr>
                        <a:t> (%)</a:t>
                      </a:r>
                      <a:endParaRPr b="1" lang="en-US" sz="2000" spc="-1" strike="noStrike">
                        <a:solidFill>
                          <a:srgbClr val="46667a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235080" algn="ctr">
                        <a:lnSpc>
                          <a:spcPct val="100000"/>
                        </a:lnSpc>
                        <a:spcBef>
                          <a:spcPts val="1763"/>
                        </a:spcBef>
                        <a:tabLst>
                          <a:tab algn="l" pos="0"/>
                          <a:tab algn="l" pos="673200"/>
                          <a:tab algn="l" pos="1346040"/>
                          <a:tab algn="l" pos="2019240"/>
                          <a:tab algn="l" pos="2692440"/>
                          <a:tab algn="l" pos="3365640"/>
                          <a:tab algn="l" pos="4038480"/>
                          <a:tab algn="l" pos="4711680"/>
                          <a:tab algn="l" pos="5384880"/>
                          <a:tab algn="l" pos="6058080"/>
                          <a:tab algn="l" pos="6730920"/>
                          <a:tab algn="l" pos="7404120"/>
                          <a:tab algn="l" pos="8077320"/>
                          <a:tab algn="l" pos="8750160"/>
                          <a:tab algn="l" pos="9423360"/>
                          <a:tab algn="l" pos="10096560"/>
                          <a:tab algn="l" pos="107697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Myriad Pro"/>
                        </a:rPr>
                        <a:t>Предельная просадка (%)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Myriad Pro"/>
                        </a:rPr>
                        <a:t>**</a:t>
                      </a:r>
                      <a:endParaRPr b="1" lang="en-US" sz="2000" spc="-1" strike="noStrike">
                        <a:solidFill>
                          <a:srgbClr val="46667a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8960">
                <a:tc>
                  <a:txBody>
                    <a:bodyPr lIns="0" rIns="0" tIns="0" bIns="0" anchor="t">
                      <a:noAutofit/>
                    </a:bodyPr>
                    <a:p>
                      <a:pPr marL="235080" algn="ctr">
                        <a:lnSpc>
                          <a:spcPct val="100000"/>
                        </a:lnSpc>
                        <a:spcBef>
                          <a:spcPts val="1763"/>
                        </a:spcBef>
                        <a:tabLst>
                          <a:tab algn="l" pos="0"/>
                          <a:tab algn="l" pos="673200"/>
                          <a:tab algn="l" pos="1346040"/>
                          <a:tab algn="l" pos="2019240"/>
                          <a:tab algn="l" pos="2692440"/>
                          <a:tab algn="l" pos="3365640"/>
                          <a:tab algn="l" pos="4038480"/>
                          <a:tab algn="l" pos="4711680"/>
                          <a:tab algn="l" pos="5384880"/>
                          <a:tab algn="l" pos="6058080"/>
                          <a:tab algn="l" pos="6730920"/>
                          <a:tab algn="l" pos="7404120"/>
                          <a:tab algn="l" pos="8077320"/>
                          <a:tab algn="l" pos="8750160"/>
                          <a:tab algn="l" pos="9423360"/>
                          <a:tab algn="l" pos="10096560"/>
                          <a:tab algn="l" pos="107697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Myriad Pro"/>
                        </a:rPr>
                        <a:t>Консервативная</a:t>
                      </a:r>
                      <a:endParaRPr b="1" lang="en-US" sz="2000" spc="-1" strike="noStrike">
                        <a:solidFill>
                          <a:srgbClr val="46667a"/>
                        </a:solidFill>
                        <a:latin typeface="Verdana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35080" algn="ctr">
                        <a:lnSpc>
                          <a:spcPct val="100000"/>
                        </a:lnSpc>
                        <a:spcBef>
                          <a:spcPts val="1763"/>
                        </a:spcBef>
                        <a:tabLst>
                          <a:tab algn="l" pos="0"/>
                          <a:tab algn="l" pos="673200"/>
                          <a:tab algn="l" pos="1346040"/>
                          <a:tab algn="l" pos="2019240"/>
                          <a:tab algn="l" pos="2692440"/>
                          <a:tab algn="l" pos="3365640"/>
                          <a:tab algn="l" pos="4038480"/>
                          <a:tab algn="l" pos="4711680"/>
                          <a:tab algn="l" pos="5384880"/>
                          <a:tab algn="l" pos="6058080"/>
                          <a:tab algn="l" pos="6730920"/>
                          <a:tab algn="l" pos="7404120"/>
                          <a:tab algn="l" pos="8077320"/>
                          <a:tab algn="l" pos="8750160"/>
                          <a:tab algn="l" pos="9423360"/>
                          <a:tab algn="l" pos="10096560"/>
                          <a:tab algn="l" pos="107697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Myriad Pro"/>
                        </a:rPr>
                        <a:t>12</a:t>
                      </a:r>
                      <a:endParaRPr b="1" lang="en-US" sz="2000" spc="-1" strike="noStrike">
                        <a:solidFill>
                          <a:srgbClr val="46667a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35080" algn="ctr">
                        <a:lnSpc>
                          <a:spcPct val="100000"/>
                        </a:lnSpc>
                        <a:spcBef>
                          <a:spcPts val="1763"/>
                        </a:spcBef>
                        <a:tabLst>
                          <a:tab algn="l" pos="0"/>
                          <a:tab algn="l" pos="673200"/>
                          <a:tab algn="l" pos="1346040"/>
                          <a:tab algn="l" pos="2019240"/>
                          <a:tab algn="l" pos="2692440"/>
                          <a:tab algn="l" pos="3365640"/>
                          <a:tab algn="l" pos="4038480"/>
                          <a:tab algn="l" pos="4711680"/>
                          <a:tab algn="l" pos="5384880"/>
                          <a:tab algn="l" pos="6058080"/>
                          <a:tab algn="l" pos="6730920"/>
                          <a:tab algn="l" pos="7404120"/>
                          <a:tab algn="l" pos="8077320"/>
                          <a:tab algn="l" pos="8750160"/>
                          <a:tab algn="l" pos="9423360"/>
                          <a:tab algn="l" pos="10096560"/>
                          <a:tab algn="l" pos="107697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Myriad Pro"/>
                        </a:rPr>
                        <a:t>,5</a:t>
                      </a:r>
                      <a:endParaRPr b="1" lang="en-US" sz="2000" spc="-1" strike="noStrike">
                        <a:solidFill>
                          <a:srgbClr val="46667a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35080" algn="ctr">
                        <a:lnSpc>
                          <a:spcPct val="100000"/>
                        </a:lnSpc>
                        <a:spcBef>
                          <a:spcPts val="1763"/>
                        </a:spcBef>
                        <a:tabLst>
                          <a:tab algn="l" pos="0"/>
                          <a:tab algn="l" pos="673200"/>
                          <a:tab algn="l" pos="1346040"/>
                          <a:tab algn="l" pos="2019240"/>
                          <a:tab algn="l" pos="2692440"/>
                          <a:tab algn="l" pos="3365640"/>
                          <a:tab algn="l" pos="4038480"/>
                          <a:tab algn="l" pos="4711680"/>
                          <a:tab algn="l" pos="5384880"/>
                          <a:tab algn="l" pos="6058080"/>
                          <a:tab algn="l" pos="6730920"/>
                          <a:tab algn="l" pos="7404120"/>
                          <a:tab algn="l" pos="8077320"/>
                          <a:tab algn="l" pos="8750160"/>
                          <a:tab algn="l" pos="9423360"/>
                          <a:tab algn="l" pos="10096560"/>
                          <a:tab algn="l" pos="107697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Myriad Pro"/>
                        </a:rPr>
                        <a:t>5</a:t>
                      </a:r>
                      <a:endParaRPr b="1" lang="en-US" sz="2000" spc="-1" strike="noStrike">
                        <a:solidFill>
                          <a:srgbClr val="46667a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9680">
                <a:tc>
                  <a:txBody>
                    <a:bodyPr lIns="0" rIns="0" tIns="0" bIns="0" anchor="t">
                      <a:noAutofit/>
                    </a:bodyPr>
                    <a:p>
                      <a:pPr marL="235080" algn="ctr">
                        <a:lnSpc>
                          <a:spcPct val="100000"/>
                        </a:lnSpc>
                        <a:spcBef>
                          <a:spcPts val="1763"/>
                        </a:spcBef>
                        <a:tabLst>
                          <a:tab algn="l" pos="0"/>
                          <a:tab algn="l" pos="673200"/>
                          <a:tab algn="l" pos="1346040"/>
                          <a:tab algn="l" pos="2019240"/>
                          <a:tab algn="l" pos="2692440"/>
                          <a:tab algn="l" pos="3365640"/>
                          <a:tab algn="l" pos="4038480"/>
                          <a:tab algn="l" pos="4711680"/>
                          <a:tab algn="l" pos="5384880"/>
                          <a:tab algn="l" pos="6058080"/>
                          <a:tab algn="l" pos="6730920"/>
                          <a:tab algn="l" pos="7404120"/>
                          <a:tab algn="l" pos="8077320"/>
                          <a:tab algn="l" pos="8750160"/>
                          <a:tab algn="l" pos="9423360"/>
                          <a:tab algn="l" pos="10096560"/>
                          <a:tab algn="l" pos="107697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Myriad Pro"/>
                        </a:rPr>
                        <a:t>Умеренная</a:t>
                      </a:r>
                      <a:endParaRPr b="1" lang="en-US" sz="2000" spc="-1" strike="noStrike">
                        <a:solidFill>
                          <a:srgbClr val="46667a"/>
                        </a:solidFill>
                        <a:latin typeface="Verdana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35080" algn="ctr">
                        <a:lnSpc>
                          <a:spcPct val="100000"/>
                        </a:lnSpc>
                        <a:spcBef>
                          <a:spcPts val="1763"/>
                        </a:spcBef>
                        <a:tabLst>
                          <a:tab algn="l" pos="0"/>
                          <a:tab algn="l" pos="673200"/>
                          <a:tab algn="l" pos="1346040"/>
                          <a:tab algn="l" pos="2019240"/>
                          <a:tab algn="l" pos="2692440"/>
                          <a:tab algn="l" pos="3365640"/>
                          <a:tab algn="l" pos="4038480"/>
                          <a:tab algn="l" pos="4711680"/>
                          <a:tab algn="l" pos="5384880"/>
                          <a:tab algn="l" pos="6058080"/>
                          <a:tab algn="l" pos="6730920"/>
                          <a:tab algn="l" pos="7404120"/>
                          <a:tab algn="l" pos="8077320"/>
                          <a:tab algn="l" pos="8750160"/>
                          <a:tab algn="l" pos="9423360"/>
                          <a:tab algn="l" pos="10096560"/>
                          <a:tab algn="l" pos="107697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Myriad Pro"/>
                        </a:rPr>
                        <a:t>20</a:t>
                      </a:r>
                      <a:endParaRPr b="1" lang="en-US" sz="2000" spc="-1" strike="noStrike">
                        <a:solidFill>
                          <a:srgbClr val="46667a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35080" algn="ctr">
                        <a:lnSpc>
                          <a:spcPct val="100000"/>
                        </a:lnSpc>
                        <a:spcBef>
                          <a:spcPts val="1763"/>
                        </a:spcBef>
                        <a:tabLst>
                          <a:tab algn="l" pos="0"/>
                          <a:tab algn="l" pos="673200"/>
                          <a:tab algn="l" pos="1346040"/>
                          <a:tab algn="l" pos="2019240"/>
                          <a:tab algn="l" pos="2692440"/>
                          <a:tab algn="l" pos="3365640"/>
                          <a:tab algn="l" pos="4038480"/>
                          <a:tab algn="l" pos="4711680"/>
                          <a:tab algn="l" pos="5384880"/>
                          <a:tab algn="l" pos="6058080"/>
                          <a:tab algn="l" pos="6730920"/>
                          <a:tab algn="l" pos="7404120"/>
                          <a:tab algn="l" pos="8077320"/>
                          <a:tab algn="l" pos="8750160"/>
                          <a:tab algn="l" pos="9423360"/>
                          <a:tab algn="l" pos="10096560"/>
                          <a:tab algn="l" pos="107697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Myriad Pro"/>
                        </a:rPr>
                        <a:t>,0</a:t>
                      </a:r>
                      <a:endParaRPr b="1" lang="en-US" sz="2000" spc="-1" strike="noStrike">
                        <a:solidFill>
                          <a:srgbClr val="46667a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35080" algn="ctr">
                        <a:lnSpc>
                          <a:spcPct val="100000"/>
                        </a:lnSpc>
                        <a:spcBef>
                          <a:spcPts val="1763"/>
                        </a:spcBef>
                        <a:tabLst>
                          <a:tab algn="l" pos="0"/>
                          <a:tab algn="l" pos="673200"/>
                          <a:tab algn="l" pos="1346040"/>
                          <a:tab algn="l" pos="2019240"/>
                          <a:tab algn="l" pos="2692440"/>
                          <a:tab algn="l" pos="3365640"/>
                          <a:tab algn="l" pos="4038480"/>
                          <a:tab algn="l" pos="4711680"/>
                          <a:tab algn="l" pos="5384880"/>
                          <a:tab algn="l" pos="6058080"/>
                          <a:tab algn="l" pos="6730920"/>
                          <a:tab algn="l" pos="7404120"/>
                          <a:tab algn="l" pos="8077320"/>
                          <a:tab algn="l" pos="8750160"/>
                          <a:tab algn="l" pos="9423360"/>
                          <a:tab algn="l" pos="10096560"/>
                          <a:tab algn="l" pos="107697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Myriad Pro"/>
                        </a:rPr>
                        <a:t>10</a:t>
                      </a:r>
                      <a:endParaRPr b="1" lang="en-US" sz="2000" spc="-1" strike="noStrike">
                        <a:solidFill>
                          <a:srgbClr val="46667a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120">
                <a:tc>
                  <a:txBody>
                    <a:bodyPr lIns="0" rIns="0" tIns="0" bIns="0" anchor="t">
                      <a:noAutofit/>
                    </a:bodyPr>
                    <a:p>
                      <a:pPr marL="235080" algn="ctr">
                        <a:lnSpc>
                          <a:spcPct val="100000"/>
                        </a:lnSpc>
                        <a:spcBef>
                          <a:spcPts val="1763"/>
                        </a:spcBef>
                        <a:tabLst>
                          <a:tab algn="l" pos="0"/>
                          <a:tab algn="l" pos="673200"/>
                          <a:tab algn="l" pos="1346040"/>
                          <a:tab algn="l" pos="2019240"/>
                          <a:tab algn="l" pos="2692440"/>
                          <a:tab algn="l" pos="3365640"/>
                          <a:tab algn="l" pos="4038480"/>
                          <a:tab algn="l" pos="4711680"/>
                          <a:tab algn="l" pos="5384880"/>
                          <a:tab algn="l" pos="6058080"/>
                          <a:tab algn="l" pos="6730920"/>
                          <a:tab algn="l" pos="7404120"/>
                          <a:tab algn="l" pos="8077320"/>
                          <a:tab algn="l" pos="8750160"/>
                          <a:tab algn="l" pos="9423360"/>
                          <a:tab algn="l" pos="10096560"/>
                          <a:tab algn="l" pos="107697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Myriad Pro"/>
                        </a:rPr>
                        <a:t>Умеренно-агрессивная</a:t>
                      </a:r>
                      <a:endParaRPr b="1" lang="en-US" sz="2000" spc="-1" strike="noStrike">
                        <a:solidFill>
                          <a:srgbClr val="46667a"/>
                        </a:solidFill>
                        <a:latin typeface="Verdana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35080" algn="ctr">
                        <a:lnSpc>
                          <a:spcPct val="100000"/>
                        </a:lnSpc>
                        <a:spcBef>
                          <a:spcPts val="1763"/>
                        </a:spcBef>
                        <a:tabLst>
                          <a:tab algn="l" pos="0"/>
                          <a:tab algn="l" pos="673200"/>
                          <a:tab algn="l" pos="1346040"/>
                          <a:tab algn="l" pos="2019240"/>
                          <a:tab algn="l" pos="2692440"/>
                          <a:tab algn="l" pos="3365640"/>
                          <a:tab algn="l" pos="4038480"/>
                          <a:tab algn="l" pos="4711680"/>
                          <a:tab algn="l" pos="5384880"/>
                          <a:tab algn="l" pos="6058080"/>
                          <a:tab algn="l" pos="6730920"/>
                          <a:tab algn="l" pos="7404120"/>
                          <a:tab algn="l" pos="8077320"/>
                          <a:tab algn="l" pos="8750160"/>
                          <a:tab algn="l" pos="9423360"/>
                          <a:tab algn="l" pos="10096560"/>
                          <a:tab algn="l" pos="107697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Myriad Pro"/>
                        </a:rPr>
                        <a:t>30</a:t>
                      </a:r>
                      <a:endParaRPr b="1" lang="en-US" sz="2000" spc="-1" strike="noStrike">
                        <a:solidFill>
                          <a:srgbClr val="46667a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35080" algn="ctr">
                        <a:lnSpc>
                          <a:spcPct val="100000"/>
                        </a:lnSpc>
                        <a:spcBef>
                          <a:spcPts val="1763"/>
                        </a:spcBef>
                        <a:tabLst>
                          <a:tab algn="l" pos="0"/>
                          <a:tab algn="l" pos="673200"/>
                          <a:tab algn="l" pos="1346040"/>
                          <a:tab algn="l" pos="2019240"/>
                          <a:tab algn="l" pos="2692440"/>
                          <a:tab algn="l" pos="3365640"/>
                          <a:tab algn="l" pos="4038480"/>
                          <a:tab algn="l" pos="4711680"/>
                          <a:tab algn="l" pos="5384880"/>
                          <a:tab algn="l" pos="6058080"/>
                          <a:tab algn="l" pos="6730920"/>
                          <a:tab algn="l" pos="7404120"/>
                          <a:tab algn="l" pos="8077320"/>
                          <a:tab algn="l" pos="8750160"/>
                          <a:tab algn="l" pos="9423360"/>
                          <a:tab algn="l" pos="10096560"/>
                          <a:tab algn="l" pos="107697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Myriad Pro"/>
                        </a:rPr>
                        <a:t>,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1" lang="en-US" sz="2000" spc="-1" strike="noStrike">
                        <a:solidFill>
                          <a:srgbClr val="46667a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35080" algn="ctr">
                        <a:lnSpc>
                          <a:spcPct val="100000"/>
                        </a:lnSpc>
                        <a:spcBef>
                          <a:spcPts val="1763"/>
                        </a:spcBef>
                        <a:tabLst>
                          <a:tab algn="l" pos="0"/>
                          <a:tab algn="l" pos="673200"/>
                          <a:tab algn="l" pos="1346040"/>
                          <a:tab algn="l" pos="2019240"/>
                          <a:tab algn="l" pos="2692440"/>
                          <a:tab algn="l" pos="3365640"/>
                          <a:tab algn="l" pos="4038480"/>
                          <a:tab algn="l" pos="4711680"/>
                          <a:tab algn="l" pos="5384880"/>
                          <a:tab algn="l" pos="6058080"/>
                          <a:tab algn="l" pos="6730920"/>
                          <a:tab algn="l" pos="7404120"/>
                          <a:tab algn="l" pos="8077320"/>
                          <a:tab algn="l" pos="8750160"/>
                          <a:tab algn="l" pos="9423360"/>
                          <a:tab algn="l" pos="10096560"/>
                          <a:tab algn="l" pos="1076976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Myriad Pro"/>
                        </a:rPr>
                        <a:t>20</a:t>
                      </a:r>
                      <a:endParaRPr b="1" lang="en-US" sz="2000" spc="-1" strike="noStrike">
                        <a:solidFill>
                          <a:srgbClr val="46667a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760">
                <a:tc>
                  <a:txBody>
                    <a:bodyPr lIns="0" rIns="0" tIns="0" bIns="0" anchor="t">
                      <a:noAutofit/>
                    </a:bodyPr>
                    <a:p>
                      <a:pPr marL="235080" algn="ctr">
                        <a:lnSpc>
                          <a:spcPct val="100000"/>
                        </a:lnSpc>
                        <a:spcBef>
                          <a:spcPts val="1763"/>
                        </a:spcBef>
                        <a:tabLst>
                          <a:tab algn="l" pos="0"/>
                          <a:tab algn="l" pos="673200"/>
                          <a:tab algn="l" pos="1346040"/>
                          <a:tab algn="l" pos="2019240"/>
                          <a:tab algn="l" pos="2692440"/>
                          <a:tab algn="l" pos="3365640"/>
                          <a:tab algn="l" pos="4038480"/>
                          <a:tab algn="l" pos="4711680"/>
                          <a:tab algn="l" pos="5384880"/>
                          <a:tab algn="l" pos="6058080"/>
                          <a:tab algn="l" pos="6730920"/>
                          <a:tab algn="l" pos="7404120"/>
                          <a:tab algn="l" pos="8077320"/>
                          <a:tab algn="l" pos="8750160"/>
                          <a:tab algn="l" pos="9423360"/>
                          <a:tab algn="l" pos="10096560"/>
                          <a:tab algn="l" pos="107697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Myriad Pro"/>
                        </a:rPr>
                        <a:t>Агрессивная</a:t>
                      </a:r>
                      <a:endParaRPr b="1" lang="en-US" sz="2000" spc="-1" strike="noStrike">
                        <a:solidFill>
                          <a:srgbClr val="46667a"/>
                        </a:solidFill>
                        <a:latin typeface="Verdana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35080" algn="ctr">
                        <a:lnSpc>
                          <a:spcPct val="100000"/>
                        </a:lnSpc>
                        <a:spcBef>
                          <a:spcPts val="1763"/>
                        </a:spcBef>
                        <a:tabLst>
                          <a:tab algn="l" pos="0"/>
                          <a:tab algn="l" pos="673200"/>
                          <a:tab algn="l" pos="1346040"/>
                          <a:tab algn="l" pos="2019240"/>
                          <a:tab algn="l" pos="2692440"/>
                          <a:tab algn="l" pos="3365640"/>
                          <a:tab algn="l" pos="4038480"/>
                          <a:tab algn="l" pos="4711680"/>
                          <a:tab algn="l" pos="5384880"/>
                          <a:tab algn="l" pos="6058080"/>
                          <a:tab algn="l" pos="6730920"/>
                          <a:tab algn="l" pos="7404120"/>
                          <a:tab algn="l" pos="8077320"/>
                          <a:tab algn="l" pos="8750160"/>
                          <a:tab algn="l" pos="9423360"/>
                          <a:tab algn="l" pos="10096560"/>
                          <a:tab algn="l" pos="1076976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Myriad Pro"/>
                        </a:rPr>
                        <a:t>&gt;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Myriad Pro"/>
                        </a:rPr>
                        <a:t>40</a:t>
                      </a:r>
                      <a:endParaRPr b="1" lang="en-US" sz="2000" spc="-1" strike="noStrike">
                        <a:solidFill>
                          <a:srgbClr val="46667a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35080" algn="ctr">
                        <a:lnSpc>
                          <a:spcPct val="100000"/>
                        </a:lnSpc>
                        <a:spcBef>
                          <a:spcPts val="1763"/>
                        </a:spcBef>
                        <a:tabLst>
                          <a:tab algn="l" pos="0"/>
                          <a:tab algn="l" pos="673200"/>
                          <a:tab algn="l" pos="1346040"/>
                          <a:tab algn="l" pos="2019240"/>
                          <a:tab algn="l" pos="2692440"/>
                          <a:tab algn="l" pos="3365640"/>
                          <a:tab algn="l" pos="4038480"/>
                          <a:tab algn="l" pos="4711680"/>
                          <a:tab algn="l" pos="5384880"/>
                          <a:tab algn="l" pos="6058080"/>
                          <a:tab algn="l" pos="6730920"/>
                          <a:tab algn="l" pos="7404120"/>
                          <a:tab algn="l" pos="8077320"/>
                          <a:tab algn="l" pos="8750160"/>
                          <a:tab algn="l" pos="9423360"/>
                          <a:tab algn="l" pos="10096560"/>
                          <a:tab algn="l" pos="107697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1" lang="en-US" sz="2000" spc="-1" strike="noStrike">
                        <a:solidFill>
                          <a:srgbClr val="46667a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35080" algn="ctr">
                        <a:lnSpc>
                          <a:spcPct val="100000"/>
                        </a:lnSpc>
                        <a:spcBef>
                          <a:spcPts val="1763"/>
                        </a:spcBef>
                        <a:tabLst>
                          <a:tab algn="l" pos="0"/>
                          <a:tab algn="l" pos="673200"/>
                          <a:tab algn="l" pos="1346040"/>
                          <a:tab algn="l" pos="2019240"/>
                          <a:tab algn="l" pos="2692440"/>
                          <a:tab algn="l" pos="3365640"/>
                          <a:tab algn="l" pos="4038480"/>
                          <a:tab algn="l" pos="4711680"/>
                          <a:tab algn="l" pos="5384880"/>
                          <a:tab algn="l" pos="6058080"/>
                          <a:tab algn="l" pos="6730920"/>
                          <a:tab algn="l" pos="7404120"/>
                          <a:tab algn="l" pos="8077320"/>
                          <a:tab algn="l" pos="8750160"/>
                          <a:tab algn="l" pos="9423360"/>
                          <a:tab algn="l" pos="10096560"/>
                          <a:tab algn="l" pos="1076976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Myriad Pro"/>
                        </a:rPr>
                        <a:t>40</a:t>
                      </a:r>
                      <a:endParaRPr b="1" lang="en-US" sz="2000" spc="-1" strike="noStrike">
                        <a:solidFill>
                          <a:srgbClr val="46667a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6" name="Rectangle 66"/>
          <p:cNvSpPr/>
          <p:nvPr/>
        </p:nvSpPr>
        <p:spPr>
          <a:xfrm>
            <a:off x="415800" y="4226040"/>
            <a:ext cx="8858520" cy="6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320" rIns="67320" tIns="33840" bIns="3384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yriad Pro Light"/>
              </a:rPr>
              <a:t>*</a:t>
            </a:r>
            <a:r>
              <a:rPr b="0" lang="ru-RU" sz="1800" spc="-1" strike="noStrike">
                <a:solidFill>
                  <a:srgbClr val="000000"/>
                </a:solidFill>
                <a:latin typeface="Myriad Pro Light"/>
              </a:rPr>
              <a:t>Доход под риском (</a:t>
            </a:r>
            <a:r>
              <a:rPr b="0" lang="en-US" sz="1800" spc="-1" strike="noStrike">
                <a:solidFill>
                  <a:srgbClr val="000000"/>
                </a:solidFill>
                <a:latin typeface="Myriad Pro Light"/>
              </a:rPr>
              <a:t>VaR</a:t>
            </a:r>
            <a:r>
              <a:rPr b="0" lang="ru-RU" sz="1800" spc="-1" strike="noStrike">
                <a:solidFill>
                  <a:srgbClr val="000000"/>
                </a:solidFill>
                <a:latin typeface="Myriad Pro Light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Myriad Pro Light"/>
              </a:rPr>
              <a:t> – </a:t>
            </a:r>
            <a:r>
              <a:rPr b="0" lang="ru-RU" sz="1800" spc="-1" strike="noStrike">
                <a:solidFill>
                  <a:srgbClr val="000000"/>
                </a:solidFill>
                <a:latin typeface="Myriad Pro Light"/>
              </a:rPr>
              <a:t>максимально допустимая просадка портфеля в день (измеряется в процентах от рыночной стоимости портфеля).</a:t>
            </a:r>
            <a:endParaRPr b="1" lang="en-US" sz="1800" spc="-1" strike="noStrike">
              <a:solidFill>
                <a:srgbClr val="46667a"/>
              </a:solidFill>
              <a:latin typeface="Verdana"/>
            </a:endParaRPr>
          </a:p>
        </p:txBody>
      </p:sp>
      <p:sp>
        <p:nvSpPr>
          <p:cNvPr id="607" name="Rectangle 67"/>
          <p:cNvSpPr/>
          <p:nvPr/>
        </p:nvSpPr>
        <p:spPr>
          <a:xfrm>
            <a:off x="415800" y="4986360"/>
            <a:ext cx="9042480" cy="8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320" rIns="67320" tIns="33840" bIns="3384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yriad Pro Light"/>
              </a:rPr>
              <a:t>**</a:t>
            </a:r>
            <a:r>
              <a:rPr b="0" lang="ru-RU" sz="1800" spc="-1" strike="noStrike">
                <a:solidFill>
                  <a:srgbClr val="000000"/>
                </a:solidFill>
                <a:latin typeface="Myriad Pro Light"/>
              </a:rPr>
              <a:t>Предельная просадка</a:t>
            </a:r>
            <a:r>
              <a:rPr b="0" lang="en-US" sz="1800" spc="-1" strike="noStrike">
                <a:solidFill>
                  <a:srgbClr val="000000"/>
                </a:solidFill>
                <a:latin typeface="Myriad Pro Light"/>
              </a:rPr>
              <a:t> – </a:t>
            </a:r>
            <a:r>
              <a:rPr b="0" lang="ru-RU" sz="1800" spc="-1" strike="noStrike">
                <a:solidFill>
                  <a:srgbClr val="000000"/>
                </a:solidFill>
                <a:latin typeface="Myriad Pro Light"/>
              </a:rPr>
              <a:t>устанавливает максимально допустимый уровень просадки, при котором происходит закрытие позиций по текущей стратегии  и пересмотр договор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верительного управления</a:t>
            </a:r>
            <a:r>
              <a:rPr b="0" lang="en-US" sz="1800" spc="-1" strike="noStrike">
                <a:solidFill>
                  <a:srgbClr val="000000"/>
                </a:solidFill>
                <a:latin typeface="Myriad Pro Light"/>
              </a:rPr>
              <a:t>. </a:t>
            </a:r>
            <a:endParaRPr b="1" lang="en-US" sz="1800" spc="-1" strike="noStrike">
              <a:solidFill>
                <a:srgbClr val="46667a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8" name="Object 80"/>
          <p:cNvGraphicFramePr/>
          <p:nvPr/>
        </p:nvGraphicFramePr>
        <p:xfrm>
          <a:off x="1136520" y="1341360"/>
          <a:ext cx="7770960" cy="3633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09" name="Object 8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6520" y="1341360"/>
                    <a:ext cx="7770960" cy="36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0" name="Rectangle 2"/>
          <p:cNvSpPr/>
          <p:nvPr/>
        </p:nvSpPr>
        <p:spPr>
          <a:xfrm>
            <a:off x="345960" y="896760"/>
            <a:ext cx="9560160" cy="5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ru-RU" sz="3500" spc="-1" strike="noStrike">
                <a:solidFill>
                  <a:srgbClr val="46667a"/>
                </a:solidFill>
                <a:latin typeface="Arial"/>
              </a:rPr>
              <a:t>А</a:t>
            </a:r>
            <a:r>
              <a:rPr b="1" lang="ru-RU" sz="3500" spc="-1" strike="noStrike">
                <a:solidFill>
                  <a:srgbClr val="46667a"/>
                </a:solidFill>
                <a:latin typeface="Myriad Pro"/>
              </a:rPr>
              <a:t>грессивная стратегия</a:t>
            </a:r>
            <a:endParaRPr b="1" lang="en-US" sz="3500" spc="-1" strike="noStrike">
              <a:solidFill>
                <a:srgbClr val="46667a"/>
              </a:solidFill>
              <a:latin typeface="Verdana"/>
            </a:endParaRPr>
          </a:p>
        </p:txBody>
      </p:sp>
      <p:graphicFrame>
        <p:nvGraphicFramePr>
          <p:cNvPr id="611" name=""/>
          <p:cNvGraphicFramePr/>
          <p:nvPr/>
        </p:nvGraphicFramePr>
        <p:xfrm>
          <a:off x="703440" y="4941720"/>
          <a:ext cx="8929440" cy="1135080"/>
        </p:xfrm>
        <a:graphic>
          <a:graphicData uri="http://schemas.openxmlformats.org/drawingml/2006/table">
            <a:tbl>
              <a:tblPr/>
              <a:tblGrid>
                <a:gridCol w="1800000"/>
                <a:gridCol w="1728720"/>
                <a:gridCol w="1440000"/>
                <a:gridCol w="3960720"/>
              </a:tblGrid>
              <a:tr h="524520">
                <a:tc>
                  <a:txBody>
                    <a:bodyPr lIns="0" rIns="0" tIns="0" bIns="0" anchor="b">
                      <a:noAutofit/>
                    </a:bodyPr>
                    <a:p>
                      <a:pPr marL="235080">
                        <a:lnSpc>
                          <a:spcPct val="100000"/>
                        </a:lnSpc>
                        <a:spcBef>
                          <a:spcPts val="1763"/>
                        </a:spcBef>
                        <a:tabLst>
                          <a:tab algn="l" pos="0"/>
                          <a:tab algn="l" pos="673200"/>
                          <a:tab algn="l" pos="1346040"/>
                          <a:tab algn="l" pos="2019240"/>
                          <a:tab algn="l" pos="2692440"/>
                          <a:tab algn="l" pos="3365640"/>
                          <a:tab algn="l" pos="4038480"/>
                          <a:tab algn="l" pos="4711680"/>
                          <a:tab algn="l" pos="5384880"/>
                          <a:tab algn="l" pos="6058080"/>
                          <a:tab algn="l" pos="6730920"/>
                          <a:tab algn="l" pos="7404120"/>
                          <a:tab algn="l" pos="8077320"/>
                          <a:tab algn="l" pos="8750160"/>
                          <a:tab algn="l" pos="9423360"/>
                          <a:tab algn="l" pos="10096560"/>
                          <a:tab algn="l" pos="10769760"/>
                        </a:tabLst>
                      </a:pPr>
                      <a:endParaRPr b="1" lang="en-US" sz="4000" spc="-1" strike="noStrike">
                        <a:solidFill>
                          <a:srgbClr val="46667a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ох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дность*</a:t>
                      </a:r>
                      <a:endParaRPr b="1" lang="en-US" sz="2000" spc="-1" strike="noStrike">
                        <a:solidFill>
                          <a:srgbClr val="46667a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иск*</a:t>
                      </a:r>
                      <a:endParaRPr b="1" lang="en-US" sz="2000" spc="-1" strike="noStrike">
                        <a:solidFill>
                          <a:srgbClr val="46667a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оход на единицу риска</a:t>
                      </a:r>
                      <a:endParaRPr b="1" lang="en-US" sz="2000" spc="-1" strike="noStrike">
                        <a:solidFill>
                          <a:srgbClr val="46667a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nicorn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МТС</a:t>
                      </a:r>
                      <a:endParaRPr b="1" lang="en-US" sz="2000" spc="-1" strike="noStrike">
                        <a:solidFill>
                          <a:srgbClr val="46667a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5.979%</a:t>
                      </a:r>
                      <a:endParaRPr b="1" lang="en-US" sz="2000" spc="-1" strike="noStrike">
                        <a:solidFill>
                          <a:srgbClr val="46667a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.75%</a:t>
                      </a:r>
                      <a:endParaRPr b="1" lang="en-US" sz="2000" spc="-1" strike="noStrike">
                        <a:solidFill>
                          <a:srgbClr val="46667a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06 </a:t>
                      </a:r>
                      <a:endParaRPr b="1" lang="en-US" sz="2000" spc="-1" strike="noStrike">
                        <a:solidFill>
                          <a:srgbClr val="46667a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&amp;P500</a:t>
                      </a:r>
                      <a:endParaRPr b="1" lang="en-US" sz="2000" spc="-1" strike="noStrike">
                        <a:solidFill>
                          <a:srgbClr val="46667a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27.32%</a:t>
                      </a:r>
                      <a:endParaRPr b="1" lang="en-US" sz="2000" spc="-1" strike="noStrike">
                        <a:solidFill>
                          <a:srgbClr val="46667a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.35%</a:t>
                      </a:r>
                      <a:endParaRPr b="1" lang="en-US" sz="2000" spc="-1" strike="noStrike">
                        <a:solidFill>
                          <a:srgbClr val="46667a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0.96)</a:t>
                      </a:r>
                      <a:endParaRPr b="1" lang="en-US" sz="2000" spc="-1" strike="noStrike">
                        <a:solidFill>
                          <a:srgbClr val="46667a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2" name="Text Box 127"/>
          <p:cNvSpPr/>
          <p:nvPr/>
        </p:nvSpPr>
        <p:spPr>
          <a:xfrm>
            <a:off x="704880" y="6199200"/>
            <a:ext cx="8340840" cy="6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Verdana"/>
              </a:rPr>
              <a:t>С 24 окт. 2007 по 26 марта 2008 в % годовых </a:t>
            </a: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ru-RU" sz="1500" spc="-1" strike="noStrike">
                <a:solidFill>
                  <a:srgbClr val="000000"/>
                </a:solidFill>
                <a:latin typeface="Verdana"/>
              </a:rPr>
              <a:t>без учета комиссионных УК</a:t>
            </a:r>
            <a:endParaRPr b="1" lang="en-US" sz="1500" spc="-1" strike="noStrike">
              <a:solidFill>
                <a:srgbClr val="46667a"/>
              </a:solidFill>
              <a:latin typeface="Verdana"/>
            </a:endParaRPr>
          </a:p>
          <a:p>
            <a:pPr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Verdana"/>
              </a:rPr>
              <a:t>Риск – средний показатель волатильности за рассматриваемый период</a:t>
            </a:r>
            <a:endParaRPr b="1" lang="en-US" sz="1500" spc="-1" strike="noStrike">
              <a:solidFill>
                <a:srgbClr val="46667a"/>
              </a:solidFill>
              <a:latin typeface="Verdana"/>
            </a:endParaRPr>
          </a:p>
          <a:p>
            <a:pPr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1" lang="en-US" sz="1500" spc="-1" strike="noStrike">
              <a:solidFill>
                <a:srgbClr val="46667a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2"/>
          <p:cNvSpPr/>
          <p:nvPr/>
        </p:nvSpPr>
        <p:spPr>
          <a:xfrm>
            <a:off x="15840" y="765000"/>
            <a:ext cx="99061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lvl="1" marL="334800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ru-RU" sz="3500" spc="-1" strike="noStrike">
                <a:solidFill>
                  <a:srgbClr val="46667a"/>
                </a:solidFill>
                <a:latin typeface="Arial"/>
              </a:rPr>
              <a:t>К</a:t>
            </a:r>
            <a:r>
              <a:rPr b="1" lang="ru-RU" sz="3500" spc="-1" strike="noStrike">
                <a:solidFill>
                  <a:srgbClr val="46667a"/>
                </a:solidFill>
                <a:latin typeface="Myriad Pro Light"/>
              </a:rPr>
              <a:t>онсервативная</a:t>
            </a:r>
            <a:r>
              <a:rPr b="1" lang="ru-RU" sz="3200" spc="-1" strike="noStrike">
                <a:solidFill>
                  <a:srgbClr val="46667a"/>
                </a:solidFill>
                <a:latin typeface="Arial"/>
              </a:rPr>
              <a:t> стратегия</a:t>
            </a:r>
            <a:endParaRPr b="1" lang="en-US" sz="3200" spc="-1" strike="noStrike">
              <a:solidFill>
                <a:srgbClr val="46667a"/>
              </a:solidFill>
              <a:latin typeface="Verdana"/>
            </a:endParaRPr>
          </a:p>
        </p:txBody>
      </p:sp>
      <p:graphicFrame>
        <p:nvGraphicFramePr>
          <p:cNvPr id="614" name="Object 139"/>
          <p:cNvGraphicFramePr/>
          <p:nvPr/>
        </p:nvGraphicFramePr>
        <p:xfrm>
          <a:off x="1380960" y="1413000"/>
          <a:ext cx="717264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15" name="Object 13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80960" y="1413000"/>
                    <a:ext cx="717264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6" name="Text Box 137"/>
          <p:cNvSpPr/>
          <p:nvPr/>
        </p:nvSpPr>
        <p:spPr>
          <a:xfrm>
            <a:off x="458640" y="6154560"/>
            <a:ext cx="859788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Verdana"/>
              </a:rPr>
              <a:t>* с 2 апр. 2008 по 2</a:t>
            </a: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8</a:t>
            </a:r>
            <a:r>
              <a:rPr b="1" lang="ru-RU" sz="1500" spc="-1" strike="noStrike">
                <a:solidFill>
                  <a:srgbClr val="000000"/>
                </a:solidFill>
                <a:latin typeface="Verdana"/>
              </a:rPr>
              <a:t> июля 2008 в % годовых</a:t>
            </a: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ru-RU" sz="1500" spc="-1" strike="noStrike">
                <a:solidFill>
                  <a:srgbClr val="000000"/>
                </a:solidFill>
                <a:latin typeface="Verdana"/>
              </a:rPr>
              <a:t>без учета комиссионных УК</a:t>
            </a:r>
            <a:endParaRPr b="1" lang="en-US" sz="1500" spc="-1" strike="noStrike">
              <a:solidFill>
                <a:srgbClr val="46667a"/>
              </a:solidFill>
              <a:latin typeface="Verdana"/>
            </a:endParaRPr>
          </a:p>
          <a:p>
            <a:pPr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Verdana"/>
              </a:rPr>
              <a:t>Риск – средний показатель волатильности за рассматриваемый период</a:t>
            </a:r>
            <a:endParaRPr b="1" lang="en-US" sz="1500" spc="-1" strike="noStrike">
              <a:solidFill>
                <a:srgbClr val="46667a"/>
              </a:solidFill>
              <a:latin typeface="Verdana"/>
            </a:endParaRPr>
          </a:p>
        </p:txBody>
      </p:sp>
      <p:graphicFrame>
        <p:nvGraphicFramePr>
          <p:cNvPr id="617" name=""/>
          <p:cNvGraphicFramePr/>
          <p:nvPr/>
        </p:nvGraphicFramePr>
        <p:xfrm>
          <a:off x="415800" y="5084640"/>
          <a:ext cx="9001080" cy="1143000"/>
        </p:xfrm>
        <a:graphic>
          <a:graphicData uri="http://schemas.openxmlformats.org/drawingml/2006/table">
            <a:tbl>
              <a:tblPr/>
              <a:tblGrid>
                <a:gridCol w="1800360"/>
                <a:gridCol w="1871640"/>
                <a:gridCol w="1223640"/>
                <a:gridCol w="4105440"/>
              </a:tblGrid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 marL="654120" indent="-419040">
                        <a:lnSpc>
                          <a:spcPct val="100000"/>
                        </a:lnSpc>
                        <a:tabLst>
                          <a:tab algn="l" pos="0"/>
                          <a:tab algn="l" pos="673200"/>
                          <a:tab algn="l" pos="1346040"/>
                          <a:tab algn="l" pos="2019240"/>
                          <a:tab algn="l" pos="2692440"/>
                          <a:tab algn="l" pos="3365640"/>
                          <a:tab algn="l" pos="4038480"/>
                          <a:tab algn="l" pos="4711680"/>
                          <a:tab algn="l" pos="5384880"/>
                          <a:tab algn="l" pos="6058080"/>
                          <a:tab algn="l" pos="6730920"/>
                          <a:tab algn="l" pos="7404120"/>
                          <a:tab algn="l" pos="8077320"/>
                          <a:tab algn="l" pos="8750160"/>
                          <a:tab algn="l" pos="9423360"/>
                          <a:tab algn="l" pos="10096560"/>
                          <a:tab algn="l" pos="10769760"/>
                        </a:tabLst>
                      </a:pPr>
                      <a:endParaRPr b="1" lang="en-US" sz="4000" spc="-1" strike="noStrike">
                        <a:solidFill>
                          <a:srgbClr val="46667a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654120" indent="-419040" algn="ctr">
                        <a:lnSpc>
                          <a:spcPct val="100000"/>
                        </a:lnSpc>
                        <a:tabLst>
                          <a:tab algn="l" pos="0"/>
                          <a:tab algn="l" pos="673200"/>
                          <a:tab algn="l" pos="1346040"/>
                          <a:tab algn="l" pos="2019240"/>
                          <a:tab algn="l" pos="2692440"/>
                          <a:tab algn="l" pos="3365640"/>
                          <a:tab algn="l" pos="4038480"/>
                          <a:tab algn="l" pos="4711680"/>
                          <a:tab algn="l" pos="5384880"/>
                          <a:tab algn="l" pos="6058080"/>
                          <a:tab algn="l" pos="6730920"/>
                          <a:tab algn="l" pos="7404120"/>
                          <a:tab algn="l" pos="8077320"/>
                          <a:tab algn="l" pos="8750160"/>
                          <a:tab algn="l" pos="9423360"/>
                          <a:tab algn="l" pos="10096560"/>
                          <a:tab algn="l" pos="1076976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"/>
                          <a:ea typeface="Arial"/>
                        </a:rPr>
                        <a:t>Дох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ill Sans"/>
                          <a:ea typeface="Arial"/>
                        </a:rPr>
                        <a:t>однос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"/>
                          <a:ea typeface="Arial"/>
                        </a:rPr>
                        <a:t>ть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ill Sans"/>
                          <a:ea typeface="Arial"/>
                        </a:rPr>
                        <a:t>*</a:t>
                      </a:r>
                      <a:endParaRPr b="1" lang="en-US" sz="2000" spc="-1" strike="noStrike">
                        <a:solidFill>
                          <a:srgbClr val="46667a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654120" indent="-419040" algn="ctr">
                        <a:lnSpc>
                          <a:spcPct val="100000"/>
                        </a:lnSpc>
                        <a:tabLst>
                          <a:tab algn="l" pos="0"/>
                          <a:tab algn="l" pos="673200"/>
                          <a:tab algn="l" pos="1346040"/>
                          <a:tab algn="l" pos="2019240"/>
                          <a:tab algn="l" pos="2692440"/>
                          <a:tab algn="l" pos="3365640"/>
                          <a:tab algn="l" pos="4038480"/>
                          <a:tab algn="l" pos="4711680"/>
                          <a:tab algn="l" pos="5384880"/>
                          <a:tab algn="l" pos="6058080"/>
                          <a:tab algn="l" pos="6730920"/>
                          <a:tab algn="l" pos="7404120"/>
                          <a:tab algn="l" pos="8077320"/>
                          <a:tab algn="l" pos="8750160"/>
                          <a:tab algn="l" pos="9423360"/>
                          <a:tab algn="l" pos="10096560"/>
                          <a:tab algn="l" pos="107697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ill Sans"/>
                          <a:ea typeface="Arial"/>
                        </a:rPr>
                        <a:t>Риск*</a:t>
                      </a:r>
                      <a:endParaRPr b="1" lang="en-US" sz="2000" spc="-1" strike="noStrike">
                        <a:solidFill>
                          <a:srgbClr val="46667a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654120" indent="-419040" algn="ctr">
                        <a:lnSpc>
                          <a:spcPct val="100000"/>
                        </a:lnSpc>
                        <a:tabLst>
                          <a:tab algn="l" pos="0"/>
                          <a:tab algn="l" pos="673200"/>
                          <a:tab algn="l" pos="1346040"/>
                          <a:tab algn="l" pos="2019240"/>
                          <a:tab algn="l" pos="2692440"/>
                          <a:tab algn="l" pos="3365640"/>
                          <a:tab algn="l" pos="4038480"/>
                          <a:tab algn="l" pos="4711680"/>
                          <a:tab algn="l" pos="5384880"/>
                          <a:tab algn="l" pos="6058080"/>
                          <a:tab algn="l" pos="6730920"/>
                          <a:tab algn="l" pos="7404120"/>
                          <a:tab algn="l" pos="8077320"/>
                          <a:tab algn="l" pos="8750160"/>
                          <a:tab algn="l" pos="9423360"/>
                          <a:tab algn="l" pos="10096560"/>
                          <a:tab algn="l" pos="107697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ill Sans"/>
                          <a:ea typeface="Arial"/>
                        </a:rPr>
                        <a:t>Доход на единицу риска</a:t>
                      </a:r>
                      <a:endParaRPr b="1" lang="en-US" sz="2000" spc="-1" strike="noStrike">
                        <a:solidFill>
                          <a:srgbClr val="46667a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 marL="654120" indent="-419040">
                        <a:lnSpc>
                          <a:spcPct val="100000"/>
                        </a:lnSpc>
                        <a:tabLst>
                          <a:tab algn="l" pos="0"/>
                          <a:tab algn="l" pos="673200"/>
                          <a:tab algn="l" pos="1346040"/>
                          <a:tab algn="l" pos="2019240"/>
                          <a:tab algn="l" pos="2692440"/>
                          <a:tab algn="l" pos="3365640"/>
                          <a:tab algn="l" pos="4038480"/>
                          <a:tab algn="l" pos="4711680"/>
                          <a:tab algn="l" pos="5384880"/>
                          <a:tab algn="l" pos="6058080"/>
                          <a:tab algn="l" pos="6730920"/>
                          <a:tab algn="l" pos="7404120"/>
                          <a:tab algn="l" pos="8077320"/>
                          <a:tab algn="l" pos="8750160"/>
                          <a:tab algn="l" pos="9423360"/>
                          <a:tab algn="l" pos="10096560"/>
                          <a:tab algn="l" pos="1076976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corn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Myriad Pro Light"/>
                        </a:rPr>
                        <a:t>АТ</a:t>
                      </a:r>
                      <a:endParaRPr b="1" lang="en-US" sz="2000" spc="-1" strike="noStrike">
                        <a:solidFill>
                          <a:srgbClr val="46667a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654120" indent="-419040" algn="ctr">
                        <a:lnSpc>
                          <a:spcPct val="100000"/>
                        </a:lnSpc>
                        <a:spcBef>
                          <a:spcPts val="1763"/>
                        </a:spcBef>
                        <a:tabLst>
                          <a:tab algn="l" pos="0"/>
                          <a:tab algn="l" pos="673200"/>
                          <a:tab algn="l" pos="1346040"/>
                          <a:tab algn="l" pos="2019240"/>
                          <a:tab algn="l" pos="2692440"/>
                          <a:tab algn="l" pos="3365640"/>
                          <a:tab algn="l" pos="4038480"/>
                          <a:tab algn="l" pos="4711680"/>
                          <a:tab algn="l" pos="5384880"/>
                          <a:tab algn="l" pos="6058080"/>
                          <a:tab algn="l" pos="6730920"/>
                          <a:tab algn="l" pos="7404120"/>
                          <a:tab algn="l" pos="8077320"/>
                          <a:tab algn="l" pos="8750160"/>
                          <a:tab algn="l" pos="9423360"/>
                          <a:tab algn="l" pos="10096560"/>
                          <a:tab algn="l" pos="1076976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"/>
                          <a:ea typeface="Arial"/>
                        </a:rPr>
                        <a:t>3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ill Sans"/>
                          <a:ea typeface="Arial"/>
                        </a:rPr>
                        <a:t>5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"/>
                          <a:ea typeface="Arial"/>
                        </a:rPr>
                        <a:t>.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ill Sans"/>
                          <a:ea typeface="Arial"/>
                        </a:rPr>
                        <a:t>61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"/>
                          <a:ea typeface="Arial"/>
                        </a:rPr>
                        <a:t>%</a:t>
                      </a:r>
                      <a:endParaRPr b="1" lang="en-US" sz="2000" spc="-1" strike="noStrike">
                        <a:solidFill>
                          <a:srgbClr val="46667a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654120" indent="-419040" algn="ctr">
                        <a:lnSpc>
                          <a:spcPct val="100000"/>
                        </a:lnSpc>
                        <a:spcBef>
                          <a:spcPts val="1763"/>
                        </a:spcBef>
                        <a:tabLst>
                          <a:tab algn="l" pos="0"/>
                          <a:tab algn="l" pos="673200"/>
                          <a:tab algn="l" pos="1346040"/>
                          <a:tab algn="l" pos="2019240"/>
                          <a:tab algn="l" pos="2692440"/>
                          <a:tab algn="l" pos="3365640"/>
                          <a:tab algn="l" pos="4038480"/>
                          <a:tab algn="l" pos="4711680"/>
                          <a:tab algn="l" pos="5384880"/>
                          <a:tab algn="l" pos="6058080"/>
                          <a:tab algn="l" pos="6730920"/>
                          <a:tab algn="l" pos="7404120"/>
                          <a:tab algn="l" pos="8077320"/>
                          <a:tab algn="l" pos="8750160"/>
                          <a:tab algn="l" pos="9423360"/>
                          <a:tab algn="l" pos="10096560"/>
                          <a:tab algn="l" pos="1076976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"/>
                          <a:ea typeface="Arial"/>
                        </a:rPr>
                        <a:t>1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ill Sans"/>
                          <a:ea typeface="Arial"/>
                        </a:rPr>
                        <a:t>0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"/>
                          <a:ea typeface="Arial"/>
                        </a:rPr>
                        <a:t>.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ill Sans"/>
                          <a:ea typeface="Arial"/>
                        </a:rPr>
                        <a:t>63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"/>
                          <a:ea typeface="Arial"/>
                        </a:rPr>
                        <a:t>%</a:t>
                      </a:r>
                      <a:endParaRPr b="1" lang="en-US" sz="2000" spc="-1" strike="noStrike">
                        <a:solidFill>
                          <a:srgbClr val="46667a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654120" indent="-419040" algn="ctr">
                        <a:lnSpc>
                          <a:spcPct val="100000"/>
                        </a:lnSpc>
                        <a:spcBef>
                          <a:spcPts val="1763"/>
                        </a:spcBef>
                        <a:tabLst>
                          <a:tab algn="l" pos="0"/>
                          <a:tab algn="l" pos="673200"/>
                          <a:tab algn="l" pos="1346040"/>
                          <a:tab algn="l" pos="2019240"/>
                          <a:tab algn="l" pos="2692440"/>
                          <a:tab algn="l" pos="3365640"/>
                          <a:tab algn="l" pos="4038480"/>
                          <a:tab algn="l" pos="4711680"/>
                          <a:tab algn="l" pos="5384880"/>
                          <a:tab algn="l" pos="6058080"/>
                          <a:tab algn="l" pos="6730920"/>
                          <a:tab algn="l" pos="7404120"/>
                          <a:tab algn="l" pos="8077320"/>
                          <a:tab algn="l" pos="8750160"/>
                          <a:tab algn="l" pos="9423360"/>
                          <a:tab algn="l" pos="10096560"/>
                          <a:tab algn="l" pos="107697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ill Sans"/>
                          <a:ea typeface="Arial"/>
                        </a:rPr>
                        <a:t>3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"/>
                          <a:ea typeface="Arial"/>
                        </a:rPr>
                        <a:t>.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ill Sans"/>
                          <a:ea typeface="Arial"/>
                        </a:rPr>
                        <a:t>34</a:t>
                      </a:r>
                      <a:endParaRPr b="1" lang="en-US" sz="2000" spc="-1" strike="noStrike">
                        <a:solidFill>
                          <a:srgbClr val="46667a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 marL="654120" indent="-419040">
                        <a:lnSpc>
                          <a:spcPct val="100000"/>
                        </a:lnSpc>
                        <a:tabLst>
                          <a:tab algn="l" pos="0"/>
                          <a:tab algn="l" pos="673200"/>
                          <a:tab algn="l" pos="1346040"/>
                          <a:tab algn="l" pos="2019240"/>
                          <a:tab algn="l" pos="2692440"/>
                          <a:tab algn="l" pos="3365640"/>
                          <a:tab algn="l" pos="4038480"/>
                          <a:tab algn="l" pos="4711680"/>
                          <a:tab algn="l" pos="5384880"/>
                          <a:tab algn="l" pos="6058080"/>
                          <a:tab algn="l" pos="6730920"/>
                          <a:tab algn="l" pos="7404120"/>
                          <a:tab algn="l" pos="8077320"/>
                          <a:tab algn="l" pos="8750160"/>
                          <a:tab algn="l" pos="9423360"/>
                          <a:tab algn="l" pos="10096560"/>
                          <a:tab algn="l" pos="1076976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Myriad Pro Light"/>
                        </a:rPr>
                        <a:t>Xetra Dax</a:t>
                      </a:r>
                      <a:endParaRPr b="1" lang="en-US" sz="2000" spc="-1" strike="noStrike">
                        <a:solidFill>
                          <a:srgbClr val="46667a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654120" indent="-419040" algn="ctr">
                        <a:lnSpc>
                          <a:spcPct val="100000"/>
                        </a:lnSpc>
                        <a:spcBef>
                          <a:spcPts val="1763"/>
                        </a:spcBef>
                        <a:tabLst>
                          <a:tab algn="l" pos="0"/>
                          <a:tab algn="l" pos="673200"/>
                          <a:tab algn="l" pos="1346040"/>
                          <a:tab algn="l" pos="2019240"/>
                          <a:tab algn="l" pos="2692440"/>
                          <a:tab algn="l" pos="3365640"/>
                          <a:tab algn="l" pos="4038480"/>
                          <a:tab algn="l" pos="4711680"/>
                          <a:tab algn="l" pos="5384880"/>
                          <a:tab algn="l" pos="6058080"/>
                          <a:tab algn="l" pos="6730920"/>
                          <a:tab algn="l" pos="7404120"/>
                          <a:tab algn="l" pos="8077320"/>
                          <a:tab algn="l" pos="8750160"/>
                          <a:tab algn="l" pos="9423360"/>
                          <a:tab algn="l" pos="10096560"/>
                          <a:tab algn="l" pos="1076976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"/>
                          <a:ea typeface="Arial"/>
                        </a:rPr>
                        <a:t>-1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ill Sans"/>
                          <a:ea typeface="Arial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"/>
                          <a:ea typeface="Arial"/>
                        </a:rPr>
                        <a:t>.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ill Sans"/>
                          <a:ea typeface="Arial"/>
                        </a:rPr>
                        <a:t>99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"/>
                          <a:ea typeface="Arial"/>
                        </a:rPr>
                        <a:t>%</a:t>
                      </a:r>
                      <a:endParaRPr b="1" lang="en-US" sz="2000" spc="-1" strike="noStrike">
                        <a:solidFill>
                          <a:srgbClr val="46667a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654120" indent="-419040" algn="ctr">
                        <a:lnSpc>
                          <a:spcPct val="100000"/>
                        </a:lnSpc>
                        <a:spcBef>
                          <a:spcPts val="1763"/>
                        </a:spcBef>
                        <a:tabLst>
                          <a:tab algn="l" pos="0"/>
                          <a:tab algn="l" pos="673200"/>
                          <a:tab algn="l" pos="1346040"/>
                          <a:tab algn="l" pos="2019240"/>
                          <a:tab algn="l" pos="2692440"/>
                          <a:tab algn="l" pos="3365640"/>
                          <a:tab algn="l" pos="4038480"/>
                          <a:tab algn="l" pos="4711680"/>
                          <a:tab algn="l" pos="5384880"/>
                          <a:tab algn="l" pos="6058080"/>
                          <a:tab algn="l" pos="6730920"/>
                          <a:tab algn="l" pos="7404120"/>
                          <a:tab algn="l" pos="8077320"/>
                          <a:tab algn="l" pos="8750160"/>
                          <a:tab algn="l" pos="9423360"/>
                          <a:tab algn="l" pos="10096560"/>
                          <a:tab algn="l" pos="107697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ill Sans"/>
                          <a:ea typeface="Arial"/>
                        </a:rPr>
                        <a:t>18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"/>
                          <a:ea typeface="Arial"/>
                        </a:rPr>
                        <a:t>.0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ill Sans"/>
                          <a:ea typeface="Arial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"/>
                          <a:ea typeface="Arial"/>
                        </a:rPr>
                        <a:t>%</a:t>
                      </a:r>
                      <a:endParaRPr b="1" lang="en-US" sz="2000" spc="-1" strike="noStrike">
                        <a:solidFill>
                          <a:srgbClr val="46667a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654120" indent="-419040" algn="ctr">
                        <a:lnSpc>
                          <a:spcPct val="100000"/>
                        </a:lnSpc>
                        <a:spcBef>
                          <a:spcPts val="1763"/>
                        </a:spcBef>
                        <a:tabLst>
                          <a:tab algn="l" pos="0"/>
                          <a:tab algn="l" pos="673200"/>
                          <a:tab algn="l" pos="1346040"/>
                          <a:tab algn="l" pos="2019240"/>
                          <a:tab algn="l" pos="2692440"/>
                          <a:tab algn="l" pos="3365640"/>
                          <a:tab algn="l" pos="4038480"/>
                          <a:tab algn="l" pos="4711680"/>
                          <a:tab algn="l" pos="5384880"/>
                          <a:tab algn="l" pos="6058080"/>
                          <a:tab algn="l" pos="6730920"/>
                          <a:tab algn="l" pos="7404120"/>
                          <a:tab algn="l" pos="8077320"/>
                          <a:tab algn="l" pos="8750160"/>
                          <a:tab algn="l" pos="9423360"/>
                          <a:tab algn="l" pos="10096560"/>
                          <a:tab algn="l" pos="1076976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"/>
                          <a:ea typeface="Arial"/>
                        </a:rPr>
                        <a:t>(0.77)</a:t>
                      </a:r>
                      <a:endParaRPr b="1" lang="en-US" sz="2000" spc="-1" strike="noStrike">
                        <a:solidFill>
                          <a:srgbClr val="46667a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 gridSpan="2">
                  <a:txBody>
                    <a:bodyPr lIns="0" rIns="0" tIns="0" bIns="0" anchor="b">
                      <a:noAutofit/>
                    </a:bodyPr>
                    <a:p>
                      <a:pPr marL="654120" indent="-419040">
                        <a:lnSpc>
                          <a:spcPct val="100000"/>
                        </a:lnSpc>
                        <a:tabLst>
                          <a:tab algn="l" pos="0"/>
                          <a:tab algn="l" pos="673200"/>
                          <a:tab algn="l" pos="1346040"/>
                          <a:tab algn="l" pos="2019240"/>
                          <a:tab algn="l" pos="2692440"/>
                          <a:tab algn="l" pos="3365640"/>
                          <a:tab algn="l" pos="4038480"/>
                          <a:tab algn="l" pos="4711680"/>
                          <a:tab algn="l" pos="5384880"/>
                          <a:tab algn="l" pos="6058080"/>
                          <a:tab algn="l" pos="6730920"/>
                          <a:tab algn="l" pos="7404120"/>
                          <a:tab algn="l" pos="8077320"/>
                          <a:tab algn="l" pos="8750160"/>
                          <a:tab algn="l" pos="9423360"/>
                          <a:tab algn="l" pos="10096560"/>
                          <a:tab algn="l" pos="10769760"/>
                        </a:tabLst>
                      </a:pPr>
                      <a:endParaRPr b="1" lang="en-US" sz="4000" spc="-1" strike="noStrike">
                        <a:solidFill>
                          <a:srgbClr val="46667a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46667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235080">
                        <a:lnSpc>
                          <a:spcPct val="100000"/>
                        </a:lnSpc>
                        <a:spcBef>
                          <a:spcPts val="1763"/>
                        </a:spcBef>
                        <a:tabLst>
                          <a:tab algn="l" pos="0"/>
                          <a:tab algn="l" pos="673200"/>
                          <a:tab algn="l" pos="1346040"/>
                          <a:tab algn="l" pos="2019240"/>
                          <a:tab algn="l" pos="2692440"/>
                          <a:tab algn="l" pos="3365640"/>
                          <a:tab algn="l" pos="4038480"/>
                          <a:tab algn="l" pos="4711680"/>
                          <a:tab algn="l" pos="5384880"/>
                          <a:tab algn="l" pos="6058080"/>
                          <a:tab algn="l" pos="6730920"/>
                          <a:tab algn="l" pos="7404120"/>
                          <a:tab algn="l" pos="8077320"/>
                          <a:tab algn="l" pos="8750160"/>
                          <a:tab algn="l" pos="9423360"/>
                          <a:tab algn="l" pos="10096560"/>
                          <a:tab algn="l" pos="10769760"/>
                        </a:tabLst>
                      </a:pPr>
                      <a:endParaRPr b="1" lang="en-US" sz="4000" spc="-1" strike="noStrike">
                        <a:solidFill>
                          <a:srgbClr val="46667a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235080">
                        <a:lnSpc>
                          <a:spcPct val="100000"/>
                        </a:lnSpc>
                        <a:spcBef>
                          <a:spcPts val="1763"/>
                        </a:spcBef>
                        <a:tabLst>
                          <a:tab algn="l" pos="0"/>
                          <a:tab algn="l" pos="673200"/>
                          <a:tab algn="l" pos="1346040"/>
                          <a:tab algn="l" pos="2019240"/>
                          <a:tab algn="l" pos="2692440"/>
                          <a:tab algn="l" pos="3365640"/>
                          <a:tab algn="l" pos="4038480"/>
                          <a:tab algn="l" pos="4711680"/>
                          <a:tab algn="l" pos="5384880"/>
                          <a:tab algn="l" pos="6058080"/>
                          <a:tab algn="l" pos="6730920"/>
                          <a:tab algn="l" pos="7404120"/>
                          <a:tab algn="l" pos="8077320"/>
                          <a:tab algn="l" pos="8750160"/>
                          <a:tab algn="l" pos="9423360"/>
                          <a:tab algn="l" pos="10096560"/>
                          <a:tab algn="l" pos="10769760"/>
                        </a:tabLst>
                      </a:pPr>
                      <a:endParaRPr b="1" lang="en-US" sz="4000" spc="-1" strike="noStrike">
                        <a:solidFill>
                          <a:srgbClr val="46667a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Omarova</cp:lastModifiedBy>
  <dcterms:modified xsi:type="dcterms:W3CDTF">2008-09-17T09:07:47Z</dcterms:modified>
  <cp:revision>514</cp:revision>
  <dc:subject/>
  <dc:title>Слайд 1</dc:title>
</cp:coreProperties>
</file>