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E9A-9349-4191-A0D2-C8E0DF0F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02D-95C0-4910-9D49-9A2099A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B44-716D-4A50-8163-1B897F1F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FD4-11FB-4CE3-8B65-56FDF32E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765-6FF4-41FA-B166-4F5D049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E0F-5CCF-41D5-B70B-1333E91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11E-FEE2-41D0-918A-A73D1272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9EB-83D8-4D88-944A-E3D5BC4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02E-5B4C-4BB0-9565-E32AD421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47-68FB-414A-B0A8-D2C5D6A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E55-9FFA-42D9-B869-7BDF346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1A0-A34C-422C-8874-500D4B6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FC44-B420-424B-8E90-C6CA798B6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реимущества выхода компаний на фондовый рын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ая возможность привлечения капитала для более прогрессивного развития бизнеса комп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уск ценных бумаг является одной из наиболее доступных форм привлечения капи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ри выходе на фондовый ры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атус компании возрастает, компания становится более узнаваемой и котируе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ка показывает, что помимо привлеченных дополнительных средств, компания становится более успешной и привлекательной как для новых инвесторов, так и для имеющихся партнеров по бизне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3AE-18B5-40CB-84CA-E9FF32C02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государственных ценных бума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государственные ценные бумаги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государственные ценные бумаги, выпущенные в соответствии с законодательством Республики Казахстан и других государств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меющих суверенные долгосрочные кредитные рейтинговые оценки в иностранной валюте не ниже «В-» (по классификации рейтинговых агентств Standard &amp; Poor's или Fitch) или «В3» (по классификации рейтингового агентства Moody'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79B-633D-4BE8-8704-06D7F0FCA6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ценных бумаг международных финансовых организаци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ценные бумаги международных финансовых организаций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ценные бумаги международных финансовых организац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CB4-E41F-4113-99D5-70DFE851C7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епозитарных распис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«депозитарные расписки» допускаются депозитарные расписки, базовым активом которых являются негосударственные ценные бумаги, выпущенные в соответствии с законодательством других, помимо Республики Казахстан, государ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применяются по отношению к базовому активу и его эмитен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30E-FD5E-4A5A-AF31-BAA91FE39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производн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устанавливаются внутренними документами организатора торгов, которые подлежат согласованию с АФН и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623-428A-4033-9C56-A12E288B7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ные бумаги, допускаемые по упрощенной процедур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листинга по наивысшей категории на одной из фондовых бирж, входящих в перечень фондовых бирж, признаваемых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крытие эмитентами информации осуществляется на официальных сайтах соответствующих фондовых бирж и в соответствии с договором о раскрытии информации, заключенным между организатором торгов и инициатором листинга или эмитен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маркет-мейк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E4C-464C-4FA2-AD79-C97903BAA5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6280" y="14724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имущества эмиссии финансовых инструментов перед банковским займом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действующие условия на СТП РФЦ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97000"/>
          <a:ext cx="9143640" cy="5659200"/>
        </p:xfrm>
        <a:graphic>
          <a:graphicData uri="http://schemas.openxmlformats.org/drawingml/2006/table">
            <a:tbl>
              <a:tblPr/>
              <a:tblGrid>
                <a:gridCol w="3046680"/>
                <a:gridCol w="3048480"/>
                <a:gridCol w="3048480"/>
              </a:tblGrid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миссия финансовых инстр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ковский зай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г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ассмотрения заявки и получение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Проспекта эмиссии ЦБ в АФН в течение 30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о листинге принимается в течение 10 дней (по условию 1 или 2) и 20 дней (по условию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1 до 3 дн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ъем привлекаемых средств, сроки выплаты процентов определяются эмитентом самостоятельно в зависимости от стратегии развития и конъюнктуры рынка капита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долга (дополнительные издерж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финансового консульт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, юридические, страховые и 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% от выпу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 – 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возмещения затрат эмитента на первый 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ступительного листингового сб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ог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озит юридического или физического 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1 или 2 -100 кратный размер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3– 0.025% от величины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не менее 100-и не более 4000-кратного размера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установленной цены их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номинальной стоим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сутствие биржевых комиссий (если размещение происходит в течении первых 3 месяцев со дня включения в листинг фондовой бирж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льг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 за досрочное погаш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47F-6D79-4DF6-93BC-F2E08D525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раструктура РЦ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A59-1C12-4522-9ED5-E2926D925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 новых листинговых прави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ие торговых площад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S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ТП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ивлечения компаний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на фондовый рын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спектра финансовых инстр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ликвид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оптимальной структуры листинга с учетом пожеланий участников рынка и рекомендаций консульт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стандартов, принятых на международных фондовых рынках, с учетом специфики РЦБ Казахста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новых участников рынка, в том числе иностранных инвесторов, профессиональных участников и эмит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инвестирования для розничных инвесто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CFB-03E1-4077-97E5-9E6D4D2D7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ая структур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ин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712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4581360"/>
          <a:ext cx="8424720" cy="109404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2303280"/>
                <a:gridCol w="2089080"/>
              </a:tblGrid>
              <a:tr h="276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дународные ценные бумаги Республики Казахстан (еврооблига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Правительств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Национального Банк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местных исполнительных орг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1844640"/>
          <a:ext cx="3924360" cy="1440000"/>
        </p:xfrm>
        <a:graphic>
          <a:graphicData uri="http://schemas.openxmlformats.org/drawingml/2006/table">
            <a:tbl>
              <a:tblPr/>
              <a:tblGrid>
                <a:gridCol w="939600"/>
                <a:gridCol w="1003320"/>
                <a:gridCol w="952560"/>
                <a:gridCol w="1028880"/>
              </a:tblGrid>
              <a:tr h="428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фициальный спис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68360" y="148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484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П РФ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35360" y="1844640"/>
          <a:ext cx="4216680" cy="1822320"/>
        </p:xfrm>
        <a:graphic>
          <a:graphicData uri="http://schemas.openxmlformats.org/drawingml/2006/table">
            <a:tbl>
              <a:tblPr/>
              <a:tblGrid>
                <a:gridCol w="1297080"/>
                <a:gridCol w="1519200"/>
                <a:gridCol w="14004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листинговые ценные бума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«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стинг на признаваемой Агентство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ир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ичие рейтинговых оценок, признанных Агентством 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митент должен соответствовать установленным требов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8360" y="3789360"/>
          <a:ext cx="8424720" cy="638280"/>
        </p:xfrm>
        <a:graphic>
          <a:graphicData uri="http://schemas.openxmlformats.org/drawingml/2006/table">
            <a:tbl>
              <a:tblPr/>
              <a:tblGrid>
                <a:gridCol w="2671560"/>
                <a:gridCol w="2997360"/>
                <a:gridCol w="27558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Нелистингов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ценные бумаги международных финансовых организац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Иностранные государственн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600-D3A8-4C95-8013-209ED53D1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вая структура официального списк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773360"/>
          <a:ext cx="8208720" cy="1184040"/>
        </p:xfrm>
        <a:graphic>
          <a:graphicData uri="http://schemas.openxmlformats.org/drawingml/2006/table">
            <a:tbl>
              <a:tblPr/>
              <a:tblGrid>
                <a:gridCol w="1944360"/>
                <a:gridCol w="1151280"/>
                <a:gridCol w="1116000"/>
                <a:gridCol w="1404720"/>
                <a:gridCol w="1368360"/>
                <a:gridCol w="12240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а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олгов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Blue chi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катег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Mid c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Start-u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ценных бумаг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рейтинговой оцен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и ценных бумаг без рейтинговой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3284640"/>
          <a:ext cx="8208720" cy="1003320"/>
        </p:xfrm>
        <a:graphic>
          <a:graphicData uri="http://schemas.openxmlformats.org/drawingml/2006/table">
            <a:tbl>
              <a:tblPr/>
              <a:tblGrid>
                <a:gridCol w="1944360"/>
                <a:gridCol w="2232360"/>
                <a:gridCol w="1439640"/>
                <a:gridCol w="1374840"/>
                <a:gridCol w="12175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Сектор ценных бумаг инвестицион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ценных бумаг международных финансов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производ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епозитарных распи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F31-34E2-433F-AFF9-C051BF956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ак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1628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8424720" cy="4565520"/>
        </p:xfrm>
        <a:graphic>
          <a:graphicData uri="http://schemas.openxmlformats.org/drawingml/2006/table">
            <a:tbl>
              <a:tblPr/>
              <a:tblGrid>
                <a:gridCol w="1936800"/>
                <a:gridCol w="2228760"/>
                <a:gridCol w="2190600"/>
                <a:gridCol w="2068560"/>
              </a:tblGrid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атегор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lue сhi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d-сa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rt 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 соответствующий квалификационным требованиям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 или на последнюю дат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из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600 МРП за каждый из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х последни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каждый из 2-х последних лет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акций в свободном обращен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ree float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аты открытия торгов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8360" y="6093000"/>
            <a:ext cx="842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государственных организаций, требование по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 float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ставляет: по 1 категории 5% - по истечении 6-ти месяцев и 10% - по    истечении 1 года, по 2-ой категории 5% - по истечении 6-ти месяце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2EE-1336-47C9-BA90-20D149B21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олгов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54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5560" y="9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78240" y="1187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1460520"/>
          <a:ext cx="8785440" cy="52657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710000"/>
                <a:gridCol w="1414440"/>
                <a:gridCol w="1268280"/>
                <a:gridCol w="14637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с рейтинговой оцен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без рейтинговой оц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лговые ценные бумаги, в том числе выпущенные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S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кьюритизированные долговые ценные бумаги выпущенные СФ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раструктурные ценные бума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йтинговая оцен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 (пр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V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меняется к гарант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0 000 МРП за последни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м прод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 600 МРП за каждый из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 последний завершенный год 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E30-6DC6-49C1-8650-E1B62F62D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инвестиционных фондо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700280"/>
          <a:ext cx="8229600" cy="4432320"/>
        </p:xfrm>
        <a:graphic>
          <a:graphicData uri="http://schemas.openxmlformats.org/drawingml/2006/table">
            <a:tbl>
              <a:tblPr/>
              <a:tblGrid>
                <a:gridCol w="3325680"/>
                <a:gridCol w="2490840"/>
                <a:gridCol w="2413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инвестиционных фондов (ИФ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ции индексных фонд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ET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рок существ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 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 000 МР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фол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сутствие ф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-мейк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тивы ИФ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 000 МРП за последний завершенный финансовый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инимальное количество пайщиков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вестиционная декла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ртфель фо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уется из ЦБ обращающихся на признаваемых АРД РФЦА бирж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719-39B8-43BB-B0C0-B59B0E06A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Omarova</cp:lastModifiedBy>
  <dcterms:modified xsi:type="dcterms:W3CDTF">2008-09-17T08:18:52Z</dcterms:modified>
  <cp:revision>161</cp:revision>
  <dc:subject/>
  <dc:title>Слайд 1</dc:title>
</cp:coreProperties>
</file>