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A9ED-7EB4-40F6-B573-D6758485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71440" y="261720"/>
            <a:ext cx="63579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43040" y="1600200"/>
            <a:ext cx="68580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43040" y="2633040"/>
            <a:ext cx="68580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ED93-6A94-41EF-BA49-CA56C57A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71440" y="261720"/>
            <a:ext cx="63579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3040" y="1600200"/>
            <a:ext cx="33465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3465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43040" y="2633040"/>
            <a:ext cx="33465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7360" y="2633040"/>
            <a:ext cx="33465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82AE-28EF-4DFF-8373-EA1CF54F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71440" y="261720"/>
            <a:ext cx="63579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43040" y="1600200"/>
            <a:ext cx="2207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61800" y="1600200"/>
            <a:ext cx="2207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80200" y="1600200"/>
            <a:ext cx="2207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43040" y="2633040"/>
            <a:ext cx="2207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61800" y="2633040"/>
            <a:ext cx="2207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80200" y="2633040"/>
            <a:ext cx="2207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DCDC-BEED-4CCF-AEED-BBCF7719F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71440" y="261720"/>
            <a:ext cx="63579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43040" y="1600200"/>
            <a:ext cx="6858000" cy="19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8A5A-3D6E-4D5A-AE41-B0110F89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71440" y="261720"/>
            <a:ext cx="63579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43040" y="1600200"/>
            <a:ext cx="6858000" cy="19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C702-F276-4FF3-A436-F2BABFC2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71440" y="261720"/>
            <a:ext cx="63579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43040" y="1600200"/>
            <a:ext cx="3346560" cy="19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346560" cy="19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0BE0-F6AC-433E-A228-4F6DB8B5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71440" y="261720"/>
            <a:ext cx="63579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9C8B-8D15-496F-8FFA-BDA9F0BB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71440" y="261720"/>
            <a:ext cx="6357960" cy="24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5A02-F7CA-433F-8260-1BF42542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71440" y="261720"/>
            <a:ext cx="63579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43040" y="1600200"/>
            <a:ext cx="33465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346560" cy="19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43040" y="2633040"/>
            <a:ext cx="33465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4213-8FBA-46C8-A3F6-97E069D9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71440" y="261720"/>
            <a:ext cx="63579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43040" y="1600200"/>
            <a:ext cx="3346560" cy="19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3465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7360" y="2633040"/>
            <a:ext cx="33465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6DC4-FF6E-4924-8128-E33573CF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71440" y="261720"/>
            <a:ext cx="63579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43040" y="1600200"/>
            <a:ext cx="33465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3465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43040" y="2633040"/>
            <a:ext cx="68580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7BB3-409A-4BE3-B5E1-67308862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Resmi_Presentation_0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2071440" y="261720"/>
            <a:ext cx="63579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1643040" y="1600200"/>
            <a:ext cx="6858000" cy="19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67000" y="356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70c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28D0-4C72-47C3-9A34-46ECA5626AE6}" type="slidenum">
              <a:rPr b="0" lang="ru-RU" sz="14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Resmi_Presentation_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0"/>
          <p:cNvSpPr/>
          <p:nvPr/>
        </p:nvSpPr>
        <p:spPr>
          <a:xfrm>
            <a:off x="2050920" y="3159000"/>
            <a:ext cx="70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Bookman Old Style"/>
              </a:rPr>
              <a:t>Поиск внутренних резервов: первичное размещение и выведение на рынок новых инструм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2050920" y="57340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Bookman Old Style"/>
              </a:rPr>
              <a:t>Сентябрь, 2008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1979640" y="471816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Bookman Old Style"/>
              </a:rPr>
              <a:t>Подготовлено АО Инвестиционный Финансовый Дом «</a:t>
            </a:r>
            <a:r>
              <a:rPr b="0" lang="en-US" sz="1800" spc="-1" strike="noStrike">
                <a:solidFill>
                  <a:srgbClr val="003399"/>
                </a:solidFill>
                <a:latin typeface="Bookman Old Style"/>
              </a:rPr>
              <a:t>Resmi</a:t>
            </a:r>
            <a:r>
              <a:rPr b="0" lang="ru-RU" sz="1800" spc="-1" strike="noStrike">
                <a:solidFill>
                  <a:srgbClr val="003399"/>
                </a:solidFill>
                <a:latin typeface="Bookman Old Style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71440" y="262080"/>
            <a:ext cx="635796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Bookman Old Style"/>
              </a:rPr>
              <a:t>Прогнозы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79280" y="1125360"/>
            <a:ext cx="6553080" cy="37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Факторы, влияющие на дальнейшее качественное развитие рынка ценных бумаг Казахстан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Появление новых категорий допуска на организованной торговой площадке, изменения в листинговых правила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Планы Правительства РК по дальнейшей активизации фондового рын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6867360" y="35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4505-0306-4089-9B94-065C88F3A1EA}" type="slidenum">
              <a:rPr b="0" lang="ru-RU" sz="14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71440" y="262080"/>
            <a:ext cx="635796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Контакты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7" name="Схема 4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6624360" cy="3024000"/>
          </a:xfrm>
          <a:prstGeom prst="rect">
            <a:avLst/>
          </a:prstGeom>
          <a:ln w="0">
            <a:noFill/>
          </a:ln>
        </p:spPr>
      </p:pic>
      <p:sp>
        <p:nvSpPr>
          <p:cNvPr id="88" name="Номер слайда 3"/>
          <p:cNvSpPr/>
          <p:nvPr/>
        </p:nvSpPr>
        <p:spPr>
          <a:xfrm>
            <a:off x="6867360" y="35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91EB-DFBF-4EA0-8553-412F81365BDE}" type="slidenum">
              <a:rPr b="0" lang="ru-RU" sz="14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71440" y="262080"/>
            <a:ext cx="6357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79640" y="292428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ookman Old Style"/>
              </a:rPr>
              <a:t>Благодарю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6867360" y="35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5FF3-B7D5-4233-B647-0B91B701CEB0}" type="slidenum">
              <a:rPr b="0" lang="ru-RU" sz="14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71440" y="262080"/>
            <a:ext cx="6357960" cy="36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Bookman Old Style"/>
              </a:rPr>
              <a:t>IPO</a:t>
            </a:r>
            <a:r>
              <a:rPr b="0" lang="ru-RU" sz="1800" spc="-1" strike="noStrike">
                <a:solidFill>
                  <a:srgbClr val="003399"/>
                </a:solidFill>
                <a:latin typeface="Bookman Old Style"/>
              </a:rPr>
              <a:t> казахстанских эмитентов – история вопроса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43040" y="160020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3"/>
          <p:cNvSpPr/>
          <p:nvPr/>
        </p:nvSpPr>
        <p:spPr>
          <a:xfrm>
            <a:off x="6867360" y="35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92A6-DADD-4D98-96C5-83AA631E9880}" type="slidenum">
              <a:rPr b="0" lang="ru-RU" sz="14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11280" y="765000"/>
          <a:ext cx="8136000" cy="3222720"/>
        </p:xfrm>
        <a:graphic>
          <a:graphicData uri="http://schemas.openxmlformats.org/drawingml/2006/table">
            <a:tbl>
              <a:tblPr/>
              <a:tblGrid>
                <a:gridCol w="2016000"/>
                <a:gridCol w="1970280"/>
                <a:gridCol w="912600"/>
                <a:gridCol w="3237120"/>
              </a:tblGrid>
              <a:tr h="249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Комп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Площад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Объем привлечен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</a:tr>
              <a:tr h="218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азахмы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,32 млрд. долл. СШ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136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</a:tr>
              <a:tr h="218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KazakhG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лн. дол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</a:tr>
              <a:tr h="218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Д КазМунайГа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LSE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/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K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,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млрд. долл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</a:tr>
              <a:tr h="218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азкоммерцбан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LSE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/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K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80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лн. дол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</a:tr>
              <a:tr h="218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ШалкияЦин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2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лн. дол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</a:tr>
              <a:tr h="365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родный Банк Казахста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48 млн. долл. СШ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</a:tr>
              <a:tr h="218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Chagala Gro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лн. долл. СШ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</a:tr>
              <a:tr h="218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Альянс Бан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04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млн. долл. СШ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</a:tr>
              <a:tr h="218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Kazakhstan Kagaz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млн. долл. СШ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</a:tr>
              <a:tr h="218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NR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,037 млрд. долл. СШ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</a:tr>
              <a:tr h="218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Казахтелек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K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17,1 млрд. тенг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</a:tr>
              <a:tr h="218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К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K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2 513 </a:t>
                      </a:r>
                      <a:r>
                        <a:rPr b="0" lang="ru-RU" sz="12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млн. тенг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</a:tr>
              <a:tr h="218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МРЭ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K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>
                      <a:noFill/>
                    </a:lnB>
                    <a:solidFill>
                      <a:srgbClr val="cacb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775,8 млн. тенг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>
                      <a:noFill/>
                    </a:lnB>
                    <a:solidFill>
                      <a:srgbClr val="cacb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2757600" y="4292640"/>
          <a:ext cx="4190760" cy="218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7600" y="4292640"/>
                    <a:ext cx="419076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835280" y="1844640"/>
            <a:ext cx="669744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Согласно планам Правительства РК в целях развития внутреннего фондового рынка часть акций компаний, входящих в АО «Холдинг по управлению государственными активами «Самрук», должна быть предложена рын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На сегодняшний день акции трех компаний, контролируемых государством, были предложены населению и институциональным инвесторам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3"/>
          <p:cNvSpPr/>
          <p:nvPr/>
        </p:nvSpPr>
        <p:spPr>
          <a:xfrm>
            <a:off x="6867360" y="35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7376-18B5-47C7-958E-C7F49B0ED307}" type="slidenum">
              <a:rPr b="0" lang="ru-RU" sz="14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200" y="313920"/>
            <a:ext cx="187344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Bookman Old Style"/>
              </a:rPr>
              <a:t>Размещение акций  компаний,  контролируемых государством</a:t>
            </a:r>
            <a:endParaRPr b="0" lang="en-US" sz="1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24000" y="189000"/>
            <a:ext cx="633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Bookman Old Style"/>
              </a:rPr>
              <a:t>АО «Казахтелеко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1341360"/>
            <a:ext cx="662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Bookman Old Style"/>
              </a:rPr>
              <a:t>Сроки: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2006 - март 2007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Bookman Old Style"/>
              </a:rPr>
              <a:t>Техника: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азмещение простых акций в два этапа: «народное» размещение и размещение на бирже среди накопительных пенсионных фондов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ервый этап был реализован за счет привлечения трансфер-агентской сети АО «Казпочта», через которую были собраны заявки от населения Республики на покупку акций, т.н. «народное размещени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Bookman Old Style"/>
              </a:rPr>
              <a:t>Объем привлечения: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17,1 млрд тен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ервое «народное» размещение в рамках реализации гос. программы по развитию фондового рынк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омер слайда 3"/>
          <p:cNvSpPr/>
          <p:nvPr/>
        </p:nvSpPr>
        <p:spPr>
          <a:xfrm>
            <a:off x="6867360" y="35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A77B-DD3D-4314-AC6C-C6F095C381EA}" type="slidenum">
              <a:rPr b="0" lang="ru-RU" sz="14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79640" y="333360"/>
            <a:ext cx="6624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Bookman Old Style"/>
              </a:rPr>
              <a:t>АО «Казахстанская ипотечная комп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1989000"/>
            <a:ext cx="64818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Bookman Old Style"/>
              </a:rPr>
              <a:t>Сроки:</a:t>
            </a:r>
            <a:r>
              <a:rPr b="1" lang="ru-RU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март 2008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Bookman Old Style"/>
              </a:rPr>
              <a:t>Техника:</a:t>
            </a:r>
            <a:r>
              <a:rPr b="1" lang="ru-RU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Размещение простых акций, проведенное методом специализированных торгов на СТП РФЦ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Bookman Old Style"/>
              </a:rPr>
              <a:t>Объем привлечения:</a:t>
            </a:r>
            <a:r>
              <a:rPr b="1" lang="ru-RU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2 513 млн</a:t>
            </a:r>
            <a:r>
              <a:rPr b="1" lang="ru-RU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тенг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3"/>
          <p:cNvSpPr/>
          <p:nvPr/>
        </p:nvSpPr>
        <p:spPr>
          <a:xfrm>
            <a:off x="6867360" y="35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4312-CB75-42C2-A4F1-3273AC4D89F4}" type="slidenum">
              <a:rPr b="0" lang="ru-RU" sz="14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200" y="313920"/>
            <a:ext cx="187344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Bookman Old Style"/>
              </a:rPr>
              <a:t>Размещение акций  компаний,  контролируемых государством</a:t>
            </a:r>
            <a:endParaRPr b="0" lang="en-US" sz="15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99120" y="3246480"/>
            <a:ext cx="77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змещение акций  компаний, входящих в АО «Холдинг «Самру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0920" y="260280"/>
            <a:ext cx="6266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Bookman Old Style"/>
              </a:rPr>
              <a:t>АО «Мангистауская распределительная электросетевая комп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8000" y="1486080"/>
            <a:ext cx="655164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Bookman Old Style"/>
              </a:rPr>
              <a:t>Сроки:</a:t>
            </a:r>
            <a:r>
              <a:rPr b="1" lang="ru-RU" sz="2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май-июль 2008 г.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Bookman Old Style"/>
              </a:rPr>
              <a:t>Техника:</a:t>
            </a:r>
            <a:r>
              <a:rPr b="1" lang="ru-RU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Размещение простых акций</a:t>
            </a:r>
            <a:r>
              <a:rPr b="1" lang="ru-RU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в два этапа: «народное» размещение и размещение на бирже посредством специализированных торгов среди широкого круга лиц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На первом этапе, также как и при размещении акций АО «Казахтелеком», были использованы трансфер-агентские пункты АО «Казпочты», действующие на территории Мангистауской облас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Bookman Old Style"/>
              </a:rPr>
              <a:t>Объем привлечения:</a:t>
            </a:r>
            <a:r>
              <a:rPr b="1" lang="ru-RU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775,8 млн тенг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6867360" y="35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C089-A817-4D3F-82D0-32BC7B98B0FC}" type="slidenum">
              <a:rPr b="0" lang="ru-RU" sz="14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200" y="313920"/>
            <a:ext cx="187344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Bookman Old Style"/>
              </a:rPr>
              <a:t>Размещение акций  компаний,  контролируемых государством</a:t>
            </a:r>
            <a:endParaRPr b="0" lang="en-US" sz="15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35280" y="261720"/>
            <a:ext cx="669744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Bookman Old Style"/>
              </a:rPr>
              <a:t>Новые инструменты на казахстанском фондовом рынке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79640" y="1125360"/>
            <a:ext cx="64800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2880" indent="1800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Сертификаты на акции Renaissance Capital Holdings Limited – (долговой сектор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" indent="18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" indent="1800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Акции класса «Е» Russia Renaissance Fund SPC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(ценные бумаги инвест. фонд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" indent="18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" indent="1800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Простые акции акционерного инвестиционного фонда недвижимости «Великая Стена» (ценные бумаги инвест. фонд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" indent="1800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9640" y="5227560"/>
            <a:ext cx="68403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2880" indent="1692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Остановимся подробней на последнем инструменте…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3"/>
          <p:cNvSpPr/>
          <p:nvPr/>
        </p:nvSpPr>
        <p:spPr>
          <a:xfrm>
            <a:off x="6867360" y="35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9831-7779-43D9-B582-3858E248D04D}" type="slidenum">
              <a:rPr b="0" lang="ru-RU" sz="14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71440" y="262080"/>
            <a:ext cx="63579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Bookman Old Style"/>
              </a:rPr>
              <a:t>Ценные бумаги инвестиционных фондов недвижимости как новый инструмент в долевом секторе рынка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72" name="Rectangle 3"/>
          <p:cNvGraphicFramePr/>
          <p:nvPr/>
        </p:nvGraphicFramePr>
        <p:xfrm>
          <a:off x="2340000" y="3429000"/>
          <a:ext cx="5400720" cy="237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429000"/>
                    <a:ext cx="540072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252360" y="1628640"/>
            <a:ext cx="17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Bookman Old Style"/>
              </a:rPr>
              <a:t>Инструмен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78200" y="1628640"/>
            <a:ext cx="6697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6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Инструмент коллективного финансирования, позволяющий опосредованно инвестировать в объекты недвижим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6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Ключевое преимущество - стабильный денежный поток, генерируемым активами фонда. Не менее 90% от чистого дохода направляется на выплату дивидендов. В итоге – инвесторы получают стабильный и прогнозируемый дох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6867360" y="35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5951-37AF-4055-80B4-D0E5646C9DDE}" type="slidenum">
              <a:rPr b="0" lang="ru-RU" sz="14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00360" y="5800680"/>
            <a:ext cx="482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Bookman Old Style"/>
              </a:rPr>
              <a:t>Рост количества фондов недвижимости на мировом ры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71440" y="262080"/>
            <a:ext cx="635796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Bookman Old Style"/>
              </a:rPr>
              <a:t>Акционерный инвестиционный фонд недвижимости «Великая Стена»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2924280"/>
            <a:ext cx="190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Bookman Old Style"/>
              </a:rPr>
              <a:t>Техника размещ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35280" y="2997360"/>
            <a:ext cx="669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редполагаемая инвесторская база – пенсионные накопительные фонды, ПИФы, частные лиц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мещение проводилось методом закрытой подписки, инвесторам предлагались акции, находящиеся в собственности основного акционера (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SPO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Bookman Old Style"/>
              </a:rPr>
              <a:t>Структура инвесторов на текущий момент: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пенсионные фонды, паевые фонды, физические л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35280" y="1197000"/>
            <a:ext cx="66974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О «АИФН «Великая Стена» был зарегистрирован в апреле 2008 г. В июне 2008 г. акции Фонда прошли листинг на Казахстанской фондовой бирж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cc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ыночная капитализация Фонда на 05.09.2008 г. по данным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KASE –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4 293 млн тен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6867360" y="35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71F3-5023-479B-8921-94DDA9924C1C}" type="slidenum">
              <a:rPr b="0" lang="ru-RU" sz="14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10:10:52Z</dcterms:created>
  <dc:creator>Andrey</dc:creator>
  <dc:description/>
  <dc:language>en-US</dc:language>
  <cp:lastModifiedBy>Omarova</cp:lastModifiedBy>
  <dcterms:modified xsi:type="dcterms:W3CDTF">2008-09-17T08:27:57Z</dcterms:modified>
  <cp:revision>44</cp:revision>
  <dc:subject/>
  <dc:title>Слайд 1</dc:title>
</cp:coreProperties>
</file>