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6BF05E2-7317-4598-AA2C-7008E05F57F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24C9C1D-8959-45B3-9486-8480F0614E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об этом много говорили, но проблемы почему – то не решаются. Поэтому еще раз и с учетом кризи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5B01EB-730E-4F6D-BE21-3CE5D34489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зис сильно повлиял на рынок коллективных инвестиций, причем негативно. Активы ПИФов пострадали от снижения стоимости активов, дефолтов, ухода пайщиков. Количество фондом уменьшилось и пока оживления не видно. Хотя дно уже пройдено, потому что в 2009 году мы наблюдаем рост активов, но пока только от роста стоимости активов. Новых денег в ПИФы не приходи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D9B14B-8F39-4C0E-8BA2-33F78BE20F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и закрывшихся УК были и одни из лидеров рынка ПИФов (Аим) и продвинутые российские компании (КИТ Форти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из 7000 казахстанцев, только 1 является пайщиком фонда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 свою очередь может привести к закрытию фондов, которые не соответствуют данному требова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нки дерутся за депозиты, а можно их перенаправить в ПИФ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CBDD7D-812F-4F7E-9FDD-38B05E541F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юс 40 Акционерных инвестиционных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гда поднимался вопрос о том, что закрытые фонды являются  по сути оффшорными структурами, через которые пайщики фондов получают огромные доходы без выплаты налогов. Во многом подтверждением является статистика активов фондов, но у нас нет статистики по вопросу: сколько ПИФов имеют по одному – двум пайщикам,  их активность на рынке ценных бумаг. Большую долю среди ПИФов как по активам (296 939 млн тенге из 299 444 млн тенге), так и по количеству (77% рынка ПИФов) занимают закрытые фон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дательство по налогообложению изменилось, но не в лучшую сторон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265E1F-69C2-454B-8E59-41B5268C9B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юс 40 Акционерных инвестиционных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егодня очень часто поднимается вопрос о том, что закрытые фонды являются  по сути оффшорными структурами, через которые пайщики фондов получают огромные доходы без выплаты налогов. Во многом подтверждением является статистика активов фондов, но у нас нет статистики по вопросу: сколько ПИФов имеют по одному – двум пайщикам,  их активность на рынке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вязи с этим возникает вопрос об пересмотре налоговых льгот для частных инвестиционных фон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54D51DD-81E9-4C3E-A875-F2002BDE06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ысл биржевой торговли паям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ключается в предоставление возможности инвестору приобрести или продать паи, в случаях когда УК не осуществляет выкуп или размещение дополнительных паев. В процессе биржевой торговли формируются рыночные цены на ПИФы, что придаст дополнительную надежность и прозрачность институту коллективных инвестиций и инвесторы смогут оценивать стоимость своих вложений на основании биржевых котировок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ющая ситуация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В Казахстане сложилась практика, что большинство закрытых фондов предоставляет  своим пайщикам возможность выхода. На первых порах становления этого нового для Казахстана института такая практика была оправдана и УК предусматривали выход  чтобы привлечь потенциальных пайщиков в закрытые фон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идейно, закрытые ПИФы -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лгосроч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нвестор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окорискованных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ектов, выход которых должен осуществляться после реализации проекта. Поэтому существующая на данный момент практика выхода из закрытого фонда лишает смысла биржевую торговлю паями. Если УК предоставляет возможность выхода в определенные промежутки времени, то в условиях зачаточного рынка паев, биржевая торговля едва ли будет востребов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же в настоящий момент в республике нет достаточного количества фондов, отвечающих требованиям листинга и инвесторов способных создать биржевой рынок паев. Для активизации рынка важно не столько количество фондов в Республике, а число пайщиков и потенциальных инвесторов, готовых войти в фон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7783A3E-18FB-4EA0-9620-010ADA5310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49840" y="9429840"/>
            <a:ext cx="294624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3EB874B-71A5-49C9-A827-8E13654AC5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77880" y="471456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мысл биржевой торговли паями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возможности инвестору приобрести или продать свои паи, в случаях, когда Управляющая Компания не осуществляет выкуп или размещение дополнительных па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ющая ситуация 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нство закрытых фондов предоставляют своим пайщикам возможность выхода. Даная практика снижает значени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ржевой торговли пая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ыт России -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2003 года две биржи (ММВБ и МФБ) включают в листинг инвестиционные паевые фонды, после более шести лет существования фон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446E-6007-4936-92A4-5478B1F67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3E7D-A368-4B21-834F-A3C6EAF2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8C7D-1D88-4A3C-8A2F-28BD3270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1996-0C13-4D55-856F-504E6AA4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49BF-C7AE-400C-9154-17B2B6F7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665-3DC5-496F-8649-751875D3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11A9-FED3-490A-9E69-C22460038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34B5-A337-4C92-A551-E92DC331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721C-FFCD-468A-8516-CA1154BA0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A588-C781-4DAB-B5B6-9DDC84A2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2C10-E65E-439A-AB45-C410112A1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C659-A9D7-4BFE-9981-BFF335850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12FA-879F-4215-A961-BAB43623AA2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entras.kz/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7"/>
          <p:cNvSpPr/>
          <p:nvPr/>
        </p:nvSpPr>
        <p:spPr>
          <a:xfrm>
            <a:off x="539640" y="476280"/>
            <a:ext cx="78487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" name="Rectangle 8"/>
          <p:cNvSpPr/>
          <p:nvPr/>
        </p:nvSpPr>
        <p:spPr>
          <a:xfrm>
            <a:off x="2143080" y="1844640"/>
            <a:ext cx="574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Перспективы развития  ПИФов в Казахстане.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Garamond"/>
              </a:rPr>
              <a:t>Перезагрузка…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" name="Picture 12" descr="Conf5"/>
          <p:cNvPicPr/>
          <p:nvPr/>
        </p:nvPicPr>
        <p:blipFill>
          <a:blip r:embed="rId1"/>
          <a:stretch/>
        </p:blipFill>
        <p:spPr>
          <a:xfrm>
            <a:off x="755640" y="2133720"/>
            <a:ext cx="647640" cy="6444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3"/>
          <p:cNvSpPr/>
          <p:nvPr/>
        </p:nvSpPr>
        <p:spPr>
          <a:xfrm>
            <a:off x="4356000" y="4143240"/>
            <a:ext cx="4105440" cy="2864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Жанна Нуралина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Директор Департамента брокерских услуг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АО «Сентрас Секьюритиз»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Сентябрь, 2009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Line 14"/>
          <p:cNvSpPr/>
          <p:nvPr/>
        </p:nvSpPr>
        <p:spPr>
          <a:xfrm>
            <a:off x="539640" y="476280"/>
            <a:ext cx="0" cy="86508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3" name="Line 15"/>
          <p:cNvSpPr/>
          <p:nvPr/>
        </p:nvSpPr>
        <p:spPr>
          <a:xfrm>
            <a:off x="684360" y="6453360"/>
            <a:ext cx="784836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Line 16"/>
          <p:cNvSpPr/>
          <p:nvPr/>
        </p:nvSpPr>
        <p:spPr>
          <a:xfrm>
            <a:off x="8532720" y="5587920"/>
            <a:ext cx="0" cy="86544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84360" y="1628640"/>
            <a:ext cx="4680000" cy="43200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b2b2b2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Garamond"/>
              </a:rPr>
              <a:t>АО «СЕНТРАС СЕКЬЮРИТИЗ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2920" y="2204640"/>
            <a:ext cx="4032360" cy="23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Казахстан, Алматы, 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500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ул.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Манаса 32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Бизнес Центр 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SAT</a:t>
            </a: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, офис 2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Тел.: +7 727 259 88 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aramond"/>
              </a:rPr>
              <a:t>Факс: +7 727 259 88 87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Garamond"/>
              </a:rPr>
              <a:t>mail@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Garamond"/>
              </a:rPr>
              <a:t>Вниманию: Нуралиной Жанн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Garamond"/>
              </a:rPr>
              <a:t>e-mail: ZNuralina@centras.k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556000" y="139680"/>
            <a:ext cx="45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993300"/>
                </a:solidFill>
                <a:latin typeface="Garamond"/>
              </a:rPr>
              <a:t>КОНТАКТНАЯ ИНФОРМАЦИЯ 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9" name="Picture 7" descr="Conf5"/>
          <p:cNvPicPr/>
          <p:nvPr/>
        </p:nvPicPr>
        <p:blipFill>
          <a:blip r:embed="rId2"/>
          <a:stretch/>
        </p:blipFill>
        <p:spPr>
          <a:xfrm>
            <a:off x="108000" y="6167520"/>
            <a:ext cx="576360" cy="574560"/>
          </a:xfrm>
          <a:prstGeom prst="rect">
            <a:avLst/>
          </a:prstGeom>
          <a:ln w="0">
            <a:noFill/>
          </a:ln>
        </p:spPr>
      </p:pic>
      <p:sp>
        <p:nvSpPr>
          <p:cNvPr id="110" name="Line 8"/>
          <p:cNvSpPr/>
          <p:nvPr/>
        </p:nvSpPr>
        <p:spPr>
          <a:xfrm>
            <a:off x="2627280" y="54936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transition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33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Кризис и ПИФы… Статистика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2340000" y="765000"/>
            <a:ext cx="65530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lvl="1" marL="623880" indent="-360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7" name="Picture 7" descr="Conf5"/>
          <p:cNvPicPr/>
          <p:nvPr/>
        </p:nvPicPr>
        <p:blipFill>
          <a:blip r:embed="rId1"/>
          <a:stretch/>
        </p:blipFill>
        <p:spPr>
          <a:xfrm>
            <a:off x="108000" y="616572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58" name="Line 9"/>
          <p:cNvSpPr/>
          <p:nvPr/>
        </p:nvSpPr>
        <p:spPr>
          <a:xfrm>
            <a:off x="2700360" y="765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Rectangle 10"/>
          <p:cNvSpPr/>
          <p:nvPr/>
        </p:nvSpPr>
        <p:spPr>
          <a:xfrm>
            <a:off x="179280" y="1407960"/>
            <a:ext cx="1944720" cy="22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6600"/>
                </a:solidFill>
                <a:latin typeface="Garamond"/>
              </a:rPr>
              <a:t>Кризис существенно повлиял на ПИФы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6600"/>
                </a:solidFill>
                <a:latin typeface="Garamond"/>
              </a:rPr>
              <a:t>Хочется верить, что дно уже пройдено.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643120" y="1857240"/>
            <a:ext cx="590400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Данные АФН на 01.07.2009г.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Активы ПИФов в текущем году показывают положительную динамику, за первое полугодие 2009 года они выросли на 67,8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преимущественн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увеличение активов произошло в закрытых фондах. 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Данные АФН на 01.07.2009г.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643120" y="928800"/>
          <a:ext cx="5918400" cy="1143000"/>
        </p:xfrm>
        <a:graphic>
          <a:graphicData uri="http://schemas.openxmlformats.org/drawingml/2006/table">
            <a:tbl>
              <a:tblPr/>
              <a:tblGrid>
                <a:gridCol w="1663920"/>
                <a:gridCol w="850680"/>
                <a:gridCol w="851040"/>
                <a:gridCol w="850680"/>
                <a:gridCol w="851040"/>
                <a:gridCol w="851040"/>
              </a:tblGrid>
              <a:tr h="167760"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личество инвестиционных фонд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2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0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2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7.2009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личество ПИФ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ткрыт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акрыт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терваль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2627280" y="3068640"/>
          <a:ext cx="5918400" cy="1143000"/>
        </p:xfrm>
        <a:graphic>
          <a:graphicData uri="http://schemas.openxmlformats.org/drawingml/2006/table">
            <a:tbl>
              <a:tblPr/>
              <a:tblGrid>
                <a:gridCol w="1663560"/>
                <a:gridCol w="851040"/>
                <a:gridCol w="851040"/>
                <a:gridCol w="850680"/>
                <a:gridCol w="851040"/>
                <a:gridCol w="851040"/>
              </a:tblGrid>
              <a:tr h="167760"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ктивы инвестиционных фондов (млн. тенге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7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Активы ПИФ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2 3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8 5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 5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4 3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9 4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акры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1 2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5 8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4 4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0 6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96 9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ткры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18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5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3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6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терваль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4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 4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8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2627280" y="4653000"/>
          <a:ext cx="5918400" cy="1120680"/>
        </p:xfrm>
        <a:graphic>
          <a:graphicData uri="http://schemas.openxmlformats.org/drawingml/2006/table">
            <a:tbl>
              <a:tblPr/>
              <a:tblGrid>
                <a:gridCol w="1663560"/>
                <a:gridCol w="851040"/>
                <a:gridCol w="851040"/>
                <a:gridCol w="850680"/>
                <a:gridCol w="851040"/>
                <a:gridCol w="851040"/>
              </a:tblGrid>
              <a:tr h="167760">
                <a:tc gridSpan="6"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Количество пайщиков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4.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4.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1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на 01.07.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 5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 2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8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закры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7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6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5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4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открыт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3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7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интервальны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2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78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32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1 1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51"/>
          <p:cNvSpPr/>
          <p:nvPr/>
        </p:nvSpPr>
        <p:spPr>
          <a:xfrm>
            <a:off x="6750000" y="5734080"/>
            <a:ext cx="1946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aramond"/>
              </a:rPr>
              <a:t>Данные АФН на 01.07.2009г.</a:t>
            </a:r>
            <a:endParaRPr b="0" lang="en-US" sz="1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629080" y="260280"/>
            <a:ext cx="49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33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Кризис и ПИФы… Первые результаты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2340000" y="765000"/>
            <a:ext cx="6553080" cy="2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 lvl="1" marL="623880" indent="-360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890640"/>
                <a:tab algn="l" pos="1781280"/>
                <a:tab algn="l" pos="2671920"/>
                <a:tab algn="l" pos="3562200"/>
                <a:tab algn="l" pos="4452840"/>
                <a:tab algn="l" pos="5343480"/>
                <a:tab algn="l" pos="6234120"/>
                <a:tab algn="l" pos="7124760"/>
                <a:tab algn="l" pos="8015400"/>
                <a:tab algn="l" pos="8906040"/>
                <a:tab algn="l" pos="9796320"/>
                <a:tab algn="l" pos="1068696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67" name="Picture 7" descr="Conf5"/>
          <p:cNvPicPr/>
          <p:nvPr/>
        </p:nvPicPr>
        <p:blipFill>
          <a:blip r:embed="rId1"/>
          <a:stretch/>
        </p:blipFill>
        <p:spPr>
          <a:xfrm>
            <a:off x="108000" y="616572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68" name="Line 9"/>
          <p:cNvSpPr/>
          <p:nvPr/>
        </p:nvSpPr>
        <p:spPr>
          <a:xfrm>
            <a:off x="2700360" y="76500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179280" y="1407960"/>
            <a:ext cx="1944720" cy="14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300" spc="-1" strike="noStrike">
                <a:solidFill>
                  <a:srgbClr val="006600"/>
                </a:solidFill>
                <a:latin typeface="Garamond"/>
              </a:rPr>
              <a:t>ПИФы – неотъемлемый инструмент привлечения денег населения на рынок ценных бумаг</a:t>
            </a:r>
            <a:endParaRPr b="0" lang="en-US" sz="13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2700360" y="981000"/>
            <a:ext cx="5904000" cy="36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Тенденция к уменьшению числа пайщиков и ПИФов может сохраниться, в том числе в связи с уменьшение числа УК;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Пайщики уходили преимущественно из ОПИФ и ИПИФ – как самых розничных и «настоящих» ПИФов;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На 01 июля 2009</a:t>
            </a:r>
            <a:r>
              <a:rPr b="0" lang="en-US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г. (данные АФН) лишь 10 ОПИФ и ИПИФ соответствовали требованиям по минимальному размеру активов (50 тыс. МРП);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Garamond"/>
              </a:rPr>
              <a:t>ПИФы не получили должного развития до кризиса, а сейчас стоят на грани вымирания.</a:t>
            </a: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604360" y="4508280"/>
            <a:ext cx="9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00000" y="980640"/>
            <a:ext cx="77868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К чему мы приш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ОПИФ и ИПИФ являются основными источниками аккумулир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редств населения и привлечения его на фондовый рыно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 случаем массового закрытия фондов существует опасность тог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что функциональное назначение закона об ИФ ослабеет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будет служить интересам отдельных частных инвес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Главная идея закона РК об инвестиционных фондах - развивать рынок коллективных инвестиций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а основу рынка коллективных инвестиций должны составлять 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«розничные»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инвестор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aramond"/>
              </a:rPr>
              <a:t>Необходимы изменения законодательства РК по вопросам коллективных инвестици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7" descr="Conf5"/>
          <p:cNvPicPr/>
          <p:nvPr/>
        </p:nvPicPr>
        <p:blipFill>
          <a:blip r:embed="rId1"/>
          <a:stretch/>
        </p:blipFill>
        <p:spPr>
          <a:xfrm>
            <a:off x="108000" y="6093000"/>
            <a:ext cx="576360" cy="574560"/>
          </a:xfrm>
          <a:prstGeom prst="rect">
            <a:avLst/>
          </a:prstGeom>
          <a:ln w="0">
            <a:noFill/>
          </a:ln>
        </p:spPr>
      </p:pic>
      <p:cxnSp>
        <p:nvCxnSpPr>
          <p:cNvPr id="74" name="Прямая со стрелкой 6"/>
          <p:cNvCxnSpPr/>
          <p:nvPr/>
        </p:nvCxnSpPr>
        <p:spPr>
          <a:xfrm flipH="1">
            <a:off x="4857480" y="220788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5" name="Прямая со стрелкой 9"/>
          <p:cNvCxnSpPr/>
          <p:nvPr/>
        </p:nvCxnSpPr>
        <p:spPr>
          <a:xfrm flipH="1">
            <a:off x="4857480" y="3649320"/>
            <a:ext cx="21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6" name="Прямая со стрелкой 11"/>
          <p:cNvCxnSpPr/>
          <p:nvPr/>
        </p:nvCxnSpPr>
        <p:spPr>
          <a:xfrm flipH="1">
            <a:off x="4857480" y="5159160"/>
            <a:ext cx="2160" cy="50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7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9933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Кризис и ПИФы… Последствия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Line 9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9" descr="Conf5"/>
          <p:cNvPicPr/>
          <p:nvPr/>
        </p:nvPicPr>
        <p:blipFill>
          <a:blip r:embed="rId1"/>
          <a:stretch/>
        </p:blipFill>
        <p:spPr>
          <a:xfrm>
            <a:off x="179280" y="58770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80" name="Line 10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Rectangle 18"/>
          <p:cNvSpPr/>
          <p:nvPr/>
        </p:nvSpPr>
        <p:spPr>
          <a:xfrm>
            <a:off x="2771640" y="893880"/>
            <a:ext cx="55454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ПИФ = оффшорная зона????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Основные изменения налогообложения пайщиков и ПИФов: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льготы сохранились только для открытых ПИФов и отменены для рисковых фонд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отменены льготы по дивидендам и от прироста при выкупе УК акций АИФРИ;</a:t>
            </a: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освобожден от налогообложения прирост стоимости акций и долей в ТОО (не связанных с недропользованием и недвижимостью)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Все в ПИФы?!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aramond"/>
              </a:rPr>
              <a:t>Где налоговое планирование и стимулирование?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ПИФы и налоговые льготы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Conf5"/>
          <p:cNvPicPr/>
          <p:nvPr/>
        </p:nvPicPr>
        <p:blipFill>
          <a:blip r:embed="rId1"/>
          <a:stretch/>
        </p:blipFill>
        <p:spPr>
          <a:xfrm>
            <a:off x="179280" y="58770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84" name="Line 10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Rectangle 18"/>
          <p:cNvSpPr/>
          <p:nvPr/>
        </p:nvSpPr>
        <p:spPr>
          <a:xfrm>
            <a:off x="2771640" y="836640"/>
            <a:ext cx="5545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00"/>
                </a:solidFill>
                <a:latin typeface="Garamond"/>
              </a:rPr>
              <a:t>Наша позиция: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алоговые льготы нужны, но они должны быть стимулятором, а не первопричиной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- налоговые льготы должны предоставляться для развития рынка ценных бумаг и коллективного инвестирования, т.е. налоговая нагрузка должна быть различна, в том числе для частных и коллективных фонд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еобходима правильная идентификация причин создания фонда, мы не против частных фондов - они должны быть, но должны создаваться не ради налоговых льгот, а ради реализации проектов и здесь тоже нужны льготы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еобходимо правильное разграничение фондов финансовых инструментов и проектов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324000" y="1628640"/>
            <a:ext cx="17636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Garamond"/>
              </a:rPr>
              <a:t>Налоговые льготы инвестиционных фондов должны развивать рынок ценных бумаг, но не служить для оптимизации налогов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ПИФы и налоговые льготы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Conf5"/>
          <p:cNvPicPr/>
          <p:nvPr/>
        </p:nvPicPr>
        <p:blipFill>
          <a:blip r:embed="rId1"/>
          <a:stretch/>
        </p:blipFill>
        <p:spPr>
          <a:xfrm>
            <a:off x="179280" y="58770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89" name="Line 4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285840" y="1571760"/>
            <a:ext cx="194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Garamond"/>
              </a:rPr>
              <a:t>Необходимы законодательные изменения по части регулирования деятельности  закрытых ПИФов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2771640" y="949320"/>
            <a:ext cx="5545440" cy="42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Только закрытые и интервальные не рисковые фонды могут быть допущены на биржу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Биржевая торговля паями невостребована пока УК будут также выкупать паи у своих пайщик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ичины: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извращение идеи закрытых фондов в связи с затрудненностью инвестирования активов открытых и интервальных ПИФ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Листинговые требования к паям ПИФов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Необходимо облегчить требования законодательства к активам открытых и интервальных фондов (рейтинги понизились, надо вернуть все на свои места)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2771640" y="260280"/>
            <a:ext cx="550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ПИФы на торговой площадке.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3" descr="Conf5"/>
          <p:cNvPicPr/>
          <p:nvPr/>
        </p:nvPicPr>
        <p:blipFill>
          <a:blip r:embed="rId1"/>
          <a:stretch/>
        </p:blipFill>
        <p:spPr>
          <a:xfrm>
            <a:off x="179280" y="5877000"/>
            <a:ext cx="647640" cy="646200"/>
          </a:xfrm>
          <a:prstGeom prst="rect">
            <a:avLst/>
          </a:prstGeom>
          <a:ln w="0">
            <a:noFill/>
          </a:ln>
        </p:spPr>
      </p:pic>
      <p:sp>
        <p:nvSpPr>
          <p:cNvPr id="95" name="Line 4"/>
          <p:cNvSpPr/>
          <p:nvPr/>
        </p:nvSpPr>
        <p:spPr>
          <a:xfrm>
            <a:off x="270036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285840" y="1571760"/>
            <a:ext cx="194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6600"/>
                </a:solidFill>
                <a:latin typeface="Garamond"/>
              </a:rPr>
              <a:t>Реклама – двигатель прогресса.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2771640" y="1065240"/>
            <a:ext cx="554544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родажи ПИФов через трансфер – агентов, страховые компании и прочих помощников не эффективны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РФЦА проводит мероприятия по продвижению ПИФ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Необходимо разрешить рекламу «розничных» фондов.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2771640" y="260280"/>
            <a:ext cx="5504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2629080" y="260280"/>
            <a:ext cx="49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Продвижение ПИФов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771640" y="3357720"/>
            <a:ext cx="568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aramond"/>
              </a:rPr>
              <a:t>Мы должны продвигать и развивать ПИФы, потому что они – главный инструмент повышения финансовой грамотности населения и привлечения инвестиций населения на рынок ценных бумаг.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4"/>
          <p:cNvSpPr/>
          <p:nvPr/>
        </p:nvSpPr>
        <p:spPr>
          <a:xfrm>
            <a:off x="2627280" y="692280"/>
            <a:ext cx="5832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102" name="Picture 5" descr="Conf5"/>
          <p:cNvPicPr/>
          <p:nvPr/>
        </p:nvPicPr>
        <p:blipFill>
          <a:blip r:embed="rId1"/>
          <a:stretch/>
        </p:blipFill>
        <p:spPr>
          <a:xfrm>
            <a:off x="108000" y="6165720"/>
            <a:ext cx="576360" cy="5749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2"/>
          <p:cNvSpPr/>
          <p:nvPr/>
        </p:nvSpPr>
        <p:spPr>
          <a:xfrm>
            <a:off x="2556000" y="907920"/>
            <a:ext cx="583236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Ввести понятие розничных и частных фондов, фондов финансовых инструментов и проектов, различать их правовое положение и налоговые льготы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Пересмотреть лимиты по открытым и интервальным фондам (понижение рейтингов создает трудности для инвестирования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Запретить выход пайщиков из закрытых фондов (для вновь создаваемых фондов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Совершенствовать законодательную базу для развития биржевой торговли паями: пересмотреть листинговое требование о наличии положительной динамики доходности, срок существования фонда, рейтинговая оценка акций, входящих в состав активов фондов;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Garamond"/>
              </a:rPr>
              <a:t>Упростить для УК администрирование фондов в части предоставления отчетов (в частности это касается полугодового отчета о размещении паев);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Text Box 13"/>
          <p:cNvSpPr/>
          <p:nvPr/>
        </p:nvSpPr>
        <p:spPr>
          <a:xfrm>
            <a:off x="250920" y="1336680"/>
            <a:ext cx="151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2700360" y="18900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3300"/>
                </a:solidFill>
                <a:latin typeface="Garamond"/>
              </a:rPr>
              <a:t>ВЫВОДЫ И ПРЕДЛОЖЕНИЯ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4T09:17:49Z</dcterms:created>
  <dc:creator>Вадим Червяков</dc:creator>
  <dc:description/>
  <dc:language>en-US</dc:language>
  <cp:lastModifiedBy>User</cp:lastModifiedBy>
  <dcterms:modified xsi:type="dcterms:W3CDTF">2009-09-04T05:20:30Z</dcterms:modified>
  <cp:revision>341</cp:revision>
  <dc:subject/>
  <dc:title>Слайд 1</dc:title>
</cp:coreProperties>
</file>