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5C7-AC9A-4E77-8B7F-F485A617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287-C6E0-4C9D-9D81-1D521488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9E6-BA40-43EA-BAAA-76BC0AC6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599-B2F0-4521-AA4C-3A0F5035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6C4-1412-4539-BE6D-61E78E91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E0B7-B678-490B-9010-FD39DBEF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1FC-B76B-4752-ACA4-E67FE35A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960-596D-497F-B568-D064614B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DCF-5515-44BE-B542-F81EBA6A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001-9A62-44F9-BACC-7CE8F391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4EB-C7CA-41D6-A20E-065465C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068-7742-4495-914B-BC8B7564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918D-A1F8-4F06-B3E6-A83B038177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99800" y="3642840"/>
            <a:ext cx="692964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alibri"/>
              </a:rPr>
              <a:t>IT </a:t>
            </a:r>
            <a:r>
              <a:rPr b="0" lang="ru-RU" sz="3900" spc="-1" strike="noStrike">
                <a:solidFill>
                  <a:srgbClr val="ffffff"/>
                </a:solidFill>
                <a:latin typeface="Calibri"/>
              </a:rPr>
              <a:t>на службе финансов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8640" y="356760"/>
            <a:ext cx="5257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T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 на Казахстанском ры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 %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захстанская комп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коквалифицированных специалис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ятки республиканских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25 произв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 9001:200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тифик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9000" y="3567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TECH &amp; MICROSO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да в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Microsoft Certified engin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 Certified Partner (5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етенци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C competence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в Казахст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тн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/07/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Gold_Partner_rgb_80_10_5_11 copy.jpg"/>
          <p:cNvPicPr/>
          <p:nvPr/>
        </p:nvPicPr>
        <p:blipFill>
          <a:blip r:embed="rId2"/>
          <a:stretch/>
        </p:blipFill>
        <p:spPr>
          <a:xfrm>
            <a:off x="642960" y="4714920"/>
            <a:ext cx="7715160" cy="1406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9000" y="3567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РГИ СЕГОД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ент приходит но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писывает бумажный прик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стратор оформляет сдел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анит документы в архи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9000" y="3567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РГИ ЗАВТ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ент заполняет форму 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ет-порт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писывает электронной подпис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стратор оформляет сдел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анит документ в электронном ви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89440" y="621504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Issyk Kul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760" y="25718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54061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85840" y="621504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</a:rPr>
              <a:t>Pavel Pronchenko, Almaty, Septem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5:58:47Z</dcterms:created>
  <dc:creator>Pronchenko</dc:creator>
  <dc:description/>
  <dc:language>en-US</dc:language>
  <cp:lastModifiedBy>Omarova</cp:lastModifiedBy>
  <dcterms:modified xsi:type="dcterms:W3CDTF">2008-09-17T09:39:29Z</dcterms:modified>
  <cp:revision>62</cp:revision>
  <dc:subject/>
  <dc:title>Слайд 1</dc:title>
</cp:coreProperties>
</file>