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92F-540E-469D-9FC6-5373B5C9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E5C-9324-4CCB-AD84-FDD5CAFF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57DAB-6F20-4D52-9402-CA330398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DE256-7DDD-4759-BE2C-60A0DA2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DEA3-41EA-4893-9092-A049D9F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E7AF6-6C92-4192-901B-14E8EC4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EA9F2-C88A-433A-8EC8-F6C11E9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3C0D7-A152-46FA-864D-48E8242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E0CF-E745-4EC0-8FBC-28D25B19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C12C3-DDD8-4AAA-BC24-7569D143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130F5-D23D-4979-A1F9-B404A7E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75B-CD4E-4671-9F97-A5499A75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579-3975-4733-A638-E84B476E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531-1A1A-4BD3-84B4-A7D7ADF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8DCE-F472-4C4D-9A98-FF522181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E665-6BED-41AA-A393-635DE5A0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59A-600A-436D-90E2-2A50069D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36A9-90ED-4AC2-BD05-4FB460F8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C44-85B5-4515-94E2-A28EB0D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4774-1CDA-4C38-BB06-C02780C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3DC-0B7A-41A8-BD82-866651F5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93B8-42AC-4F2C-B74F-05939DA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D798-CBB1-46DC-88FA-69855B3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14CB-5D55-47CE-89B1-7437B40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B019-790A-4237-8FED-2F3C666F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23F6-DC81-41EC-BDB2-979947AC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B45C-FED9-44B4-BE95-DD3E7E11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F0FE-4A21-415C-A233-2B04EAE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3958-CE32-488D-8F55-2CAD135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D12B-3D9D-4D09-B653-6263045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C906-32B0-4395-AB51-178DB8F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2A5-8B5E-43A2-A676-E839BBD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7F34-8CFA-4EC8-AF7E-C0BB160C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4952-D90D-4D97-AA9D-C9BE1D6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4DE9-39AA-41D8-97DA-61A5ED6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0A82-C2DF-4783-A757-F58ED31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9B1D-B6FC-448B-BE53-B7C59CE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E5F1-87C2-41BB-9AB1-DED95842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1B7F-DA4D-405A-8AE0-8294C724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2D6D-2C53-49C2-9E1F-FB94BBF0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48B7-3F70-4626-B08A-F1623574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1E7D-9EDB-4EC6-96E2-B882735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E75-9BE5-4D12-968B-8751FE0F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DFA6-553B-4BD2-8855-8E29861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F54A-BAFF-4E04-AE4D-C4CC05FC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50AF-656F-4C69-A684-6C903BD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F3B6-4558-4D97-91C8-973D72D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149A-E55B-4DA6-A89A-C12ECDE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8E99-011B-4828-B53F-06EA2AA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F8FE-C52B-43B3-9770-DE8FF88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EF68-8CB5-437A-888E-287C6211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6014-CB45-4928-975A-9FE1E221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5924-238F-416C-AD10-2CFDE382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233-A765-4CB5-9A2C-DE3933D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3196-F188-408A-AE69-A7F5667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EDF2-1676-43A9-BEDC-91B6F7E0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E3B5-B3BC-4A37-8C6A-45B7D97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BA1F-BA79-4CF3-B610-53B380C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6754-7E4E-4BB8-858E-1B4E100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9A38-2E36-4A30-95E6-7AFF962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A85B-408A-4336-B04F-D574F29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A627-AF4C-4033-A963-26DCB5F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7447-1CB1-4BF5-BE3F-9FFF7DE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9112-DD00-41A7-B55F-65C775A9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D32-0BB1-4431-99D4-E11BA25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CA26-4B1B-4FF7-B539-1A4F07B8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C8105-47E5-4D9D-8F76-676EFE06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95D6-BBD0-487F-8984-506658F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DEBF-A282-4FB7-A869-40D41ECC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02A28-D022-4EDF-BCAB-4236C240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1F27-F65C-4AA7-ACA3-1AFAAFD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71FB-ED2F-428B-A0C6-8CEE9E2A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45A5A-B084-49C3-90C9-A7A347F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52C6D-B1D0-4C28-85F4-A6A599B2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E0E9-B733-424C-A7E2-A443051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880-AAB2-4E1B-9CE3-467A5CE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2DA9-40CD-41CF-9D90-A1B75B0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D337-8347-440B-A0EB-558AAC8C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0297F-BA9C-4085-8007-1FC8525F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C8451-6C5E-4F9C-9C10-06716A09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875BF-9D5C-4E94-9183-093BF74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BBFA3-795A-4EA1-B401-9DBDB352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A4A26-3D79-4182-8EE9-C0C7831E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5FD8-01C7-446A-ACA0-F9CF4039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8A13-23C2-4178-8D64-219AB87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B849-BF44-4A67-B1ED-3C74571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CB7-3CAC-4BAA-97F4-89E2F13D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3E85-7686-4DA5-A4EE-48953F8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54A3-2F48-42F7-8699-22C0403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B0F3-9678-47F1-97ED-35F9847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B5281-3F60-4C4D-8AAA-AF3C8D1D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9DE87-DDD8-42AF-8C3B-400E722F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09B1-C62A-4630-9604-BF266B48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1853-E012-42AC-A7D2-5BF5E96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C2F7A-30DF-45DB-9EE7-25BE194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C81D-6CED-40F5-A00A-A3DA01D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F00A-C367-4EF8-8EC9-0BA9C3AE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5CE-C2FD-463A-BED8-C8A6A52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E334-1892-4CEA-81A1-577EE9E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CFF2-A568-47BE-950F-EB9087B2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3EE3-F75A-463F-A8D2-4B371B29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1F4FF-4AFB-4038-AC92-94168D55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5E74-83E5-4C85-8972-5137073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7B8F6-FA77-440C-A30B-F79B198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AD13A-3B76-45F5-B976-A752BB9F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34AE0-6D63-49DB-B3DE-19A576A9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A015-49DD-461A-90C6-196108C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FC533-A231-40C4-B11A-BAC8C49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766-93BC-43B0-81F2-A6A37E591F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B8AA-A31E-47AF-AA97-82CCA97F9F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E586-D141-4A3A-A36D-70A0161E63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6AA-C78A-4600-A0B6-D1A123A720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E1F-2C7C-4ACF-A8FF-BCE1A1A0CD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68EC-EA1F-4117-B9E6-4474A11EF9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A8D1-DA8D-495D-A676-A89259A6DF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103-3A0C-4BA2-94A6-5DC4883111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2E1-AE55-43DC-BEE6-0D76BC02A0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7200" y="2017800"/>
            <a:ext cx="8010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Peer review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– проверка качества услуг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Управленческий механизм, помогающий выявлять проблемные аспекты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для обучения и других профессиональных аспектах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цесс который используется во всех типах организаций (обучающие, библиотеки, научные учреждения и программ и т.д.) 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Закон РК «Об аудиторской деятельности» от 5 мая 2006 г.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Создание  и учреждение  Комитета контроля качества в Палате аудиторов РК – ноябрь 2006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706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999800"/>
            <a:ext cx="86868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Изучение опыта профессиональных организаций (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AICPA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 США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Великобритания, профорганизации России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, обсуждение и утверждение нормативных и инструктивных материалов и положений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тренингов и обучающих семинаров для руководителей аудиторских фирм по вопросам контроля качества и изучения МСКК № 1 «Контроль качества в фирмах, выполняющих аудит и обзор исторической финансовой информации, и прочие соглашения о выражении уверенности и сопутствующие услуги» </a:t>
            </a:r>
            <a:r>
              <a:rPr b="0" lang="en-US" sz="2700" spc="-1" strike="noStrike">
                <a:solidFill>
                  <a:srgbClr val="4e3b30"/>
                </a:solidFill>
                <a:latin typeface="Book Antiqua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- (июль 2007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Разработка опросных листов для контролеров в отношении аудиторских проектов, обсуждение с другими Комитетами Палаты аудиторов РК и представителями «Большой четверки». 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</a:rPr>
              <a:t>Проведение  тренинга для кандидатов в контролеры. (июль  2008)</a:t>
            </a: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857240"/>
            <a:ext cx="86868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Проведение проверок контроля качества в аудиторских фирмах согласно заявок аудиторских фирм и графика проверок.  (август 2008, октябрь –ноябрь 2008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азработка рекомендаций по выявленным недостаткам для Комитета по методологии аудита в целях оказания методической помощи членам Палаты Аудиторов РК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2071800"/>
            <a:ext cx="868680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Руководства по проведению аудита для членов Палаты аудиторов РК (Комитет методологии ПА), включающего финансовую отчетность условной компании и аудиторский файл)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и внедрение компьютеризированных систем аудиторских файлов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298440" y="396720"/>
            <a:ext cx="8699400" cy="168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Усовершенствование и более глубокая детализация вопросника  по аудиторских проектам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Разработка вопросников для проведения проверок качества услуг по обзору исторической финансовой информации и сопутствующих услуг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ыполнение проверок контроля качества согласно плана проведения проверок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Дальнейшее сотрудничество с </a:t>
            </a:r>
            <a:r>
              <a:rPr b="0" lang="en-US" sz="3000" spc="-1" strike="noStrike">
                <a:solidFill>
                  <a:srgbClr val="4e3b30"/>
                </a:solidFill>
                <a:latin typeface="Book Antiqua"/>
              </a:rPr>
              <a:t>ICAS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</a:rPr>
              <a:t>Великобритания в целях усовершенствования системы контроля качества в РК.</a:t>
            </a: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03320" y="1494000"/>
            <a:ext cx="8894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40:38Z</dcterms:created>
  <dc:creator>raziya</dc:creator>
  <dc:description/>
  <dc:language>en-US</dc:language>
  <cp:lastModifiedBy>Omarova</cp:lastModifiedBy>
  <dcterms:modified xsi:type="dcterms:W3CDTF">2008-09-17T09:32:10Z</dcterms:modified>
  <cp:revision>17</cp:revision>
  <dc:subject/>
  <dc:title>Слайд 1</dc:title>
</cp:coreProperties>
</file>