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4B44-480B-41B7-8D06-D6E4AA4DC0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иту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8F6-B41B-4D4A-A1B6-F4E8BD77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0CB-69B5-481C-ADA9-8B196224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800-4111-4B5C-A61B-59892DC7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F21-DB72-4825-9FFE-DC63EB50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256-75F7-4631-A250-484527F1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AC7-AA05-439D-BE33-E03A46B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3A8-4468-456C-A5F5-C9D60170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720-973B-4C46-90EE-B8A47F4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9B6-26BB-4427-A149-24CEF830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BBC-9852-4F5A-B51A-C20ECBED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712-CD6F-4C4B-8116-4D22332C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D4C-D089-4A48-AA82-CDA3F575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1E50-BB0D-4B89-A46B-F22E1600F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oleObject" Target="../embeddings/oleObject1.bin"/><Relationship Id="rId33" Type="http://schemas.openxmlformats.org/officeDocument/2006/relationships/image" Target="../media/image4.wmf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2349360"/>
            <a:ext cx="8713800" cy="4176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91920"/>
            <a:ext cx="79185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Новое в регулировании накопительных пенсионных фондов: какой эффект ожидает регулятор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6237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Сентябрь 2008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еспублики Казахстан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несении изменений и дополнений в некоторые законодательные акты Республики Казахстан по вопросам устойчивости финансовой системы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истемы мер быстрого реагирования уполномоченного органа, необходимых для принятия в случае ухудшения финансового поло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ширение компетенции уполномоченного органа в случа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нения акционерами финансовых организаций требований по улучшению финансового состояния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жесточ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ководящих работников финансовых организаций и их акционер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овной ответственности крупных участников физических лиц, первого руководителя крупного участника-юридического лица, руководителей финансовых организаций за действие (бездействие), приведшее к неплатежеспособности, повлекшей принудительную ликвидацию финансовой организ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ация требований, предъявляемых к руководящим работника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П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фессиональных участников рынка ценных бумаг, включая процедуру согласования их кандидатур с уполномоченным органо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вопроса по приобретению статуса крупного участника накопительного пенсионного фонда-нерезидента, подлежащего консолидированному надзору в стране своего места нахожд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ированы действия накопительного фонда, связанные с приобретением им дочерней организации, в том числе, по независящим от него причина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а возможность добровольной ликвидации НПФ в случае отсутствия действующих договоров о пенсионном обеспечении и (или) открытых индивидуальных пенсионных сче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18B-5F0A-43FA-ABAE-09A2D6571FFC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ления Агентства от 26 мая 2008 года № 77 были утвержде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эмитентам и их ценным бумагам, допускаемым (допущенным) к обращению на фондовой бирже, а также к отдельным категориям списка фондовой бирж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тупающие в действие с 01 сентября 2008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категорий официального списка фондовой биржи потребовало пересмотра существующих пруденциальных нормативов д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требований в отношении финансовых инструментов, разрешаемых к приобретению за сче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нсионных активов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е, если долговые ценные бумаги, находящиеся в портфеле НПФ, не соответствуют установленным требов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ОИУПА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удут реализовать такие финансовые инструменты в срок до 01 июня 2012 го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ды 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В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змещенные за счет пенсионных активов, не соответствующие требованиям новых правил, будут удерживаться в инвестиционном портфеле НПФ до истечения срока действия договора банковского вклада без права продления срока действия такого догов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921-C4D8-46DA-9477-C0FF1AEBC59D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роли вкладчиков в управлении их пенсионными накоплениями в результате предоставления вкладчикам возможности выбора инвестиционной стратегии управ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ответственности лиц, принимающих участие в процессе инвестиционного управления пенсионными активами, по обеспечению минимального уровня доход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мер раннего реагирования уполномоченного органа в случае ухудшения финансового состояния НПФ/ООИУП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ие ответственности крупного участника и руководящих работников НПФ в случае несоблюдения установленных законодательством требований и норматив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тимизация системы автоперевод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механизма государственной гарантии по возмещению пенсионных взно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320" y="762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</a:rPr>
              <a:t>Ожидаемые результа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530-0538-42E7-8C91-0F103F320A48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лагодарим за внимани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E94-FEAA-4B7E-83E7-438118816A38}" type="slidenum">
              <a:t>13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98560" y="1628640"/>
          <a:ext cx="6697800" cy="1392120"/>
        </p:xfrm>
        <a:graphic>
          <a:graphicData uri="http://schemas.openxmlformats.org/drawingml/2006/table">
            <a:tbl>
              <a:tblPr/>
              <a:tblGrid>
                <a:gridCol w="3595680"/>
                <a:gridCol w="509400"/>
                <a:gridCol w="351000"/>
                <a:gridCol w="657360"/>
                <a:gridCol w="431640"/>
                <a:gridCol w="647640"/>
                <a:gridCol w="505080"/>
              </a:tblGrid>
              <a:tr h="336600">
                <a:tc>
                  <a:txBody>
                    <a:bodyPr lIns="0" rIns="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8.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62000"/>
                      </a:srgbClr>
                    </a:solidFill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млрд.тенге (по данным Министерства экономики и бюджетного планир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8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7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енсионных накоплений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пенсионных взносов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1922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«чистого» инвестиционного дохода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16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 совокупного капитала фондов к ВВП, в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6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77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Роль пенсионного сектора в экономике республ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0040" y="1052640"/>
            <a:ext cx="8229600" cy="57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Динамика относительных показателей, характеризующих роль пенсионного сектора в эконом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4320" y="314172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Динамика изменения пенсионных </a:t>
            </a:r>
            <a:br>
              <a:rPr sz="1800"/>
            </a:br>
            <a:r>
              <a:rPr b="1" lang="en-US" sz="18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активов и их соотношения к ВВ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83120" y="4149720"/>
            <a:ext cx="3549600" cy="88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На 1 августа 2008 года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количество НПФ –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пенсионные активы – 1 373 млрд. тенг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3692520"/>
          <a:ext cx="4392360" cy="28656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50920" y="3692520"/>
                    <a:ext cx="439236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A7F-67CF-4B82-B6D9-5A27B9D6F143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09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56800" y="3303720"/>
            <a:ext cx="45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совокупного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объема пенсионных ак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6640"/>
            <a:ext cx="518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пенсионных взносов,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«чистого» инвестиционного дохода и пенсионных накоплений (в млрд. тенге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40760" y="1905120"/>
            <a:ext cx="4302720" cy="2517480"/>
            <a:chOff x="140760" y="1905120"/>
            <a:chExt cx="4302720" cy="2517480"/>
          </a:xfrm>
        </p:grpSpPr>
        <p:sp>
          <p:nvSpPr>
            <p:cNvPr id="62" name=""/>
            <p:cNvSpPr/>
            <p:nvPr/>
          </p:nvSpPr>
          <p:spPr>
            <a:xfrm>
              <a:off x="368280" y="3922560"/>
              <a:ext cx="4075200" cy="66960"/>
            </a:xfrm>
            <a:custGeom>
              <a:avLst/>
              <a:gdLst/>
              <a:ahLst/>
              <a:rect l="l" t="t" r="r" b="b"/>
              <a:pathLst>
                <a:path w="2567" h="42">
                  <a:moveTo>
                    <a:pt x="0" y="42"/>
                  </a:moveTo>
                  <a:lnTo>
                    <a:pt x="58" y="0"/>
                  </a:lnTo>
                  <a:lnTo>
                    <a:pt x="2567" y="0"/>
                  </a:lnTo>
                  <a:lnTo>
                    <a:pt x="2509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8280" y="1905120"/>
              <a:ext cx="92160" cy="2084400"/>
            </a:xfrm>
            <a:custGeom>
              <a:avLst/>
              <a:gdLst/>
              <a:ahLst/>
              <a:rect l="l" t="t" r="r" b="b"/>
              <a:pathLst>
                <a:path w="58" h="1313">
                  <a:moveTo>
                    <a:pt x="0" y="1313"/>
                  </a:moveTo>
                  <a:lnTo>
                    <a:pt x="0" y="42"/>
                  </a:lnTo>
                  <a:lnTo>
                    <a:pt x="58" y="0"/>
                  </a:lnTo>
                  <a:lnTo>
                    <a:pt x="58" y="1271"/>
                  </a:lnTo>
                  <a:lnTo>
                    <a:pt x="0" y="13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0440" y="1905120"/>
              <a:ext cx="398304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8280" y="3922560"/>
              <a:ext cx="4075200" cy="66960"/>
            </a:xfrm>
            <a:custGeom>
              <a:avLst/>
              <a:gdLst/>
              <a:ahLst/>
              <a:rect l="l" t="t" r="r" b="b"/>
              <a:pathLst>
                <a:path w="2567" h="42">
                  <a:moveTo>
                    <a:pt x="2567" y="0"/>
                  </a:moveTo>
                  <a:lnTo>
                    <a:pt x="2509" y="42"/>
                  </a:lnTo>
                  <a:lnTo>
                    <a:pt x="0" y="42"/>
                  </a:lnTo>
                  <a:lnTo>
                    <a:pt x="58" y="0"/>
                  </a:lnTo>
                  <a:lnTo>
                    <a:pt x="256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8280" y="1905120"/>
              <a:ext cx="92160" cy="2084400"/>
            </a:xfrm>
            <a:custGeom>
              <a:avLst/>
              <a:gdLst/>
              <a:ahLst/>
              <a:rect l="l" t="t" r="r" b="b"/>
              <a:pathLst>
                <a:path w="58" h="1313">
                  <a:moveTo>
                    <a:pt x="0" y="1313"/>
                  </a:moveTo>
                  <a:lnTo>
                    <a:pt x="0" y="42"/>
                  </a:lnTo>
                  <a:lnTo>
                    <a:pt x="58" y="0"/>
                  </a:lnTo>
                  <a:lnTo>
                    <a:pt x="58" y="1271"/>
                  </a:lnTo>
                  <a:lnTo>
                    <a:pt x="0" y="1313"/>
                  </a:lnTo>
                  <a:close/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0440" y="1905120"/>
              <a:ext cx="3983040" cy="2017440"/>
            </a:xfrm>
            <a:prstGeom prst="rect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2200" y="2631960"/>
              <a:ext cx="38160" cy="1335240"/>
            </a:xfrm>
            <a:custGeom>
              <a:avLst/>
              <a:gdLst/>
              <a:ahLst/>
              <a:rect l="l" t="t" r="r" b="b"/>
              <a:pathLst>
                <a:path w="24" h="841">
                  <a:moveTo>
                    <a:pt x="0" y="841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823"/>
                  </a:lnTo>
                  <a:lnTo>
                    <a:pt x="0" y="84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6280" y="2654280"/>
              <a:ext cx="115920" cy="1312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6280" y="2631960"/>
              <a:ext cx="15408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3" y="14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3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0200" y="3454560"/>
              <a:ext cx="38160" cy="512640"/>
            </a:xfrm>
            <a:custGeom>
              <a:avLst/>
              <a:gdLst/>
              <a:ahLst/>
              <a:rect l="l" t="t" r="r" b="b"/>
              <a:pathLst>
                <a:path w="24" h="323">
                  <a:moveTo>
                    <a:pt x="0" y="323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305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2200" y="3483000"/>
              <a:ext cx="108000" cy="4842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2200" y="345456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6400" y="2198520"/>
              <a:ext cx="39600" cy="1768680"/>
            </a:xfrm>
            <a:custGeom>
              <a:avLst/>
              <a:gdLst/>
              <a:ahLst/>
              <a:rect l="l" t="t" r="r" b="b"/>
              <a:pathLst>
                <a:path w="25" h="1114">
                  <a:moveTo>
                    <a:pt x="0" y="1114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096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0200" y="2228760"/>
              <a:ext cx="106200" cy="17384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0200" y="219852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84320" y="2602080"/>
              <a:ext cx="38160" cy="1365120"/>
            </a:xfrm>
            <a:custGeom>
              <a:avLst/>
              <a:gdLst/>
              <a:ahLst/>
              <a:rect l="l" t="t" r="r" b="b"/>
              <a:pathLst>
                <a:path w="24" h="860">
                  <a:moveTo>
                    <a:pt x="0" y="860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842"/>
                  </a:lnTo>
                  <a:lnTo>
                    <a:pt x="0" y="86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76320" y="2631960"/>
              <a:ext cx="108000" cy="13352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6320" y="260208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98440" y="3454560"/>
              <a:ext cx="39960" cy="512640"/>
            </a:xfrm>
            <a:custGeom>
              <a:avLst/>
              <a:gdLst/>
              <a:ahLst/>
              <a:rect l="l" t="t" r="r" b="b"/>
              <a:pathLst>
                <a:path w="25" h="323">
                  <a:moveTo>
                    <a:pt x="0" y="323"/>
                  </a:moveTo>
                  <a:lnTo>
                    <a:pt x="0" y="18"/>
                  </a:lnTo>
                  <a:lnTo>
                    <a:pt x="25" y="0"/>
                  </a:lnTo>
                  <a:lnTo>
                    <a:pt x="25" y="305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4320" y="3483000"/>
              <a:ext cx="114120" cy="4842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4320" y="3454560"/>
              <a:ext cx="154080" cy="2844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72" y="18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2" y="18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6440" y="2184480"/>
              <a:ext cx="38160" cy="1782720"/>
            </a:xfrm>
            <a:custGeom>
              <a:avLst/>
              <a:gdLst/>
              <a:ahLst/>
              <a:rect l="l" t="t" r="r" b="b"/>
              <a:pathLst>
                <a:path w="24" h="1123">
                  <a:moveTo>
                    <a:pt x="0" y="1123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105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98440" y="2212920"/>
              <a:ext cx="108000" cy="17542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8440" y="218448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2560" y="2573280"/>
              <a:ext cx="39960" cy="1393920"/>
            </a:xfrm>
            <a:custGeom>
              <a:avLst/>
              <a:gdLst/>
              <a:ahLst/>
              <a:rect l="l" t="t" r="r" b="b"/>
              <a:pathLst>
                <a:path w="25" h="878">
                  <a:moveTo>
                    <a:pt x="0" y="878"/>
                  </a:moveTo>
                  <a:lnTo>
                    <a:pt x="0" y="18"/>
                  </a:lnTo>
                  <a:lnTo>
                    <a:pt x="25" y="0"/>
                  </a:lnTo>
                  <a:lnTo>
                    <a:pt x="25" y="860"/>
                  </a:lnTo>
                  <a:lnTo>
                    <a:pt x="0" y="878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76360" y="2602080"/>
              <a:ext cx="106200" cy="13651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76360" y="2573280"/>
              <a:ext cx="146160" cy="2880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7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67" y="18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98480" y="3438360"/>
              <a:ext cx="30240" cy="528840"/>
            </a:xfrm>
            <a:custGeom>
              <a:avLst/>
              <a:gdLst/>
              <a:ahLst/>
              <a:rect l="l" t="t" r="r" b="b"/>
              <a:pathLst>
                <a:path w="19" h="333">
                  <a:moveTo>
                    <a:pt x="0" y="333"/>
                  </a:moveTo>
                  <a:lnTo>
                    <a:pt x="0" y="19"/>
                  </a:lnTo>
                  <a:lnTo>
                    <a:pt x="19" y="0"/>
                  </a:lnTo>
                  <a:lnTo>
                    <a:pt x="19" y="315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82560" y="3468600"/>
              <a:ext cx="115920" cy="4986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2560" y="3438360"/>
              <a:ext cx="14616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73" y="19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06480" y="2139840"/>
              <a:ext cx="38160" cy="1827360"/>
            </a:xfrm>
            <a:custGeom>
              <a:avLst/>
              <a:gdLst/>
              <a:ahLst/>
              <a:rect l="l" t="t" r="r" b="b"/>
              <a:pathLst>
                <a:path w="24" h="1151">
                  <a:moveTo>
                    <a:pt x="0" y="1151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1133"/>
                  </a:lnTo>
                  <a:lnTo>
                    <a:pt x="0" y="1151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98480" y="2170080"/>
              <a:ext cx="108000" cy="17971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98480" y="2139840"/>
              <a:ext cx="14616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82960" y="2543040"/>
              <a:ext cx="37800" cy="1424160"/>
            </a:xfrm>
            <a:custGeom>
              <a:avLst/>
              <a:gdLst/>
              <a:ahLst/>
              <a:rect l="l" t="t" r="r" b="b"/>
              <a:pathLst>
                <a:path w="24" h="897">
                  <a:moveTo>
                    <a:pt x="0" y="897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879"/>
                  </a:lnTo>
                  <a:lnTo>
                    <a:pt x="0" y="89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4960" y="2573280"/>
              <a:ext cx="108000" cy="1393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4960" y="254304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0600" y="3438360"/>
              <a:ext cx="38160" cy="528840"/>
            </a:xfrm>
            <a:custGeom>
              <a:avLst/>
              <a:gdLst/>
              <a:ahLst/>
              <a:rect l="l" t="t" r="r" b="b"/>
              <a:pathLst>
                <a:path w="24" h="333">
                  <a:moveTo>
                    <a:pt x="0" y="333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315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960" y="3468600"/>
              <a:ext cx="107640" cy="4986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82960" y="343836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6520" y="2111400"/>
              <a:ext cx="38160" cy="1855800"/>
            </a:xfrm>
            <a:custGeom>
              <a:avLst/>
              <a:gdLst/>
              <a:ahLst/>
              <a:rect l="l" t="t" r="r" b="b"/>
              <a:pathLst>
                <a:path w="24" h="1169">
                  <a:moveTo>
                    <a:pt x="0" y="1169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151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0600" y="2139840"/>
              <a:ext cx="115920" cy="18273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0600" y="2111400"/>
              <a:ext cx="154080" cy="2844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73" y="18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3000" y="2506680"/>
              <a:ext cx="37800" cy="1460520"/>
            </a:xfrm>
            <a:custGeom>
              <a:avLst/>
              <a:gdLst/>
              <a:ahLst/>
              <a:rect l="l" t="t" r="r" b="b"/>
              <a:pathLst>
                <a:path w="24" h="920">
                  <a:moveTo>
                    <a:pt x="0" y="920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90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67080" y="2536920"/>
              <a:ext cx="115920" cy="14302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67080" y="250668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3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0640" y="3424320"/>
              <a:ext cx="38160" cy="542880"/>
            </a:xfrm>
            <a:custGeom>
              <a:avLst/>
              <a:gdLst/>
              <a:ahLst/>
              <a:rect l="l" t="t" r="r" b="b"/>
              <a:pathLst>
                <a:path w="24" h="342">
                  <a:moveTo>
                    <a:pt x="0" y="342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324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83000" y="3454560"/>
              <a:ext cx="107640" cy="5126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83000" y="342432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8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8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6560" y="2066760"/>
              <a:ext cx="30240" cy="1900440"/>
            </a:xfrm>
            <a:custGeom>
              <a:avLst/>
              <a:gdLst/>
              <a:ahLst/>
              <a:rect l="l" t="t" r="r" b="b"/>
              <a:pathLst>
                <a:path w="19" h="1197">
                  <a:moveTo>
                    <a:pt x="0" y="1197"/>
                  </a:moveTo>
                  <a:lnTo>
                    <a:pt x="0" y="18"/>
                  </a:lnTo>
                  <a:lnTo>
                    <a:pt x="19" y="0"/>
                  </a:lnTo>
                  <a:lnTo>
                    <a:pt x="19" y="1179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90640" y="2095560"/>
              <a:ext cx="115920" cy="18716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90640" y="2066760"/>
              <a:ext cx="146160" cy="2880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73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3040" y="2478240"/>
              <a:ext cx="29880" cy="1488960"/>
            </a:xfrm>
            <a:custGeom>
              <a:avLst/>
              <a:gdLst/>
              <a:ahLst/>
              <a:rect l="l" t="t" r="r" b="b"/>
              <a:pathLst>
                <a:path w="19" h="938">
                  <a:moveTo>
                    <a:pt x="0" y="938"/>
                  </a:moveTo>
                  <a:lnTo>
                    <a:pt x="0" y="18"/>
                  </a:lnTo>
                  <a:lnTo>
                    <a:pt x="19" y="0"/>
                  </a:lnTo>
                  <a:lnTo>
                    <a:pt x="19" y="920"/>
                  </a:lnTo>
                  <a:lnTo>
                    <a:pt x="0" y="938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67120" y="2506680"/>
              <a:ext cx="115920" cy="1460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67120" y="2478240"/>
              <a:ext cx="14580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73" y="18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73" y="18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91040" y="3387600"/>
              <a:ext cx="37800" cy="579600"/>
            </a:xfrm>
            <a:custGeom>
              <a:avLst/>
              <a:gdLst/>
              <a:ahLst/>
              <a:rect l="l" t="t" r="r" b="b"/>
              <a:pathLst>
                <a:path w="24" h="365">
                  <a:moveTo>
                    <a:pt x="0" y="365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347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3040" y="3409920"/>
              <a:ext cx="108000" cy="557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3040" y="3387600"/>
              <a:ext cx="14580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97240" y="2000160"/>
              <a:ext cx="39600" cy="1967040"/>
            </a:xfrm>
            <a:custGeom>
              <a:avLst/>
              <a:gdLst/>
              <a:ahLst/>
              <a:rect l="l" t="t" r="r" b="b"/>
              <a:pathLst>
                <a:path w="25" h="1239">
                  <a:moveTo>
                    <a:pt x="0" y="1239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221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1040" y="2030400"/>
              <a:ext cx="106200" cy="193680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1040" y="200016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75160" y="2448000"/>
              <a:ext cx="38160" cy="1519200"/>
            </a:xfrm>
            <a:custGeom>
              <a:avLst/>
              <a:gdLst/>
              <a:ahLst/>
              <a:rect l="l" t="t" r="r" b="b"/>
              <a:pathLst>
                <a:path w="24" h="957">
                  <a:moveTo>
                    <a:pt x="0" y="957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939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7160" y="2470320"/>
              <a:ext cx="108000" cy="1496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67160" y="2448000"/>
              <a:ext cx="14616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9280" y="3387600"/>
              <a:ext cx="39600" cy="579600"/>
            </a:xfrm>
            <a:custGeom>
              <a:avLst/>
              <a:gdLst/>
              <a:ahLst/>
              <a:rect l="l" t="t" r="r" b="b"/>
              <a:pathLst>
                <a:path w="25" h="365">
                  <a:moveTo>
                    <a:pt x="0" y="365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347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5160" y="3409920"/>
              <a:ext cx="114120" cy="557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5160" y="3387600"/>
              <a:ext cx="15372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2" y="14"/>
                  </a:moveTo>
                  <a:lnTo>
                    <a:pt x="97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7280" y="1971720"/>
              <a:ext cx="38160" cy="1995480"/>
            </a:xfrm>
            <a:custGeom>
              <a:avLst/>
              <a:gdLst/>
              <a:ahLst/>
              <a:rect l="l" t="t" r="r" b="b"/>
              <a:pathLst>
                <a:path w="24" h="1257">
                  <a:moveTo>
                    <a:pt x="0" y="1257"/>
                  </a:moveTo>
                  <a:lnTo>
                    <a:pt x="0" y="18"/>
                  </a:lnTo>
                  <a:lnTo>
                    <a:pt x="24" y="0"/>
                  </a:lnTo>
                  <a:lnTo>
                    <a:pt x="24" y="1239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9280" y="2000160"/>
              <a:ext cx="108000" cy="19670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9280" y="1971720"/>
              <a:ext cx="146160" cy="284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68" y="18"/>
                  </a:moveTo>
                  <a:lnTo>
                    <a:pt x="92" y="0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5200" y="2411280"/>
              <a:ext cx="38160" cy="1555920"/>
            </a:xfrm>
            <a:custGeom>
              <a:avLst/>
              <a:gdLst/>
              <a:ahLst/>
              <a:rect l="l" t="t" r="r" b="b"/>
              <a:pathLst>
                <a:path w="24" h="980">
                  <a:moveTo>
                    <a:pt x="0" y="980"/>
                  </a:moveTo>
                  <a:lnTo>
                    <a:pt x="0" y="14"/>
                  </a:lnTo>
                  <a:lnTo>
                    <a:pt x="24" y="0"/>
                  </a:lnTo>
                  <a:lnTo>
                    <a:pt x="24" y="962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7200" y="2433600"/>
              <a:ext cx="108000" cy="1533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7200" y="2411280"/>
              <a:ext cx="146160" cy="2232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8" y="14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81400" y="3402000"/>
              <a:ext cx="39600" cy="565200"/>
            </a:xfrm>
            <a:custGeom>
              <a:avLst/>
              <a:gdLst/>
              <a:ahLst/>
              <a:rect l="l" t="t" r="r" b="b"/>
              <a:pathLst>
                <a:path w="25" h="356">
                  <a:moveTo>
                    <a:pt x="0" y="356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338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5200" y="3432240"/>
              <a:ext cx="106200" cy="5349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5200" y="3402000"/>
              <a:ext cx="145800" cy="302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67" y="19"/>
                  </a:moveTo>
                  <a:lnTo>
                    <a:pt x="92" y="0"/>
                  </a:lnTo>
                  <a:lnTo>
                    <a:pt x="24" y="0"/>
                  </a:lnTo>
                  <a:lnTo>
                    <a:pt x="0" y="19"/>
                  </a:lnTo>
                  <a:lnTo>
                    <a:pt x="67" y="19"/>
                  </a:lnTo>
                  <a:close/>
                </a:path>
              </a:pathLst>
            </a:custGeom>
            <a:solidFill>
              <a:srgbClr val="73264d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97320" y="1963800"/>
              <a:ext cx="38160" cy="2003400"/>
            </a:xfrm>
            <a:custGeom>
              <a:avLst/>
              <a:gdLst/>
              <a:ahLst/>
              <a:rect l="l" t="t" r="r" b="b"/>
              <a:pathLst>
                <a:path w="24" h="1262">
                  <a:moveTo>
                    <a:pt x="0" y="1262"/>
                  </a:moveTo>
                  <a:lnTo>
                    <a:pt x="0" y="19"/>
                  </a:lnTo>
                  <a:lnTo>
                    <a:pt x="24" y="0"/>
                  </a:lnTo>
                  <a:lnTo>
                    <a:pt x="24" y="1244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81400" y="1994040"/>
              <a:ext cx="115920" cy="19731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81400" y="19638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3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3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68280" y="1971360"/>
              <a:ext cx="1440" cy="20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8040" y="39895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38040" y="3703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38040" y="34164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38040" y="3122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38040" y="28368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8040" y="2550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38040" y="22654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38040" y="1971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360" y="3930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5840" y="3645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5840" y="3357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5840" y="3065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5840" y="2778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760" y="24922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760" y="220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760" y="19130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280" y="3989520"/>
              <a:ext cx="398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28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0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044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048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0520" y="39895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5912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124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1320" y="39895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1000" y="404028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7000" y="404028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2440" y="404028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22480" y="4040280"/>
              <a:ext cx="24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3160" y="404028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07080" y="4040280"/>
              <a:ext cx="26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8920" y="40402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24800" y="404028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6280" y="4260960"/>
              <a:ext cx="303660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4080" y="4319640"/>
              <a:ext cx="54000" cy="507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9440" y="4282920"/>
              <a:ext cx="943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нсионные взносы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8800" y="4319640"/>
              <a:ext cx="54000" cy="507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6960" y="4282920"/>
              <a:ext cx="60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нвестдоход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2760" y="4319640"/>
              <a:ext cx="54000" cy="507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7120" y="4282920"/>
              <a:ext cx="115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пенсионные накопления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216320" y="4037040"/>
            <a:ext cx="4499280" cy="2339640"/>
            <a:chOff x="4216320" y="4037040"/>
            <a:chExt cx="4499280" cy="2339640"/>
          </a:xfrm>
        </p:grpSpPr>
        <p:sp>
          <p:nvSpPr>
            <p:cNvPr id="183" name=""/>
            <p:cNvSpPr/>
            <p:nvPr/>
          </p:nvSpPr>
          <p:spPr>
            <a:xfrm>
              <a:off x="4719600" y="588024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9600" y="559908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9600" y="530856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9600" y="502776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19600" y="4745160"/>
              <a:ext cx="3976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9600" y="446400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9600" y="4181400"/>
              <a:ext cx="39765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792680" y="4646520"/>
              <a:ext cx="14904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792680" y="4646520"/>
              <a:ext cx="149040" cy="15163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5099040" y="4622760"/>
              <a:ext cx="14760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099040" y="4622760"/>
              <a:ext cx="147600" cy="1540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5403960" y="4592520"/>
              <a:ext cx="149040" cy="15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403960" y="4592520"/>
              <a:ext cx="149040" cy="15703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5708520" y="4554360"/>
              <a:ext cx="149400" cy="16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708520" y="4554360"/>
              <a:ext cx="149400" cy="16084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6014880" y="4508640"/>
              <a:ext cx="14796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014880" y="4508640"/>
              <a:ext cx="147960" cy="16542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6319800" y="4448160"/>
              <a:ext cx="1494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319800" y="4448160"/>
              <a:ext cx="149400" cy="17146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8"/>
            <a:stretch/>
          </p:blipFill>
          <p:spPr>
            <a:xfrm>
              <a:off x="6624720" y="4432320"/>
              <a:ext cx="15696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624720" y="4432320"/>
              <a:ext cx="156960" cy="1730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6939000" y="4387680"/>
              <a:ext cx="147600" cy="17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939000" y="4387680"/>
              <a:ext cx="147600" cy="17751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0"/>
            <a:stretch/>
          </p:blipFill>
          <p:spPr>
            <a:xfrm>
              <a:off x="7243920" y="4363920"/>
              <a:ext cx="1490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243920" y="4363920"/>
              <a:ext cx="149040" cy="179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11"/>
            <a:stretch/>
          </p:blipFill>
          <p:spPr>
            <a:xfrm>
              <a:off x="7550280" y="4317840"/>
              <a:ext cx="147600" cy="18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50280" y="4317840"/>
              <a:ext cx="147600" cy="1845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2"/>
            <a:stretch/>
          </p:blipFill>
          <p:spPr>
            <a:xfrm>
              <a:off x="7854840" y="4241880"/>
              <a:ext cx="147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854840" y="4241880"/>
              <a:ext cx="147600" cy="1920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3"/>
            <a:stretch/>
          </p:blipFill>
          <p:spPr>
            <a:xfrm>
              <a:off x="8159760" y="4227480"/>
              <a:ext cx="149040" cy="19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8159760" y="4227480"/>
              <a:ext cx="149040" cy="19353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4"/>
            <a:stretch/>
          </p:blipFill>
          <p:spPr>
            <a:xfrm>
              <a:off x="8464680" y="4219560"/>
              <a:ext cx="14904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464680" y="4219560"/>
              <a:ext cx="149040" cy="19432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19600" y="4037040"/>
              <a:ext cx="1800" cy="212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86480" y="61628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6480" y="588024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86480" y="559908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86480" y="530856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86480" y="50277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86480" y="4745160"/>
              <a:ext cx="33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6480" y="44640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86480" y="4181400"/>
              <a:ext cx="3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9600" y="6162840"/>
              <a:ext cx="39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71960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02452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32908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63580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94036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24528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55164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86448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16904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47540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78032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08524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391600" y="61624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96160" y="61624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92320" y="45086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07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880" y="44863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08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1800" y="44560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8160" y="44179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3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13080" y="43718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1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8000" y="43117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1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4360" y="42958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6840" y="424980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5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41760" y="422748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27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8120" y="418140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53040" y="41054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5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57600" y="408924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6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63960" y="40831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 37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6200" y="6108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1360" y="58276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1360" y="554508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1360" y="525636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1360" y="4973760"/>
              <a:ext cx="15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08920" y="46926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08920" y="44100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08920" y="412740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4012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8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5104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10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6232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12.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7180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2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8308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4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9436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6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03840" y="625464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.08.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4050000" y="499608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млрд.тенге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EE3-206C-44B8-8E4B-96E05BB5F0DE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68360" y="730080"/>
            <a:ext cx="77040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Динамика изменения количества ИПС вкладчиков (получателей) НПФ</a:t>
            </a:r>
            <a:r>
              <a:rPr b="1" lang="en-US" sz="29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7440" y="1666800"/>
            <a:ext cx="4325400" cy="2523600"/>
            <a:chOff x="127440" y="1666800"/>
            <a:chExt cx="4325400" cy="2523600"/>
          </a:xfrm>
        </p:grpSpPr>
        <p:sp>
          <p:nvSpPr>
            <p:cNvPr id="271" name=""/>
            <p:cNvSpPr/>
            <p:nvPr/>
          </p:nvSpPr>
          <p:spPr>
            <a:xfrm>
              <a:off x="538200" y="3738600"/>
              <a:ext cx="3914640" cy="69840"/>
            </a:xfrm>
            <a:custGeom>
              <a:avLst/>
              <a:gdLst/>
              <a:ahLst/>
              <a:rect l="l" t="t" r="r" b="b"/>
              <a:pathLst>
                <a:path w="2466" h="44">
                  <a:moveTo>
                    <a:pt x="0" y="44"/>
                  </a:moveTo>
                  <a:lnTo>
                    <a:pt x="62" y="0"/>
                  </a:lnTo>
                  <a:lnTo>
                    <a:pt x="2466" y="0"/>
                  </a:lnTo>
                  <a:lnTo>
                    <a:pt x="240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200" y="1967040"/>
              <a:ext cx="98280" cy="1841400"/>
            </a:xfrm>
            <a:custGeom>
              <a:avLst/>
              <a:gdLst/>
              <a:ahLst/>
              <a:rect l="l" t="t" r="r" b="b"/>
              <a:pathLst>
                <a:path w="62" h="1160">
                  <a:moveTo>
                    <a:pt x="0" y="1160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2" y="1116"/>
                  </a:lnTo>
                  <a:lnTo>
                    <a:pt x="0" y="11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480" y="1967040"/>
              <a:ext cx="38163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200" y="3738600"/>
              <a:ext cx="3914640" cy="69840"/>
            </a:xfrm>
            <a:custGeom>
              <a:avLst/>
              <a:gdLst/>
              <a:ahLst/>
              <a:rect l="l" t="t" r="r" b="b"/>
              <a:pathLst>
                <a:path w="2466" h="44">
                  <a:moveTo>
                    <a:pt x="2466" y="0"/>
                  </a:moveTo>
                  <a:lnTo>
                    <a:pt x="2405" y="44"/>
                  </a:lnTo>
                  <a:lnTo>
                    <a:pt x="0" y="44"/>
                  </a:lnTo>
                  <a:lnTo>
                    <a:pt x="62" y="0"/>
                  </a:lnTo>
                  <a:lnTo>
                    <a:pt x="246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200" y="1967040"/>
              <a:ext cx="98280" cy="1841400"/>
            </a:xfrm>
            <a:custGeom>
              <a:avLst/>
              <a:gdLst/>
              <a:ahLst/>
              <a:rect l="l" t="t" r="r" b="b"/>
              <a:pathLst>
                <a:path w="62" h="1160">
                  <a:moveTo>
                    <a:pt x="0" y="1160"/>
                  </a:moveTo>
                  <a:lnTo>
                    <a:pt x="0" y="45"/>
                  </a:lnTo>
                  <a:lnTo>
                    <a:pt x="62" y="0"/>
                  </a:lnTo>
                  <a:lnTo>
                    <a:pt x="62" y="1116"/>
                  </a:lnTo>
                  <a:lnTo>
                    <a:pt x="0" y="116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6480" y="1967040"/>
              <a:ext cx="38163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4720" y="3092400"/>
              <a:ext cx="41400" cy="693720"/>
            </a:xfrm>
            <a:custGeom>
              <a:avLst/>
              <a:gdLst/>
              <a:ahLst/>
              <a:rect l="l" t="t" r="r" b="b"/>
              <a:pathLst>
                <a:path w="26" h="437">
                  <a:moveTo>
                    <a:pt x="0" y="437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41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2320" y="3124080"/>
              <a:ext cx="122400" cy="6620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2320" y="3092400"/>
              <a:ext cx="16380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8480" y="3052800"/>
              <a:ext cx="41040" cy="733320"/>
            </a:xfrm>
            <a:custGeom>
              <a:avLst/>
              <a:gdLst/>
              <a:ahLst/>
              <a:rect l="l" t="t" r="r" b="b"/>
              <a:pathLst>
                <a:path w="26" h="462">
                  <a:moveTo>
                    <a:pt x="0" y="462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44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6080" y="3084480"/>
              <a:ext cx="122400" cy="701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46080" y="305280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62240" y="2943360"/>
              <a:ext cx="41040" cy="842760"/>
            </a:xfrm>
            <a:custGeom>
              <a:avLst/>
              <a:gdLst/>
              <a:ahLst/>
              <a:rect l="l" t="t" r="r" b="b"/>
              <a:pathLst>
                <a:path w="26" h="531">
                  <a:moveTo>
                    <a:pt x="0" y="531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511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9840" y="2975040"/>
              <a:ext cx="122400" cy="8110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9840" y="294336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55640" y="2832120"/>
              <a:ext cx="41400" cy="954000"/>
            </a:xfrm>
            <a:custGeom>
              <a:avLst/>
              <a:gdLst/>
              <a:ahLst/>
              <a:rect l="l" t="t" r="r" b="b"/>
              <a:pathLst>
                <a:path w="26" h="601">
                  <a:moveTo>
                    <a:pt x="0" y="601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581"/>
                  </a:lnTo>
                  <a:lnTo>
                    <a:pt x="0" y="601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3600" y="2855880"/>
              <a:ext cx="122040" cy="9302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33600" y="283212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49400" y="2690640"/>
              <a:ext cx="41400" cy="1095480"/>
            </a:xfrm>
            <a:custGeom>
              <a:avLst/>
              <a:gdLst/>
              <a:ahLst/>
              <a:rect l="l" t="t" r="r" b="b"/>
              <a:pathLst>
                <a:path w="26" h="690">
                  <a:moveTo>
                    <a:pt x="0" y="690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670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7360" y="2722680"/>
              <a:ext cx="122040" cy="1063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27360" y="2690640"/>
              <a:ext cx="163440" cy="3204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43160" y="2597040"/>
              <a:ext cx="41400" cy="1189080"/>
            </a:xfrm>
            <a:custGeom>
              <a:avLst/>
              <a:gdLst/>
              <a:ahLst/>
              <a:rect l="l" t="t" r="r" b="b"/>
              <a:pathLst>
                <a:path w="26" h="749">
                  <a:moveTo>
                    <a:pt x="0" y="749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729"/>
                  </a:lnTo>
                  <a:lnTo>
                    <a:pt x="0" y="74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0760" y="2627280"/>
              <a:ext cx="122400" cy="11588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20760" y="259704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36920" y="2549520"/>
              <a:ext cx="41040" cy="1236600"/>
            </a:xfrm>
            <a:custGeom>
              <a:avLst/>
              <a:gdLst/>
              <a:ahLst/>
              <a:rect l="l" t="t" r="r" b="b"/>
              <a:pathLst>
                <a:path w="26" h="779">
                  <a:moveTo>
                    <a:pt x="0" y="779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759"/>
                  </a:lnTo>
                  <a:lnTo>
                    <a:pt x="0" y="77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14520" y="2581200"/>
              <a:ext cx="122400" cy="12049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14520" y="254952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30680" y="2494080"/>
              <a:ext cx="41040" cy="1292040"/>
            </a:xfrm>
            <a:custGeom>
              <a:avLst/>
              <a:gdLst/>
              <a:ahLst/>
              <a:rect l="l" t="t" r="r" b="b"/>
              <a:pathLst>
                <a:path w="26" h="814">
                  <a:moveTo>
                    <a:pt x="0" y="814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794"/>
                  </a:lnTo>
                  <a:lnTo>
                    <a:pt x="0" y="814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08280" y="2525760"/>
              <a:ext cx="122400" cy="12603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8280" y="2494080"/>
              <a:ext cx="16344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24080" y="2438280"/>
              <a:ext cx="41400" cy="1347840"/>
            </a:xfrm>
            <a:custGeom>
              <a:avLst/>
              <a:gdLst/>
              <a:ahLst/>
              <a:rect l="l" t="t" r="r" b="b"/>
              <a:pathLst>
                <a:path w="26" h="849">
                  <a:moveTo>
                    <a:pt x="0" y="849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829"/>
                  </a:lnTo>
                  <a:lnTo>
                    <a:pt x="0" y="849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02040" y="2462040"/>
              <a:ext cx="122040" cy="13240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02040" y="24382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7840" y="2384280"/>
              <a:ext cx="41400" cy="1401840"/>
            </a:xfrm>
            <a:custGeom>
              <a:avLst/>
              <a:gdLst/>
              <a:ahLst/>
              <a:rect l="l" t="t" r="r" b="b"/>
              <a:pathLst>
                <a:path w="26" h="883">
                  <a:moveTo>
                    <a:pt x="0" y="883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863"/>
                  </a:lnTo>
                  <a:lnTo>
                    <a:pt x="0" y="88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95800" y="2408400"/>
              <a:ext cx="122040" cy="13777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95800" y="2384280"/>
              <a:ext cx="163440" cy="2412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1600" y="2320920"/>
              <a:ext cx="41400" cy="1465200"/>
            </a:xfrm>
            <a:custGeom>
              <a:avLst/>
              <a:gdLst/>
              <a:ahLst/>
              <a:rect l="l" t="t" r="r" b="b"/>
              <a:pathLst>
                <a:path w="26" h="923">
                  <a:moveTo>
                    <a:pt x="0" y="923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903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89200" y="2352600"/>
              <a:ext cx="122400" cy="1433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9200" y="2320920"/>
              <a:ext cx="163800" cy="31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77" y="20"/>
                  </a:moveTo>
                  <a:lnTo>
                    <a:pt x="103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05360" y="2257560"/>
              <a:ext cx="39600" cy="1528560"/>
            </a:xfrm>
            <a:custGeom>
              <a:avLst/>
              <a:gdLst/>
              <a:ahLst/>
              <a:rect l="l" t="t" r="r" b="b"/>
              <a:pathLst>
                <a:path w="25" h="963">
                  <a:moveTo>
                    <a:pt x="0" y="963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94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82960" y="2289240"/>
              <a:ext cx="122400" cy="1496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2960" y="225756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99120" y="2187720"/>
              <a:ext cx="39600" cy="1598400"/>
            </a:xfrm>
            <a:custGeom>
              <a:avLst/>
              <a:gdLst/>
              <a:ahLst/>
              <a:rect l="l" t="t" r="r" b="b"/>
              <a:pathLst>
                <a:path w="25" h="1007">
                  <a:moveTo>
                    <a:pt x="0" y="1007"/>
                  </a:moveTo>
                  <a:lnTo>
                    <a:pt x="0" y="15"/>
                  </a:lnTo>
                  <a:lnTo>
                    <a:pt x="25" y="0"/>
                  </a:lnTo>
                  <a:lnTo>
                    <a:pt x="25" y="987"/>
                  </a:lnTo>
                  <a:lnTo>
                    <a:pt x="0" y="1007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76720" y="2211480"/>
              <a:ext cx="122400" cy="1574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6720" y="2187720"/>
              <a:ext cx="16200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77" y="15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7373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38200" y="2037960"/>
              <a:ext cx="1440" cy="177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06520" y="38084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06520" y="358920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520" y="336852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06520" y="314784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6520" y="292752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06520" y="27068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06520" y="247824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06520" y="225756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06520" y="203832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" y="37544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7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7440" y="353376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8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440" y="331308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 9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" y="309240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0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440" y="287172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1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7440" y="26510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2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440" y="242424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3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7440" y="220356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4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7440" y="198288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9 50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8200" y="3808440"/>
              <a:ext cx="381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820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196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2536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1912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1288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664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0040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380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8756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132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7508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68840" y="3808440"/>
              <a:ext cx="144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6224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6000" y="3808440"/>
              <a:ext cx="18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55620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844560" y="396576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14372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1428120" y="396612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1726200" y="3961080"/>
              <a:ext cx="27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2014920" y="3966120"/>
              <a:ext cx="28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5400000">
              <a:off x="2296080" y="397764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596680" y="3973680"/>
              <a:ext cx="29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5400000">
              <a:off x="2896560" y="396576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3183480" y="3974040"/>
              <a:ext cx="29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3469680" y="398196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3761640" y="398196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4078800" y="395712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67640" y="1666800"/>
              <a:ext cx="20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о обязательным пенсионным взнос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479480" y="1631880"/>
            <a:ext cx="4270680" cy="2636280"/>
            <a:chOff x="4479480" y="1631880"/>
            <a:chExt cx="4270680" cy="2636280"/>
          </a:xfrm>
        </p:grpSpPr>
        <p:sp>
          <p:nvSpPr>
            <p:cNvPr id="365" name=""/>
            <p:cNvSpPr/>
            <p:nvPr/>
          </p:nvSpPr>
          <p:spPr>
            <a:xfrm>
              <a:off x="4761000" y="3801960"/>
              <a:ext cx="3989160" cy="69840"/>
            </a:xfrm>
            <a:custGeom>
              <a:avLst/>
              <a:gdLst/>
              <a:ahLst/>
              <a:rect l="l" t="t" r="r" b="b"/>
              <a:pathLst>
                <a:path w="2513" h="44">
                  <a:moveTo>
                    <a:pt x="0" y="44"/>
                  </a:moveTo>
                  <a:lnTo>
                    <a:pt x="67" y="0"/>
                  </a:lnTo>
                  <a:lnTo>
                    <a:pt x="2513" y="0"/>
                  </a:lnTo>
                  <a:lnTo>
                    <a:pt x="244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61000" y="1940040"/>
              <a:ext cx="106200" cy="1931760"/>
            </a:xfrm>
            <a:custGeom>
              <a:avLst/>
              <a:gdLst/>
              <a:ahLst/>
              <a:rect l="l" t="t" r="r" b="b"/>
              <a:pathLst>
                <a:path w="67" h="1217">
                  <a:moveTo>
                    <a:pt x="0" y="1217"/>
                  </a:moveTo>
                  <a:lnTo>
                    <a:pt x="0" y="43"/>
                  </a:lnTo>
                  <a:lnTo>
                    <a:pt x="67" y="0"/>
                  </a:lnTo>
                  <a:lnTo>
                    <a:pt x="67" y="1173"/>
                  </a:lnTo>
                  <a:lnTo>
                    <a:pt x="0" y="1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67200" y="1940040"/>
              <a:ext cx="388296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61000" y="3801960"/>
              <a:ext cx="3989160" cy="69840"/>
            </a:xfrm>
            <a:custGeom>
              <a:avLst/>
              <a:gdLst/>
              <a:ahLst/>
              <a:rect l="l" t="t" r="r" b="b"/>
              <a:pathLst>
                <a:path w="2513" h="44">
                  <a:moveTo>
                    <a:pt x="2513" y="0"/>
                  </a:moveTo>
                  <a:lnTo>
                    <a:pt x="2447" y="44"/>
                  </a:lnTo>
                  <a:lnTo>
                    <a:pt x="0" y="44"/>
                  </a:lnTo>
                  <a:lnTo>
                    <a:pt x="67" y="0"/>
                  </a:lnTo>
                  <a:lnTo>
                    <a:pt x="251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61000" y="1940040"/>
              <a:ext cx="106200" cy="1931760"/>
            </a:xfrm>
            <a:custGeom>
              <a:avLst/>
              <a:gdLst/>
              <a:ahLst/>
              <a:rect l="l" t="t" r="r" b="b"/>
              <a:pathLst>
                <a:path w="67" h="1217">
                  <a:moveTo>
                    <a:pt x="0" y="1217"/>
                  </a:moveTo>
                  <a:lnTo>
                    <a:pt x="0" y="43"/>
                  </a:lnTo>
                  <a:lnTo>
                    <a:pt x="67" y="0"/>
                  </a:lnTo>
                  <a:lnTo>
                    <a:pt x="67" y="1173"/>
                  </a:lnTo>
                  <a:lnTo>
                    <a:pt x="0" y="1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67200" y="1940040"/>
              <a:ext cx="388296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97520" y="3181320"/>
              <a:ext cx="39600" cy="674640"/>
            </a:xfrm>
            <a:custGeom>
              <a:avLst/>
              <a:gdLst/>
              <a:ahLst/>
              <a:rect l="l" t="t" r="r" b="b"/>
              <a:pathLst>
                <a:path w="25" h="425">
                  <a:moveTo>
                    <a:pt x="0" y="425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406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83040" y="3203640"/>
              <a:ext cx="114480" cy="6523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83040" y="3181320"/>
              <a:ext cx="154080" cy="22320"/>
            </a:xfrm>
            <a:custGeom>
              <a:avLst/>
              <a:gdLst/>
              <a:ahLst/>
              <a:rect l="l" t="t" r="r" b="b"/>
              <a:pathLst>
                <a:path w="97" h="14">
                  <a:moveTo>
                    <a:pt x="72" y="14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9200" y="2928960"/>
              <a:ext cx="39600" cy="927000"/>
            </a:xfrm>
            <a:custGeom>
              <a:avLst/>
              <a:gdLst/>
              <a:ahLst/>
              <a:rect l="l" t="t" r="r" b="b"/>
              <a:pathLst>
                <a:path w="25" h="584">
                  <a:moveTo>
                    <a:pt x="0" y="584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56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4720" y="2959200"/>
              <a:ext cx="114480" cy="8967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84720" y="29289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5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99080" y="2782800"/>
              <a:ext cx="41400" cy="1073160"/>
            </a:xfrm>
            <a:custGeom>
              <a:avLst/>
              <a:gdLst/>
              <a:ahLst/>
              <a:rect l="l" t="t" r="r" b="b"/>
              <a:pathLst>
                <a:path w="26" h="676">
                  <a:moveTo>
                    <a:pt x="0" y="676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657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77040" y="2813040"/>
              <a:ext cx="122040" cy="10429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77040" y="27828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00760" y="2652840"/>
              <a:ext cx="41400" cy="1203120"/>
            </a:xfrm>
            <a:custGeom>
              <a:avLst/>
              <a:gdLst/>
              <a:ahLst/>
              <a:rect l="l" t="t" r="r" b="b"/>
              <a:pathLst>
                <a:path w="26" h="758">
                  <a:moveTo>
                    <a:pt x="0" y="758"/>
                  </a:moveTo>
                  <a:lnTo>
                    <a:pt x="0" y="14"/>
                  </a:lnTo>
                  <a:lnTo>
                    <a:pt x="26" y="0"/>
                  </a:lnTo>
                  <a:lnTo>
                    <a:pt x="26" y="739"/>
                  </a:lnTo>
                  <a:lnTo>
                    <a:pt x="0" y="758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78360" y="2674800"/>
              <a:ext cx="122400" cy="11811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78360" y="2652840"/>
              <a:ext cx="163800" cy="2196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77" y="14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4520" y="2544840"/>
              <a:ext cx="39600" cy="1311120"/>
            </a:xfrm>
            <a:custGeom>
              <a:avLst/>
              <a:gdLst/>
              <a:ahLst/>
              <a:rect l="l" t="t" r="r" b="b"/>
              <a:pathLst>
                <a:path w="25" h="826">
                  <a:moveTo>
                    <a:pt x="0" y="826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807"/>
                  </a:lnTo>
                  <a:lnTo>
                    <a:pt x="0" y="826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80040" y="2575080"/>
              <a:ext cx="114480" cy="128088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80040" y="25448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96200" y="2398680"/>
              <a:ext cx="39600" cy="1457280"/>
            </a:xfrm>
            <a:custGeom>
              <a:avLst/>
              <a:gdLst/>
              <a:ahLst/>
              <a:rect l="l" t="t" r="r" b="b"/>
              <a:pathLst>
                <a:path w="25" h="918">
                  <a:moveTo>
                    <a:pt x="0" y="918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899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73800" y="2430360"/>
              <a:ext cx="122400" cy="14256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73800" y="239868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96080" y="2330280"/>
              <a:ext cx="41400" cy="1525680"/>
            </a:xfrm>
            <a:custGeom>
              <a:avLst/>
              <a:gdLst/>
              <a:ahLst/>
              <a:rect l="l" t="t" r="r" b="b"/>
              <a:pathLst>
                <a:path w="26" h="961">
                  <a:moveTo>
                    <a:pt x="0" y="961"/>
                  </a:moveTo>
                  <a:lnTo>
                    <a:pt x="0" y="14"/>
                  </a:lnTo>
                  <a:lnTo>
                    <a:pt x="26" y="0"/>
                  </a:lnTo>
                  <a:lnTo>
                    <a:pt x="26" y="942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73680" y="2352600"/>
              <a:ext cx="122400" cy="15033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73680" y="2330280"/>
              <a:ext cx="163800" cy="2232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77" y="14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4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7760" y="2222640"/>
              <a:ext cx="41400" cy="1633320"/>
            </a:xfrm>
            <a:custGeom>
              <a:avLst/>
              <a:gdLst/>
              <a:ahLst/>
              <a:rect l="l" t="t" r="r" b="b"/>
              <a:pathLst>
                <a:path w="26" h="1029">
                  <a:moveTo>
                    <a:pt x="0" y="1029"/>
                  </a:moveTo>
                  <a:lnTo>
                    <a:pt x="0" y="15"/>
                  </a:lnTo>
                  <a:lnTo>
                    <a:pt x="26" y="0"/>
                  </a:lnTo>
                  <a:lnTo>
                    <a:pt x="26" y="101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75360" y="2246400"/>
              <a:ext cx="122400" cy="16095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2222640"/>
              <a:ext cx="16380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77" y="15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1520" y="2200320"/>
              <a:ext cx="39600" cy="1655640"/>
            </a:xfrm>
            <a:custGeom>
              <a:avLst/>
              <a:gdLst/>
              <a:ahLst/>
              <a:rect l="l" t="t" r="r" b="b"/>
              <a:pathLst>
                <a:path w="25" h="1043">
                  <a:moveTo>
                    <a:pt x="0" y="1043"/>
                  </a:moveTo>
                  <a:lnTo>
                    <a:pt x="0" y="19"/>
                  </a:lnTo>
                  <a:lnTo>
                    <a:pt x="25" y="0"/>
                  </a:lnTo>
                  <a:lnTo>
                    <a:pt x="25" y="1024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77040" y="2230560"/>
              <a:ext cx="114480" cy="16254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7040" y="220032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72" y="19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93200" y="2138400"/>
              <a:ext cx="39600" cy="1717560"/>
            </a:xfrm>
            <a:custGeom>
              <a:avLst/>
              <a:gdLst/>
              <a:ahLst/>
              <a:rect l="l" t="t" r="r" b="b"/>
              <a:pathLst>
                <a:path w="25" h="1082">
                  <a:moveTo>
                    <a:pt x="0" y="1082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1063"/>
                  </a:lnTo>
                  <a:lnTo>
                    <a:pt x="0" y="1082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0800" y="2170080"/>
              <a:ext cx="122400" cy="168588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70800" y="213840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77" y="20"/>
                  </a:moveTo>
                  <a:lnTo>
                    <a:pt x="102" y="0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93080" y="2146320"/>
              <a:ext cx="41400" cy="1709640"/>
            </a:xfrm>
            <a:custGeom>
              <a:avLst/>
              <a:gdLst/>
              <a:ahLst/>
              <a:rect l="l" t="t" r="r" b="b"/>
              <a:pathLst>
                <a:path w="26" h="1077">
                  <a:moveTo>
                    <a:pt x="0" y="1077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1058"/>
                  </a:lnTo>
                  <a:lnTo>
                    <a:pt x="0" y="1077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70680" y="2176560"/>
              <a:ext cx="122400" cy="167940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70680" y="214632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77" y="19"/>
                  </a:moveTo>
                  <a:lnTo>
                    <a:pt x="103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86840" y="2070000"/>
              <a:ext cx="41040" cy="1785960"/>
            </a:xfrm>
            <a:custGeom>
              <a:avLst/>
              <a:gdLst/>
              <a:ahLst/>
              <a:rect l="l" t="t" r="r" b="b"/>
              <a:pathLst>
                <a:path w="26" h="1125">
                  <a:moveTo>
                    <a:pt x="0" y="1125"/>
                  </a:moveTo>
                  <a:lnTo>
                    <a:pt x="0" y="19"/>
                  </a:lnTo>
                  <a:lnTo>
                    <a:pt x="26" y="0"/>
                  </a:lnTo>
                  <a:lnTo>
                    <a:pt x="26" y="1106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2360" y="2100240"/>
              <a:ext cx="114480" cy="175572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72360" y="2070000"/>
              <a:ext cx="155520" cy="30240"/>
            </a:xfrm>
            <a:custGeom>
              <a:avLst/>
              <a:gdLst/>
              <a:ahLst/>
              <a:rect l="l" t="t" r="r" b="b"/>
              <a:pathLst>
                <a:path w="98" h="19">
                  <a:moveTo>
                    <a:pt x="72" y="19"/>
                  </a:moveTo>
                  <a:lnTo>
                    <a:pt x="98" y="0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88520" y="2046240"/>
              <a:ext cx="39600" cy="1809720"/>
            </a:xfrm>
            <a:custGeom>
              <a:avLst/>
              <a:gdLst/>
              <a:ahLst/>
              <a:rect l="l" t="t" r="r" b="b"/>
              <a:pathLst>
                <a:path w="25" h="1140">
                  <a:moveTo>
                    <a:pt x="0" y="1140"/>
                  </a:moveTo>
                  <a:lnTo>
                    <a:pt x="0" y="15"/>
                  </a:lnTo>
                  <a:lnTo>
                    <a:pt x="25" y="0"/>
                  </a:lnTo>
                  <a:lnTo>
                    <a:pt x="25" y="1121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804d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74040" y="2070000"/>
              <a:ext cx="114480" cy="17859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74040" y="204624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2" y="15"/>
                  </a:moveTo>
                  <a:lnTo>
                    <a:pt x="97" y="0"/>
                  </a:lnTo>
                  <a:lnTo>
                    <a:pt x="26" y="0"/>
                  </a:lnTo>
                  <a:lnTo>
                    <a:pt x="0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bf73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761000" y="2007720"/>
              <a:ext cx="1440" cy="18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727160" y="387180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727160" y="35035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727160" y="31273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727160" y="27525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727160" y="23842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727160" y="20080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79480" y="381780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9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79480" y="34495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9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79480" y="30733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0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9480" y="269892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0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79480" y="233028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1 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79480" y="195408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1 5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61000" y="3871800"/>
              <a:ext cx="388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61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6268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4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6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58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5968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1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53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55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56320" y="3871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4864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032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52000" y="387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45400" y="3871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477864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5075280" y="403956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400000">
              <a:off x="538236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5675040" y="4043880"/>
              <a:ext cx="28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5970960" y="4039560"/>
              <a:ext cx="27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6267960" y="4043880"/>
              <a:ext cx="28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6558840" y="405540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6857280" y="4051440"/>
              <a:ext cx="29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7165440" y="404352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5400000">
              <a:off x="7460280" y="4051800"/>
              <a:ext cx="29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400000">
              <a:off x="7754400" y="405972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8044560" y="405972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5400000">
              <a:off x="8370000" y="4034880"/>
              <a:ext cx="26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6680" y="1631880"/>
              <a:ext cx="208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о добровольным пенсионным взноса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69920" y="4321080"/>
            <a:ext cx="4695840" cy="2306160"/>
            <a:chOff x="1969920" y="4321080"/>
            <a:chExt cx="4695840" cy="2306160"/>
          </a:xfrm>
        </p:grpSpPr>
        <p:sp>
          <p:nvSpPr>
            <p:cNvPr id="453" name=""/>
            <p:cNvSpPr/>
            <p:nvPr/>
          </p:nvSpPr>
          <p:spPr>
            <a:xfrm>
              <a:off x="2220840" y="6197760"/>
              <a:ext cx="4444920" cy="60120"/>
            </a:xfrm>
            <a:custGeom>
              <a:avLst/>
              <a:gdLst/>
              <a:ahLst/>
              <a:rect l="l" t="t" r="r" b="b"/>
              <a:pathLst>
                <a:path w="2800" h="38">
                  <a:moveTo>
                    <a:pt x="0" y="38"/>
                  </a:moveTo>
                  <a:lnTo>
                    <a:pt x="74" y="0"/>
                  </a:lnTo>
                  <a:lnTo>
                    <a:pt x="2800" y="0"/>
                  </a:lnTo>
                  <a:lnTo>
                    <a:pt x="2726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20840" y="4586400"/>
              <a:ext cx="117720" cy="1671480"/>
            </a:xfrm>
            <a:custGeom>
              <a:avLst/>
              <a:gdLst/>
              <a:ahLst/>
              <a:rect l="l" t="t" r="r" b="b"/>
              <a:pathLst>
                <a:path w="74" h="1053">
                  <a:moveTo>
                    <a:pt x="0" y="1053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74" y="1015"/>
                  </a:lnTo>
                  <a:lnTo>
                    <a:pt x="0" y="10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38560" y="4586400"/>
              <a:ext cx="43272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20840" y="6197760"/>
              <a:ext cx="4444920" cy="60120"/>
            </a:xfrm>
            <a:custGeom>
              <a:avLst/>
              <a:gdLst/>
              <a:ahLst/>
              <a:rect l="l" t="t" r="r" b="b"/>
              <a:pathLst>
                <a:path w="2800" h="38">
                  <a:moveTo>
                    <a:pt x="2800" y="0"/>
                  </a:moveTo>
                  <a:lnTo>
                    <a:pt x="2726" y="38"/>
                  </a:lnTo>
                  <a:lnTo>
                    <a:pt x="0" y="38"/>
                  </a:lnTo>
                  <a:lnTo>
                    <a:pt x="74" y="0"/>
                  </a:lnTo>
                  <a:lnTo>
                    <a:pt x="280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20840" y="4586400"/>
              <a:ext cx="117720" cy="1671480"/>
            </a:xfrm>
            <a:custGeom>
              <a:avLst/>
              <a:gdLst/>
              <a:ahLst/>
              <a:rect l="l" t="t" r="r" b="b"/>
              <a:pathLst>
                <a:path w="74" h="1053">
                  <a:moveTo>
                    <a:pt x="0" y="1053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74" y="1015"/>
                  </a:lnTo>
                  <a:lnTo>
                    <a:pt x="0" y="10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38560" y="4586400"/>
              <a:ext cx="43272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82920" y="5667480"/>
              <a:ext cx="46080" cy="577800"/>
            </a:xfrm>
            <a:custGeom>
              <a:avLst/>
              <a:gdLst/>
              <a:ahLst/>
              <a:rect l="l" t="t" r="r" b="b"/>
              <a:pathLst>
                <a:path w="29" h="364">
                  <a:moveTo>
                    <a:pt x="0" y="364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347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55840" y="5694480"/>
              <a:ext cx="127080" cy="550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5840" y="5667480"/>
              <a:ext cx="173160" cy="27000"/>
            </a:xfrm>
            <a:custGeom>
              <a:avLst/>
              <a:gdLst/>
              <a:ahLst/>
              <a:rect l="l" t="t" r="r" b="b"/>
              <a:pathLst>
                <a:path w="109" h="17">
                  <a:moveTo>
                    <a:pt x="80" y="17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9520" y="5600880"/>
              <a:ext cx="44280" cy="644400"/>
            </a:xfrm>
            <a:custGeom>
              <a:avLst/>
              <a:gdLst/>
              <a:ahLst/>
              <a:rect l="l" t="t" r="r" b="b"/>
              <a:pathLst>
                <a:path w="28" h="406">
                  <a:moveTo>
                    <a:pt x="0" y="40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89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92440" y="5627520"/>
              <a:ext cx="127080" cy="617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92440" y="5600880"/>
              <a:ext cx="171360" cy="2664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54320" y="5627520"/>
              <a:ext cx="46080" cy="617760"/>
            </a:xfrm>
            <a:custGeom>
              <a:avLst/>
              <a:gdLst/>
              <a:ahLst/>
              <a:rect l="l" t="t" r="r" b="b"/>
              <a:pathLst>
                <a:path w="29" h="389">
                  <a:moveTo>
                    <a:pt x="0" y="389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372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19320" y="5654520"/>
              <a:ext cx="135000" cy="59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19320" y="5627520"/>
              <a:ext cx="18108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5" y="17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90920" y="5634000"/>
              <a:ext cx="44280" cy="611280"/>
            </a:xfrm>
            <a:custGeom>
              <a:avLst/>
              <a:gdLst/>
              <a:ahLst/>
              <a:rect l="l" t="t" r="r" b="b"/>
              <a:pathLst>
                <a:path w="28" h="385">
                  <a:moveTo>
                    <a:pt x="0" y="385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68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5661000"/>
              <a:ext cx="136440" cy="584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54480" y="563400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17800" y="5667480"/>
              <a:ext cx="44640" cy="577800"/>
            </a:xfrm>
            <a:custGeom>
              <a:avLst/>
              <a:gdLst/>
              <a:ahLst/>
              <a:rect l="l" t="t" r="r" b="b"/>
              <a:pathLst>
                <a:path w="28" h="364">
                  <a:moveTo>
                    <a:pt x="0" y="364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347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1080" y="5694480"/>
              <a:ext cx="126720" cy="550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1080" y="566748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52960" y="5533920"/>
              <a:ext cx="46080" cy="711360"/>
            </a:xfrm>
            <a:custGeom>
              <a:avLst/>
              <a:gdLst/>
              <a:ahLst/>
              <a:rect l="l" t="t" r="r" b="b"/>
              <a:pathLst>
                <a:path w="29" h="448">
                  <a:moveTo>
                    <a:pt x="0" y="448"/>
                  </a:moveTo>
                  <a:lnTo>
                    <a:pt x="0" y="17"/>
                  </a:lnTo>
                  <a:lnTo>
                    <a:pt x="29" y="0"/>
                  </a:lnTo>
                  <a:lnTo>
                    <a:pt x="29" y="431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16520" y="5560920"/>
              <a:ext cx="136440" cy="68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16520" y="5533920"/>
              <a:ext cx="182520" cy="2700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86" y="17"/>
                  </a:moveTo>
                  <a:lnTo>
                    <a:pt x="115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89560" y="5521320"/>
              <a:ext cx="44280" cy="723960"/>
            </a:xfrm>
            <a:custGeom>
              <a:avLst/>
              <a:gdLst/>
              <a:ahLst/>
              <a:rect l="l" t="t" r="r" b="b"/>
              <a:pathLst>
                <a:path w="28" h="456">
                  <a:moveTo>
                    <a:pt x="0" y="45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439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52760" y="5548320"/>
              <a:ext cx="136800" cy="696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52760" y="5521320"/>
              <a:ext cx="18108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24360" y="5116680"/>
              <a:ext cx="46080" cy="1128600"/>
            </a:xfrm>
            <a:custGeom>
              <a:avLst/>
              <a:gdLst/>
              <a:ahLst/>
              <a:rect l="l" t="t" r="r" b="b"/>
              <a:pathLst>
                <a:path w="29" h="711">
                  <a:moveTo>
                    <a:pt x="0" y="711"/>
                  </a:moveTo>
                  <a:lnTo>
                    <a:pt x="0" y="13"/>
                  </a:lnTo>
                  <a:lnTo>
                    <a:pt x="29" y="0"/>
                  </a:lnTo>
                  <a:lnTo>
                    <a:pt x="29" y="694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87920" y="5137200"/>
              <a:ext cx="136440" cy="110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7920" y="51166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86" y="13"/>
                  </a:moveTo>
                  <a:lnTo>
                    <a:pt x="115" y="0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86" y="13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51600" y="5076720"/>
              <a:ext cx="44280" cy="1168560"/>
            </a:xfrm>
            <a:custGeom>
              <a:avLst/>
              <a:gdLst/>
              <a:ahLst/>
              <a:rect l="l" t="t" r="r" b="b"/>
              <a:pathLst>
                <a:path w="28" h="736">
                  <a:moveTo>
                    <a:pt x="0" y="736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719"/>
                  </a:lnTo>
                  <a:lnTo>
                    <a:pt x="0" y="736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24520" y="5103720"/>
              <a:ext cx="127080" cy="114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24520" y="507672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4871880"/>
              <a:ext cx="46080" cy="1373400"/>
            </a:xfrm>
            <a:custGeom>
              <a:avLst/>
              <a:gdLst/>
              <a:ahLst/>
              <a:rect l="l" t="t" r="r" b="b"/>
              <a:pathLst>
                <a:path w="29" h="865">
                  <a:moveTo>
                    <a:pt x="0" y="865"/>
                  </a:moveTo>
                  <a:lnTo>
                    <a:pt x="0" y="12"/>
                  </a:lnTo>
                  <a:lnTo>
                    <a:pt x="29" y="0"/>
                  </a:lnTo>
                  <a:lnTo>
                    <a:pt x="29" y="848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4890960"/>
              <a:ext cx="135000" cy="135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51400" y="4871880"/>
              <a:ext cx="181080" cy="19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85" y="12"/>
                  </a:moveTo>
                  <a:lnTo>
                    <a:pt x="114" y="0"/>
                  </a:lnTo>
                  <a:lnTo>
                    <a:pt x="28" y="0"/>
                  </a:lnTo>
                  <a:lnTo>
                    <a:pt x="0" y="12"/>
                  </a:lnTo>
                  <a:lnTo>
                    <a:pt x="85" y="12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23000" y="4863960"/>
              <a:ext cx="44280" cy="1381320"/>
            </a:xfrm>
            <a:custGeom>
              <a:avLst/>
              <a:gdLst/>
              <a:ahLst/>
              <a:rect l="l" t="t" r="r" b="b"/>
              <a:pathLst>
                <a:path w="28" h="870">
                  <a:moveTo>
                    <a:pt x="0" y="870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853"/>
                  </a:lnTo>
                  <a:lnTo>
                    <a:pt x="0" y="870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86560" y="4890960"/>
              <a:ext cx="136440" cy="135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486396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86" y="17"/>
                  </a:moveTo>
                  <a:lnTo>
                    <a:pt x="114" y="0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49880" y="4772160"/>
              <a:ext cx="44640" cy="1473120"/>
            </a:xfrm>
            <a:custGeom>
              <a:avLst/>
              <a:gdLst/>
              <a:ahLst/>
              <a:rect l="l" t="t" r="r" b="b"/>
              <a:pathLst>
                <a:path w="28" h="928">
                  <a:moveTo>
                    <a:pt x="0" y="928"/>
                  </a:moveTo>
                  <a:lnTo>
                    <a:pt x="0" y="17"/>
                  </a:lnTo>
                  <a:lnTo>
                    <a:pt x="28" y="0"/>
                  </a:lnTo>
                  <a:lnTo>
                    <a:pt x="28" y="911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22800" y="4799160"/>
              <a:ext cx="127080" cy="1446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22800" y="4772160"/>
              <a:ext cx="17172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80" y="17"/>
                  </a:moveTo>
                  <a:lnTo>
                    <a:pt x="108" y="0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5040" y="4765680"/>
              <a:ext cx="46080" cy="1479600"/>
            </a:xfrm>
            <a:custGeom>
              <a:avLst/>
              <a:gdLst/>
              <a:ahLst/>
              <a:rect l="l" t="t" r="r" b="b"/>
              <a:pathLst>
                <a:path w="29" h="932">
                  <a:moveTo>
                    <a:pt x="0" y="932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915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80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57960" y="4791240"/>
              <a:ext cx="127080" cy="145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7960" y="4765680"/>
              <a:ext cx="173160" cy="2556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80" y="16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80" y="16"/>
                  </a:lnTo>
                  <a:close/>
                </a:path>
              </a:pathLst>
            </a:custGeom>
            <a:solidFill>
              <a:srgbClr val="bf7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220840" y="4645080"/>
              <a:ext cx="1800" cy="161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184120" y="625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184120" y="6032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184120" y="58006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184120" y="55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84120" y="5335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184120" y="51102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184120" y="48783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2184120" y="46450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69920" y="62118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7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69920" y="59864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7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69920" y="575316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8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69920" y="55213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8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69920" y="528948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9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69920" y="506412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3 9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69920" y="48308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 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69920" y="45990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4 0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20840" y="625788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2084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5600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8288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1804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5428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944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1632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5292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8808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2432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4976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8636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21520" y="625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48400" y="625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5400000">
              <a:off x="228528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400000">
              <a:off x="2616120" y="642852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сен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295740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окт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3284280" y="643320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ноя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3615480" y="6428520"/>
              <a:ext cx="236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дек.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3946320" y="643320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ян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4273200" y="6446520"/>
              <a:ext cx="264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фев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4605120" y="643716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5400000">
              <a:off x="4946040" y="6433200"/>
              <a:ext cx="24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пр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5400000">
              <a:off x="5275080" y="6437160"/>
              <a:ext cx="25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май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400000">
              <a:off x="5605560" y="6446880"/>
              <a:ext cx="26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н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5931000" y="6446880"/>
              <a:ext cx="26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июл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6286320" y="642384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авг.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24280" y="4321080"/>
              <a:ext cx="2731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По добровольным профессиональным пенсионным взносам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5AC-1629-4407-A5DC-DE4D5512A9B0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76320" y="8380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d6397"/>
                </a:solidFill>
                <a:uFillTx/>
                <a:latin typeface="Arial"/>
                <a:ea typeface="Times New Roman"/>
              </a:rPr>
              <a:t>Пенсионные накопления и количество вкладчиков по ОПВ на 1 августа 2008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571680" y="1955520"/>
            <a:ext cx="7661160" cy="4496040"/>
            <a:chOff x="571680" y="1955520"/>
            <a:chExt cx="7661160" cy="4496040"/>
          </a:xfrm>
        </p:grpSpPr>
        <p:grpSp>
          <p:nvGrpSpPr>
            <p:cNvPr id="546" name=""/>
            <p:cNvGrpSpPr/>
            <p:nvPr/>
          </p:nvGrpSpPr>
          <p:grpSpPr>
            <a:xfrm>
              <a:off x="1241280" y="2031840"/>
              <a:ext cx="6143760" cy="3485520"/>
              <a:chOff x="1241280" y="2031840"/>
              <a:chExt cx="6143760" cy="3485520"/>
            </a:xfrm>
          </p:grpSpPr>
          <p:sp>
            <p:nvSpPr>
              <p:cNvPr id="547" name=""/>
              <p:cNvSpPr/>
              <p:nvPr/>
            </p:nvSpPr>
            <p:spPr>
              <a:xfrm>
                <a:off x="1279440" y="2031840"/>
                <a:ext cx="1800" cy="344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41280" y="54795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41280" y="52509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241280" y="50223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41280" y="47937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241280" y="45558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241280" y="43272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41280" y="4098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241280" y="38700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241280" y="36414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241280" y="34128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241280" y="31842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241280" y="2955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41280" y="27172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41280" y="24886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41280" y="22600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203184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279440" y="5479560"/>
                <a:ext cx="6067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1279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1374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14796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15746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670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1765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8702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1965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2060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2155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2260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2355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451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55600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26510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2746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841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946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3041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3137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232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3368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432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3527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36320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727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822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917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0226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118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213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3178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413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508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603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47084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803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4898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49942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99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194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9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39424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89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5846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6800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784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880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975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0706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1754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2704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3658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4706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65660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66610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7564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8612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9562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0516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14708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251840" y="5441040"/>
                <a:ext cx="14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7346880" y="5441040"/>
                <a:ext cx="180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27320" y="2336400"/>
                <a:ext cx="5972040" cy="3142800"/>
              </a:xfrm>
              <a:custGeom>
                <a:avLst/>
                <a:gdLst/>
                <a:ahLst/>
                <a:rect l="l" t="t" r="r" b="b"/>
                <a:pathLst>
                  <a:path w="627" h="330">
                    <a:moveTo>
                      <a:pt x="0" y="24"/>
                    </a:moveTo>
                    <a:lnTo>
                      <a:pt x="10" y="93"/>
                    </a:lnTo>
                    <a:lnTo>
                      <a:pt x="21" y="47"/>
                    </a:lnTo>
                    <a:lnTo>
                      <a:pt x="31" y="18"/>
                    </a:lnTo>
                    <a:lnTo>
                      <a:pt x="41" y="0"/>
                    </a:lnTo>
                    <a:lnTo>
                      <a:pt x="52" y="4"/>
                    </a:lnTo>
                    <a:lnTo>
                      <a:pt x="62" y="5"/>
                    </a:lnTo>
                    <a:lnTo>
                      <a:pt x="72" y="12"/>
                    </a:lnTo>
                    <a:lnTo>
                      <a:pt x="82" y="15"/>
                    </a:lnTo>
                    <a:lnTo>
                      <a:pt x="93" y="14"/>
                    </a:lnTo>
                    <a:lnTo>
                      <a:pt x="103" y="15"/>
                    </a:lnTo>
                    <a:lnTo>
                      <a:pt x="113" y="19"/>
                    </a:lnTo>
                    <a:lnTo>
                      <a:pt x="123" y="25"/>
                    </a:lnTo>
                    <a:lnTo>
                      <a:pt x="134" y="34"/>
                    </a:lnTo>
                    <a:lnTo>
                      <a:pt x="144" y="42"/>
                    </a:lnTo>
                    <a:lnTo>
                      <a:pt x="154" y="48"/>
                    </a:lnTo>
                    <a:lnTo>
                      <a:pt x="165" y="49"/>
                    </a:lnTo>
                    <a:lnTo>
                      <a:pt x="175" y="51"/>
                    </a:lnTo>
                    <a:lnTo>
                      <a:pt x="185" y="60"/>
                    </a:lnTo>
                    <a:lnTo>
                      <a:pt x="195" y="69"/>
                    </a:lnTo>
                    <a:lnTo>
                      <a:pt x="206" y="73"/>
                    </a:lnTo>
                    <a:lnTo>
                      <a:pt x="216" y="74"/>
                    </a:lnTo>
                    <a:lnTo>
                      <a:pt x="226" y="69"/>
                    </a:lnTo>
                    <a:lnTo>
                      <a:pt x="236" y="71"/>
                    </a:lnTo>
                    <a:lnTo>
                      <a:pt x="247" y="63"/>
                    </a:lnTo>
                    <a:lnTo>
                      <a:pt x="257" y="56"/>
                    </a:lnTo>
                    <a:lnTo>
                      <a:pt x="267" y="54"/>
                    </a:lnTo>
                    <a:lnTo>
                      <a:pt x="278" y="56"/>
                    </a:lnTo>
                    <a:lnTo>
                      <a:pt x="288" y="58"/>
                    </a:lnTo>
                    <a:lnTo>
                      <a:pt x="298" y="73"/>
                    </a:lnTo>
                    <a:lnTo>
                      <a:pt x="308" y="87"/>
                    </a:lnTo>
                    <a:lnTo>
                      <a:pt x="319" y="102"/>
                    </a:lnTo>
                    <a:lnTo>
                      <a:pt x="329" y="116"/>
                    </a:lnTo>
                    <a:lnTo>
                      <a:pt x="339" y="128"/>
                    </a:lnTo>
                    <a:lnTo>
                      <a:pt x="349" y="145"/>
                    </a:lnTo>
                    <a:lnTo>
                      <a:pt x="360" y="162"/>
                    </a:lnTo>
                    <a:lnTo>
                      <a:pt x="370" y="167"/>
                    </a:lnTo>
                    <a:lnTo>
                      <a:pt x="380" y="175"/>
                    </a:lnTo>
                    <a:lnTo>
                      <a:pt x="391" y="202"/>
                    </a:lnTo>
                    <a:lnTo>
                      <a:pt x="401" y="228"/>
                    </a:lnTo>
                    <a:lnTo>
                      <a:pt x="411" y="253"/>
                    </a:lnTo>
                    <a:lnTo>
                      <a:pt x="421" y="262"/>
                    </a:lnTo>
                    <a:lnTo>
                      <a:pt x="432" y="286"/>
                    </a:lnTo>
                    <a:lnTo>
                      <a:pt x="442" y="308"/>
                    </a:lnTo>
                    <a:lnTo>
                      <a:pt x="452" y="318"/>
                    </a:lnTo>
                    <a:lnTo>
                      <a:pt x="462" y="321"/>
                    </a:lnTo>
                    <a:lnTo>
                      <a:pt x="473" y="321"/>
                    </a:lnTo>
                    <a:lnTo>
                      <a:pt x="483" y="323"/>
                    </a:lnTo>
                    <a:lnTo>
                      <a:pt x="493" y="324"/>
                    </a:lnTo>
                    <a:lnTo>
                      <a:pt x="504" y="326"/>
                    </a:lnTo>
                    <a:lnTo>
                      <a:pt x="514" y="327"/>
                    </a:lnTo>
                    <a:lnTo>
                      <a:pt x="524" y="328"/>
                    </a:lnTo>
                    <a:lnTo>
                      <a:pt x="534" y="329"/>
                    </a:lnTo>
                    <a:lnTo>
                      <a:pt x="545" y="329"/>
                    </a:lnTo>
                    <a:lnTo>
                      <a:pt x="555" y="329"/>
                    </a:lnTo>
                    <a:lnTo>
                      <a:pt x="565" y="330"/>
                    </a:lnTo>
                    <a:lnTo>
                      <a:pt x="575" y="330"/>
                    </a:lnTo>
                    <a:lnTo>
                      <a:pt x="586" y="330"/>
                    </a:lnTo>
                    <a:lnTo>
                      <a:pt x="596" y="330"/>
                    </a:lnTo>
                    <a:lnTo>
                      <a:pt x="606" y="330"/>
                    </a:lnTo>
                    <a:lnTo>
                      <a:pt x="617" y="330"/>
                    </a:lnTo>
                    <a:lnTo>
                      <a:pt x="627" y="329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79440" y="25171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74840" y="31744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479600" y="273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574640" y="24602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70040" y="22885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74800" y="23266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70200" y="2336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65240" y="24030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060640" y="24314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65400" y="24220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60440" y="24314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55840" y="24696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1240" y="2526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56000" y="26125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51040" y="2688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46440" y="274572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51200" y="27554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46240" y="277452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41640" y="28602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37040" y="2945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41800" y="2984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36840" y="2993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32240" y="2945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27280" y="29649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32040" y="28886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727440" y="282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22840" y="28029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27600" y="282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22640" y="28411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18040" y="2984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13080" y="31172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17840" y="32601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13240" y="33937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508640" y="3507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03680" y="3669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08440" y="38318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803840" y="3879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98880" y="395568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03640" y="421272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099040" y="4460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94440" y="469836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89480" y="47844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94240" y="50130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9640" y="52225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84680" y="53175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80080" y="534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84840" y="534636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0240" y="5365080"/>
                <a:ext cx="85680" cy="856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975280" y="537480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80040" y="539388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75440" y="54032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480" y="541296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6588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706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5660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6610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564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86124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956280" y="5432040"/>
                <a:ext cx="8604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5168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56440" y="543204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251840" y="5422320"/>
                <a:ext cx="85680" cy="85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46880" y="2031840"/>
                <a:ext cx="1800" cy="344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08720" y="54795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308720" y="520344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308720" y="492696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08720" y="465084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308720" y="437472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308720" y="40986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08720" y="382212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308720" y="354600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08720" y="32698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08720" y="299340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08720" y="271728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308720" y="2441160"/>
                <a:ext cx="76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308720" y="2164680"/>
                <a:ext cx="76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27320" y="2383920"/>
                <a:ext cx="5972040" cy="3095280"/>
              </a:xfrm>
              <a:custGeom>
                <a:avLst/>
                <a:gdLst/>
                <a:ahLst/>
                <a:rect l="l" t="t" r="r" b="b"/>
                <a:pathLst>
                  <a:path w="627" h="325">
                    <a:moveTo>
                      <a:pt x="0" y="290"/>
                    </a:moveTo>
                    <a:lnTo>
                      <a:pt x="10" y="281"/>
                    </a:lnTo>
                    <a:lnTo>
                      <a:pt x="21" y="256"/>
                    </a:lnTo>
                    <a:lnTo>
                      <a:pt x="31" y="225"/>
                    </a:lnTo>
                    <a:lnTo>
                      <a:pt x="41" y="188"/>
                    </a:lnTo>
                    <a:lnTo>
                      <a:pt x="52" y="164"/>
                    </a:lnTo>
                    <a:lnTo>
                      <a:pt x="62" y="138"/>
                    </a:lnTo>
                    <a:lnTo>
                      <a:pt x="72" y="119"/>
                    </a:lnTo>
                    <a:lnTo>
                      <a:pt x="82" y="99"/>
                    </a:lnTo>
                    <a:lnTo>
                      <a:pt x="93" y="81"/>
                    </a:lnTo>
                    <a:lnTo>
                      <a:pt x="103" y="66"/>
                    </a:lnTo>
                    <a:lnTo>
                      <a:pt x="113" y="55"/>
                    </a:lnTo>
                    <a:lnTo>
                      <a:pt x="123" y="45"/>
                    </a:lnTo>
                    <a:lnTo>
                      <a:pt x="134" y="42"/>
                    </a:lnTo>
                    <a:lnTo>
                      <a:pt x="144" y="44"/>
                    </a:lnTo>
                    <a:lnTo>
                      <a:pt x="154" y="41"/>
                    </a:lnTo>
                    <a:lnTo>
                      <a:pt x="165" y="37"/>
                    </a:lnTo>
                    <a:lnTo>
                      <a:pt x="175" y="28"/>
                    </a:lnTo>
                    <a:lnTo>
                      <a:pt x="185" y="37"/>
                    </a:lnTo>
                    <a:lnTo>
                      <a:pt x="195" y="41"/>
                    </a:lnTo>
                    <a:lnTo>
                      <a:pt x="206" y="46"/>
                    </a:lnTo>
                    <a:lnTo>
                      <a:pt x="216" y="41"/>
                    </a:lnTo>
                    <a:lnTo>
                      <a:pt x="226" y="33"/>
                    </a:lnTo>
                    <a:lnTo>
                      <a:pt x="236" y="35"/>
                    </a:lnTo>
                    <a:lnTo>
                      <a:pt x="247" y="24"/>
                    </a:lnTo>
                    <a:lnTo>
                      <a:pt x="257" y="16"/>
                    </a:lnTo>
                    <a:lnTo>
                      <a:pt x="267" y="6"/>
                    </a:lnTo>
                    <a:lnTo>
                      <a:pt x="278" y="0"/>
                    </a:lnTo>
                    <a:lnTo>
                      <a:pt x="288" y="5"/>
                    </a:lnTo>
                    <a:lnTo>
                      <a:pt x="298" y="18"/>
                    </a:lnTo>
                    <a:lnTo>
                      <a:pt x="308" y="30"/>
                    </a:lnTo>
                    <a:lnTo>
                      <a:pt x="319" y="49"/>
                    </a:lnTo>
                    <a:lnTo>
                      <a:pt x="329" y="64"/>
                    </a:lnTo>
                    <a:lnTo>
                      <a:pt x="339" y="73"/>
                    </a:lnTo>
                    <a:lnTo>
                      <a:pt x="349" y="89"/>
                    </a:lnTo>
                    <a:lnTo>
                      <a:pt x="360" y="108"/>
                    </a:lnTo>
                    <a:lnTo>
                      <a:pt x="370" y="112"/>
                    </a:lnTo>
                    <a:lnTo>
                      <a:pt x="380" y="117"/>
                    </a:lnTo>
                    <a:lnTo>
                      <a:pt x="391" y="156"/>
                    </a:lnTo>
                    <a:lnTo>
                      <a:pt x="401" y="193"/>
                    </a:lnTo>
                    <a:lnTo>
                      <a:pt x="411" y="220"/>
                    </a:lnTo>
                    <a:lnTo>
                      <a:pt x="421" y="228"/>
                    </a:lnTo>
                    <a:lnTo>
                      <a:pt x="432" y="261"/>
                    </a:lnTo>
                    <a:lnTo>
                      <a:pt x="442" y="296"/>
                    </a:lnTo>
                    <a:lnTo>
                      <a:pt x="452" y="312"/>
                    </a:lnTo>
                    <a:lnTo>
                      <a:pt x="462" y="318"/>
                    </a:lnTo>
                    <a:lnTo>
                      <a:pt x="473" y="320"/>
                    </a:lnTo>
                    <a:lnTo>
                      <a:pt x="483" y="322"/>
                    </a:lnTo>
                    <a:lnTo>
                      <a:pt x="493" y="324"/>
                    </a:lnTo>
                    <a:lnTo>
                      <a:pt x="504" y="325"/>
                    </a:lnTo>
                    <a:lnTo>
                      <a:pt x="514" y="325"/>
                    </a:lnTo>
                    <a:lnTo>
                      <a:pt x="524" y="325"/>
                    </a:lnTo>
                    <a:lnTo>
                      <a:pt x="534" y="325"/>
                    </a:lnTo>
                    <a:lnTo>
                      <a:pt x="545" y="325"/>
                    </a:lnTo>
                    <a:lnTo>
                      <a:pt x="555" y="325"/>
                    </a:lnTo>
                    <a:lnTo>
                      <a:pt x="565" y="325"/>
                    </a:lnTo>
                    <a:lnTo>
                      <a:pt x="575" y="325"/>
                    </a:lnTo>
                    <a:lnTo>
                      <a:pt x="586" y="325"/>
                    </a:lnTo>
                    <a:lnTo>
                      <a:pt x="596" y="325"/>
                    </a:lnTo>
                    <a:lnTo>
                      <a:pt x="606" y="325"/>
                    </a:lnTo>
                    <a:lnTo>
                      <a:pt x="617" y="325"/>
                    </a:lnTo>
                    <a:lnTo>
                      <a:pt x="627" y="325"/>
                    </a:lnTo>
                  </a:path>
                </a:pathLst>
              </a:cu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279440" y="509868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74840" y="5013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79600" y="47746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74640" y="447948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70040" y="41270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774800" y="38984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70200" y="36507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65240" y="34696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060640" y="327924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165400" y="310788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260440" y="29649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355840" y="28602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451240" y="276480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556000" y="27363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651040" y="27554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46440" y="2727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851200" y="268884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46240" y="260316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041640" y="268884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7040" y="27270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241800" y="277452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336840" y="27270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32240" y="265068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27280" y="266976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632040" y="25650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27440" y="24886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22840" y="23932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927600" y="233640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022640" y="23839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118040" y="25077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213080" y="2621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317840" y="28029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13240" y="2945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508640" y="30315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603680" y="3184200"/>
                <a:ext cx="9540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708440" y="33649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03840" y="34030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898880" y="3450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003640" y="38221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99040" y="41745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94440" y="4431960"/>
                <a:ext cx="95040" cy="9468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0"/>
                    </a:moveTo>
                    <a:lnTo>
                      <a:pt x="60" y="30"/>
                    </a:lnTo>
                    <a:lnTo>
                      <a:pt x="30" y="60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5289480" y="45082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94240" y="482256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89640" y="515592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84680" y="530856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80080" y="536544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84840" y="538452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80240" y="540360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75280" y="5422680"/>
              <a:ext cx="9540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00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54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04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658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706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660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610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5648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612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9562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5168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56440" y="5432400"/>
              <a:ext cx="9540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51840" y="5432400"/>
              <a:ext cx="95040" cy="946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26440" y="5403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67600" y="51750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67600" y="49464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67600" y="471780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7600" y="4479840"/>
              <a:ext cx="31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0000" y="42512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0000" y="40226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0000" y="37940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0000" y="35654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0000" y="33368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0000" y="31082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0000" y="287964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2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0000" y="26413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0000" y="24127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6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10000" y="21841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0000" y="1955520"/>
              <a:ext cx="37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900000">
              <a:off x="858240" y="5754240"/>
              <a:ext cx="46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до 2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900000">
              <a:off x="11379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900000">
              <a:off x="1328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900000">
              <a:off x="15652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8900000">
              <a:off x="17557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8900000">
              <a:off x="19558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8900000">
              <a:off x="21096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8900000">
              <a:off x="23097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8900000">
              <a:off x="25412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6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8900000">
              <a:off x="27320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8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8900000">
              <a:off x="29318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8900000">
              <a:off x="30906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8900000">
              <a:off x="328608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4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8900000">
              <a:off x="35179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8900000">
              <a:off x="37180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8900000">
              <a:off x="39085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900000">
              <a:off x="406692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2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8900000">
              <a:off x="425736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4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8900000">
              <a:off x="44989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8900000">
              <a:off x="469908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8900000">
              <a:off x="488448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0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8900000">
              <a:off x="505296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2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8900000">
              <a:off x="5243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8900000">
              <a:off x="547524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6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8900000">
              <a:off x="5665680" y="568908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8 ле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8900000">
              <a:off x="58705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8900000">
              <a:off x="6019560" y="5700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2 года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8900000">
              <a:off x="6224400" y="5709240"/>
              <a:ext cx="37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4 год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8900000">
              <a:off x="645156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6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8900000">
              <a:off x="6651720" y="569988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8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8900000">
              <a:off x="6851520" y="570024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0 ле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72800" y="610848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возраст вкладчик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6520" y="3666960"/>
              <a:ext cx="46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челове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41560" y="5403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39040" y="51274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39040" y="485136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38680" y="45748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38680" y="429876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6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8680" y="40226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0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8680" y="37465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38680" y="347004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38680" y="31939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2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438680" y="291780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6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38680" y="26413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0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38680" y="236520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4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38680" y="208908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8 000 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200000">
              <a:off x="7877880" y="36946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тыс.тенг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08120" y="6375240"/>
              <a:ext cx="266760" cy="10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03520" y="6337080"/>
              <a:ext cx="66600" cy="66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05480" y="629892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количество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79760" y="6375240"/>
              <a:ext cx="26676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75160" y="63370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82160" y="6298920"/>
              <a:ext cx="173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Сумма накоплений ( тыс. тенге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CAE-DC37-4C33-97AE-4C5701435E99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211640" y="2997360"/>
            <a:ext cx="435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Концентрация пенсионных активов</a:t>
            </a:r>
            <a:br>
              <a:rPr sz="2000"/>
            </a:b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по НПФ РК на 01.08.0</a:t>
            </a: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8 </a:t>
            </a: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76320" y="836280"/>
            <a:ext cx="442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Структура инвестиционного портфеля</a:t>
            </a: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НП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3320" y="1654200"/>
            <a:ext cx="3691800" cy="2919960"/>
            <a:chOff x="13320" y="1654200"/>
            <a:chExt cx="3691800" cy="2919960"/>
          </a:xfrm>
        </p:grpSpPr>
        <p:sp>
          <p:nvSpPr>
            <p:cNvPr id="840" name=""/>
            <p:cNvSpPr/>
            <p:nvPr/>
          </p:nvSpPr>
          <p:spPr>
            <a:xfrm>
              <a:off x="1714680" y="1982880"/>
              <a:ext cx="357120" cy="693720"/>
            </a:xfrm>
            <a:custGeom>
              <a:avLst/>
              <a:gdLst/>
              <a:ahLst/>
              <a:rect l="l" t="t" r="r" b="b"/>
              <a:pathLst>
                <a:path w="225" h="437">
                  <a:moveTo>
                    <a:pt x="225" y="206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225" y="437"/>
                  </a:lnTo>
                  <a:lnTo>
                    <a:pt x="225" y="206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14680" y="1967040"/>
              <a:ext cx="357120" cy="342720"/>
            </a:xfrm>
            <a:custGeom>
              <a:avLst/>
              <a:gdLst/>
              <a:ahLst/>
              <a:rect l="l" t="t" r="r" b="b"/>
              <a:pathLst>
                <a:path w="225" h="216">
                  <a:moveTo>
                    <a:pt x="0" y="10"/>
                  </a:moveTo>
                  <a:lnTo>
                    <a:pt x="14" y="5"/>
                  </a:lnTo>
                  <a:lnTo>
                    <a:pt x="42" y="5"/>
                  </a:lnTo>
                  <a:lnTo>
                    <a:pt x="56" y="5"/>
                  </a:lnTo>
                  <a:lnTo>
                    <a:pt x="70" y="5"/>
                  </a:lnTo>
                  <a:lnTo>
                    <a:pt x="98" y="0"/>
                  </a:lnTo>
                  <a:lnTo>
                    <a:pt x="112" y="0"/>
                  </a:lnTo>
                  <a:lnTo>
                    <a:pt x="126" y="0"/>
                  </a:lnTo>
                  <a:lnTo>
                    <a:pt x="155" y="0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211" y="0"/>
                  </a:lnTo>
                  <a:lnTo>
                    <a:pt x="225" y="0"/>
                  </a:lnTo>
                  <a:lnTo>
                    <a:pt x="225" y="2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86040" y="1720800"/>
              <a:ext cx="81000" cy="24624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0"/>
                  </a:moveTo>
                  <a:lnTo>
                    <a:pt x="0" y="0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2280" y="2198520"/>
              <a:ext cx="1207800" cy="500400"/>
            </a:xfrm>
            <a:custGeom>
              <a:avLst/>
              <a:gdLst/>
              <a:ahLst/>
              <a:rect l="l" t="t" r="r" b="b"/>
              <a:pathLst>
                <a:path w="761" h="315">
                  <a:moveTo>
                    <a:pt x="761" y="85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761" y="315"/>
                  </a:lnTo>
                  <a:lnTo>
                    <a:pt x="761" y="85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2280" y="2004840"/>
              <a:ext cx="1207800" cy="328680"/>
            </a:xfrm>
            <a:custGeom>
              <a:avLst/>
              <a:gdLst/>
              <a:ahLst/>
              <a:rect l="l" t="t" r="r" b="b"/>
              <a:pathLst>
                <a:path w="761" h="207">
                  <a:moveTo>
                    <a:pt x="0" y="122"/>
                  </a:moveTo>
                  <a:lnTo>
                    <a:pt x="5" y="117"/>
                  </a:lnTo>
                  <a:lnTo>
                    <a:pt x="19" y="113"/>
                  </a:lnTo>
                  <a:lnTo>
                    <a:pt x="24" y="108"/>
                  </a:lnTo>
                  <a:lnTo>
                    <a:pt x="28" y="103"/>
                  </a:lnTo>
                  <a:lnTo>
                    <a:pt x="42" y="99"/>
                  </a:lnTo>
                  <a:lnTo>
                    <a:pt x="52" y="94"/>
                  </a:lnTo>
                  <a:lnTo>
                    <a:pt x="61" y="89"/>
                  </a:lnTo>
                  <a:lnTo>
                    <a:pt x="66" y="89"/>
                  </a:lnTo>
                  <a:lnTo>
                    <a:pt x="85" y="80"/>
                  </a:lnTo>
                  <a:lnTo>
                    <a:pt x="89" y="80"/>
                  </a:lnTo>
                  <a:lnTo>
                    <a:pt x="99" y="75"/>
                  </a:lnTo>
                  <a:lnTo>
                    <a:pt x="118" y="70"/>
                  </a:lnTo>
                  <a:lnTo>
                    <a:pt x="127" y="66"/>
                  </a:lnTo>
                  <a:lnTo>
                    <a:pt x="136" y="66"/>
                  </a:lnTo>
                  <a:lnTo>
                    <a:pt x="155" y="56"/>
                  </a:lnTo>
                  <a:lnTo>
                    <a:pt x="164" y="56"/>
                  </a:lnTo>
                  <a:lnTo>
                    <a:pt x="174" y="52"/>
                  </a:lnTo>
                  <a:lnTo>
                    <a:pt x="197" y="47"/>
                  </a:lnTo>
                  <a:lnTo>
                    <a:pt x="207" y="47"/>
                  </a:lnTo>
                  <a:lnTo>
                    <a:pt x="216" y="42"/>
                  </a:lnTo>
                  <a:lnTo>
                    <a:pt x="230" y="42"/>
                  </a:lnTo>
                  <a:lnTo>
                    <a:pt x="254" y="37"/>
                  </a:lnTo>
                  <a:lnTo>
                    <a:pt x="263" y="33"/>
                  </a:lnTo>
                  <a:lnTo>
                    <a:pt x="277" y="33"/>
                  </a:lnTo>
                  <a:lnTo>
                    <a:pt x="301" y="28"/>
                  </a:lnTo>
                  <a:lnTo>
                    <a:pt x="310" y="23"/>
                  </a:lnTo>
                  <a:lnTo>
                    <a:pt x="324" y="23"/>
                  </a:lnTo>
                  <a:lnTo>
                    <a:pt x="348" y="19"/>
                  </a:lnTo>
                  <a:lnTo>
                    <a:pt x="362" y="19"/>
                  </a:lnTo>
                  <a:lnTo>
                    <a:pt x="371" y="14"/>
                  </a:lnTo>
                  <a:lnTo>
                    <a:pt x="399" y="9"/>
                  </a:lnTo>
                  <a:lnTo>
                    <a:pt x="413" y="9"/>
                  </a:lnTo>
                  <a:lnTo>
                    <a:pt x="423" y="9"/>
                  </a:lnTo>
                  <a:lnTo>
                    <a:pt x="437" y="5"/>
                  </a:lnTo>
                  <a:lnTo>
                    <a:pt x="465" y="5"/>
                  </a:lnTo>
                  <a:lnTo>
                    <a:pt x="479" y="5"/>
                  </a:lnTo>
                  <a:lnTo>
                    <a:pt x="493" y="0"/>
                  </a:lnTo>
                  <a:lnTo>
                    <a:pt x="521" y="0"/>
                  </a:lnTo>
                  <a:lnTo>
                    <a:pt x="536" y="0"/>
                  </a:lnTo>
                  <a:lnTo>
                    <a:pt x="761" y="207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55720" y="1855800"/>
              <a:ext cx="164880" cy="2239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11" y="0"/>
                  </a:lnTo>
                  <a:lnTo>
                    <a:pt x="22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16200" y="2347920"/>
              <a:ext cx="88920" cy="484200"/>
            </a:xfrm>
            <a:custGeom>
              <a:avLst/>
              <a:gdLst/>
              <a:ahLst/>
              <a:rect l="l" t="t" r="r" b="b"/>
              <a:pathLst>
                <a:path w="56" h="305">
                  <a:moveTo>
                    <a:pt x="56" y="0"/>
                  </a:moveTo>
                  <a:lnTo>
                    <a:pt x="56" y="5"/>
                  </a:lnTo>
                  <a:lnTo>
                    <a:pt x="56" y="5"/>
                  </a:lnTo>
                  <a:lnTo>
                    <a:pt x="51" y="14"/>
                  </a:lnTo>
                  <a:lnTo>
                    <a:pt x="51" y="19"/>
                  </a:lnTo>
                  <a:lnTo>
                    <a:pt x="51" y="23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6" y="33"/>
                  </a:lnTo>
                  <a:lnTo>
                    <a:pt x="42" y="42"/>
                  </a:lnTo>
                  <a:lnTo>
                    <a:pt x="37" y="42"/>
                  </a:lnTo>
                  <a:lnTo>
                    <a:pt x="32" y="47"/>
                  </a:lnTo>
                  <a:lnTo>
                    <a:pt x="32" y="52"/>
                  </a:lnTo>
                  <a:lnTo>
                    <a:pt x="28" y="56"/>
                  </a:lnTo>
                  <a:lnTo>
                    <a:pt x="23" y="56"/>
                  </a:lnTo>
                  <a:lnTo>
                    <a:pt x="14" y="66"/>
                  </a:lnTo>
                  <a:lnTo>
                    <a:pt x="9" y="70"/>
                  </a:lnTo>
                  <a:lnTo>
                    <a:pt x="4" y="70"/>
                  </a:lnTo>
                  <a:lnTo>
                    <a:pt x="0" y="75"/>
                  </a:lnTo>
                  <a:lnTo>
                    <a:pt x="0" y="305"/>
                  </a:lnTo>
                  <a:lnTo>
                    <a:pt x="4" y="301"/>
                  </a:lnTo>
                  <a:lnTo>
                    <a:pt x="9" y="301"/>
                  </a:lnTo>
                  <a:lnTo>
                    <a:pt x="14" y="296"/>
                  </a:lnTo>
                  <a:lnTo>
                    <a:pt x="23" y="287"/>
                  </a:lnTo>
                  <a:lnTo>
                    <a:pt x="28" y="287"/>
                  </a:lnTo>
                  <a:lnTo>
                    <a:pt x="32" y="282"/>
                  </a:lnTo>
                  <a:lnTo>
                    <a:pt x="32" y="277"/>
                  </a:lnTo>
                  <a:lnTo>
                    <a:pt x="37" y="273"/>
                  </a:lnTo>
                  <a:lnTo>
                    <a:pt x="42" y="273"/>
                  </a:lnTo>
                  <a:lnTo>
                    <a:pt x="46" y="263"/>
                  </a:lnTo>
                  <a:lnTo>
                    <a:pt x="46" y="258"/>
                  </a:lnTo>
                  <a:lnTo>
                    <a:pt x="46" y="254"/>
                  </a:lnTo>
                  <a:lnTo>
                    <a:pt x="51" y="254"/>
                  </a:lnTo>
                  <a:lnTo>
                    <a:pt x="51" y="249"/>
                  </a:lnTo>
                  <a:lnTo>
                    <a:pt x="51" y="244"/>
                  </a:lnTo>
                  <a:lnTo>
                    <a:pt x="56" y="235"/>
                  </a:lnTo>
                  <a:lnTo>
                    <a:pt x="56" y="235"/>
                  </a:lnTo>
                  <a:lnTo>
                    <a:pt x="56" y="23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84280" y="2347920"/>
              <a:ext cx="1231920" cy="484200"/>
            </a:xfrm>
            <a:custGeom>
              <a:avLst/>
              <a:gdLst/>
              <a:ahLst/>
              <a:rect l="l" t="t" r="r" b="b"/>
              <a:pathLst>
                <a:path w="776" h="305">
                  <a:moveTo>
                    <a:pt x="0" y="0"/>
                  </a:moveTo>
                  <a:lnTo>
                    <a:pt x="776" y="75"/>
                  </a:lnTo>
                  <a:lnTo>
                    <a:pt x="776" y="305"/>
                  </a:ln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4280" y="2004840"/>
              <a:ext cx="1320840" cy="462240"/>
            </a:xfrm>
            <a:custGeom>
              <a:avLst/>
              <a:gdLst/>
              <a:ahLst/>
              <a:rect l="l" t="t" r="r" b="b"/>
              <a:pathLst>
                <a:path w="832" h="291">
                  <a:moveTo>
                    <a:pt x="0" y="0"/>
                  </a:moveTo>
                  <a:lnTo>
                    <a:pt x="15" y="0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104" y="0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60" y="5"/>
                  </a:lnTo>
                  <a:lnTo>
                    <a:pt x="174" y="5"/>
                  </a:lnTo>
                  <a:lnTo>
                    <a:pt x="188" y="5"/>
                  </a:lnTo>
                  <a:lnTo>
                    <a:pt x="217" y="5"/>
                  </a:lnTo>
                  <a:lnTo>
                    <a:pt x="231" y="9"/>
                  </a:lnTo>
                  <a:lnTo>
                    <a:pt x="245" y="9"/>
                  </a:lnTo>
                  <a:lnTo>
                    <a:pt x="273" y="9"/>
                  </a:lnTo>
                  <a:lnTo>
                    <a:pt x="287" y="14"/>
                  </a:lnTo>
                  <a:lnTo>
                    <a:pt x="301" y="14"/>
                  </a:lnTo>
                  <a:lnTo>
                    <a:pt x="310" y="14"/>
                  </a:lnTo>
                  <a:lnTo>
                    <a:pt x="339" y="19"/>
                  </a:lnTo>
                  <a:lnTo>
                    <a:pt x="353" y="19"/>
                  </a:lnTo>
                  <a:lnTo>
                    <a:pt x="367" y="19"/>
                  </a:lnTo>
                  <a:lnTo>
                    <a:pt x="390" y="23"/>
                  </a:lnTo>
                  <a:lnTo>
                    <a:pt x="404" y="28"/>
                  </a:lnTo>
                  <a:lnTo>
                    <a:pt x="418" y="28"/>
                  </a:lnTo>
                  <a:lnTo>
                    <a:pt x="442" y="33"/>
                  </a:lnTo>
                  <a:lnTo>
                    <a:pt x="451" y="33"/>
                  </a:lnTo>
                  <a:lnTo>
                    <a:pt x="465" y="37"/>
                  </a:lnTo>
                  <a:lnTo>
                    <a:pt x="489" y="42"/>
                  </a:lnTo>
                  <a:lnTo>
                    <a:pt x="498" y="42"/>
                  </a:lnTo>
                  <a:lnTo>
                    <a:pt x="512" y="47"/>
                  </a:lnTo>
                  <a:lnTo>
                    <a:pt x="536" y="52"/>
                  </a:lnTo>
                  <a:lnTo>
                    <a:pt x="545" y="52"/>
                  </a:lnTo>
                  <a:lnTo>
                    <a:pt x="555" y="56"/>
                  </a:lnTo>
                  <a:lnTo>
                    <a:pt x="578" y="61"/>
                  </a:lnTo>
                  <a:lnTo>
                    <a:pt x="588" y="61"/>
                  </a:lnTo>
                  <a:lnTo>
                    <a:pt x="597" y="66"/>
                  </a:lnTo>
                  <a:lnTo>
                    <a:pt x="616" y="70"/>
                  </a:lnTo>
                  <a:lnTo>
                    <a:pt x="625" y="75"/>
                  </a:lnTo>
                  <a:lnTo>
                    <a:pt x="635" y="75"/>
                  </a:lnTo>
                  <a:lnTo>
                    <a:pt x="653" y="80"/>
                  </a:lnTo>
                  <a:lnTo>
                    <a:pt x="663" y="84"/>
                  </a:lnTo>
                  <a:lnTo>
                    <a:pt x="672" y="89"/>
                  </a:lnTo>
                  <a:lnTo>
                    <a:pt x="691" y="94"/>
                  </a:lnTo>
                  <a:lnTo>
                    <a:pt x="696" y="99"/>
                  </a:lnTo>
                  <a:lnTo>
                    <a:pt x="705" y="99"/>
                  </a:lnTo>
                  <a:lnTo>
                    <a:pt x="714" y="103"/>
                  </a:lnTo>
                  <a:lnTo>
                    <a:pt x="729" y="108"/>
                  </a:lnTo>
                  <a:lnTo>
                    <a:pt x="733" y="113"/>
                  </a:lnTo>
                  <a:lnTo>
                    <a:pt x="743" y="117"/>
                  </a:lnTo>
                  <a:lnTo>
                    <a:pt x="752" y="122"/>
                  </a:lnTo>
                  <a:lnTo>
                    <a:pt x="757" y="127"/>
                  </a:lnTo>
                  <a:lnTo>
                    <a:pt x="766" y="131"/>
                  </a:lnTo>
                  <a:lnTo>
                    <a:pt x="776" y="136"/>
                  </a:lnTo>
                  <a:lnTo>
                    <a:pt x="780" y="141"/>
                  </a:lnTo>
                  <a:lnTo>
                    <a:pt x="785" y="146"/>
                  </a:lnTo>
                  <a:lnTo>
                    <a:pt x="794" y="150"/>
                  </a:lnTo>
                  <a:lnTo>
                    <a:pt x="799" y="155"/>
                  </a:lnTo>
                  <a:lnTo>
                    <a:pt x="804" y="160"/>
                  </a:lnTo>
                  <a:lnTo>
                    <a:pt x="808" y="164"/>
                  </a:lnTo>
                  <a:lnTo>
                    <a:pt x="813" y="169"/>
                  </a:lnTo>
                  <a:lnTo>
                    <a:pt x="818" y="174"/>
                  </a:lnTo>
                  <a:lnTo>
                    <a:pt x="822" y="183"/>
                  </a:lnTo>
                  <a:lnTo>
                    <a:pt x="822" y="183"/>
                  </a:lnTo>
                  <a:lnTo>
                    <a:pt x="822" y="188"/>
                  </a:lnTo>
                  <a:lnTo>
                    <a:pt x="827" y="197"/>
                  </a:lnTo>
                  <a:lnTo>
                    <a:pt x="827" y="202"/>
                  </a:lnTo>
                  <a:lnTo>
                    <a:pt x="832" y="202"/>
                  </a:lnTo>
                  <a:lnTo>
                    <a:pt x="832" y="211"/>
                  </a:lnTo>
                  <a:lnTo>
                    <a:pt x="832" y="216"/>
                  </a:lnTo>
                  <a:lnTo>
                    <a:pt x="832" y="221"/>
                  </a:lnTo>
                  <a:lnTo>
                    <a:pt x="832" y="225"/>
                  </a:lnTo>
                  <a:lnTo>
                    <a:pt x="827" y="230"/>
                  </a:lnTo>
                  <a:lnTo>
                    <a:pt x="827" y="235"/>
                  </a:lnTo>
                  <a:lnTo>
                    <a:pt x="827" y="239"/>
                  </a:lnTo>
                  <a:lnTo>
                    <a:pt x="822" y="244"/>
                  </a:lnTo>
                  <a:lnTo>
                    <a:pt x="822" y="249"/>
                  </a:lnTo>
                  <a:lnTo>
                    <a:pt x="818" y="254"/>
                  </a:lnTo>
                  <a:lnTo>
                    <a:pt x="813" y="258"/>
                  </a:lnTo>
                  <a:lnTo>
                    <a:pt x="808" y="263"/>
                  </a:lnTo>
                  <a:lnTo>
                    <a:pt x="808" y="268"/>
                  </a:lnTo>
                  <a:lnTo>
                    <a:pt x="799" y="272"/>
                  </a:lnTo>
                  <a:lnTo>
                    <a:pt x="794" y="277"/>
                  </a:lnTo>
                  <a:lnTo>
                    <a:pt x="790" y="282"/>
                  </a:lnTo>
                  <a:lnTo>
                    <a:pt x="780" y="286"/>
                  </a:lnTo>
                  <a:lnTo>
                    <a:pt x="776" y="291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027160"/>
              <a:ext cx="88920" cy="1270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lnTo>
                    <a:pt x="12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6280" y="2392200"/>
              <a:ext cx="96840" cy="492120"/>
            </a:xfrm>
            <a:custGeom>
              <a:avLst/>
              <a:gdLst/>
              <a:ahLst/>
              <a:rect l="l" t="t" r="r" b="b"/>
              <a:pathLst>
                <a:path w="61" h="310">
                  <a:moveTo>
                    <a:pt x="61" y="80"/>
                  </a:moveTo>
                  <a:lnTo>
                    <a:pt x="52" y="75"/>
                  </a:lnTo>
                  <a:lnTo>
                    <a:pt x="47" y="71"/>
                  </a:lnTo>
                  <a:lnTo>
                    <a:pt x="37" y="66"/>
                  </a:lnTo>
                  <a:lnTo>
                    <a:pt x="33" y="61"/>
                  </a:lnTo>
                  <a:lnTo>
                    <a:pt x="33" y="57"/>
                  </a:lnTo>
                  <a:lnTo>
                    <a:pt x="28" y="57"/>
                  </a:lnTo>
                  <a:lnTo>
                    <a:pt x="19" y="47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45"/>
                  </a:lnTo>
                  <a:lnTo>
                    <a:pt x="0" y="249"/>
                  </a:lnTo>
                  <a:lnTo>
                    <a:pt x="5" y="254"/>
                  </a:lnTo>
                  <a:lnTo>
                    <a:pt x="5" y="254"/>
                  </a:lnTo>
                  <a:lnTo>
                    <a:pt x="9" y="263"/>
                  </a:lnTo>
                  <a:lnTo>
                    <a:pt x="9" y="268"/>
                  </a:lnTo>
                  <a:lnTo>
                    <a:pt x="14" y="273"/>
                  </a:lnTo>
                  <a:lnTo>
                    <a:pt x="19" y="273"/>
                  </a:lnTo>
                  <a:lnTo>
                    <a:pt x="19" y="277"/>
                  </a:lnTo>
                  <a:lnTo>
                    <a:pt x="28" y="287"/>
                  </a:lnTo>
                  <a:lnTo>
                    <a:pt x="33" y="287"/>
                  </a:lnTo>
                  <a:lnTo>
                    <a:pt x="33" y="292"/>
                  </a:lnTo>
                  <a:lnTo>
                    <a:pt x="37" y="296"/>
                  </a:lnTo>
                  <a:lnTo>
                    <a:pt x="47" y="301"/>
                  </a:lnTo>
                  <a:lnTo>
                    <a:pt x="52" y="306"/>
                  </a:lnTo>
                  <a:lnTo>
                    <a:pt x="61" y="310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3120" y="2392200"/>
              <a:ext cx="1216080" cy="492120"/>
            </a:xfrm>
            <a:custGeom>
              <a:avLst/>
              <a:gdLst/>
              <a:ahLst/>
              <a:rect l="l" t="t" r="r" b="b"/>
              <a:pathLst>
                <a:path w="766" h="310">
                  <a:moveTo>
                    <a:pt x="766" y="0"/>
                  </a:moveTo>
                  <a:lnTo>
                    <a:pt x="0" y="80"/>
                  </a:lnTo>
                  <a:lnTo>
                    <a:pt x="0" y="310"/>
                  </a:lnTo>
                  <a:lnTo>
                    <a:pt x="766" y="23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6280" y="2259000"/>
              <a:ext cx="1312920" cy="260280"/>
            </a:xfrm>
            <a:custGeom>
              <a:avLst/>
              <a:gdLst/>
              <a:ahLst/>
              <a:rect l="l" t="t" r="r" b="b"/>
              <a:pathLst>
                <a:path w="827" h="164">
                  <a:moveTo>
                    <a:pt x="61" y="164"/>
                  </a:moveTo>
                  <a:lnTo>
                    <a:pt x="52" y="159"/>
                  </a:lnTo>
                  <a:lnTo>
                    <a:pt x="42" y="155"/>
                  </a:lnTo>
                  <a:lnTo>
                    <a:pt x="37" y="150"/>
                  </a:lnTo>
                  <a:lnTo>
                    <a:pt x="33" y="145"/>
                  </a:lnTo>
                  <a:lnTo>
                    <a:pt x="33" y="141"/>
                  </a:lnTo>
                  <a:lnTo>
                    <a:pt x="23" y="136"/>
                  </a:lnTo>
                  <a:lnTo>
                    <a:pt x="19" y="131"/>
                  </a:lnTo>
                  <a:lnTo>
                    <a:pt x="19" y="126"/>
                  </a:lnTo>
                  <a:lnTo>
                    <a:pt x="14" y="126"/>
                  </a:lnTo>
                  <a:lnTo>
                    <a:pt x="9" y="117"/>
                  </a:lnTo>
                  <a:lnTo>
                    <a:pt x="5" y="112"/>
                  </a:lnTo>
                  <a:lnTo>
                    <a:pt x="5" y="108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9" y="51"/>
                  </a:lnTo>
                  <a:lnTo>
                    <a:pt x="14" y="42"/>
                  </a:lnTo>
                  <a:lnTo>
                    <a:pt x="19" y="37"/>
                  </a:lnTo>
                  <a:lnTo>
                    <a:pt x="19" y="32"/>
                  </a:lnTo>
                  <a:lnTo>
                    <a:pt x="23" y="32"/>
                  </a:lnTo>
                  <a:lnTo>
                    <a:pt x="33" y="23"/>
                  </a:lnTo>
                  <a:lnTo>
                    <a:pt x="33" y="18"/>
                  </a:lnTo>
                  <a:lnTo>
                    <a:pt x="37" y="18"/>
                  </a:lnTo>
                  <a:lnTo>
                    <a:pt x="42" y="14"/>
                  </a:lnTo>
                  <a:lnTo>
                    <a:pt x="52" y="4"/>
                  </a:lnTo>
                  <a:lnTo>
                    <a:pt x="61" y="4"/>
                  </a:lnTo>
                  <a:lnTo>
                    <a:pt x="66" y="0"/>
                  </a:lnTo>
                  <a:lnTo>
                    <a:pt x="827" y="84"/>
                  </a:lnTo>
                  <a:lnTo>
                    <a:pt x="61" y="164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2600" y="2654280"/>
              <a:ext cx="185760" cy="10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lnTo>
                    <a:pt x="11" y="0"/>
                  </a:lnTo>
                  <a:lnTo>
                    <a:pt x="2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9960" y="2579760"/>
              <a:ext cx="701640" cy="550800"/>
            </a:xfrm>
            <a:custGeom>
              <a:avLst/>
              <a:gdLst/>
              <a:ahLst/>
              <a:rect l="l" t="t" r="r" b="b"/>
              <a:pathLst>
                <a:path w="442" h="347">
                  <a:moveTo>
                    <a:pt x="442" y="117"/>
                  </a:moveTo>
                  <a:lnTo>
                    <a:pt x="427" y="117"/>
                  </a:lnTo>
                  <a:lnTo>
                    <a:pt x="404" y="112"/>
                  </a:lnTo>
                  <a:lnTo>
                    <a:pt x="390" y="112"/>
                  </a:lnTo>
                  <a:lnTo>
                    <a:pt x="376" y="108"/>
                  </a:lnTo>
                  <a:lnTo>
                    <a:pt x="366" y="108"/>
                  </a:lnTo>
                  <a:lnTo>
                    <a:pt x="338" y="103"/>
                  </a:lnTo>
                  <a:lnTo>
                    <a:pt x="329" y="103"/>
                  </a:lnTo>
                  <a:lnTo>
                    <a:pt x="315" y="98"/>
                  </a:lnTo>
                  <a:lnTo>
                    <a:pt x="305" y="98"/>
                  </a:lnTo>
                  <a:lnTo>
                    <a:pt x="282" y="94"/>
                  </a:lnTo>
                  <a:lnTo>
                    <a:pt x="268" y="89"/>
                  </a:lnTo>
                  <a:lnTo>
                    <a:pt x="258" y="89"/>
                  </a:lnTo>
                  <a:lnTo>
                    <a:pt x="244" y="84"/>
                  </a:lnTo>
                  <a:lnTo>
                    <a:pt x="221" y="80"/>
                  </a:lnTo>
                  <a:lnTo>
                    <a:pt x="211" y="80"/>
                  </a:lnTo>
                  <a:lnTo>
                    <a:pt x="202" y="75"/>
                  </a:lnTo>
                  <a:lnTo>
                    <a:pt x="193" y="75"/>
                  </a:lnTo>
                  <a:lnTo>
                    <a:pt x="169" y="70"/>
                  </a:lnTo>
                  <a:lnTo>
                    <a:pt x="160" y="65"/>
                  </a:lnTo>
                  <a:lnTo>
                    <a:pt x="150" y="65"/>
                  </a:lnTo>
                  <a:lnTo>
                    <a:pt x="141" y="61"/>
                  </a:lnTo>
                  <a:lnTo>
                    <a:pt x="122" y="56"/>
                  </a:lnTo>
                  <a:lnTo>
                    <a:pt x="113" y="51"/>
                  </a:lnTo>
                  <a:lnTo>
                    <a:pt x="103" y="47"/>
                  </a:lnTo>
                  <a:lnTo>
                    <a:pt x="94" y="47"/>
                  </a:lnTo>
                  <a:lnTo>
                    <a:pt x="80" y="37"/>
                  </a:lnTo>
                  <a:lnTo>
                    <a:pt x="70" y="37"/>
                  </a:lnTo>
                  <a:lnTo>
                    <a:pt x="66" y="33"/>
                  </a:lnTo>
                  <a:lnTo>
                    <a:pt x="56" y="28"/>
                  </a:lnTo>
                  <a:lnTo>
                    <a:pt x="42" y="23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3" y="14"/>
                  </a:lnTo>
                  <a:lnTo>
                    <a:pt x="9" y="4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5" y="235"/>
                  </a:lnTo>
                  <a:lnTo>
                    <a:pt x="9" y="235"/>
                  </a:lnTo>
                  <a:lnTo>
                    <a:pt x="23" y="244"/>
                  </a:lnTo>
                  <a:lnTo>
                    <a:pt x="28" y="249"/>
                  </a:lnTo>
                  <a:lnTo>
                    <a:pt x="33" y="249"/>
                  </a:lnTo>
                  <a:lnTo>
                    <a:pt x="42" y="253"/>
                  </a:lnTo>
                  <a:lnTo>
                    <a:pt x="56" y="258"/>
                  </a:lnTo>
                  <a:lnTo>
                    <a:pt x="66" y="263"/>
                  </a:lnTo>
                  <a:lnTo>
                    <a:pt x="70" y="268"/>
                  </a:lnTo>
                  <a:lnTo>
                    <a:pt x="80" y="268"/>
                  </a:lnTo>
                  <a:lnTo>
                    <a:pt x="94" y="277"/>
                  </a:lnTo>
                  <a:lnTo>
                    <a:pt x="103" y="277"/>
                  </a:lnTo>
                  <a:lnTo>
                    <a:pt x="113" y="282"/>
                  </a:lnTo>
                  <a:lnTo>
                    <a:pt x="122" y="286"/>
                  </a:lnTo>
                  <a:lnTo>
                    <a:pt x="141" y="291"/>
                  </a:lnTo>
                  <a:lnTo>
                    <a:pt x="150" y="296"/>
                  </a:lnTo>
                  <a:lnTo>
                    <a:pt x="160" y="296"/>
                  </a:lnTo>
                  <a:lnTo>
                    <a:pt x="169" y="300"/>
                  </a:lnTo>
                  <a:lnTo>
                    <a:pt x="193" y="305"/>
                  </a:lnTo>
                  <a:lnTo>
                    <a:pt x="202" y="305"/>
                  </a:lnTo>
                  <a:lnTo>
                    <a:pt x="211" y="310"/>
                  </a:lnTo>
                  <a:lnTo>
                    <a:pt x="221" y="310"/>
                  </a:lnTo>
                  <a:lnTo>
                    <a:pt x="244" y="314"/>
                  </a:lnTo>
                  <a:lnTo>
                    <a:pt x="258" y="319"/>
                  </a:lnTo>
                  <a:lnTo>
                    <a:pt x="268" y="319"/>
                  </a:lnTo>
                  <a:lnTo>
                    <a:pt x="282" y="324"/>
                  </a:lnTo>
                  <a:lnTo>
                    <a:pt x="305" y="329"/>
                  </a:lnTo>
                  <a:lnTo>
                    <a:pt x="315" y="329"/>
                  </a:lnTo>
                  <a:lnTo>
                    <a:pt x="329" y="333"/>
                  </a:lnTo>
                  <a:lnTo>
                    <a:pt x="338" y="333"/>
                  </a:lnTo>
                  <a:lnTo>
                    <a:pt x="366" y="338"/>
                  </a:lnTo>
                  <a:lnTo>
                    <a:pt x="376" y="338"/>
                  </a:lnTo>
                  <a:lnTo>
                    <a:pt x="390" y="343"/>
                  </a:lnTo>
                  <a:lnTo>
                    <a:pt x="404" y="343"/>
                  </a:lnTo>
                  <a:lnTo>
                    <a:pt x="427" y="347"/>
                  </a:lnTo>
                  <a:lnTo>
                    <a:pt x="442" y="347"/>
                  </a:lnTo>
                  <a:lnTo>
                    <a:pt x="442" y="11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71600" y="2452680"/>
              <a:ext cx="514440" cy="677880"/>
            </a:xfrm>
            <a:custGeom>
              <a:avLst/>
              <a:gdLst/>
              <a:ahLst/>
              <a:rect l="l" t="t" r="r" b="b"/>
              <a:pathLst>
                <a:path w="324" h="427">
                  <a:moveTo>
                    <a:pt x="324" y="0"/>
                  </a:moveTo>
                  <a:lnTo>
                    <a:pt x="0" y="197"/>
                  </a:lnTo>
                  <a:lnTo>
                    <a:pt x="0" y="427"/>
                  </a:lnTo>
                  <a:lnTo>
                    <a:pt x="324" y="23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9960" y="2452680"/>
              <a:ext cx="1216080" cy="312840"/>
            </a:xfrm>
            <a:custGeom>
              <a:avLst/>
              <a:gdLst/>
              <a:ahLst/>
              <a:rect l="l" t="t" r="r" b="b"/>
              <a:pathLst>
                <a:path w="766" h="197">
                  <a:moveTo>
                    <a:pt x="442" y="197"/>
                  </a:moveTo>
                  <a:lnTo>
                    <a:pt x="427" y="197"/>
                  </a:lnTo>
                  <a:lnTo>
                    <a:pt x="404" y="192"/>
                  </a:lnTo>
                  <a:lnTo>
                    <a:pt x="390" y="192"/>
                  </a:lnTo>
                  <a:lnTo>
                    <a:pt x="376" y="188"/>
                  </a:lnTo>
                  <a:lnTo>
                    <a:pt x="366" y="188"/>
                  </a:lnTo>
                  <a:lnTo>
                    <a:pt x="338" y="183"/>
                  </a:lnTo>
                  <a:lnTo>
                    <a:pt x="329" y="183"/>
                  </a:lnTo>
                  <a:lnTo>
                    <a:pt x="315" y="178"/>
                  </a:lnTo>
                  <a:lnTo>
                    <a:pt x="305" y="178"/>
                  </a:lnTo>
                  <a:lnTo>
                    <a:pt x="282" y="174"/>
                  </a:lnTo>
                  <a:lnTo>
                    <a:pt x="268" y="169"/>
                  </a:lnTo>
                  <a:lnTo>
                    <a:pt x="258" y="169"/>
                  </a:lnTo>
                  <a:lnTo>
                    <a:pt x="244" y="164"/>
                  </a:lnTo>
                  <a:lnTo>
                    <a:pt x="221" y="160"/>
                  </a:lnTo>
                  <a:lnTo>
                    <a:pt x="211" y="160"/>
                  </a:lnTo>
                  <a:lnTo>
                    <a:pt x="202" y="155"/>
                  </a:lnTo>
                  <a:lnTo>
                    <a:pt x="193" y="155"/>
                  </a:lnTo>
                  <a:lnTo>
                    <a:pt x="169" y="150"/>
                  </a:lnTo>
                  <a:lnTo>
                    <a:pt x="160" y="145"/>
                  </a:lnTo>
                  <a:lnTo>
                    <a:pt x="150" y="145"/>
                  </a:lnTo>
                  <a:lnTo>
                    <a:pt x="141" y="141"/>
                  </a:lnTo>
                  <a:lnTo>
                    <a:pt x="122" y="136"/>
                  </a:lnTo>
                  <a:lnTo>
                    <a:pt x="113" y="131"/>
                  </a:lnTo>
                  <a:lnTo>
                    <a:pt x="103" y="127"/>
                  </a:lnTo>
                  <a:lnTo>
                    <a:pt x="94" y="127"/>
                  </a:lnTo>
                  <a:lnTo>
                    <a:pt x="80" y="117"/>
                  </a:lnTo>
                  <a:lnTo>
                    <a:pt x="70" y="117"/>
                  </a:lnTo>
                  <a:lnTo>
                    <a:pt x="66" y="113"/>
                  </a:lnTo>
                  <a:lnTo>
                    <a:pt x="56" y="108"/>
                  </a:lnTo>
                  <a:lnTo>
                    <a:pt x="42" y="103"/>
                  </a:lnTo>
                  <a:lnTo>
                    <a:pt x="33" y="98"/>
                  </a:lnTo>
                  <a:lnTo>
                    <a:pt x="28" y="98"/>
                  </a:lnTo>
                  <a:lnTo>
                    <a:pt x="23" y="94"/>
                  </a:lnTo>
                  <a:lnTo>
                    <a:pt x="9" y="84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766" y="0"/>
                  </a:lnTo>
                  <a:lnTo>
                    <a:pt x="442" y="197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6920" y="3063960"/>
              <a:ext cx="125640" cy="2156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9"/>
                  </a:moveTo>
                  <a:lnTo>
                    <a:pt x="11" y="29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28720" y="2585880"/>
              <a:ext cx="1744560" cy="590760"/>
            </a:xfrm>
            <a:custGeom>
              <a:avLst/>
              <a:gdLst/>
              <a:ahLst/>
              <a:rect l="l" t="t" r="r" b="b"/>
              <a:pathLst>
                <a:path w="1099" h="372">
                  <a:moveTo>
                    <a:pt x="1099" y="0"/>
                  </a:moveTo>
                  <a:lnTo>
                    <a:pt x="1095" y="5"/>
                  </a:lnTo>
                  <a:lnTo>
                    <a:pt x="1080" y="10"/>
                  </a:lnTo>
                  <a:lnTo>
                    <a:pt x="1076" y="14"/>
                  </a:lnTo>
                  <a:lnTo>
                    <a:pt x="1071" y="19"/>
                  </a:lnTo>
                  <a:lnTo>
                    <a:pt x="1057" y="24"/>
                  </a:lnTo>
                  <a:lnTo>
                    <a:pt x="1052" y="29"/>
                  </a:lnTo>
                  <a:lnTo>
                    <a:pt x="1043" y="33"/>
                  </a:lnTo>
                  <a:lnTo>
                    <a:pt x="1029" y="38"/>
                  </a:lnTo>
                  <a:lnTo>
                    <a:pt x="1019" y="43"/>
                  </a:lnTo>
                  <a:lnTo>
                    <a:pt x="1015" y="43"/>
                  </a:lnTo>
                  <a:lnTo>
                    <a:pt x="996" y="52"/>
                  </a:lnTo>
                  <a:lnTo>
                    <a:pt x="987" y="52"/>
                  </a:lnTo>
                  <a:lnTo>
                    <a:pt x="977" y="57"/>
                  </a:lnTo>
                  <a:lnTo>
                    <a:pt x="958" y="61"/>
                  </a:lnTo>
                  <a:lnTo>
                    <a:pt x="949" y="66"/>
                  </a:lnTo>
                  <a:lnTo>
                    <a:pt x="940" y="71"/>
                  </a:lnTo>
                  <a:lnTo>
                    <a:pt x="921" y="76"/>
                  </a:lnTo>
                  <a:lnTo>
                    <a:pt x="911" y="76"/>
                  </a:lnTo>
                  <a:lnTo>
                    <a:pt x="902" y="80"/>
                  </a:lnTo>
                  <a:lnTo>
                    <a:pt x="878" y="85"/>
                  </a:lnTo>
                  <a:lnTo>
                    <a:pt x="869" y="85"/>
                  </a:lnTo>
                  <a:lnTo>
                    <a:pt x="860" y="90"/>
                  </a:lnTo>
                  <a:lnTo>
                    <a:pt x="836" y="94"/>
                  </a:lnTo>
                  <a:lnTo>
                    <a:pt x="822" y="94"/>
                  </a:lnTo>
                  <a:lnTo>
                    <a:pt x="813" y="99"/>
                  </a:lnTo>
                  <a:lnTo>
                    <a:pt x="789" y="104"/>
                  </a:lnTo>
                  <a:lnTo>
                    <a:pt x="775" y="104"/>
                  </a:lnTo>
                  <a:lnTo>
                    <a:pt x="766" y="108"/>
                  </a:lnTo>
                  <a:lnTo>
                    <a:pt x="742" y="113"/>
                  </a:lnTo>
                  <a:lnTo>
                    <a:pt x="728" y="113"/>
                  </a:lnTo>
                  <a:lnTo>
                    <a:pt x="714" y="113"/>
                  </a:lnTo>
                  <a:lnTo>
                    <a:pt x="691" y="118"/>
                  </a:lnTo>
                  <a:lnTo>
                    <a:pt x="676" y="118"/>
                  </a:lnTo>
                  <a:lnTo>
                    <a:pt x="662" y="123"/>
                  </a:lnTo>
                  <a:lnTo>
                    <a:pt x="634" y="123"/>
                  </a:lnTo>
                  <a:lnTo>
                    <a:pt x="625" y="127"/>
                  </a:lnTo>
                  <a:lnTo>
                    <a:pt x="611" y="127"/>
                  </a:lnTo>
                  <a:lnTo>
                    <a:pt x="583" y="127"/>
                  </a:lnTo>
                  <a:lnTo>
                    <a:pt x="568" y="132"/>
                  </a:lnTo>
                  <a:lnTo>
                    <a:pt x="554" y="132"/>
                  </a:lnTo>
                  <a:lnTo>
                    <a:pt x="526" y="132"/>
                  </a:lnTo>
                  <a:lnTo>
                    <a:pt x="512" y="137"/>
                  </a:lnTo>
                  <a:lnTo>
                    <a:pt x="498" y="137"/>
                  </a:lnTo>
                  <a:lnTo>
                    <a:pt x="470" y="137"/>
                  </a:lnTo>
                  <a:lnTo>
                    <a:pt x="456" y="137"/>
                  </a:lnTo>
                  <a:lnTo>
                    <a:pt x="442" y="137"/>
                  </a:lnTo>
                  <a:lnTo>
                    <a:pt x="413" y="137"/>
                  </a:lnTo>
                  <a:lnTo>
                    <a:pt x="399" y="141"/>
                  </a:lnTo>
                  <a:lnTo>
                    <a:pt x="385" y="141"/>
                  </a:lnTo>
                  <a:lnTo>
                    <a:pt x="352" y="141"/>
                  </a:lnTo>
                  <a:lnTo>
                    <a:pt x="338" y="141"/>
                  </a:lnTo>
                  <a:lnTo>
                    <a:pt x="324" y="141"/>
                  </a:lnTo>
                  <a:lnTo>
                    <a:pt x="296" y="141"/>
                  </a:lnTo>
                  <a:lnTo>
                    <a:pt x="282" y="141"/>
                  </a:lnTo>
                  <a:lnTo>
                    <a:pt x="268" y="141"/>
                  </a:lnTo>
                  <a:lnTo>
                    <a:pt x="240" y="137"/>
                  </a:lnTo>
                  <a:lnTo>
                    <a:pt x="226" y="137"/>
                  </a:lnTo>
                  <a:lnTo>
                    <a:pt x="211" y="137"/>
                  </a:lnTo>
                  <a:lnTo>
                    <a:pt x="183" y="137"/>
                  </a:lnTo>
                  <a:lnTo>
                    <a:pt x="169" y="137"/>
                  </a:lnTo>
                  <a:lnTo>
                    <a:pt x="155" y="137"/>
                  </a:lnTo>
                  <a:lnTo>
                    <a:pt x="127" y="132"/>
                  </a:lnTo>
                  <a:lnTo>
                    <a:pt x="113" y="132"/>
                  </a:lnTo>
                  <a:lnTo>
                    <a:pt x="99" y="132"/>
                  </a:lnTo>
                  <a:lnTo>
                    <a:pt x="70" y="127"/>
                  </a:lnTo>
                  <a:lnTo>
                    <a:pt x="56" y="127"/>
                  </a:lnTo>
                  <a:lnTo>
                    <a:pt x="42" y="127"/>
                  </a:lnTo>
                  <a:lnTo>
                    <a:pt x="14" y="123"/>
                  </a:lnTo>
                  <a:lnTo>
                    <a:pt x="0" y="123"/>
                  </a:lnTo>
                  <a:lnTo>
                    <a:pt x="0" y="353"/>
                  </a:lnTo>
                  <a:lnTo>
                    <a:pt x="14" y="353"/>
                  </a:lnTo>
                  <a:lnTo>
                    <a:pt x="42" y="357"/>
                  </a:lnTo>
                  <a:lnTo>
                    <a:pt x="56" y="357"/>
                  </a:lnTo>
                  <a:lnTo>
                    <a:pt x="70" y="357"/>
                  </a:lnTo>
                  <a:lnTo>
                    <a:pt x="99" y="362"/>
                  </a:lnTo>
                  <a:lnTo>
                    <a:pt x="113" y="362"/>
                  </a:lnTo>
                  <a:lnTo>
                    <a:pt x="127" y="362"/>
                  </a:lnTo>
                  <a:lnTo>
                    <a:pt x="155" y="367"/>
                  </a:lnTo>
                  <a:lnTo>
                    <a:pt x="169" y="367"/>
                  </a:lnTo>
                  <a:lnTo>
                    <a:pt x="183" y="367"/>
                  </a:lnTo>
                  <a:lnTo>
                    <a:pt x="211" y="367"/>
                  </a:lnTo>
                  <a:lnTo>
                    <a:pt x="226" y="367"/>
                  </a:lnTo>
                  <a:lnTo>
                    <a:pt x="240" y="367"/>
                  </a:lnTo>
                  <a:lnTo>
                    <a:pt x="268" y="372"/>
                  </a:lnTo>
                  <a:lnTo>
                    <a:pt x="282" y="372"/>
                  </a:lnTo>
                  <a:lnTo>
                    <a:pt x="296" y="372"/>
                  </a:lnTo>
                  <a:lnTo>
                    <a:pt x="324" y="372"/>
                  </a:lnTo>
                  <a:lnTo>
                    <a:pt x="338" y="372"/>
                  </a:lnTo>
                  <a:lnTo>
                    <a:pt x="352" y="372"/>
                  </a:lnTo>
                  <a:lnTo>
                    <a:pt x="385" y="372"/>
                  </a:lnTo>
                  <a:lnTo>
                    <a:pt x="399" y="372"/>
                  </a:lnTo>
                  <a:lnTo>
                    <a:pt x="413" y="367"/>
                  </a:lnTo>
                  <a:lnTo>
                    <a:pt x="442" y="367"/>
                  </a:lnTo>
                  <a:lnTo>
                    <a:pt x="456" y="367"/>
                  </a:lnTo>
                  <a:lnTo>
                    <a:pt x="470" y="367"/>
                  </a:lnTo>
                  <a:lnTo>
                    <a:pt x="498" y="367"/>
                  </a:lnTo>
                  <a:lnTo>
                    <a:pt x="512" y="367"/>
                  </a:lnTo>
                  <a:lnTo>
                    <a:pt x="526" y="362"/>
                  </a:lnTo>
                  <a:lnTo>
                    <a:pt x="554" y="362"/>
                  </a:lnTo>
                  <a:lnTo>
                    <a:pt x="568" y="362"/>
                  </a:lnTo>
                  <a:lnTo>
                    <a:pt x="583" y="357"/>
                  </a:lnTo>
                  <a:lnTo>
                    <a:pt x="611" y="357"/>
                  </a:lnTo>
                  <a:lnTo>
                    <a:pt x="625" y="357"/>
                  </a:lnTo>
                  <a:lnTo>
                    <a:pt x="634" y="353"/>
                  </a:lnTo>
                  <a:lnTo>
                    <a:pt x="662" y="353"/>
                  </a:lnTo>
                  <a:lnTo>
                    <a:pt x="676" y="348"/>
                  </a:lnTo>
                  <a:lnTo>
                    <a:pt x="691" y="348"/>
                  </a:lnTo>
                  <a:lnTo>
                    <a:pt x="714" y="343"/>
                  </a:lnTo>
                  <a:lnTo>
                    <a:pt x="728" y="343"/>
                  </a:lnTo>
                  <a:lnTo>
                    <a:pt x="742" y="343"/>
                  </a:lnTo>
                  <a:lnTo>
                    <a:pt x="766" y="339"/>
                  </a:lnTo>
                  <a:lnTo>
                    <a:pt x="775" y="334"/>
                  </a:lnTo>
                  <a:lnTo>
                    <a:pt x="789" y="334"/>
                  </a:lnTo>
                  <a:lnTo>
                    <a:pt x="813" y="329"/>
                  </a:lnTo>
                  <a:lnTo>
                    <a:pt x="822" y="325"/>
                  </a:lnTo>
                  <a:lnTo>
                    <a:pt x="836" y="325"/>
                  </a:lnTo>
                  <a:lnTo>
                    <a:pt x="860" y="320"/>
                  </a:lnTo>
                  <a:lnTo>
                    <a:pt x="869" y="315"/>
                  </a:lnTo>
                  <a:lnTo>
                    <a:pt x="878" y="315"/>
                  </a:lnTo>
                  <a:lnTo>
                    <a:pt x="902" y="310"/>
                  </a:lnTo>
                  <a:lnTo>
                    <a:pt x="911" y="306"/>
                  </a:lnTo>
                  <a:lnTo>
                    <a:pt x="921" y="306"/>
                  </a:lnTo>
                  <a:lnTo>
                    <a:pt x="940" y="301"/>
                  </a:lnTo>
                  <a:lnTo>
                    <a:pt x="949" y="296"/>
                  </a:lnTo>
                  <a:lnTo>
                    <a:pt x="958" y="292"/>
                  </a:lnTo>
                  <a:lnTo>
                    <a:pt x="977" y="287"/>
                  </a:lnTo>
                  <a:lnTo>
                    <a:pt x="987" y="282"/>
                  </a:lnTo>
                  <a:lnTo>
                    <a:pt x="996" y="282"/>
                  </a:lnTo>
                  <a:lnTo>
                    <a:pt x="1015" y="273"/>
                  </a:lnTo>
                  <a:lnTo>
                    <a:pt x="1019" y="273"/>
                  </a:lnTo>
                  <a:lnTo>
                    <a:pt x="1029" y="268"/>
                  </a:lnTo>
                  <a:lnTo>
                    <a:pt x="1043" y="264"/>
                  </a:lnTo>
                  <a:lnTo>
                    <a:pt x="1052" y="259"/>
                  </a:lnTo>
                  <a:lnTo>
                    <a:pt x="1057" y="254"/>
                  </a:lnTo>
                  <a:lnTo>
                    <a:pt x="1071" y="249"/>
                  </a:lnTo>
                  <a:lnTo>
                    <a:pt x="1076" y="245"/>
                  </a:lnTo>
                  <a:lnTo>
                    <a:pt x="1080" y="240"/>
                  </a:lnTo>
                  <a:lnTo>
                    <a:pt x="1095" y="235"/>
                  </a:lnTo>
                  <a:lnTo>
                    <a:pt x="1099" y="231"/>
                  </a:lnTo>
                  <a:lnTo>
                    <a:pt x="1099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28720" y="2467080"/>
              <a:ext cx="1744560" cy="342720"/>
            </a:xfrm>
            <a:custGeom>
              <a:avLst/>
              <a:gdLst/>
              <a:ahLst/>
              <a:rect l="l" t="t" r="r" b="b"/>
              <a:pathLst>
                <a:path w="1099" h="216">
                  <a:moveTo>
                    <a:pt x="1099" y="75"/>
                  </a:moveTo>
                  <a:lnTo>
                    <a:pt x="1095" y="80"/>
                  </a:lnTo>
                  <a:lnTo>
                    <a:pt x="1080" y="85"/>
                  </a:lnTo>
                  <a:lnTo>
                    <a:pt x="1076" y="89"/>
                  </a:lnTo>
                  <a:lnTo>
                    <a:pt x="1071" y="94"/>
                  </a:lnTo>
                  <a:lnTo>
                    <a:pt x="1057" y="99"/>
                  </a:lnTo>
                  <a:lnTo>
                    <a:pt x="1052" y="104"/>
                  </a:lnTo>
                  <a:lnTo>
                    <a:pt x="1043" y="108"/>
                  </a:lnTo>
                  <a:lnTo>
                    <a:pt x="1029" y="113"/>
                  </a:lnTo>
                  <a:lnTo>
                    <a:pt x="1019" y="118"/>
                  </a:lnTo>
                  <a:lnTo>
                    <a:pt x="1015" y="118"/>
                  </a:lnTo>
                  <a:lnTo>
                    <a:pt x="996" y="127"/>
                  </a:lnTo>
                  <a:lnTo>
                    <a:pt x="987" y="127"/>
                  </a:lnTo>
                  <a:lnTo>
                    <a:pt x="977" y="132"/>
                  </a:lnTo>
                  <a:lnTo>
                    <a:pt x="958" y="136"/>
                  </a:lnTo>
                  <a:lnTo>
                    <a:pt x="949" y="141"/>
                  </a:lnTo>
                  <a:lnTo>
                    <a:pt x="940" y="146"/>
                  </a:lnTo>
                  <a:lnTo>
                    <a:pt x="921" y="151"/>
                  </a:lnTo>
                  <a:lnTo>
                    <a:pt x="911" y="151"/>
                  </a:lnTo>
                  <a:lnTo>
                    <a:pt x="902" y="155"/>
                  </a:lnTo>
                  <a:lnTo>
                    <a:pt x="878" y="160"/>
                  </a:lnTo>
                  <a:lnTo>
                    <a:pt x="869" y="160"/>
                  </a:lnTo>
                  <a:lnTo>
                    <a:pt x="860" y="165"/>
                  </a:lnTo>
                  <a:lnTo>
                    <a:pt x="836" y="169"/>
                  </a:lnTo>
                  <a:lnTo>
                    <a:pt x="822" y="169"/>
                  </a:lnTo>
                  <a:lnTo>
                    <a:pt x="813" y="174"/>
                  </a:lnTo>
                  <a:lnTo>
                    <a:pt x="789" y="179"/>
                  </a:lnTo>
                  <a:lnTo>
                    <a:pt x="775" y="179"/>
                  </a:lnTo>
                  <a:lnTo>
                    <a:pt x="766" y="183"/>
                  </a:lnTo>
                  <a:lnTo>
                    <a:pt x="742" y="188"/>
                  </a:lnTo>
                  <a:lnTo>
                    <a:pt x="728" y="188"/>
                  </a:lnTo>
                  <a:lnTo>
                    <a:pt x="714" y="188"/>
                  </a:lnTo>
                  <a:lnTo>
                    <a:pt x="691" y="193"/>
                  </a:lnTo>
                  <a:lnTo>
                    <a:pt x="676" y="193"/>
                  </a:lnTo>
                  <a:lnTo>
                    <a:pt x="662" y="198"/>
                  </a:lnTo>
                  <a:lnTo>
                    <a:pt x="634" y="198"/>
                  </a:lnTo>
                  <a:lnTo>
                    <a:pt x="625" y="202"/>
                  </a:lnTo>
                  <a:lnTo>
                    <a:pt x="611" y="202"/>
                  </a:lnTo>
                  <a:lnTo>
                    <a:pt x="583" y="202"/>
                  </a:lnTo>
                  <a:lnTo>
                    <a:pt x="568" y="207"/>
                  </a:lnTo>
                  <a:lnTo>
                    <a:pt x="554" y="207"/>
                  </a:lnTo>
                  <a:lnTo>
                    <a:pt x="526" y="207"/>
                  </a:lnTo>
                  <a:lnTo>
                    <a:pt x="512" y="212"/>
                  </a:lnTo>
                  <a:lnTo>
                    <a:pt x="498" y="212"/>
                  </a:lnTo>
                  <a:lnTo>
                    <a:pt x="470" y="212"/>
                  </a:lnTo>
                  <a:lnTo>
                    <a:pt x="456" y="212"/>
                  </a:lnTo>
                  <a:lnTo>
                    <a:pt x="442" y="212"/>
                  </a:lnTo>
                  <a:lnTo>
                    <a:pt x="413" y="212"/>
                  </a:lnTo>
                  <a:lnTo>
                    <a:pt x="399" y="216"/>
                  </a:lnTo>
                  <a:lnTo>
                    <a:pt x="385" y="216"/>
                  </a:lnTo>
                  <a:lnTo>
                    <a:pt x="352" y="216"/>
                  </a:lnTo>
                  <a:lnTo>
                    <a:pt x="338" y="216"/>
                  </a:lnTo>
                  <a:lnTo>
                    <a:pt x="324" y="216"/>
                  </a:lnTo>
                  <a:lnTo>
                    <a:pt x="296" y="216"/>
                  </a:lnTo>
                  <a:lnTo>
                    <a:pt x="282" y="216"/>
                  </a:lnTo>
                  <a:lnTo>
                    <a:pt x="268" y="216"/>
                  </a:lnTo>
                  <a:lnTo>
                    <a:pt x="240" y="212"/>
                  </a:lnTo>
                  <a:lnTo>
                    <a:pt x="226" y="212"/>
                  </a:lnTo>
                  <a:lnTo>
                    <a:pt x="211" y="212"/>
                  </a:lnTo>
                  <a:lnTo>
                    <a:pt x="183" y="212"/>
                  </a:lnTo>
                  <a:lnTo>
                    <a:pt x="169" y="212"/>
                  </a:lnTo>
                  <a:lnTo>
                    <a:pt x="155" y="212"/>
                  </a:lnTo>
                  <a:lnTo>
                    <a:pt x="127" y="207"/>
                  </a:lnTo>
                  <a:lnTo>
                    <a:pt x="113" y="207"/>
                  </a:lnTo>
                  <a:lnTo>
                    <a:pt x="99" y="207"/>
                  </a:lnTo>
                  <a:lnTo>
                    <a:pt x="70" y="202"/>
                  </a:lnTo>
                  <a:lnTo>
                    <a:pt x="56" y="202"/>
                  </a:lnTo>
                  <a:lnTo>
                    <a:pt x="42" y="202"/>
                  </a:lnTo>
                  <a:lnTo>
                    <a:pt x="14" y="198"/>
                  </a:lnTo>
                  <a:lnTo>
                    <a:pt x="0" y="198"/>
                  </a:lnTo>
                  <a:lnTo>
                    <a:pt x="324" y="0"/>
                  </a:lnTo>
                  <a:lnTo>
                    <a:pt x="1099" y="75"/>
                  </a:lnTo>
                  <a:close/>
                </a:path>
              </a:pathLst>
            </a:custGeom>
            <a:solidFill>
              <a:srgbClr val="99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57600" y="3146400"/>
              <a:ext cx="149040" cy="26820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20" y="36"/>
                  </a:move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7640" y="32130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320" y="2585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6440" y="1789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88280" y="165420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27920" y="18558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27880" y="33480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17400" y="3749760"/>
              <a:ext cx="52560" cy="52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4880" y="3720960"/>
              <a:ext cx="1040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Облигации эмитентов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17400" y="3898800"/>
              <a:ext cx="52560" cy="525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5600" y="3870360"/>
              <a:ext cx="150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Государственные ценные бумаги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7400" y="4048200"/>
              <a:ext cx="52560" cy="5220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3800" y="4019400"/>
              <a:ext cx="83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Акции эмитентов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7400" y="4197240"/>
              <a:ext cx="52560" cy="5256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4160" y="4168800"/>
              <a:ext cx="82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Вклады в банках РК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400" y="4346640"/>
              <a:ext cx="52560" cy="5220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4520" y="4317840"/>
              <a:ext cx="1139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ЦБ иностранных эмитентов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7400" y="4495680"/>
              <a:ext cx="52560" cy="5256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3880" y="4467240"/>
              <a:ext cx="2852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Прочее (аффинированное золото, производные ценные бумаги, паи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63520" y="3662280"/>
            <a:ext cx="4926960" cy="2847960"/>
            <a:chOff x="3863520" y="3662280"/>
            <a:chExt cx="4926960" cy="2847960"/>
          </a:xfrm>
        </p:grpSpPr>
        <p:sp>
          <p:nvSpPr>
            <p:cNvPr id="880" name=""/>
            <p:cNvSpPr/>
            <p:nvPr/>
          </p:nvSpPr>
          <p:spPr>
            <a:xfrm>
              <a:off x="4446720" y="5781600"/>
              <a:ext cx="3717720" cy="1936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46720" y="5289480"/>
              <a:ext cx="2074680" cy="1954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46720" y="4791240"/>
              <a:ext cx="2058840" cy="20304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46720" y="4300560"/>
              <a:ext cx="1463400" cy="19512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46720" y="3809880"/>
              <a:ext cx="750600" cy="195480"/>
            </a:xfrm>
            <a:prstGeom prst="rect">
              <a:avLst/>
            </a:prstGeom>
            <a:solidFill>
              <a:srgbClr val="33cc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6720" y="6124680"/>
              <a:ext cx="413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444672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90860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536256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82444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628668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74064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720252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66440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8118360" y="612432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8580600" y="612432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46720" y="3662280"/>
              <a:ext cx="1440" cy="246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14680" y="61246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14680" y="56325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14680" y="51418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414680" y="46432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14680" y="41529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14680" y="36622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852440" y="38419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42600" y="4332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39600" y="4822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77720" y="5321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71640" y="5811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44920" y="621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783320" y="62103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0452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667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2864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8260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4448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063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96068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0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22560" y="62103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50 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20040" y="581184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НПФ НБК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63520" y="532116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Улар Умит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0400" y="4830840"/>
              <a:ext cx="29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ГНПФ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20040" y="434016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НПФ БТА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2960" y="3848040"/>
              <a:ext cx="42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Грантум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28680" y="6388200"/>
              <a:ext cx="159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Пенсионные активы, млн.тенге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7CE-670D-469C-BE87-396645CAC8C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427640" y="692280"/>
            <a:ext cx="44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Доля чистого инвестиционного/</a:t>
            </a:r>
            <a:br>
              <a:rPr sz="2000"/>
            </a:b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 дохода в пенсионных накоплен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6200000">
            <a:off x="7210080" y="251964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нсионные накоп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36360" y="270828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Соотношение пенсионных активов и коэффициентов номинального дохода фон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34920" y="3392640"/>
          <a:ext cx="4948200" cy="31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3392640"/>
                    <a:ext cx="49482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4716360" y="1622520"/>
          <a:ext cx="3816360" cy="24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622520"/>
                    <a:ext cx="38163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872-354B-48E8-B440-9E33561CDDB0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Закона Республики Казахстан «О внесении изменений и дополнений в законодательные акты по вопросам коллективного инвестирования и деятельности накопительных пенсионных фондов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П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вестиционных портфелей, которые будут отличаться по структуре финансовых инструментов, размеру доходности и степени инвестиционного рис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вкладчикам накопительных пенсионных фондов возможности выбора инвестиционной стратегии управления их пенсионными накопления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с 2012 год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ований к составу инвестиционного комитета управляющего инвестиционным портфелем или пенсионными актив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ПФ и ООИУП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озмещению вкладчику потери взносов с учетом уровня инфляции за период нахождения его пенсионных накоплений в агрессивном инвестиционном портфел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административной ответственности за нарушение НПФ и ООИУПА законодательст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бухгалтерском учете и финансовой отчетности, а также невыполнение пруденциальных нормативов или других обязательных к соблюдению норм и лими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системы автоматических переводов с центральной ролью ГЦВ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с 2009 год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5D9-4AFE-4D2B-814B-039365B24219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76320" y="7621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d6397"/>
                </a:solidFill>
                <a:uFillTx/>
                <a:latin typeface="Times New Roman"/>
                <a:ea typeface="Times New Roman"/>
              </a:rPr>
              <a:t>Изменения и дополнения в действующее законодательство, направленные на развитие НПФ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228240" y="1663200"/>
            <a:ext cx="84582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сширение функци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ЦВП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2009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ЦВП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наделен полномочиями п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ю размера обязательных пенсионных взносов, фактически внесенных вкладчиком на момент приобретения права на пенсионные выплаты, с учетом прогнозного уровня инфляции на следующий финансовый год, необходимого для планирования определенных сумм в республиканском бюджете на соответствующий г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лению перевода пенсионных накоплений вкладчиков (получателей), сформированных за счет обязательных пенсионных взносов, из одного накопительного пенсионного фонда в другой, с направлением электронных уведомлений в накопительные пенсионные фонды о переводе пенсионных накоплен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36360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у во внесении сведений в единый список физических лиц, заключивших договор о пенсионном обеспечении за счет обязательных пенсионных взносов, в случае, если в течение года вкладчик (получатель) дважды заключал договор о пенсионном обеспечении за счет обязательных пенсионных взно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607-45B3-43F2-9ED5-F97DF5FED3FA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3:02:42Z</dcterms:created>
  <dc:creator>DSA_Aidyn</dc:creator>
  <dc:description/>
  <dc:language>en-US</dc:language>
  <cp:lastModifiedBy>Omarova</cp:lastModifiedBy>
  <dcterms:modified xsi:type="dcterms:W3CDTF">2008-09-17T08:18:01Z</dcterms:modified>
  <cp:revision>582</cp:revision>
  <dc:subject/>
  <dc:title>Отчет Агентства Республики Казахстан по регулированию и надзору финансового рынка и финансовых организаций  за 2004 год </dc:title>
</cp:coreProperties>
</file>