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6AB-459A-4683-BEB1-CAB84816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4E9-182A-49C5-BD04-15C87A63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2AA-812E-4B03-95C7-1AFD2F9C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8B3-9279-4D09-B9F9-42FCB30B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2FA-1728-4155-9571-D4BFD407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05E-3914-42FD-A37A-414FFD8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A2-A20C-4B50-AB82-F7450E16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E21-261A-453F-9684-62C1CC2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E6A-3034-4F92-B628-9E5A504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701-86EA-47C1-9BEE-7DA8036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C5A-786B-4082-8500-68226A2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646-7BEE-40C0-93D2-4B55ACA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5A0-0307-446B-A62E-038229021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ex.ru/" TargetMode="External"/><Relationship Id="rId3" Type="http://schemas.openxmlformats.org/officeDocument/2006/relationships/image" Target="../media/image11.gif"/><Relationship Id="rId4" Type="http://schemas.openxmlformats.org/officeDocument/2006/relationships/hyperlink" Target="http://www.rts.ru/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tras.kz/" TargetMode="External"/><Relationship Id="rId3" Type="http://schemas.openxmlformats.org/officeDocument/2006/relationships/hyperlink" Target="http://www.corpgov.k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se.kz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267000" y="2565360"/>
            <a:ext cx="5877000" cy="13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2781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инг Паевых Инвестиционных Фондов на Бирже – Проблемы и Перспект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3336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инар "Практические вопросы допуска и обращения ценных бумаг на организованном рынке Республики Казахстан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36572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хипова Ляй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юридической служ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06064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маты, 31 Мая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83664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захстане сложилась практика, что большинство закрытых фондов предоставляет своим пайщик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вых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закрыт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подобная практи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ает смы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ржевую торговлю па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К предоставляет возможность выхода в определенные промежутки времени, то в условиях зачаточного рынка паев, биржевая торговл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ва ли  будет востреб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астоящий момент в Республи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достаточного количества фон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чающим требованиям предполагаемого листинга, и инвесторов способных создать биржевой рынок па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ктивизации биржевого рынка важно не столько количество фондов в Республике,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пайщиков и потенциальных инвесто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отовых войти в ф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557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465300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 (2)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0200" y="907920"/>
            <a:ext cx="846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я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 процедурам размещения паев на бир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ьезной проблемой на наш взгляд может стать листингов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о налич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ой динамики до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казывает практика развитых фондовых рынков (США, Великобритания Россия) листинговые требования для паев не содержат требования по наличию доходности, что совершенно правильно. В соответствии  с требованиями закона УК должны предупреждать пайщиков, что стоимость паев может как увеличиваться, так и уменьшаться, в связи с этим требования листинга о наличии обязательной положительной доходности представляются не лог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1582920" cy="158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3573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56720" cy="5619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АШЕ ВИДЕНЬЕ:</a:t>
            </a: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Комментарии к Проекту постановления «</a:t>
            </a:r>
            <a:r>
              <a:rPr b="1" i="1" lang="ru-RU" sz="2400" spc="-1" strike="noStrike">
                <a:solidFill>
                  <a:srgbClr val="d20000"/>
                </a:solidFill>
                <a:latin typeface="Arial"/>
              </a:rPr>
              <a:t>О требованиях к эмитентам и их ценным бумагам, допускаемым к обращению на фондовой бирже, а также к отдельным категориям списка фондовой биржи»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42100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К допускается зачет срока существования, в результате ре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К создана в результате реорганизации общества, не имеющего отношения к фондовому рынку, то подобный срок существования фонда не может быть показателем эффективности деятельности УК. Для УК фондов не логично применять этот принц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328464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7280" y="333000"/>
            <a:ext cx="8856720" cy="5619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АШЕ ВИДЕНЬЕ:</a:t>
            </a: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Комментарии к Проекту постановления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119700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ы, существующие менее года,  не могут размещать свои паи на бир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казывает практика многих развитых рынков, всегда есть перечень фондов, к которым данное правило не приме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иностранных юридических лиц, входящих в активы фондов, должны иметь долгосрочную рейтинговую оце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граничение не логично, так как кредитный рейтинг получают компании, которые хотят выпускать долговые обязательства. Для компаний,  не желающих делать заимствования рейтинг не нужен. Наприм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имеет кредитного рейтинга, а если бы имел, то это был бы рейтинг 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1773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4972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64000" y="162864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06064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2003 года две биржи (ММВБ и МФБ) включают в листинг инвести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евые ф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оцессе биржевой торговли формируются рыночные цены на ПИФы, что придает дополнительную надежность и прозрачность институту коллективных инвестиций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ме возможности свободно торговать паями инвесторы могут оценивать стоимость своих вложений не только на основании данных, представленных управляющей компанией фонда, но и на основании биржевых котир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фондовый рынок России получил еще один инструмент для привлечения средств, а у управляющих компаний прибавилось трудностей при управлении риском - нужно рассчитывать как минимум еще один – ценовой ри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ЭФФЕКТИВНОСТЬ ЛИСТИНГА ПИФОВ В РОССИ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Московская межбанковская валютная бирж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036800"/>
            <a:ext cx="1655640" cy="86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1197000"/>
            <a:ext cx="4321080" cy="681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0600" y="2565360"/>
            <a:ext cx="902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«НЕ ПРИШЛО ЕЩЕ ВРЕМЯ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136000" cy="647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АО «СЕНТРАС СЕКЬЮРИТИЗ» - «Превращая идеи в капита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371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500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рманова, 24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знес Центр, 9 эт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: +7 3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с: +7 3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rpgov.kz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сайт по корпуправлению в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907920"/>
            <a:ext cx="6718320" cy="187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648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КЛЮЧЕВЫЕ ФАКТЫ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98100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«Об Инвестиционных Фондах»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ытые и интервальные не рискованные фонды могут быть допущены на бирж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ысл биржевой торговли паями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возможности инвестору приобрести или продать свои паи, в случаях, когда Управляющая Компания не осуществляет выкуп или размещение дополнительных п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ющая ситуация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закрытых фондов предоставляют своим пайщикам возможность выхода. Даная практика снижает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ржевой торговли па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ыт Росси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003 года две биржи (ММВБ и МФБ) включают в листинг инвестиционные паевые фонды, после более шести лет существования 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ИСТОРИЯ ПИФОВ В КАЗАХСТАНЕ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916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125360"/>
            <a:ext cx="86425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8640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июля 2004 года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 Закон РК «Об инвестиционных фон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января 2005 года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егистрирован первый открытый ПИФ «Казначейство» под управлением АО «Сентрас Секьюрити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6 инвестиционных фонд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ют в Казахстане на 1 января 200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2781360"/>
            <a:ext cx="2305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 января 2005 года было зарегистрировано лиш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рытых фонда, на 1 января 2006 года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уже на 1 января 2007 года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% соотношение изменения количества фондов за 2006 год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2,3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2708280"/>
          <a:ext cx="5759640" cy="379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708280"/>
                    <a:ext cx="57596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НЕКОТОРЫЕ ФАКТЫ О ПИФ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1916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125360"/>
            <a:ext cx="86425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76500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22 г., Бель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здан первый в мире инвестиционный ф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24 г., СШ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 первый в США инвестиционный ф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0,000 фондов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столько действует на сегодняшний день инвестиционных фондов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 триллионов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зительная сумма совокупных активов всех инвестиционных фондов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% семей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вкладчиками инвестиционных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 р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вокупные активы ПИФов в США превышают объем депозитов населения в бан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июля 2004 г., Казахстан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 Закон РК «Об инвестиционных фонд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инвестиционных фон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йствуют в Казахстане на 01 января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8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ИФы – СЕНТР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916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125360"/>
            <a:ext cx="86425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933880" cy="28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227640" y="119700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в Казахстане по состоянию на 1 января 2007 года бы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йщиков, из них в АО «Сентрас Секьюритиз»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составля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,2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сех вкладчиков ПИФов 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9337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иционные фонды Сентр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ЗНАЧЕЙСТВО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в Казахстане открытый паевой инвестиционный фонд. Начало инвестиционной деятельности – 21 января 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ОБАЛЬНЫЕ РЫНКИ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рытый паевой инвестиционный фонд рискового инвестирования. Начало инвестиционной деятельности – 1 февраля 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НЫЕ ПРОСТОРЫ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рытый паевой инвестиционный фонд рискового инвестирования. Начало инвестиционной деятельности – 27 октября 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ДИНАМИКА СТОИМОСТИ АКТИВОВ,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$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916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25360"/>
            <a:ext cx="86425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16000" y="1125360"/>
          <a:ext cx="6437160" cy="452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125360"/>
                    <a:ext cx="643716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68360" y="5734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ы открытых ПИФов состав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4 млн., интервальн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 млн., закрыт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2,4 мл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600" y="2565360"/>
            <a:ext cx="90234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0000"/>
                </a:solidFill>
                <a:latin typeface="Arial"/>
              </a:rPr>
              <a:t>Какие существуют проблемы и перспективы?</a:t>
            </a:r>
            <a:br>
              <a:rPr sz="32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ОЛОЖИТЕЛЬНЫЕ СТОРОНЫ БИРЖЕВОЙ ТОРГОВЛИ ПАЯМИ </a:t>
            </a: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700280"/>
            <a:ext cx="8318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для пайщиков приобрести или продать па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любое врем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минуя Управляющую Комп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ыша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верие инвес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только к фонду, но и в целом к институту коллектив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ключения сд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ежать различных огранич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покупке и продаже паев, которые могут содержаться в Правилах 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ЖЕЛАЕМЫЕ ПЕРСПЕКТИВЫ РАЗВИТИЯ БИРЖЕВОЙ ТОРГОВЛИ </a:t>
            </a: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98100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та в долларах СШ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кли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новь созданных фондов, с капитализацией более 1 миллиарда тенге, инвесторами  которых выступают институциональные институты, крупные участники и т.д., не применять требования по срокам существования, процедурам регистрации и т.д., установить для них более либеральный режим вхождения в листинг, предусмотрев для них обязательное наличие инвестиционных и юридических консульт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ь инсайдеров  юридических лиц (должностных лиц, участников, акционеров и т.д.) сообщать на биржу информацию о намерениях пробрести бумаги фон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ть рабочее время торговых площадок биржи, для расширения возможностей по доступу иностранных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KASE - Казахстанская фондовая бирж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1341360"/>
            <a:ext cx="2808360" cy="93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1</cp:lastModifiedBy>
  <dcterms:modified xsi:type="dcterms:W3CDTF">2007-05-31T03:29:54Z</dcterms:modified>
  <cp:revision>81</cp:revision>
  <dc:subject/>
  <dc:title>Слайд 1</dc:title>
</cp:coreProperties>
</file>