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40538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3280" y="3953520"/>
            <a:ext cx="728496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3280" y="395352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6480" y="395352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6400" y="159516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9520" y="159516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3280" y="395352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66400" y="395352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9520" y="395352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47280" y="259920"/>
            <a:ext cx="735660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5352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36480" y="395352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53520"/>
            <a:ext cx="728496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53520"/>
            <a:ext cx="728496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5352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36480" y="395352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6400" y="159516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9520" y="159516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5352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66400" y="395352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9520" y="3953520"/>
            <a:ext cx="2345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7280" y="259920"/>
            <a:ext cx="735660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3280" y="395352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6480" y="395352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6480" y="1595160"/>
            <a:ext cx="3555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3280" y="3953520"/>
            <a:ext cx="728496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49440" y="189000"/>
            <a:ext cx="38163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63960" indent="-363960" algn="ctr">
              <a:spcAft>
                <a:spcPts val="1500"/>
              </a:spcAft>
              <a:buClr>
                <a:srgbClr val="33cccc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4960" indent="-246960" algn="ctr">
              <a:spcAft>
                <a:spcPts val="1500"/>
              </a:spcAft>
              <a:buClr>
                <a:srgbClr val="0099ff"/>
              </a:buClr>
              <a:buFont typeface="Wingdings" charset="2"/>
              <a:buChar char="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5960" indent="-246960" algn="ctr">
              <a:spcAft>
                <a:spcPts val="1500"/>
              </a:spcAft>
              <a:buClr>
                <a:srgbClr val="0099ff"/>
              </a:buClr>
              <a:buFont typeface="Tahoma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16960" indent="-246960" algn="ctr">
              <a:spcAft>
                <a:spcPts val="1500"/>
              </a:spcAft>
              <a:buClr>
                <a:srgbClr val="0099ff"/>
              </a:buClr>
              <a:buFont typeface="Tahoma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37440" indent="-246960" algn="ctr">
              <a:spcAft>
                <a:spcPts val="1500"/>
              </a:spcAft>
              <a:buClr>
                <a:srgbClr val="0099ff"/>
              </a:buClr>
              <a:buFont typeface="Tahoma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837440" indent="-246960" algn="ctr"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837440" indent="-246960" algn="ctr"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8601120" y="656604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4346-BBDC-44D9-8781-625A1FDF69F1}" type="slidenum">
              <a:rPr b="0" lang="fr-FR" sz="1200" spc="-1" strike="noStrike">
                <a:solidFill>
                  <a:srgbClr val="000f7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329520" y="6556320"/>
            <a:ext cx="2590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31240" y="6566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Narrow"/>
              </a:rPr>
              <a:t>© J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3920"/>
            <a:ext cx="609768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6108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3366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360" y="0"/>
            <a:ext cx="1322640" cy="6840360"/>
          </a:xfrm>
          <a:prstGeom prst="rect">
            <a:avLst/>
          </a:prstGeom>
          <a:gradFill rotWithShape="0">
            <a:gsLst>
              <a:gs pos="0">
                <a:srgbClr val="ffffdd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7040" y="5794200"/>
            <a:ext cx="917640" cy="80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6120" y="385920"/>
            <a:ext cx="91764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Click to edit the title text format</a:t>
            </a: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85880" indent="-271440">
              <a:spcAft>
                <a:spcPts val="1250"/>
              </a:spcAft>
              <a:buClr>
                <a:srgbClr val="0099ff"/>
              </a:buClr>
              <a:buFont typeface="Wingdings" charset="2"/>
              <a:buChar char="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71440" indent="-271440">
              <a:spcAft>
                <a:spcPts val="1250"/>
              </a:spcAft>
              <a:buClr>
                <a:srgbClr val="0099ff"/>
              </a:buClr>
              <a:buFont typeface="Arial Narrow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557360" indent="-271440">
              <a:spcAft>
                <a:spcPts val="1250"/>
              </a:spcAft>
              <a:buClr>
                <a:srgbClr val="0099ff"/>
              </a:buClr>
              <a:buFont typeface="Arial Narrow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2019240" indent="-271440">
              <a:spcAft>
                <a:spcPts val="1250"/>
              </a:spcAft>
              <a:buClr>
                <a:srgbClr val="0099ff"/>
              </a:buClr>
              <a:buFont typeface="Arial Narrow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019240" indent="-271440">
              <a:spcAft>
                <a:spcPts val="1250"/>
              </a:spcAft>
              <a:buClr>
                <a:srgbClr val="000000"/>
              </a:buClr>
              <a:buFont typeface="Arial Narrow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019240" indent="-271440">
              <a:spcAft>
                <a:spcPts val="1250"/>
              </a:spcAft>
              <a:buClr>
                <a:srgbClr val="000000"/>
              </a:buClr>
              <a:buFont typeface="Arial Narrow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763560"/>
            <a:ext cx="71535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01120" y="656604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EA29-2454-4101-9491-59FE3873990E}" type="slidenum">
              <a:rPr b="0" lang="fr-FR" sz="1200" spc="-1" strike="noStrike">
                <a:solidFill>
                  <a:srgbClr val="000f7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9520" y="6556320"/>
            <a:ext cx="2590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31240" y="6566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Narrow"/>
              </a:rPr>
              <a:t>© J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3440" y="64371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 Narrow"/>
              </a:rPr>
              <a:t>March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/ifac/org" TargetMode="External"/><Relationship Id="rId2" Type="http://schemas.openxmlformats.org/officeDocument/2006/relationships/hyperlink" Target="http://www/ifac/org" TargetMode="External"/><Relationship Id="rId3" Type="http://schemas.openxmlformats.org/officeDocument/2006/relationships/hyperlink" Target="http://www/ifac/org" TargetMode="External"/><Relationship Id="rId4" Type="http://schemas.openxmlformats.org/officeDocument/2006/relationships/hyperlink" Target="http://www/ifac/org" TargetMode="External"/><Relationship Id="rId5" Type="http://schemas.openxmlformats.org/officeDocument/2006/relationships/hyperlink" Target="http://www/ifac/org" TargetMode="External"/><Relationship Id="rId6" Type="http://schemas.openxmlformats.org/officeDocument/2006/relationships/hyperlink" Target="http://www/ifac/org" TargetMode="External"/><Relationship Id="rId7" Type="http://schemas.openxmlformats.org/officeDocument/2006/relationships/hyperlink" Target="http://www/ifac/org" TargetMode="External"/><Relationship Id="rId8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9440" y="189000"/>
            <a:ext cx="38163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 algn="ctr">
              <a:spcAft>
                <a:spcPts val="150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99960" indent="0" algn="ctr">
              <a:spcAft>
                <a:spcPts val="150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99960" indent="-399960" algn="ctr">
              <a:spcAft>
                <a:spcPts val="1500"/>
              </a:spcAft>
              <a:buClr>
                <a:srgbClr val="33cccc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ктические аспекты сбора аудиторских доказательств при проведении аудита компаний на соответствие МСФО требований к раскрытию информации МСАП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61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3366ff"/>
                </a:solidFill>
                <a:latin typeface="Comic Sans MS"/>
              </a:rPr>
              <a:t>Часть В - Профессиональные (дипломированные) бухгалтеры в бизнесе (5/5) 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(руководители подразделений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кция 300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кция 310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Потенциальные конфликт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кция 320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Составление и отчетная информац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кция 330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Активная деятельность с достаточным опытом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кция 340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Финансовые интерес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кция 350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Стимул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omic Sans MS"/>
              </a:rPr>
              <a:t>Международный Стандарт по Контролю за Качеством 1</a:t>
            </a:r>
            <a:r>
              <a:rPr b="1" lang="ru-RU" sz="1800" spc="-1" strike="noStrike">
                <a:solidFill>
                  <a:srgbClr val="3366ff"/>
                </a:solidFill>
                <a:latin typeface="Comic Sans MS"/>
              </a:rPr>
              <a:t> 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Narrow"/>
              </a:rPr>
              <a:t>Контроль качества фирм, проводящих аудит и обзор исторической финансовой информации, соглашение по гарантиям и других сопутствующих услуг – МСКК 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Narrow"/>
              </a:rPr>
              <a:t>Смотри опросный лист стр1., материал присланный в апреле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лементы системы Контроля качества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тветственность руководства за качество в пределах фирмы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Этические требования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-   Независимость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ринятие и  продолжение отношений с клиентом, и определенные соглашения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Людские ресурсы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-  Установление срока (условий) соглашения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Представление соглашения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-  Консультация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-   Разногласия во мнениях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-    Обзор соглашения контроля качества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-   Претензии и заявления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75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Документация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omic Sans MS"/>
              </a:rPr>
              <a:t>Секция 2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ждународная Концепция Соглашений по Гарантиям (Уверенности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Эта концепция определяет и описывает элементы и цели соглашений по гарантиям, и идентифицирует, к каким Международным Стандартам Аудита, Международным Стандартам Соглашений по обзору и Международным Стандартам Соглашений по гарантиям (уверенности) они применимы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Это обеспечивает структуру референци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пределение и цель соглашений по гарантиям (уверенности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Сфера применения Концептуальной основ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инятие соглаш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Элементы соглашения по гарантиям (уверенности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Несоответствующее использование имени практик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онятие гаранти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Comic Sans MS"/>
              </a:rPr>
              <a:t>Секция 2</a:t>
            </a:r>
            <a:br>
              <a:rPr sz="2000"/>
            </a:b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Понятие гарантии (уверенности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Определение и цели соглашений по гарантиям (уверенности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Поддерживающие данные:  Концептуальная основа и стандарт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(стандарты учета, методы оценки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Регулирование внутреннего контрол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Заключительный отчет: Разумные гарантии (уверенность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Ограниченные гарантии (уверенность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Международные стандарты аудита 200-299 – Общие принципы и ответственность</a:t>
            </a: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6000" y="1044360"/>
            <a:ext cx="721188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5640" indent="0">
              <a:spcAft>
                <a:spcPts val="112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5640" indent="-395640"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СА 200 – Цель и общие принципы, регулирующие аудит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5640" indent="-395640"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СА 210 – Условия соглашений по аудит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5640" indent="-395640"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СА 220 – Контроль качества аудиторской работы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5640" indent="-395640"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СА 220Р – Контроль качества аудиторских проверок исторической финансовой информаци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5640" indent="-395640"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СА 230 – Документац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5640" indent="-395640"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СА 240 – Ответственность аудитора за рассмотрение мошенничества в аудиторских проверках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5640" indent="-395640"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СА 250 – Рассмотрение законов и нормативных актов в аудиторских проверках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5640" indent="-395640"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СА 260 – Информирование представителей власти об аудиторских вопроса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Международные стандарты аудита 300-499 - Оценка риска и реакция на оцененные риски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47280" y="1186920"/>
            <a:ext cx="71406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300 – Планирование аудиторских проверок финансовой отчетнос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315 – Понимание компании, её окружающей среды и оценка рисков существенного искажения фактов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320 – Существенность аудит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330 – Порядок действий аудитора в реакции на оцененные риск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402 –Вопросы аудита субъектов, пользующихся услугами обслуживающих организаци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00 – Аудиторское доказательств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01 - Аудиторское доказательство – Дополнительные вопросы, касающиеся определенных статье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05 – Внешние подтверждение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10 – Первоначальные соглашения – начальные сальд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20 – Аналитические процедур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30 – Аудиторский выборка  и другие способы тестирова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40 – Аудит отчетных оценок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45 – Измерение обоснованной стоимости аудита и раскрытие информаци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50 – Связанные сторон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60 – Последующие событ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570 – Непрерывность деятельнос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83760" indent="-3837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СА 580 – Представление руковод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Международные стандарты аудита 600-699 – Использование работы других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СА 600 – Использование работы другого аудито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СА 610 – Рассмотрение работы внутреннего аудито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СА 620 – Использование работы экспер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Международные стандарты аудита700-799 –Аудиторское выводы и представление отчетности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СА 700 –Отчет аудитора по финансовой отчет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СА 700Р – Независимый отчет аудитора в полном пакете финансовой отчетности специального назнач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СА 701 – Изменения (модификация) к независимому отчету аудито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СА 710 – Сравнительные показател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СА 720 – Другая информация в документах, содержащих проверенную финансовую отчет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Международные стандарты аудита 800-899 – Специализированные области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СА 800 – Отчет аудитора по соглашениям на аудит специального назначения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Международные Отчеты Аудита на практике (</a:t>
            </a:r>
            <a:r>
              <a:rPr b="0" lang="en-US" sz="1800" spc="-1" strike="noStrike" u="sng">
                <a:solidFill>
                  <a:srgbClr val="3366ff"/>
                </a:solidFill>
                <a:uFillTx/>
                <a:latin typeface="Comic Sans MS"/>
              </a:rPr>
              <a:t>practice statements</a:t>
            </a: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АП 1000 – Внутрибанковые процедуры подтверждения (на практике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АП 1004 – Отношения между банковскими инспекторами и внешними аудиторами банков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АП 1005 – Особое рассмотрение аудита малых предприяти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АП 1006 – Аудит финансовой отчетности банков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АП 1010 – Рассмотрение вопросов относительно окружающей среды в аудиторских проверках финансовой отчет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АП 1012 – Аудит производной финансовой отчет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АП 1013 – Торговля электронным оборудованием – влияние на аудиторские проверки финансовой отчет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АП 1014 – Отчеты аудиторов  в соответствии с МСФ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5080" y="252360"/>
            <a:ext cx="5452920" cy="4968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1187280"/>
            <a:ext cx="78501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rmAutofit/>
          </a:bodyPr>
          <a:p>
            <a:pPr marL="399960" indent="-399960">
              <a:lnSpc>
                <a:spcPct val="10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5437080"/>
            <a:ext cx="71024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1752120"/>
            <a:ext cx="7993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Краткое Из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екция 1  Общее введение о МФБ и М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ловарь терми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екция 2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ый Кодекс Этики для Профессиональных Бухгалтеров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ые Стандарты по Контролю Ка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ая концептуальная основа представления финансов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екция 3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ые Стандарты по Аудиту (М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ые Отчеты по Аудиту на практике (МОА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ые Стандарты Соглашений по Обзору (МСС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ые Стандарты Соглашений по Гарантиям (МССГ) (уверенности)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ждународные Стандарты по Сопутствующим Услугам (МСС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ru-RU" sz="1400" spc="-1" strike="noStrike" u="sng">
                <a:solidFill>
                  <a:srgbClr val="3366ff"/>
                </a:solidFill>
                <a:uFillTx/>
                <a:latin typeface="Comic Sans MS"/>
              </a:rPr>
              <a:t>Ответственность аудитора за рассмотрение мошенничества в аудите финансовой отчетности – МСА 240</a:t>
            </a:r>
            <a:endParaRPr b="1" lang="en-US" sz="14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63280" y="1186920"/>
            <a:ext cx="69246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Характеристика мошенниче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Ответственность представителей власти и руковод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Неотъемлемые ограничения аудита в контексте мошенниче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Ответственность аудитора за обнаружение существенного искажения фактов благодаря мошенничеству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Профессиональный скептицизм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Дискуссии по поводу условий соглаше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Процедуры оценки риск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Запросы и доставка понимания использованных оплошностей  представителями влас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Рассмотрение рисковых факторов мошенниче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Рассмотрение необычных и неожиданных отношени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Рассмотрение другой информаци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Идентификация оценки риска существенных искажений фактов благодаря мошенничеству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Риск мошенничества в признании доходов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Реакция на риск существенных искажений фактов благодаря мошенничеству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Общая реакц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omic Sans MS"/>
              </a:rPr>
              <a:t>МСА 240</a:t>
            </a: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Процедуры аудита, реагирующие на риск существенных искажений фактов благодаря мошенничеству на уровне утверждени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Процедуры аудита, реагирующие на дополнительные вознаграждения руководству за обеспечение контрол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Записи в журнале и другие поправк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Бухгалтерские оценк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Логическое обоснование бизнеса для важных операци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ценка аудиторского доказательств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едставление руководств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нформирование руководства и представителей власти (управления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нформирование регулирующие и исполнительные органы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удитор, неспособный продолжить соглашени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кументац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Рассмотрение законов и нормативных актов при аудите финансовой отчетности МСА 250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тветственность руководства субъекта за ведение деятельности  в соответствии с законами и нормативными актам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Рассмотрение аудитором деятельности субъекта в соответствии с законами и нормативными актам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 Процедуры аудита при обнаружении несоответств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едставление отчета о несоответствии деятельности субъекта в соответствии с законами и нормативными актам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 Руководству субъек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 Пользователям аудиторского отчета по финансовой отчет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 Исполнительным и регулирующим органам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90000"/>
              </a:lnSpc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екращение оказания услуг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Информирование представителей власти об аспектах аудита  - МСА 260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оответствующие персон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удиторские вопросы в интересах власти (управления) с целью информирова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воевременность информирова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ормы информирования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ругие вопрос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Законы и нормативные акт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Планирование аудиторских проверок финансовой отчетности МСА 300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едварительная деятельность по соглашениям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ланирование деятельн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Общая стратегия ауди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План ауди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Изменения в планировании решений в течение ауди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Направление, руководство и обзор работы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Документац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Информирование представителей власти (управления) и руководств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полнительные рассмотрения в первоначальных соглашениях по аудит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Сфера применения (масштаб) соглашения по аудит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Отчет о целях, своевременности аудита и требуемого информирова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Направление ауди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Понимание компании её окружающей среды и оценка риска существенных искажений МСА 315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3280" y="1115640"/>
            <a:ext cx="728496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Процедуры оценки риска и источники информации о компании, её окружающей среде, включая её внутренний контроль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Процедуры оценки риск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Дискуссии среди группы соглашени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Понимание компании, её окружающей среды, включая её внутренний контроль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Промышленность, регулирующие и другие внешние факторы, включающие концептуальную основу представления применимой финансовой отчетнос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 Сущность компани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Цели и стратегии и сопутствующие бизнесу риск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Измерение и обзор финансового представления компани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Внутренний контроль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Контроль, относящийся к аудиту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Глубина понимания внутреннего контрол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Характеристики ручных и автоматических элементов внутреннего контроля, относящегося к оценке риска аудитором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Ограничения внутреннего контрол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Контролируемая окружающая сред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Процесс оценки риска компани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Информационная система, включающая сопутствующие деловые процессы, относящиеся к финансовой отчетности, и информированию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Контролирование деятельнос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Мониторинг контрол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Оценка риска существенных искажени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Значительные риски, требующие специального рассмотрения аудитом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Риски, которые независимые процедуры не обеспечивают достаточно подходящим аудиторским доказательством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-  Проверка оценки риск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Информирование представителей власти (управления) и руковод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-28368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Документац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8368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МСА 315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граничения внутреннего контрол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  Контролируемая окружающая сред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  Процесс оценки риска компани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  Информационная система, включающая сопутствующие деловые процессы, относящиеся к финансовой отчетности, и информированию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  Контролирование деятельност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  Мониторинг контрол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ценка риска существенных искажени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  Значительные риски, требующие специального рассмотрения аудитом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 Риски, которые независимые процедуры не обеспечивают достаточно подходящим аудиторским доказательством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  Проверка оценки риск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Информирование представителей власти (управления) и руководств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окументац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Аудит бухгалтерских оценок МСА 540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02920" y="1595520"/>
            <a:ext cx="7418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Характер бухгалтерских оценок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удиторские процедуры, реагирующие на риск существенных искажений бухгалтерских оценок компани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бзор и тестирование используемого руководством субъекта процесса подготовки бухгалтерских оценок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Оценка данных и рассмотрение допущени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Тестирование расчето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Сравнение предыдущих оценок с фактическими результатам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Рассмотрение процедур утверждения руководства субъек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Использование независимой оценк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бзор последующих событи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ценка результатов аудиторских процеду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Аудит измерений обоснованной стоимости и раскрытие информации МСА 545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03280" y="1044720"/>
            <a:ext cx="7058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нимание процесса компании с целью установления измерения обоснованной стоимости, раскрытия информации и процедур, относящихся к контролю, и оценивание риск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ценивание соответственности измерения обоснованной стоимости и раскрытия информаци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спользование работы эксперт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удиторские процедуры, реагирующие на риск существенных искажений измерения обоснованной стоимости и раскрытия информации компани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  Тестирование важных допущений руководства субъекта, модели оценки, и базовых данны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  Разработка независимых оценок обоснованной стоимости в целях подтвержде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  Последующие событ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скрытие информации об обоснованной стоимос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ценивание результатов аудиторских процедур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едставление руковод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нформирование представителей влас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lnSpc>
                <a:spcPct val="80000"/>
              </a:lnSpc>
              <a:spcAft>
                <a:spcPts val="876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Связанные стороны МСА 550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уществование и раскрытие связанных сторон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Операции между связанными сторонам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верка идентифицированных операций между связанными сторонам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едставление руководств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удиторские выводы и представление отче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0">
              <a:spcAft>
                <a:spcPts val="1250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2271600"/>
            <a:ext cx="799308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ставление МФБ – Международной Федерации Бухгал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здание: 1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лавный офис: В Нью Й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тав: 159 членов в 118 странах, представляющий более 2,5 миллиона профессиональных бухгал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sit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ww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ifa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здание с целью воспитания профессионалов бухгалтерского дела и гармонизирования их стандартизации на мировом уровне, и возможности их членам предоставлять качественные услуги в интересах обще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Последующие события МСА 560</a:t>
            </a: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20720" y="1186920"/>
            <a:ext cx="706752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обытия, возникающие до даты аудиторского отче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акты, обнаруженные после даты аудиторского отчета, но до опубликования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акты, обнаруженные после опубликования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иложение – Поправки, соответствующие МСА 560 в результате исправления МСА 700 – имеет силу для аудиторских отчетов на 31-ое декабря 2006 года и после этой даты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Опред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События, возникающие до даты аудиторского отче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Факты, обнаруженные после даты аудиторского отчета, но до опубликования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Факты, обнаруженные после опубликования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Публичное предложение ценных бумаг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Непрерывная деятельность МСА 570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6000" y="1115640"/>
            <a:ext cx="721188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тветственность руководства субъек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тветственность аудитор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ланирование процедур по аудиту и представлению оценки риск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пределение разумности оценки руководства субъек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ериод, не охватываемый оценкой руководства субъек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льнейшие процедуры аудита после идентифицирования событий и услови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удиторские выводы и отчетност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Использование допущения о непрерывной деятельности применимо, но имеется существенная неопределенност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Использование допущения о непрерывной деятельности неприменимо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Руководство субъекта не желает производить или продлевать свою оценку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125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начительная задержка в подписании или одобрении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Comic Sans MS"/>
              </a:rPr>
              <a:t>Представление руководства субъекта МСА 580</a:t>
            </a:r>
            <a:br>
              <a:rPr sz="1800"/>
            </a:b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изнание руководством субъекта своей ответственности за финансовую отчет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едставление руководства субъекта в качестве аудиторского доказательств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окументальное оформление представлений руководства субъек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 Основные элементы письма-представления руководства субъек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ействия в случае отказа руководства субъекта предоставить представ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omic Sans MS"/>
              </a:rPr>
              <a:t>МОАП 1014 (</a:t>
            </a:r>
            <a:r>
              <a:rPr b="0" lang="en-US" sz="1800" spc="-1" strike="noStrike">
                <a:solidFill>
                  <a:srgbClr val="3366ff"/>
                </a:solidFill>
                <a:latin typeface="Comic Sans MS"/>
              </a:rPr>
              <a:t>Practice Statements)</a:t>
            </a: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spcAft>
                <a:spcPts val="1250"/>
              </a:spcAft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удироские отчеты в соответствии с Международными Стандартами Финансовой Отчетности МСФО – МОАП 101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инансовая отчетность, составленная, исключительно, в соответствии с МСФ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инансовая отчетность, составленная в соответствии с МСФО и Национальной Концепцией Финансовой отчет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spcAft>
                <a:spcPts val="1250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инансовая отчетность, составленная в соответствии с Национальной Концепцией Финансовой отчетности с раскрытием объема соответствия с МСФ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Comic Sans MS"/>
              </a:rPr>
              <a:t>Секция 2</a:t>
            </a: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836720" y="1979640"/>
            <a:ext cx="8701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декс э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7440" y="173196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90800" y="2962440"/>
            <a:ext cx="206280" cy="328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05080" y="2052720"/>
          <a:ext cx="4865760" cy="337500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1257480"/>
                <a:gridCol w="1093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и обзор исторической финансов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шения по гарантиям, отличные от соглашений по аудиту и обзору  исторической финансов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утствующ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е стандарты по ау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е стандарты соглашений по обзо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е стандарты соглашений по гарантиям (уверен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е стандарты по сопутствующим услуг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е отчеты по аудиту на практике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e Stateme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е отчеты соглашений по обзору на практике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e Stateme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е отчеты соглашений по гарантиям на практике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e Stateme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3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е отчеты по сопутствующим услугам на практике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e Statemen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2844720" y="3348000"/>
            <a:ext cx="206280" cy="328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Comic Sans MS"/>
              </a:rPr>
              <a:t>Общее сведения о структуре стандартов аудита</a:t>
            </a: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окращения (1/2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FAC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–    Международная Федерация Бухгалтеров (МФБ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AASB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– Совет Международных Стандартов Аудита и Гарантирования (СМАГ) (Увереннос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SAs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–     Международные Стандарты по Аудиту (МСА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APSs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–   Международные Отчеты по Аудиту на практике (МОАП) (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actice Statement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SREs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–  Международные Стандарты Соглашений по Обзору (МССО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REPSs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– Международные Отчеты Соглашений по Обзору на практике (МОСОП) (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actice Statement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SAEs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-  Международные Стандарты Соглашений по Гарантиям (МССГ) (Уверенности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AEPSs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– Международные Отчеты Соглашений по Гарантиям (МУОДС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SRSs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-    Международные Стандарты по Сопутствующим Услугам (МССУ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RSPSs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–  Международные Отчеты по  Сопутствующим Услугам  на практике (МОСУП) (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actice Statement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SQC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– Международные Стандарты по Контролю Качества (МСКК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Comic Sans MS"/>
              </a:rPr>
              <a:t>Общее сведения о структуре стандартов аудита</a:t>
            </a:r>
            <a:endParaRPr b="1" lang="en-US" sz="20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3280" y="1595160"/>
            <a:ext cx="728496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кращения (2/2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ASC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Комитет Международных Стандартов Бухгалтерского Учета (КМСБУ) бывши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ASB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Совет Международных Стандартов Бухгалтерского Учета (СМСБУ) настоящи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FRSs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Международные Стандарты Финансовой Отчетности (МСФО) настоящи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ASs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Международные Стандарты Бухгалтерского Учета (МСБУ) бывши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PSASs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Международный Публичный Сектор Стандартов Бухгалтерского Учета (МПССБУ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AG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Консультативная Группа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AASB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– СМАС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екция 1 Общее введени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Совет Международных Стандартов Аудита и Гарантирования (СМСАГ) в 2002 году заменил Комитет Международных Технологий Аудита (КМТА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99960" indent="-39996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СМСАГ – независимый орган под эгидой МФБ. Его цель – улучшать стандарты аудита и гарантирования, увеличивать качественный и однородный опыт по всему миру, и в связи с этим улучшать профессию и обеспечивать всеобщее принятие общественностью их обязанностей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33440"/>
            <a:ext cx="1709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989440" y="1044720"/>
            <a:ext cx="4534920" cy="5184720"/>
            <a:chOff x="2989440" y="1044720"/>
            <a:chExt cx="4534920" cy="5184720"/>
          </a:xfrm>
        </p:grpSpPr>
        <p:sp>
          <p:nvSpPr>
            <p:cNvPr id="109" name=""/>
            <p:cNvSpPr/>
            <p:nvPr/>
          </p:nvSpPr>
          <p:spPr>
            <a:xfrm>
              <a:off x="2996640" y="1264680"/>
              <a:ext cx="132840" cy="219960"/>
            </a:xfrm>
            <a:prstGeom prst="downArrow">
              <a:avLst>
                <a:gd name="adj1" fmla="val 50000"/>
                <a:gd name="adj2" fmla="val 413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9440" y="2148840"/>
              <a:ext cx="132840" cy="219960"/>
            </a:xfrm>
            <a:prstGeom prst="downArrow">
              <a:avLst>
                <a:gd name="adj1" fmla="val 50000"/>
                <a:gd name="adj2" fmla="val 413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9480" y="4704840"/>
              <a:ext cx="132840" cy="219960"/>
            </a:xfrm>
            <a:prstGeom prst="downArrow">
              <a:avLst>
                <a:gd name="adj1" fmla="val 50000"/>
                <a:gd name="adj2" fmla="val 413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2200" y="5404680"/>
              <a:ext cx="132840" cy="219960"/>
            </a:xfrm>
            <a:prstGeom prst="downArrow">
              <a:avLst>
                <a:gd name="adj1" fmla="val 50000"/>
                <a:gd name="adj2" fmla="val 413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62280" y="4461840"/>
              <a:ext cx="392040" cy="109440"/>
            </a:xfrm>
            <a:prstGeom prst="rightArrow">
              <a:avLst>
                <a:gd name="adj1" fmla="val 50000"/>
                <a:gd name="adj2" fmla="val 89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1520" y="1044720"/>
              <a:ext cx="391680" cy="109440"/>
            </a:xfrm>
            <a:prstGeom prst="rightArrow">
              <a:avLst>
                <a:gd name="adj1" fmla="val 50000"/>
                <a:gd name="adj2" fmla="val 894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95720" y="1374840"/>
              <a:ext cx="132480" cy="113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95720" y="2035800"/>
              <a:ext cx="132480" cy="120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95720" y="2696400"/>
              <a:ext cx="132480" cy="186480"/>
            </a:xfrm>
            <a:prstGeom prst="downArrow">
              <a:avLst>
                <a:gd name="adj1" fmla="val 50000"/>
                <a:gd name="adj2" fmla="val 351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95720" y="3471480"/>
              <a:ext cx="132480" cy="186480"/>
            </a:xfrm>
            <a:prstGeom prst="downArrow">
              <a:avLst>
                <a:gd name="adj1" fmla="val 50000"/>
                <a:gd name="adj2" fmla="val 351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95720" y="4572720"/>
              <a:ext cx="132480" cy="186480"/>
            </a:xfrm>
            <a:prstGeom prst="downArrow">
              <a:avLst>
                <a:gd name="adj1" fmla="val 50000"/>
                <a:gd name="adj2" fmla="val 351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95720" y="5493600"/>
              <a:ext cx="132480" cy="186480"/>
            </a:xfrm>
            <a:prstGeom prst="downArrow">
              <a:avLst>
                <a:gd name="adj1" fmla="val 50000"/>
                <a:gd name="adj2" fmla="val 351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94200" y="3912120"/>
              <a:ext cx="391680" cy="109440"/>
            </a:xfrm>
            <a:prstGeom prst="rightArrow">
              <a:avLst>
                <a:gd name="adj1" fmla="val 50000"/>
                <a:gd name="adj2" fmla="val 894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61000" y="5383440"/>
              <a:ext cx="391680" cy="109440"/>
            </a:xfrm>
            <a:prstGeom prst="rightArrow">
              <a:avLst>
                <a:gd name="adj1" fmla="val 50000"/>
                <a:gd name="adj2" fmla="val 894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93040" y="1044720"/>
              <a:ext cx="391680" cy="109440"/>
            </a:xfrm>
            <a:prstGeom prst="rightArrow">
              <a:avLst>
                <a:gd name="adj1" fmla="val 50000"/>
                <a:gd name="adj2" fmla="val 894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92240" y="1264680"/>
              <a:ext cx="132120" cy="113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92240" y="2035800"/>
              <a:ext cx="132120" cy="113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61520" y="1294200"/>
              <a:ext cx="267480" cy="1542600"/>
            </a:xfrm>
            <a:prstGeom prst="upArrow">
              <a:avLst>
                <a:gd name="adj1" fmla="val 50000"/>
                <a:gd name="adj2" fmla="val 1441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82600" y="1184040"/>
              <a:ext cx="267480" cy="1542600"/>
            </a:xfrm>
            <a:prstGeom prst="upArrow">
              <a:avLst>
                <a:gd name="adj1" fmla="val 50000"/>
                <a:gd name="adj2" fmla="val 1441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86440" y="3151080"/>
              <a:ext cx="267480" cy="2970720"/>
            </a:xfrm>
            <a:prstGeom prst="upArrow">
              <a:avLst>
                <a:gd name="adj1" fmla="val 50000"/>
                <a:gd name="adj2" fmla="val 2776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2600" y="3148560"/>
              <a:ext cx="267480" cy="3080880"/>
            </a:xfrm>
            <a:prstGeom prst="upArrow">
              <a:avLst>
                <a:gd name="adj1" fmla="val 50000"/>
                <a:gd name="adj2" fmla="val 2879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5120" y="5913720"/>
              <a:ext cx="391680" cy="109440"/>
            </a:xfrm>
            <a:prstGeom prst="rightArrow">
              <a:avLst>
                <a:gd name="adj1" fmla="val 50000"/>
                <a:gd name="adj2" fmla="val 894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50160" y="5913720"/>
              <a:ext cx="392040" cy="109440"/>
            </a:xfrm>
            <a:prstGeom prst="rightArrow">
              <a:avLst>
                <a:gd name="adj1" fmla="val 50000"/>
                <a:gd name="adj2" fmla="val 895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2" name=""/>
          <p:cNvGraphicFramePr/>
          <p:nvPr/>
        </p:nvGraphicFramePr>
        <p:xfrm>
          <a:off x="1189080" y="468360"/>
          <a:ext cx="7562880" cy="6005520"/>
        </p:xfrm>
        <a:graphic>
          <a:graphicData uri="http://schemas.openxmlformats.org/drawingml/2006/table">
            <a:tbl>
              <a:tblPr/>
              <a:tblGrid>
                <a:gridCol w="1235160"/>
                <a:gridCol w="2027160"/>
                <a:gridCol w="2425680"/>
                <a:gridCol w="1874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сание предварительного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С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одобрени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предваритель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а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одобрени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ние предваритель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а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е стандарт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e Stat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С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-татив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нт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Ф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нт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ых стандартов и друг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ент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81080" y="6189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7280" y="232920"/>
            <a:ext cx="7356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20720" y="1115640"/>
            <a:ext cx="706752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Этика (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1/5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Определение этик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Этика – это искусство управления поведением (манера поведения индивидуума в определенной ситуации)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фессиональная этика включает в себя все обязанности определенной професси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Миссия МФБ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иссия МФБ, как установлено в её конституции, - это развитие и улучшение профессии бухгалтера с гармонизированными стандартами по всему миру с целью обеспечения  общественности высококачественными услугам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еследуя эту цель, Комитет по Этики МФБ основал и усовершенствовал Кодекс Этики Профессиональных Бухгалтеров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Этика </a:t>
            </a: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(2/5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Члены органа МФБ или любой другой фирмы не могут применять менее строгие стандарты, чем стандарты этого Кодекса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Если членам органа или любой другой фирмы запрещено законом или правилами подчиняться каким-либо определенным частям Кодекса, им следует подчиняться всем остальным частям Кодекса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67920" indent="-367920">
              <a:lnSpc>
                <a:spcPct val="80000"/>
              </a:lnSpc>
              <a:spcAft>
                <a:spcPts val="1001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Некоторые юрисдикции могут иметь требования и руководства, отличные от требований Кодекса. Профессиональным бухгалтерам следует   знать об этих отличиях и подчиняться более строгим требованиям и руководствам, пока они не запрещены законом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1511280" y="368280"/>
            <a:ext cx="9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кция 2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56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Comic Sans MS"/>
              </a:rPr>
              <a:t>Эта версия Кодекса имеет силу с 30-того июня 2006, но и ранее его применение целесообразно</a:t>
            </a:r>
            <a:endParaRPr b="1" lang="en-US" sz="18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6000" y="1044360"/>
            <a:ext cx="721188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Часть А – Общее применение Кодекса (3/5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10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Введение и основные принципы Нравственная безупречность интеллектуалы,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11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Честность, нравственная безупречность, интеллектуал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12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Объективность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13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офессиональная компетентность, квалификация, постоянное ее повышение по различным уровням, и должное внимание (уход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14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Конфиденциальность- ключевой термин, раскрытие информации в случае определ. ситуация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15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офессиональное поведение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Часть Б – Профессиональные бухгалтеры в публичной (общественной) практике (4/5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0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Введение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1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офессиональное назначение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2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Конфликты интересов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3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Второстепенные мне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4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Гонорары и другие виды вознаграждения, отражают справедл.стоимость услуг с учетом затрач. времен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5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офессиональные услуги маркетинг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6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одарки и гостеприимств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7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Хранение активов клиент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8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Цель – Все услуг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59640" indent="-359640">
              <a:lnSpc>
                <a:spcPct val="80000"/>
              </a:lnSpc>
              <a:spcAft>
                <a:spcPts val="876"/>
              </a:spcAft>
              <a:buClr>
                <a:srgbClr val="6699ff"/>
              </a:buClr>
              <a:buFont typeface="Wingdings 3" charset="2"/>
              <a:buChar char="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Секция 290 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Независимость – Соглашение по гарантиям (уверенности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4:31:35Z</dcterms:created>
  <dc:creator>jpa</dc:creator>
  <dc:description/>
  <dc:language>en-US</dc:language>
  <cp:lastModifiedBy>1</cp:lastModifiedBy>
  <dcterms:modified xsi:type="dcterms:W3CDTF">2007-06-01T09:32:23Z</dcterms:modified>
  <cp:revision>425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8785670</vt:r8>
  </property>
  <property fmtid="{D5CDD505-2E9C-101B-9397-08002B2CF9AE}" pid="3" name="_AuthorEmail">
    <vt:lpwstr>MariaSKARZYNSKA@jpa.fr</vt:lpwstr>
  </property>
  <property fmtid="{D5CDD505-2E9C-101B-9397-08002B2CF9AE}" pid="4" name="_AuthorEmailDisplayName">
    <vt:lpwstr>Maria SKARZYNSKA</vt:lpwstr>
  </property>
  <property fmtid="{D5CDD505-2E9C-101B-9397-08002B2CF9AE}" pid="5" name="_EmailSubject">
    <vt:lpwstr>Ci-joint, la prйsentation de la fiscalitй en France pour CCIPF</vt:lpwstr>
  </property>
  <property fmtid="{D5CDD505-2E9C-101B-9397-08002B2CF9AE}" pid="6" name="_PreviousAdHocReviewCycleID">
    <vt:r8>2098164040</vt:r8>
  </property>
  <property fmtid="{D5CDD505-2E9C-101B-9397-08002B2CF9AE}" pid="7" name="_ReviewingToolsShownOnce">
    <vt:lpwstr/>
  </property>
</Properties>
</file>