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075E-6961-4409-9624-AC5F4B470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6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3063960"/>
            <a:ext cx="856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4D4F-FC54-460B-8D3D-D1CAF4A71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5BF6-DA33-4B60-A186-6E2EBC2CC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91440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91440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306396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06396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306396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81AB-8D4C-4F16-967F-00B356643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9144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02E9-9A2B-4693-81A6-DE71E53D9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28D1-5E25-4F5B-A524-2FEA45CD9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CD7C-CD47-4658-B648-3A605C02D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0A70-3111-4716-8D77-71AFBFC73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218520"/>
            <a:ext cx="88200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EB19-530E-4BB2-A62C-D1B9487EE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0D73-406F-40D6-858B-9F365FE3D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C0C0-EC66-4E5F-9E5B-0E0C3C60E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3063960"/>
            <a:ext cx="856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9F5F-99C6-47E0-B383-384386936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9144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71280" y="6400440"/>
            <a:ext cx="62960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4000" y="6419520"/>
            <a:ext cx="28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1E3-8A54-45B8-9C73-3194832B8CEA}" type="slidenum"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47240"/>
            <a:ext cx="871380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24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Очередной переходный период на казахстанском фондовом рынк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Перспективы развития биржевого рынка </a:t>
            </a:r>
            <a:endParaRPr b="1" lang="en-US" sz="40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270040"/>
            <a:ext cx="8783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Идель Сабито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первый вице-президент Казахстанской фондовой биржи (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5C8C-E9E8-445E-B91E-E3997B85A6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909720"/>
            <a:ext cx="5040360" cy="5256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508360" y="907920"/>
            <a:ext cx="345420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Под давлением действий регуляторов, а в последнее время – из-за кризиса в США банкам стало менее выгодно занимать доллары за рубежом.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Спрос на </a:t>
            </a:r>
            <a:r>
              <a:rPr b="0" lang="en-US" sz="2200" spc="-1" strike="noStrike">
                <a:solidFill>
                  <a:srgbClr val="ffff99"/>
                </a:solidFill>
                <a:latin typeface="Arial Narrow"/>
              </a:rPr>
              <a:t>USD</a:t>
            </a: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 на внутреннем рынке вырос.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Есть основания предполагать разворот долговременного тренда укрепления тенге к доллару.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ДОЛЛАРЫ НАДО ЗАНИМАТЬ ЗДЕСЬ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1185480" y="1125720"/>
            <a:ext cx="99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Январь 2003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3069360"/>
            <a:ext cx="745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Сентябрь</a:t>
            </a:r>
            <a:br>
              <a:rPr sz="1600"/>
            </a:b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2007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4624560" y="3141720"/>
            <a:ext cx="0" cy="1295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E6AE-9C5F-4D45-9238-8034582DEC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4520" y="1052640"/>
            <a:ext cx="5019480" cy="521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35280" y="1125000"/>
            <a:ext cx="3454200" cy="17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Хроническая недооценка акций на рынке до 2006 года – теперь лишь ностальгическое воспоминание о былом потенциале доходности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ЧУДЕСА НА РЫНКЕ АКЦИЙ КОНЧИЛИСЬ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898560" y="2205360"/>
            <a:ext cx="164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Narrow"/>
              </a:rPr>
              <a:t>индекс </a:t>
            </a:r>
            <a:r>
              <a:rPr b="0" lang="en-US" sz="1600" spc="-1" strike="noStrike">
                <a:solidFill>
                  <a:srgbClr val="ff0000"/>
                </a:solidFill>
                <a:latin typeface="Arial Narrow"/>
              </a:rPr>
              <a:t>KASE_Shares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711360" y="887760"/>
            <a:ext cx="436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Изменение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_Shares</a:t>
            </a: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 и курса 5 акций-фаворитов, %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3995280" y="1484640"/>
            <a:ext cx="45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HSBK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4037040" y="31849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 Narrow"/>
              </a:rPr>
              <a:t>KKGB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506040" y="3716640"/>
            <a:ext cx="43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Narrow"/>
              </a:rPr>
              <a:t>BTAS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46533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 Narrow"/>
              </a:rPr>
              <a:t>RDGZ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983600" y="5229720"/>
            <a:ext cx="42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 Narrow"/>
              </a:rPr>
              <a:t>KZTK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5138640"/>
            <a:ext cx="45352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357120" y="5013360"/>
            <a:ext cx="3272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508720" y="3613320"/>
          <a:ext cx="3574800" cy="2552400"/>
        </p:xfrm>
        <a:graphic>
          <a:graphicData uri="http://schemas.openxmlformats.org/drawingml/2006/table">
            <a:tbl>
              <a:tblPr/>
              <a:tblGrid>
                <a:gridCol w="677880"/>
                <a:gridCol w="546120"/>
                <a:gridCol w="563400"/>
                <a:gridCol w="595440"/>
                <a:gridCol w="596880"/>
                <a:gridCol w="595080"/>
              </a:tblGrid>
              <a:tr h="2822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TAS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SBK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KGB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K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DGZ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1.0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0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0.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7.0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1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4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7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10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1.0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.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4.0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539320" y="3329280"/>
            <a:ext cx="144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Price-to-Book Ratio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B969-F0BD-4AA5-B95D-F9814AF57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А ВОТ ПИФЫ – ВСЕ КРУЧЕ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64240" y="1197360"/>
            <a:ext cx="4200480" cy="4738320"/>
            <a:chOff x="4764240" y="1197360"/>
            <a:chExt cx="4200480" cy="4738320"/>
          </a:xfrm>
        </p:grpSpPr>
        <p:sp>
          <p:nvSpPr>
            <p:cNvPr id="100" name=""/>
            <p:cNvSpPr/>
            <p:nvPr/>
          </p:nvSpPr>
          <p:spPr>
            <a:xfrm>
              <a:off x="5128920" y="1197360"/>
              <a:ext cx="228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Динамика количества ПИФов</a:t>
              </a:r>
              <a:endParaRPr b="0" lang="en-US" sz="1600" spc="-1" strike="noStrike">
                <a:solidFill>
                  <a:srgbClr val="ffff99"/>
                </a:solidFill>
                <a:latin typeface="Arial Narrow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764240" y="1392120"/>
              <a:ext cx="4200480" cy="45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324000" y="1197360"/>
            <a:ext cx="4209840" cy="4733640"/>
            <a:chOff x="324000" y="1197360"/>
            <a:chExt cx="4209840" cy="473364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324000" y="1387440"/>
              <a:ext cx="420984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1120" y="1197360"/>
              <a:ext cx="296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Динамика активов ПИФов, млрд тенге</a:t>
              </a:r>
              <a:endParaRPr b="0" lang="en-US" sz="1600" spc="-1" strike="noStrike">
                <a:solidFill>
                  <a:srgbClr val="ffff99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BF9C-B119-41AC-95B0-3F08113BE2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084400"/>
            <a:ext cx="87138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24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В СЛОЖИВШЕЙСЯ СИТУАЦИИ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 Narrow"/>
              </a:rPr>
              <a:t>KASE</a:t>
            </a: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 ОТВЕЧАЕТ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НОВОЙ СТРАТЕГИЕЙ</a:t>
            </a:r>
            <a:endParaRPr b="1" lang="en-US" sz="40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A6EE-9BE2-45C5-BE82-5048833236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ДАЕШЬ ОТКРЫТЫЙ РЫНОК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959040"/>
            <a:ext cx="4343400" cy="5349600"/>
            <a:chOff x="281160" y="959040"/>
            <a:chExt cx="4343400" cy="5349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81160" y="1203120"/>
              <a:ext cx="43434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1520" y="959040"/>
              <a:ext cx="389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Динамика доли прямых сделок на рынке </a:t>
              </a:r>
              <a:r>
                <a:rPr b="0" lang="en-US" sz="1600" spc="-1" strike="noStrike">
                  <a:solidFill>
                    <a:srgbClr val="00ff00"/>
                  </a:solidFill>
                  <a:latin typeface="Arial Narrow"/>
                </a:rPr>
                <a:t>KASE</a:t>
              </a: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, %</a:t>
              </a:r>
              <a:endParaRPr b="0" lang="en-US" sz="1600" spc="-1" strike="noStrike">
                <a:solidFill>
                  <a:srgbClr val="ffff99"/>
                </a:solidFill>
                <a:latin typeface="Arial Narrow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8920" y="2422440"/>
            <a:ext cx="381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сохранение с начала 2007 года льгот по налогообложению прироста стоимости акций, если этот прирост был зафиксирован методами открытых торгов (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 активно способствовала принятию соответствующих поправок в законодательство)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прекращение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c 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01 марта 2007 года использования на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 метода  франкфуртских торгов для наиболее ликвидных акций с одновременным ужесточением требований к маркет-мейкерам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268280"/>
            <a:ext cx="39607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Принципиальному падению доли прямых сделок с акциями на бирже способствовали: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D5A2-93F2-4722-BAA9-F79E3CF3D9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ЛИКВИДНОСТЬ И ЕЩЕ РАЗ ЛИКВИДНОСТЬ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671040" y="834120"/>
            <a:ext cx="39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Динамика сравнительного</a:t>
            </a:r>
            <a:br>
              <a:rPr sz="1600"/>
            </a:b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коэффициента ликвидности на рынке акций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907920"/>
            <a:ext cx="4211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Одной из своих главных задач биржа видит повышение ликвидности на рынке акций.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Прекращение c 01 марта 2007 года использования на KASE метода  франкфуртских торгов для ликвидных акций с ужесточением требований к маркет-мейкерам по спрэдам, вовлечение в рынок "физиков" без взимания с них комиссионного сбора – далеко не полный перечень мер, которые способствовали росту ликвидности акций на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За первые 8 месяцев 2007 года оборот акций на бирже вырос относительно соответствующего периода 2006 года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в 5,4 раза.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440" y="1279440"/>
            <a:ext cx="4371840" cy="488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59360" y="2752920"/>
            <a:ext cx="5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Narrow"/>
              </a:rPr>
              <a:t>кризис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1021-7B99-486A-AA8E-941CCACB93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8200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01 октября 2007 года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презентует новый индекс своего рынка акций – </a:t>
            </a:r>
            <a:r>
              <a:rPr b="0" lang="en-US" sz="2800" spc="-1" strike="noStrike">
                <a:solidFill>
                  <a:srgbClr val="00ff00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ндекс продолжит числовой ряд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_Shares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и будет введен биржей в качестве признания определенного уровня развития рынка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ндекс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– это взвешенный по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free-float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еал-тайм индекс, который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вычисляется исключительно по ценам сделок с акциями двенадцати наименований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 Именно эти акции за предыдущий квартал являлись на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наиболее ликвидными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иржа будет стремиться сделать индекс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инструментообразующим уже в 2008 году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НОВЫЙ ИНДЕКС РЫНКА АКЦИЙ –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C004-2AA3-4DC6-BD03-D4FBD7CF6D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РЕДСТАВИТЕЛЬСКИЙ СПИСОК ИНДЕКСА АКЦИЙ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125360"/>
          <a:ext cx="8569440" cy="4499280"/>
        </p:xfrm>
        <a:graphic>
          <a:graphicData uri="http://schemas.openxmlformats.org/drawingml/2006/table">
            <a:tbl>
              <a:tblPr/>
              <a:tblGrid>
                <a:gridCol w="504720"/>
                <a:gridCol w="1079640"/>
                <a:gridCol w="2298600"/>
                <a:gridCol w="4686480"/>
              </a:tblGrid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№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 акции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ип акции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раткое наименование эмитента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ATFB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АТФ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ATFBp8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АТФ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BTAS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Банк ТуранАлем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CCBN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Банк ЦентрКредит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HSBK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Народный сберегательный банк Казахстана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KGB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коммерц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KGBp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коммерц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ZTK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ахтелеком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ZTKp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ахтелеком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RDGZ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Разведка Добыча "КазМунайГаз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TEBN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Темiр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TEBNp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Темiр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0000" y="587700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77777"/>
                </a:solidFill>
                <a:latin typeface="Arial"/>
              </a:rPr>
              <a:t>Представительский список планируется пересматривать не чаще одного раза в квартал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58F0-261F-4B49-A993-E663D958DB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8200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удет стремиться к максимальному приближению своих листинговых требований и листинговых процедур к наилучшей листинговой практике крупнейших фондовых бирж мира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110000"/>
              </a:lnSpc>
              <a:spcBef>
                <a:spcPts val="2100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ынок акций через систему листинговых требований будет разделен на несколько частей, в том числе сектор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 "голубых фишек"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("Blue_Chips"), сектор акций субъектов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среднего предпринимательства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("Mid_Cap") и так называемый сектор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"start-up"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, предназначенный для акций "молодых", "растущих" компаний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ЕСТРУКТУРИЗАЦИЯ ЛИСТИНГА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D480-21CC-4F03-9A7F-63DA491CD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496000" cy="32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Новая модель РФЦА – создание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единого рынка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, который объединяет СТП РФЦА и основную площадку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При этом биржа функционирует как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коммерческая организация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проводит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IPO</a:t>
            </a:r>
            <a:r>
              <a:rPr b="0" lang="kk-KZ" sz="2800" spc="-1" strike="noStrike">
                <a:solidFill>
                  <a:srgbClr val="ffff99"/>
                </a:solidFill>
                <a:latin typeface="Arial Narrow"/>
              </a:rPr>
              <a:t> и выходит на рынок в качестве образцовой “голубой фишки”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 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+ РФЦА = ЕДИНЫЙ РЫНОК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F515-87CF-4497-90A8-C7DB04C37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25632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ОЧЕМУ МЫ СЧИТАЕМ, ЧТО ЭТОТ ПЕРИОД НАСТУПИЛ?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1440" y="914040"/>
            <a:ext cx="86029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Главное: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зменение правил инвестирования пенсионных активов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"дробление" рынка в связи с запуском СТП РФЦА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ужесточение денежно-кредитной политики и, как следствие, удорожание денег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зменение тенденций на рынке акций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а также: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ост волатильности и рисков на внутреннем рынке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USD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"кризис ликвидности" на мировом рынке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ост ПИФов как альтернативы инвестициям в депозиты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0E3F-872B-4805-9B45-5390C24BA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914040"/>
            <a:ext cx="8820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иржа должна быть той торговой площадкой, на которой казахстанские и иностранные эмитенты ценных бумаг могут привлечь в ходе одного публичного размещения (IPO) не менее эквивалента 50 млн долларов США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 ПРИГЛАШАЕТ ВСЕХ НА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IPO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6948-7DB6-4D55-A14D-EE66BA9C16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8200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дея: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Джолдасбеков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Сценарий: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. Сабитов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Б. Бабенов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Базы данных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, ИРБИС, АФН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Обработка данных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Д. Мукашева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Р. Дзюбайло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С. Яковле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Текст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. Сабито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Дизайн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    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©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KASE, 2007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ВЫСОКОЙ ВАМ ДОХОДНОСТИ НА РЫНКЕ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943D-4C59-45C0-BF55-EDF0A8CB7E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914040"/>
            <a:ext cx="88200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Отказ от использования категории листинга 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 в качестве критерия при инвестиции пенсионных активов (ПА)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падение скорости роста списков ценных бумаг 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KASE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ff00"/>
                </a:solidFill>
                <a:latin typeface="Arial Narrow"/>
              </a:rPr>
              <a:t>+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снижение активности "пенсионщиков" на бирже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ff00"/>
                </a:solidFill>
                <a:latin typeface="Arial Narrow"/>
              </a:rPr>
              <a:t>+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заметное удорожание местной базы фондирования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ЕНСЫ, ВЫ ГДЕ?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706320" y="2565360"/>
            <a:ext cx="142920" cy="432000"/>
          </a:xfrm>
          <a:prstGeom prst="downArrow">
            <a:avLst>
              <a:gd name="adj1" fmla="val 50000"/>
              <a:gd name="adj2" fmla="val 755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5868-2930-4E8C-A5B8-92869CD3BF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424720" cy="6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Принятые меры к заметному росту доходности ПА не привели, однако способствовали сокращению доли ПА на организованном рынке  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ЕНСЫ: А ВОТ МЫ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451800" y="1845000"/>
            <a:ext cx="203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Средневзвешенный К2, %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00720" y="2133720"/>
          <a:ext cx="4295520" cy="3778200"/>
        </p:xfrm>
        <a:graphic>
          <a:graphicData uri="http://schemas.openxmlformats.org/drawingml/2006/table">
            <a:tbl>
              <a:tblPr/>
              <a:tblGrid>
                <a:gridCol w="1431720"/>
                <a:gridCol w="1432080"/>
                <a:gridCol w="143172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ид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 мес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6 год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 мес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7 год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1360">
                <a:tc gridSpan="3">
                  <a:txBody>
                    <a:bodyPr lIns="90000" rIns="90000" tIns="900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АКЦИИ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купк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9,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,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даж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2,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среднем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16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4,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26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КОРПОРАТИВНЫЕ ОБЛИГАЦИИ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купк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2,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6,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даж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0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,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среднем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26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9,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576680" y="1845000"/>
            <a:ext cx="280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Доля участия ПА на рынке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, %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6673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9342-E25B-45DD-870D-2E5BA3B4DB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652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ФЦА-2007: ДУБЛИРОВАНИЕ РЫНКА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(1)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602560" cy="52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Листинг на РФЦА проходили только ценные бумаги, уже листингованные на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Ни одного нового эмитента, желающего продавать свои ценные бумаги только на РФЦА, нет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Членами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категории "А" желают стать только компании, которые (или "мамы" которых) уже являются членами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по другим категориям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Доля оборота СТП РФЦА на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в 2007 году не превысила 0,18%, в том числе на рынке акций – 0,78%, корпоративных облигаций – 13,1%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2A17-ECE6-46BD-92E1-13D971BC95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ФЦА-2007: ДУБЛИРОВАНИЕ РЫНКА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(2)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1440" y="914040"/>
            <a:ext cx="86029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 Narrow"/>
              </a:rPr>
              <a:t>Несовершенство модели РФЦА привело к: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неоправданным затратам брокеров на организацию "дочек" и "сестер"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замешательству новых эмитентов, для которых наличие двух площадок не совсем понятно; при этом вся ликвидность находится на основной площадке 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KAS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E073-2847-461F-8A15-27BE93115F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ЛИСТИНГ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: 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КТО НА ГОРИЗОНТЕ?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76240"/>
          <a:ext cx="8640720" cy="4568760"/>
        </p:xfrm>
        <a:graphic>
          <a:graphicData uri="http://schemas.openxmlformats.org/drawingml/2006/table">
            <a:tbl>
              <a:tblPr/>
              <a:tblGrid>
                <a:gridCol w="3271680"/>
                <a:gridCol w="1341720"/>
                <a:gridCol w="1342800"/>
                <a:gridCol w="1341720"/>
                <a:gridCol w="134280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угодие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’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06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угодие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’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0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мпании: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вых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вых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требительский сектор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мышленность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Финансы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5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6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Энергетика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елекоммуникации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ырьевой сектор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T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дравоохранение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ммунальный сектор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ИТОГО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0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8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720" y="557208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77777"/>
                </a:solidFill>
                <a:latin typeface="Arial"/>
              </a:rPr>
              <a:t>* Классификация компаний – по </a:t>
            </a:r>
            <a:r>
              <a:rPr b="0" i="1" lang="en-US" sz="1400" spc="-1" strike="noStrike">
                <a:solidFill>
                  <a:srgbClr val="777777"/>
                </a:solidFill>
                <a:latin typeface="Arial"/>
              </a:rPr>
              <a:t>Global Industry Classification Standard (GICS)</a:t>
            </a:r>
            <a:r>
              <a:rPr b="0" i="1" lang="ru-RU" sz="1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777777"/>
                </a:solidFill>
                <a:latin typeface="Arial"/>
              </a:rPr>
              <a:t>S&amp;P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1301760"/>
            <a:ext cx="194472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1285920"/>
            <a:ext cx="194472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69EF-F7C4-4A1B-A754-D333AAE32A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424720" cy="6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Поэтапное ужесточение резервных требований и пруденциальных нормативов для банков привели к росту всех ставок денежного рынка: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АФН И НАЦБАНК: ДЕНЬГИ ДОЛЖНЫ БЫТЬ ДОРОЖЕ…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181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9720" y="1963440"/>
            <a:ext cx="73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%</a:t>
            </a:r>
            <a:r>
              <a:rPr b="0" lang="en-US" sz="1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годовых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64240" y="1768320"/>
            <a:ext cx="4200480" cy="432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48720" y="1963440"/>
            <a:ext cx="73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%</a:t>
            </a:r>
            <a:r>
              <a:rPr b="0" lang="en-US" sz="1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годовых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6513840" y="4330440"/>
            <a:ext cx="101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Ставки </a:t>
            </a:r>
            <a:r>
              <a:rPr b="0" lang="en-US" sz="1400" spc="-1" strike="noStrike">
                <a:solidFill>
                  <a:srgbClr val="ffff99"/>
                </a:solidFill>
                <a:latin typeface="Arial Narrow"/>
              </a:rPr>
              <a:t>KIBOR: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80CF-1671-42C9-B492-5C2D564E5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4760" y="2022480"/>
            <a:ext cx="4286160" cy="432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8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Удорожание базы фондирования вызвало рост доходности облигаций на первичном и вторичном рынках, а также к падению их ликвидности (кроме нот Нацбанка):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ЫНОК: ДОРОЖЕ, ТАК ДОРОЖЕ…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754920" y="1845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Корпоративные облигации на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2440" y="2022480"/>
            <a:ext cx="4305240" cy="428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81760" y="1845000"/>
            <a:ext cx="284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Ноты Нацбанка и МЕОКАМ на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7889040" y="3002400"/>
            <a:ext cx="2011320" cy="253800"/>
          </a:xfrm>
          <a:prstGeom prst="rect">
            <a:avLst/>
          </a:prstGeom>
          <a:solidFill>
            <a:srgbClr val="183c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 Narrow"/>
              </a:rPr>
              <a:t>Объем торгов, млрд тенге</a:t>
            </a:r>
            <a:endParaRPr b="0" lang="en-US" sz="1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5145120" y="222408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 Narrow"/>
              </a:rPr>
              <a:t>Доходность, %</a:t>
            </a:r>
            <a:r>
              <a:rPr b="0" lang="en-US" sz="12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ffff99"/>
                </a:solidFill>
                <a:latin typeface="Arial Narrow"/>
              </a:rPr>
              <a:t>годовых</a:t>
            </a:r>
            <a:endParaRPr b="0" lang="en-US" sz="1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7659-A4D2-4BFE-8A6A-FF1C889B4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04:43Z</dcterms:created>
  <dc:creator>Andrey Tsalyuk</dc:creator>
  <dc:description/>
  <dc:language>en-US</dc:language>
  <cp:lastModifiedBy>Juassov</cp:lastModifiedBy>
  <dcterms:modified xsi:type="dcterms:W3CDTF">2007-09-24T07:10:32Z</dcterms:modified>
  <cp:revision>218</cp:revision>
  <dc:subject/>
  <dc:title>PowerPoint Presentation</dc:title>
</cp:coreProperties>
</file>