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wmf" ContentType="image/x-wmf"/>
  <Override PartName="/ppt/media/image5.wmf" ContentType="image/x-wmf"/>
  <Override PartName="/ppt/media/image6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CF518-869B-4A88-8567-4252EE064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79280" y="274320"/>
            <a:ext cx="6985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74722-D430-4E18-80BF-83F23B761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79280" y="274320"/>
            <a:ext cx="6985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54AB8-108E-4033-BF5B-E069EA03B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79280" y="274320"/>
            <a:ext cx="6985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18D42-3B21-4BB7-B6F5-785619B14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79280" y="274320"/>
            <a:ext cx="6985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55513-28B3-4DC9-B3CE-FB430F53F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79280" y="274320"/>
            <a:ext cx="6985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7D577-CC81-4A75-A00C-5316AFA4A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79280" y="274320"/>
            <a:ext cx="6985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AAA15-AE3B-4C1F-834B-BA4AC14BE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79280" y="274320"/>
            <a:ext cx="6985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8C032-2B1E-40B8-B230-201BA5B79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79280" y="274320"/>
            <a:ext cx="6985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2C9DA-834F-4A37-806F-D8083FBD8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79280" y="274320"/>
            <a:ext cx="6985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5C55D-06E5-4050-A902-5DAD88DE5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79280" y="274320"/>
            <a:ext cx="6985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A5EB1-C85A-43C0-A616-D5E0A7451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79280" y="274320"/>
            <a:ext cx="6985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0CDA7-D3E5-4B28-A2AC-53B483CB5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79280" y="274320"/>
            <a:ext cx="6985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8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59436-0B90-459E-BB0F-507E69CF8DD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hyperlink" Target="mailto:dnurpeissov@rfca.kz" TargetMode="External"/><Relationship Id="rId4" Type="http://schemas.openxmlformats.org/officeDocument/2006/relationships/hyperlink" Target="mailto:ka@rfca.kz" TargetMode="External"/><Relationship Id="rId5" Type="http://schemas.openxmlformats.org/officeDocument/2006/relationships/hyperlink" Target="mailto:dzhumagaliyeva@rfca.kz" TargetMode="External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«РФЦА – стратегия, перспективы и первые результаты»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116000" y="260280"/>
            <a:ext cx="734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РЕГИОНАЛЬНЫЙ ФИНАНСОВЫЙ ЦЕНТР ГОРОДА АЛМА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50920" y="6093000"/>
            <a:ext cx="244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8-19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сентября 2007 год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740720" y="6093000"/>
            <a:ext cx="122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ссык-Кул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79280" y="274320"/>
            <a:ext cx="6985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КАПИТАЛИЗАЦИЯ ЦЕННЫХ БУМАГ НА СТП РФЦА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324000" y="1916280"/>
          <a:ext cx="8351640" cy="41655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4000" y="1916280"/>
                    <a:ext cx="8351640" cy="416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"/>
          <p:cNvSpPr/>
          <p:nvPr/>
        </p:nvSpPr>
        <p:spPr>
          <a:xfrm>
            <a:off x="1332000" y="2349360"/>
            <a:ext cx="180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В млн. долл. СШ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6DF8F-9062-43FE-AA98-910B7E39B94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53964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ПРОГРАММА РАЗВИТИ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РФЦА ДО 2010 ГОД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D05C7-1937-4524-9721-65ABE86BEF9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979280" y="274320"/>
            <a:ext cx="6985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РОГРАММА РАЗВИТИЯ  РФЦА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ДО 2010 ГОДА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34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Институциональное развитие финансового центра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34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ривлечение эмитентов, профессиональных участников и институциональных инвесторов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34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еспечение активного участия холдинга Самрук и фонда Казына и других государственных организаций в деятельности финансового центра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34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овлечение активного участия холдинга Самрук и фонда Казына и других государственных организаций в деятельности финансового центра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34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Развитие и внедрение новых финансовых инструментов и технологий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34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овершенствование государственного регулирования рынка ценных бумаг и финансового центра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34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овышение инвестиционной привлекательности города Алматы и формирование благоприятного инвестиционного имиджа Республики Казахстан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34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рганизационно-техническое обеспечение деятельности финансового центра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54D15-9676-49CD-9E1F-9A8B574B286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79280" y="274320"/>
            <a:ext cx="6985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ПРИВЛЕЧЕНИЕ ЭМИТЕНТОВ, ПРОФЕССИОНАЛЬНЫХ УЧАСТНИКОВ И ИНСТИТУЦИОНАЛЬНЫХ ИНВЕСТОРОВ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34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Работа по привлечению российских и украинских  эмитентов на региональный финансовый центр города Алматы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34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Проведение семинаров для эмитентов, журналистов  для детального ознакомления с деятельностью финансового центра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34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Проведение активной работы в странах СНГ и граничащих с Казахстаном областях Китайской Народной Республики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34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Проведение работы с другими азиатскими странами и странами Персидского залива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1AE24-627F-4D30-8395-C76CB177856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979280" y="274320"/>
            <a:ext cx="6985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ВОВЛЕЧЕНИЕ ВНУТРЕННИХ СБЕРЕЖЕНИЙ НАСЕЛЕНИЯ ПОСРЕДСТВОМ РЫНКА ЦЕННЫХ БУМАГ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34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Разработана программа Правительства  по повышению инвестиционной культуры и финансовой грамотности населения Республики Казахстан на 2007 - 2009 г.г.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34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Устанавливаются связи с Высшими учебными заведениями по поводу проведений  тематических лекций среди участников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34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Освещение в СМИ об особенностях работы на рынке ценных бумаг  и разъяснения роли РФЦА в экономике страны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BE57B-B6F5-4596-898A-EC3D0D340D9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79280" y="274320"/>
            <a:ext cx="6985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ОРГАНИЗАЦИОННО-ТЕХНИЧЕСКОЕ ОБЕСПЕЧЕНИЕ ДЕЯТЕЛЬНОСТЬ ФИНАНСОВОГО ЦЕНТРА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34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Создано АО «РФЦА», основной задачей которого является развитие технической инфраструктуры финансового центра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34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Планируется приобретение бизнес-центра с завершенной инфраструктурой, в котором будут размещены Агентство, АО «РФЦА», фондовая биржа, центральный депозитарий, специализированный финансовый суд, а также участники РФЦА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86523-D6E1-4E04-B599-2E50EC1D73B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79640" y="188640"/>
            <a:ext cx="590400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КОНТАКТНАЯ ИНФОРМАЦИЯ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1125360"/>
            <a:ext cx="8136000" cy="0"/>
          </a:xfrm>
          <a:prstGeom prst="line">
            <a:avLst/>
          </a:prstGeom>
          <a:ln w="7632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16000" y="1557360"/>
            <a:ext cx="706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Нурпеисов Дархан Кадырбаевич, Заместитель председател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тел .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+ 7 327 244 95 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8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-mail: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dnurpeissov@rfca.k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Калигазин Аслан, Начальник управления по работе с эмитентами и инвесторам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тел .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+ 7 327 244 95 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 (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н. 1122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8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-mail: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Times New Roman"/>
                <a:hlinkClick r:id="rId4"/>
              </a:rPr>
              <a:t>kaligazin@rfca.kz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Джумагалиева Дана, Управление по работе с эмитентами и ивесторами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тел . + 7 327 244 95 06 (вн. 1153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8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-mail: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Times New Roman"/>
                <a:hlinkClick r:id="rId5"/>
              </a:rPr>
              <a:t>dzhumagaliyeva@rfca.kz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091B8-2FCC-4801-8CF5-677615274367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843280" y="189000"/>
            <a:ext cx="38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www.rfca.k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92280" y="2852640"/>
            <a:ext cx="8030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808080"/>
                </a:solidFill>
                <a:latin typeface="Times New Roman"/>
              </a:rPr>
              <a:t>БЛАГОДАРИМ ЗА ВНИМАНИЕ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524FE-1EE5-4CFB-BA1C-7182F62BE14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53964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НОРМОТВОРЧЕСКАЯ ДЕЯТЕЛЬНОСТЬ  АГЕНТСТВ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A9356-842B-4B29-A096-766589EBD29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979280" y="274320"/>
            <a:ext cx="6985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ЗАКОН РК «О РЕГИОНАЛЬНОМ ФИНАНСОВОМ ЦЕНТРЕ ГОРОДА АЛМАТЫ»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опуск действующих брокерских и (или) дилерских организаций в качестве участника финансового центра, предусмотрев для них процедуру аккредитации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Расширение сферы деятельности зарегистрированных участников финансового центра, в том числе разрешения им осуществлять торги на неорганизованном рынке и на других фондовых биржах;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опуск иных профессиональных участников рынка ценных бумаг на специальную торговую площадку финансового центра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пределение размера и порядка возмещения затрат на аудит эмитентов финансовых инструментов, допущенных на специальную торговую площадку финансового центра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Уточнение некоторых понятий и функций уполномоченного органа по регулированию деятельности регионального финансового центра города Алматы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пределение конкретного перечня организаций, не являющихся участниками финансового центра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829DC-8F09-4679-B70D-3174BE83168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979280" y="274320"/>
            <a:ext cx="6985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ЗАКОН РК «О РЫНКЕ ЦЕННЫХ БУМАГ»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4000" y="1916280"/>
            <a:ext cx="800244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несены изменения по исключению нормы,  закрепляющей функционирование фондовой биржи только в виде некоммерческой организации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Расширен круг участников в капитале биржи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пределены условия владения пакетами акций организатора торгов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D37BA-B864-41CE-A8CD-2BD66A6237F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53964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ИНФРАСТРУКТУРА ФОНДОВОГО РЫНК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EB5D4-18B1-4212-9054-868B44D15BF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979280" y="274320"/>
            <a:ext cx="6985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ФОНДОВАЯ БИРЖА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Коммерциализация биржи было одобрено Общим собранием акционеров биржи, которое состоялось 23 августа т.г.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кционерами биржи была утверждена Стратегия развития биржи на 2007-2010 годы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гентством подготовлен проект единых листинговых правил для обеих площадок, который изучается и согласовывается, совместно с биржей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9DB21-8B75-4F11-8FC5-F2CF1A7DC08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79280" y="274320"/>
            <a:ext cx="6985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ФИНАНСОВЫЕ ИНСТРУМЕНТЫ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кции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лигации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еривативы на золото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TF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I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Исламские инструменты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екьюритизированные активы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7A54B-6244-497A-A196-02169C28B12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79280" y="274320"/>
            <a:ext cx="6985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ЭМИТЕНТЫ И ПРОФЕССИОНАЛЬНЫЕ УЧАСТНИКИ НА СТП РФЦА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539640" y="1903320"/>
          <a:ext cx="8196480" cy="41227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9640" y="1903320"/>
                    <a:ext cx="8196480" cy="412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4D478-8BFA-453A-9EC5-8F823E4E01E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979280" y="274320"/>
            <a:ext cx="6985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БЪЕМ ТОРГОВ ПО АКЦИЯМ И ОБЛИГАЦИЯМ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651640" y="1916280"/>
            <a:ext cx="30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в тыс.  долл. СШ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179280" y="1557360"/>
            <a:ext cx="8064720" cy="4824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59FDB-18A7-4C75-B0C9-FCA100C82EE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7T05:32:55Z</dcterms:created>
  <dc:creator>User</dc:creator>
  <dc:description/>
  <dc:language>en-US</dc:language>
  <cp:lastModifiedBy>Juassov</cp:lastModifiedBy>
  <dcterms:modified xsi:type="dcterms:W3CDTF">2007-09-24T06:55:56Z</dcterms:modified>
  <cp:revision>212</cp:revision>
  <dc:subject/>
  <dc:title>Слайд 1</dc:title>
</cp:coreProperties>
</file>