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10080625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FF1B6-A81B-4510-91CB-FD63E80E3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720" y="396432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9DA42-8CA7-495E-8E3F-8FCED5D66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376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AC0FE-A484-4D64-A80C-CD263AF7E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7228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9840" y="160020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472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7228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9840" y="3964320"/>
            <a:ext cx="2921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ADA4C-7FF3-486E-A9C1-083148626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549EE-01BE-4DD5-BBED-7B7DF64BF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4C90B-B418-464D-84AF-F0203E0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289E-5FD5-4832-AA20-E5342CAF46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EB86-C9D6-4529-9B72-46DD6FB73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6840" y="-12960"/>
            <a:ext cx="907272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9CC2-5106-4C7B-8B2F-21AC26F2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1BF1-982A-4D6C-9DE7-2B87093A9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3760" y="396432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14BB5-AFC4-4BF5-97CA-C1D0F724F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840" y="-22680"/>
            <a:ext cx="90727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472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3760" y="1600200"/>
            <a:ext cx="4427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4720" y="396432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CE87-33EA-4820-B3C8-28263FD4B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6840" y="-12960"/>
            <a:ext cx="907272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bbe0e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4720" y="1600200"/>
            <a:ext cx="9072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4360" y="6244920"/>
            <a:ext cx="2351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4840" y="6244920"/>
            <a:ext cx="31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4480" y="6244920"/>
            <a:ext cx="2352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04611-F2DB-40EF-A55D-3DE7B2A7C37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H="1">
            <a:off x="1061640" y="6205680"/>
            <a:ext cx="8853480" cy="0"/>
          </a:xfrm>
          <a:prstGeom prst="line">
            <a:avLst/>
          </a:prstGeom>
          <a:ln w="2232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168640" y="0"/>
            <a:ext cx="0" cy="617076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49560" cy="573408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278320" y="3676680"/>
            <a:ext cx="4764240" cy="248904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744640" y="1413000"/>
            <a:ext cx="7336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Palatino Linotype"/>
              </a:rPr>
              <a:t>I</a:t>
            </a:r>
            <a:r>
              <a:rPr b="1" lang="ru-RU" sz="2400" spc="-1" strike="noStrike">
                <a:solidFill>
                  <a:srgbClr val="000066"/>
                </a:solidFill>
                <a:latin typeface="Palatino Linotype"/>
              </a:rPr>
              <a:t> ЕЖЕГОДНАЯ КОНФЕРЕНЦИЯ КАЗАХСТАНСКОЙ ФОНДОВОЙ БИРЖИ ПО ФИНАНСОВОМУ РЫН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Palatino Linotype"/>
              </a:rPr>
              <a:t>Коллективное инвестирова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Palatino Linotype"/>
              </a:rPr>
              <a:t>ОБЗОР РЫНКА ПАЕВЫХ ИНВЕСТИЦИОННЫХ ФОНД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205680" y="404640"/>
            <a:ext cx="3709800" cy="432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89000" y="-455760"/>
            <a:ext cx="28404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01600" y="966960"/>
          <a:ext cx="9677520" cy="5846760"/>
        </p:xfrm>
        <a:graphic>
          <a:graphicData uri="http://schemas.openxmlformats.org/drawingml/2006/table">
            <a:tbl>
              <a:tblPr/>
              <a:tblGrid>
                <a:gridCol w="349200"/>
                <a:gridCol w="1776600"/>
                <a:gridCol w="1977840"/>
                <a:gridCol w="1646280"/>
                <a:gridCol w="1314360"/>
                <a:gridCol w="1441440"/>
                <a:gridCol w="1171800"/>
              </a:tblGrid>
              <a:tr h="489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И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Управляющая комп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ип фон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тоимость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Стоимость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ирост стоимости Па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31.12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31.08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аму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РД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 523.6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 2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7.0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Фавор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4 501.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81 903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25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с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93 941.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1 561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8.7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RESMI Монетный д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ФД RES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28 565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8 253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5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ы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9 957.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4 66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9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HALYK - Привиле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Halyk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63.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53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БТА Дохо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678 686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815 58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8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БТА Сбалансирова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4 205.8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23 21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7.8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наче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Сентрас Секьюри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31 011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0 057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6.9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ьтернатива депозитам – весна-ос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Казкоммерц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42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7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.54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вигатор - 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0 877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6 422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5.0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2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Алмаз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01.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15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4.9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3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Изумруд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48.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 08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.8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4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вигатор - Облигации и денежный 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открыт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0 944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114 918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.5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216000" y="71280"/>
            <a:ext cx="9583560" cy="765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ИФ по доходности с начала года 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(по данным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b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-320760" y="-1852560"/>
            <a:ext cx="4906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5" name=""/>
          <p:cNvGraphicFramePr/>
          <p:nvPr/>
        </p:nvGraphicFramePr>
        <p:xfrm>
          <a:off x="276120" y="957240"/>
          <a:ext cx="9528120" cy="5784480"/>
        </p:xfrm>
        <a:graphic>
          <a:graphicData uri="http://schemas.openxmlformats.org/drawingml/2006/table">
            <a:tbl>
              <a:tblPr/>
              <a:tblGrid>
                <a:gridCol w="436680"/>
                <a:gridCol w="2502000"/>
                <a:gridCol w="1984320"/>
                <a:gridCol w="1349280"/>
                <a:gridCol w="1271520"/>
                <a:gridCol w="1111320"/>
                <a:gridCol w="873000"/>
              </a:tblGrid>
              <a:tr h="37116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№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И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  </a:t>
                      </a: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Управляющая компания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3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 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3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Соимость па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9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Прирост стоимости Пая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4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1.07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на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Bookman Old Style"/>
                          <a:ea typeface="Arial"/>
                        </a:rPr>
                        <a:t>31.08.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Global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есн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8 511.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0 81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7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вори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9 820.6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81 903.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.16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SMI Монетный двор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ФД RES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7 038.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8 253.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0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ын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4 293.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4 661.3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6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начейств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Сентрас Секьюритиз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39 261.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0 057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5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аму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РДА Капитал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 172.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4 241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0.4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ТА Доход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817 276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815 586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09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Т Фортис – Фонд сбалансированный консерватив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ИТ Фортис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50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49.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15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игатор - Облигации и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нежный рынок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5 277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4 918.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3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6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сип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ты Инвестмент Менеджмен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2 016.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1 561.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41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БТА Сбалансирован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ТуранАлем Секьюритис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3 728.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3 210.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ьтернатива депозитам –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весна-осень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Казкоммерц 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8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71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0.9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4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аворит - Коллекц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REAL-INVEST.kz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 325.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0 193.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1.28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зумруд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Открытый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20.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088.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2.83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LYK - Привилегия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Halyk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87.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53.5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2.87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Алмазный Дом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Asia Broker Servi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92.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 156.1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3.0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36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Навигатор - Акции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ДЕЛЬТА-ИНВЕСТ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20 649.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116 422.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3.50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00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ЦентрКредит - Чемпион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BCC Inve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Интервальный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941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3366"/>
                          </a:solidFill>
                          <a:latin typeface="Arial"/>
                          <a:ea typeface="Arial"/>
                        </a:rPr>
                        <a:t>392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ff3300"/>
                          </a:solidFill>
                          <a:latin typeface="Arial"/>
                          <a:ea typeface="Arial"/>
                        </a:rPr>
                        <a:t>-5.42%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6" name=""/>
          <p:cNvSpPr/>
          <p:nvPr/>
        </p:nvSpPr>
        <p:spPr>
          <a:xfrm>
            <a:off x="216000" y="71280"/>
            <a:ext cx="9583560" cy="7653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РЕЙТИНГ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ИФ по доходности за август 2007 года </a:t>
            </a:r>
            <a:r>
              <a:rPr b="0" lang="ru-RU" sz="2400" spc="-1" strike="noStrike">
                <a:solidFill>
                  <a:srgbClr val="ffffff"/>
                </a:solidFill>
                <a:latin typeface="Palatino Linotype"/>
              </a:rPr>
              <a:t>(по данным </a:t>
            </a:r>
            <a:r>
              <a:rPr b="0" lang="en-US" sz="2400" spc="-1" strike="noStrike">
                <a:solidFill>
                  <a:srgbClr val="ffffff"/>
                </a:solidFill>
                <a:latin typeface="Palatino Linotype"/>
              </a:rPr>
              <a:t>Cbo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СТОРИЯ РОССИЙСКИХ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54160" y="1557360"/>
            <a:ext cx="77058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11 летняя история существования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Первые фонды появились после выхода  закона  «О        рынке ценных бумаг» от 22 апреля 1996 года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Закон «Об инвестиционных фондах» принят 29 ноября 2001 г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416 Управляющих компаний , 841 ПИ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Детализированное законодательст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Биржевые продаж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2080" indent="-262080" algn="just">
              <a:lnSpc>
                <a:spcPct val="13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Bookman Old Style"/>
              </a:rPr>
              <a:t>Агентские се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2" name=""/>
          <p:cNvGraphicFramePr/>
          <p:nvPr/>
        </p:nvGraphicFramePr>
        <p:xfrm>
          <a:off x="198360" y="836640"/>
          <a:ext cx="9605880" cy="5932440"/>
        </p:xfrm>
        <a:graphic>
          <a:graphicData uri="http://schemas.openxmlformats.org/drawingml/2006/table">
            <a:tbl>
              <a:tblPr/>
              <a:tblGrid>
                <a:gridCol w="1111320"/>
                <a:gridCol w="1231920"/>
                <a:gridCol w="1241280"/>
                <a:gridCol w="1241640"/>
                <a:gridCol w="1365120"/>
                <a:gridCol w="238320"/>
                <a:gridCol w="795240"/>
                <a:gridCol w="199800"/>
                <a:gridCol w="592200"/>
                <a:gridCol w="954360"/>
                <a:gridCol w="634680"/>
              </a:tblGrid>
              <a:tr h="368280"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ЧА Фондов (млн.р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13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5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 фонд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ы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альн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ытые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акции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6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 2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03 45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09 93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2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2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блига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87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 11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мешанный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2 8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99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5 54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0 35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декс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635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6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79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6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денежный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 фондов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19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 08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движимость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 предусмотре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онодатель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4 11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4 1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Не предусмотре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онодательств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38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потечный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6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0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енчур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 91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21 9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7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 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прямых инвестиц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8 80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8 8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9 5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3 86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80 44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53 81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95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9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53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841 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ccecff">
                        <a:alpha val="5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13" name=""/>
          <p:cNvSpPr/>
          <p:nvPr/>
        </p:nvSpPr>
        <p:spPr>
          <a:xfrm>
            <a:off x="2320200" y="260280"/>
            <a:ext cx="4946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Статистика паевых  фондов Росс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49120" y="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РОССИЙСКОГО РЫНКА НА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17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ТИПЫ РОССИЙСКИХ ПАЕВЫХ ИНВЕСТИЦИОННЫХ ФОН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15880" y="1455840"/>
            <a:ext cx="9344160" cy="40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 , закрытые фонды облига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смешанных инвест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ак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фонд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фонды денежного рын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Открытые, интервальные, закрытые  индекс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недвиж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венчурн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фонды прямых инвестици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Bookman Old Style"/>
              </a:rPr>
              <a:t>Закрытые ипотечные фон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15880" y="1557360"/>
            <a:ext cx="4524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man Old Style"/>
              </a:rPr>
              <a:t>СИЛЬН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строгий контроль государственного регулирующего орган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наличие специальной контролирующей структуры -специализированного  депозитар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возможность вложений, как для крупных, так и для мелких инвес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Bookman Old Style"/>
              </a:rPr>
              <a:t>доступность инструментов и сравнительно небольшие издержки на вложе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40360" y="1557360"/>
            <a:ext cx="4537080" cy="36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СЛАБЫЕ СТОРО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изкий уровень финансовой грамотност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достаток широкой информационной поддержки, как для участников, так и для инвесторов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совершенство законодательств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ебольшая история ПИФ-ов – ещё не прошли проверку на прочность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высокий порог вхождения в ПИФ-ы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слабое развитие в региона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отсутствие биржевых продаж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15880" y="1557360"/>
            <a:ext cx="4524480" cy="284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ерспективы роста казахстанского фондового рынка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олоссальный объем средств, остающихся на руках у населения (наличные сбережения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олитика государства в области популяризации РЦБ среди населения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усиление конкуренции УК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налаживание реальных процессов интермедиации в экономик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40360" y="1557360"/>
            <a:ext cx="4537080" cy="158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ookman Old Style"/>
              </a:rPr>
              <a:t>УГРО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переток казахстанских эмитентов на западные фондовые рынки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Bookman Old Style"/>
              </a:rPr>
              <a:t>кризис фондового рынк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216000" y="404640"/>
            <a:ext cx="4537080" cy="4827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727280" y="2590920"/>
            <a:ext cx="685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Bookman Old Style"/>
              </a:rPr>
              <a:t>СПАСИБО ЗА ВНИМ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576360" y="4653000"/>
            <a:ext cx="28843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276120" y="33336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НТАКТНАЯ ИНФОРМ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7094520" y="6308640"/>
            <a:ext cx="2625840" cy="30312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595440" y="1628640"/>
            <a:ext cx="587376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Казахстан, г. Алматы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050060 ул. Хусаинова, 281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Тел.:  (327) 299-10-50, 249-46-2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Факс: (327) 299-10-2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e-mail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: 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info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@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as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k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http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://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tas</a:t>
            </a:r>
            <a:r>
              <a:rPr b="0" lang="ru-RU" sz="2500" spc="-1" strike="noStrike">
                <a:solidFill>
                  <a:srgbClr val="000000"/>
                </a:solidFill>
                <a:latin typeface="Bookman Old Style"/>
              </a:rPr>
              <a:t>.</a:t>
            </a:r>
            <a:r>
              <a:rPr b="0" lang="en-US" sz="2500" spc="-1" strike="noStrike">
                <a:solidFill>
                  <a:srgbClr val="000000"/>
                </a:solidFill>
                <a:latin typeface="Bookman Old Style"/>
              </a:rPr>
              <a:t>kz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2"/>
          <a:stretch/>
        </p:blipFill>
        <p:spPr>
          <a:xfrm>
            <a:off x="5904000" y="3313080"/>
            <a:ext cx="2884320" cy="150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205680" y="404640"/>
            <a:ext cx="3709800" cy="432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69840" y="1268280"/>
            <a:ext cx="523584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История ПИФ-ов в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зор рын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остояние ры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сравнительный 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рейтин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Обзор ПИФ-ов Росс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Bookman Old Style"/>
              </a:rPr>
              <a:t>Проблемы и перспекти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5880" y="836640"/>
            <a:ext cx="0" cy="4680000"/>
          </a:xfrm>
          <a:prstGeom prst="line">
            <a:avLst/>
          </a:prstGeom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76960" y="6308640"/>
            <a:ext cx="2627280" cy="303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15880" y="5734080"/>
            <a:ext cx="1728720" cy="9158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969840" y="208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76120" y="208080"/>
            <a:ext cx="9583920" cy="1147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ИСТОРИЯ ПАЕВЫХ ИНВЕСТИЦИОННЫХ ФОНДОВ РК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(на 01 января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320840" y="1700280"/>
            <a:ext cx="8424360" cy="4320720"/>
            <a:chOff x="1320840" y="1700280"/>
            <a:chExt cx="8424360" cy="4320720"/>
          </a:xfrm>
        </p:grpSpPr>
        <p:sp>
          <p:nvSpPr>
            <p:cNvPr id="57" name=""/>
            <p:cNvSpPr/>
            <p:nvPr/>
          </p:nvSpPr>
          <p:spPr>
            <a:xfrm>
              <a:off x="1467720" y="1700280"/>
              <a:ext cx="1172160" cy="75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467720" y="2538720"/>
              <a:ext cx="1168920" cy="74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320840" y="3278880"/>
              <a:ext cx="1317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6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393560" y="4110840"/>
              <a:ext cx="1245240" cy="66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Bookman Old Style"/>
                </a:rPr>
                <a:t>2007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1467720" y="4940640"/>
              <a:ext cx="117396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r">
                <a:lnSpc>
                  <a:spcPct val="100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787120" y="1782360"/>
              <a:ext cx="673956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Закон РК«Об инвестиционных фондах»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785680" y="2613960"/>
              <a:ext cx="6959520" cy="582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Bookman Old Style"/>
                </a:rPr>
                <a:t>1 УК 2 ЗПИФРИ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785680" y="3278880"/>
              <a:ext cx="60066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97000"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14 УК 46 ПИФов открытые 5 интервальные 6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закрытые 3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785680" y="4109040"/>
              <a:ext cx="5273280" cy="99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Bookman Old Style"/>
                </a:rPr>
                <a:t>21 УК 86 ПИФов открытые 9 интервальные 10 закрытые 6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85680" y="5189400"/>
              <a:ext cx="6006600" cy="831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0" y="283680"/>
            <a:ext cx="4545000" cy="3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Bookman Old Style"/>
              </a:rPr>
              <a:t>Состояние рынка </a:t>
            </a:r>
            <a:endParaRPr b="1" lang="en-US" sz="2000" spc="-1" strike="noStrike">
              <a:solidFill>
                <a:srgbClr val="bbe0e3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4708440" y="3457440"/>
          <a:ext cx="521028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08440" y="3457440"/>
                    <a:ext cx="521028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5616720" y="6054840"/>
            <a:ext cx="203832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Закрыт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03720" y="3762360"/>
            <a:ext cx="19094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Открыт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351920" y="3697200"/>
            <a:ext cx="23727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Bookman Old Style"/>
              </a:rPr>
              <a:t>Интервальные ПИФы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742000" y="2997360"/>
            <a:ext cx="3051000" cy="38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Bookman Old Style"/>
              </a:rPr>
              <a:t>Доли ПИФов по типам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287280" y="3284640"/>
          <a:ext cx="3825720" cy="1871640"/>
        </p:xfrm>
        <a:graphic>
          <a:graphicData uri="http://schemas.openxmlformats.org/drawingml/2006/table">
            <a:tbl>
              <a:tblPr/>
              <a:tblGrid>
                <a:gridCol w="2492280"/>
                <a:gridCol w="1333440"/>
              </a:tblGrid>
              <a:tr h="3459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Тип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Количе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6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Закрыт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Открыт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4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нтервальные фонд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ИТО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5" name=""/>
          <p:cNvSpPr/>
          <p:nvPr/>
        </p:nvSpPr>
        <p:spPr>
          <a:xfrm>
            <a:off x="569880" y="1754280"/>
            <a:ext cx="2857680" cy="933480"/>
          </a:xfrm>
          <a:prstGeom prst="ellipse">
            <a:avLst/>
          </a:prstGeom>
          <a:solidFill>
            <a:srgbClr val="bbe0e3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Bookman Old Style"/>
              </a:rPr>
              <a:t>26 управляющих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900" spc="-1" strike="noStrike">
                <a:solidFill>
                  <a:srgbClr val="003366"/>
                </a:solidFill>
                <a:latin typeface="Bookman Old Style"/>
              </a:rPr>
              <a:t>компаний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264360" y="1751040"/>
            <a:ext cx="2860560" cy="936720"/>
          </a:xfrm>
          <a:prstGeom prst="ellipse">
            <a:avLst/>
          </a:prstGeom>
          <a:solidFill>
            <a:srgbClr val="bbe0e3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8640" rIns="98640" tIns="49320" bIns="49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ru-RU" sz="1900" spc="-1" strike="noStrike">
                <a:solidFill>
                  <a:srgbClr val="003366"/>
                </a:solidFill>
                <a:latin typeface="Bookman Old Style"/>
              </a:rPr>
              <a:t>155 ПИФов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0960" y="515772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Bookman Old Style"/>
              </a:rPr>
              <a:t>По данным АФ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49120" y="28404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КАЗАХСТАНСКОГО РЫНКА НА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276120" y="1557360"/>
          <a:ext cx="9447480" cy="3956040"/>
        </p:xfrm>
        <a:graphic>
          <a:graphicData uri="http://schemas.openxmlformats.org/drawingml/2006/table">
            <a:tbl>
              <a:tblPr/>
              <a:tblGrid>
                <a:gridCol w="3017880"/>
                <a:gridCol w="3194280"/>
                <a:gridCol w="3235320"/>
              </a:tblGrid>
              <a:tr h="1159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10 000 – 100 000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100 000 – 300 000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инимальный входной порог от 300 000  тенге и выш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Максимальный порог – 13 млн тенг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3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2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9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открыт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1 фонд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60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интервальн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3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5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9960">
                <a:tc gridSpan="3"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Среди  закрытых фонд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81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6 фонд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74 фонд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0" name=""/>
          <p:cNvSpPr/>
          <p:nvPr/>
        </p:nvSpPr>
        <p:spPr>
          <a:xfrm>
            <a:off x="276120" y="26028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ПО МИНИМАЛЬНОМУ ВХОДНОМУ ПОРОГУ В ПИФЫ Р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31840" y="-123120"/>
            <a:ext cx="22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Cyr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290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432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59240" y="17784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7734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764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403280" y="17784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1748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680" y="17784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840" y="17784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784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8290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1432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59240" y="147600"/>
            <a:ext cx="6840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7734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08764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03280" y="147600"/>
            <a:ext cx="68436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1748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1680" y="147600"/>
            <a:ext cx="68580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147600"/>
            <a:ext cx="31680" cy="3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290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1432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59240" y="13320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7734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08764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403280" y="13320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1748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1680" y="13320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840" y="13320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3320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290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1432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59240" y="103320"/>
            <a:ext cx="6840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734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08764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03280" y="103320"/>
            <a:ext cx="68436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748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1680" y="103320"/>
            <a:ext cx="68580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03320"/>
            <a:ext cx="31680" cy="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90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1432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459240" y="88920"/>
            <a:ext cx="6840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7734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08764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403280" y="88920"/>
            <a:ext cx="68436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1748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1680" y="88920"/>
            <a:ext cx="68580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5840" y="8892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88920"/>
            <a:ext cx="15840" cy="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5840" y="73080"/>
            <a:ext cx="1584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73080"/>
            <a:ext cx="15840" cy="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290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1432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59240" y="44280"/>
            <a:ext cx="6840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734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08764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403280" y="44280"/>
            <a:ext cx="68436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680" y="44280"/>
            <a:ext cx="685800" cy="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8290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1432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459240" y="30240"/>
            <a:ext cx="6840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734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8764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03280" y="30240"/>
            <a:ext cx="68436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748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680" y="30240"/>
            <a:ext cx="685800" cy="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0"/>
            <a:ext cx="31680" cy="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192240"/>
            <a:ext cx="55148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0" cy="19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514840" y="0"/>
            <a:ext cx="0" cy="192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511440" y="177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511440" y="17784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01600" y="1289160"/>
          <a:ext cx="9677520" cy="2280960"/>
        </p:xfrm>
        <a:graphic>
          <a:graphicData uri="http://schemas.openxmlformats.org/drawingml/2006/table">
            <a:tbl>
              <a:tblPr/>
              <a:tblGrid>
                <a:gridCol w="1166760"/>
                <a:gridCol w="959040"/>
                <a:gridCol w="1164960"/>
                <a:gridCol w="1108080"/>
                <a:gridCol w="1025640"/>
                <a:gridCol w="1081080"/>
                <a:gridCol w="1076400"/>
                <a:gridCol w="1050840"/>
                <a:gridCol w="1044720"/>
              </a:tblGrid>
              <a:tr h="3366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6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Тип фон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8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Пери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10.2005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1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4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7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</a:t>
                      </a: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10.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1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4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На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9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01.07.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4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Закрытые 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 54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 2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4 7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6 4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0 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5 8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1 5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Открытые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5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73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71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5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1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нтервальные  фонд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0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36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8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 4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0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 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4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1 20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     </a:t>
                      </a: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2 3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6 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18 3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22 2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48 6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65 3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87480"/>
                          <a:tab algn="l" pos="1974960"/>
                          <a:tab algn="l" pos="2962440"/>
                          <a:tab algn="l" pos="3949560"/>
                          <a:tab algn="l" pos="4937040"/>
                          <a:tab algn="l" pos="5924520"/>
                          <a:tab algn="l" pos="6912000"/>
                          <a:tab algn="l" pos="7899480"/>
                          <a:tab algn="l" pos="8886960"/>
                          <a:tab algn="l" pos="9874080"/>
                          <a:tab algn="l" pos="10861560"/>
                        </a:tabLst>
                      </a:pPr>
                      <a:r>
                        <a:rPr b="1" lang="en-US" sz="1200" spc="-1" strike="noStrike">
                          <a:solidFill>
                            <a:srgbClr val="003366"/>
                          </a:solidFill>
                          <a:latin typeface="Bookman Old Style"/>
                        </a:rPr>
                        <a:t>90 83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274680" y="3429000"/>
          <a:ext cx="5643360" cy="306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3429000"/>
                    <a:ext cx="5643360" cy="306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1" name=""/>
          <p:cNvSpPr/>
          <p:nvPr/>
        </p:nvSpPr>
        <p:spPr>
          <a:xfrm>
            <a:off x="8322840" y="61740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i="1" lang="en-US" sz="1600" spc="-1" strike="noStrike" u="sng">
                <a:solidFill>
                  <a:srgbClr val="333399"/>
                </a:solidFill>
                <a:uFillTx/>
                <a:latin typeface="Garamond"/>
              </a:rPr>
              <a:t>(млн.тенге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321600" y="4443480"/>
            <a:ext cx="361440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Bookman Old Style"/>
              </a:rPr>
              <a:t>Совокупные активы паевых инвестиционных фондов по состоянию на 1 июля текущего года составили </a:t>
            </a:r>
            <a:r>
              <a:rPr b="1" lang="en-US" sz="1400" spc="-1" strike="noStrike" u="sng">
                <a:solidFill>
                  <a:srgbClr val="003366"/>
                </a:solidFill>
                <a:uFillTx/>
                <a:latin typeface="Bookman Old Style"/>
              </a:rPr>
              <a:t>90834</a:t>
            </a:r>
            <a:r>
              <a:rPr b="1" lang="en-US" sz="1400" spc="-1" strike="noStrike">
                <a:solidFill>
                  <a:srgbClr val="003366"/>
                </a:solidFill>
                <a:latin typeface="Bookman Old Style"/>
              </a:rPr>
              <a:t> млн. тенге, увеличившись за период с 1 апреля 2007 года на 25 447 млн. тенге или на 38,92%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9520" y="163440"/>
            <a:ext cx="958392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КАЗАХСТАНСКОГО РЫНКА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АКТИВЫ ПИФОВ (МЛН. ТЕНГ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00160" y="1052640"/>
          <a:ext cx="9531360" cy="5700600"/>
        </p:xfrm>
        <a:graphic>
          <a:graphicData uri="http://schemas.openxmlformats.org/drawingml/2006/table">
            <a:tbl>
              <a:tblPr/>
              <a:tblGrid>
                <a:gridCol w="2273040"/>
                <a:gridCol w="1613160"/>
                <a:gridCol w="733320"/>
                <a:gridCol w="1098360"/>
                <a:gridCol w="1057320"/>
                <a:gridCol w="744480"/>
                <a:gridCol w="835200"/>
                <a:gridCol w="1176480"/>
              </a:tblGrid>
              <a:tr h="45900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Паевый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Инвестиционный </a:t>
                      </a:r>
                      <a:br>
                        <a:rPr sz="1400"/>
                      </a:br>
                      <a:r>
                        <a:rPr b="1" lang="ru-RU" sz="1400" spc="-1" strike="noStrike">
                          <a:solidFill>
                            <a:srgbClr val="003399"/>
                          </a:solidFill>
                          <a:latin typeface="Bookman Old Style"/>
                        </a:rPr>
                        <a:t>Фон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Управляющая</a:t>
                      </a:r>
                      <a:br>
                        <a:rPr sz="1200"/>
                      </a:b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омпа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Min,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ыс.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тоимость пая, тыс.тенг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Рост стоимости пая, %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1/01/2006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1/09/2007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за месяц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 нач.года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 01/01/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ПИФ"Насип"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маты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нвестмент</a:t>
                      </a:r>
                      <a:br>
                        <a:rPr sz="1200"/>
                      </a:b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Менеджмен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,04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1,57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,7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22,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Фавори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Real-Inves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5,13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1,9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5,8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73,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БТА Доход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уранАлем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45,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815,85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8,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8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ьтернатива депозита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азкоммерц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0010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0014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1,3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4,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Монетный двор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ФД Res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2,9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48,2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7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5,2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3,9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Казначейств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Сентрас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2,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40,09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0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6,9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4,6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БТА Сбалансирован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ТуранАлем Секьюритиз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2,4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23,2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0,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7,8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20,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Алмазный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Asia Brok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1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3,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4,9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Изумрудный до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Asia Broker Servic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,08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2,8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,8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Навигатор-Акци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Дельта-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6,4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5,8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Навигатор-Облигации и денежный рыно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Дельта-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00,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114,9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ff0000"/>
                          </a:solidFill>
                          <a:latin typeface="Bookman Old Style"/>
                        </a:rPr>
                        <a:t>-1,9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3,5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333399"/>
                          </a:solidFill>
                          <a:latin typeface="Bookman Old Style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228680" y="276120"/>
            <a:ext cx="79390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8640" rIns="98640" tIns="49320" bIns="4932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87480"/>
                <a:tab algn="l" pos="1974960"/>
                <a:tab algn="l" pos="2962440"/>
                <a:tab algn="l" pos="3949560"/>
                <a:tab algn="l" pos="4937040"/>
                <a:tab algn="l" pos="5924520"/>
                <a:tab algn="l" pos="6912000"/>
                <a:tab algn="l" pos="7899480"/>
                <a:tab algn="l" pos="8886960"/>
                <a:tab algn="l" pos="9874080"/>
                <a:tab algn="l" pos="10861560"/>
              </a:tabLst>
            </a:pPr>
            <a:r>
              <a:rPr b="1" lang="en-US" sz="2100" spc="-1" strike="noStrike">
                <a:solidFill>
                  <a:srgbClr val="333399"/>
                </a:solidFill>
                <a:latin typeface="Bookman Old Style"/>
              </a:rPr>
              <a:t>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00160" y="162000"/>
            <a:ext cx="9583560" cy="7905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ОСТОЯНИЕ ОТКРЫТЫХ И ИНТЕРВАЛЬНЫХ ПИФОВ, ПРОРАБОТАВШИХ БОЛЕЕ ГОДА НА 01.09.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7" name=""/>
          <p:cNvGraphicFramePr/>
          <p:nvPr/>
        </p:nvGraphicFramePr>
        <p:xfrm>
          <a:off x="495360" y="1353960"/>
          <a:ext cx="9070920" cy="1171800"/>
        </p:xfrm>
        <a:graphic>
          <a:graphicData uri="http://schemas.openxmlformats.org/drawingml/2006/table">
            <a:tbl>
              <a:tblPr/>
              <a:tblGrid>
                <a:gridCol w="9070920"/>
              </a:tblGrid>
              <a:tr h="117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ы/УК</a:t>
                      </a:r>
                      <a:br>
                        <a:rPr sz="1100"/>
                      </a:br>
                      <a:r>
                        <a:rPr b="1" lang="ru-RU" sz="1200" spc="-1" strike="noStrike">
                          <a:solidFill>
                            <a:srgbClr val="cd3700"/>
                          </a:solidFill>
                          <a:latin typeface="Bookman Old Style"/>
                        </a:rPr>
                        <a:t>БТА Доходный -ТуранАлем Секьюрити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Изумрудный Дом –</a:t>
                      </a:r>
                      <a:r>
                        <a:rPr b="1" lang="en-US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Asia Brocer Services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a500"/>
                          </a:solidFill>
                          <a:latin typeface="Bookman Old Style"/>
                        </a:rPr>
                        <a:t>Казначейство –Сентра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99cc00"/>
                          </a:solidFill>
                          <a:latin typeface="Bookman Old Style"/>
                        </a:rPr>
                        <a:t>Казына   АИМ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6600cc"/>
                          </a:solidFill>
                          <a:latin typeface="Bookman Old Style"/>
                        </a:rPr>
                        <a:t>Навигатор - Облигации и денежный рынок -Дельта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2280" y="2693880"/>
            <a:ext cx="8796240" cy="39466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422280" y="260280"/>
            <a:ext cx="9583560" cy="109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СУММ ЧИСТЫХ АКТИВОВ В УПРАВЛЕНИИ ПО ФОНДАМ ОТКРЫТОГО ТИПА ДАННЫЕ ЗА ПЕРИОД С 01.01.07 ПО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0" name=""/>
          <p:cNvGraphicFramePr/>
          <p:nvPr/>
        </p:nvGraphicFramePr>
        <p:xfrm>
          <a:off x="495360" y="1353960"/>
          <a:ext cx="9070920" cy="1186200"/>
        </p:xfrm>
        <a:graphic>
          <a:graphicData uri="http://schemas.openxmlformats.org/drawingml/2006/table">
            <a:tbl>
              <a:tblPr/>
              <a:tblGrid>
                <a:gridCol w="9070920"/>
              </a:tblGrid>
              <a:tr h="118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Фонды/У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cd3700"/>
                          </a:solidFill>
                          <a:latin typeface="Bookman Old Style"/>
                        </a:rPr>
                        <a:t>БТА Доходный -ТуранАлем Секьюрити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Изумрудный Дом - </a:t>
                      </a:r>
                      <a:r>
                        <a:rPr b="1" lang="en-US" sz="1200" spc="-1" strike="noStrike">
                          <a:solidFill>
                            <a:srgbClr val="ff69b4"/>
                          </a:solidFill>
                          <a:latin typeface="Bookman Old Style"/>
                        </a:rPr>
                        <a:t>Asia Brocer Services</a:t>
                      </a: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Bookman Old Style"/>
                        </a:rPr>
                        <a:t> 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ffa500"/>
                          </a:solidFill>
                          <a:latin typeface="Bookman Old Style"/>
                        </a:rPr>
                        <a:t>Казначейство -Сентрас</a:t>
                      </a:r>
                      <a:br>
                        <a:rPr sz="1200"/>
                      </a:br>
                      <a:r>
                        <a:rPr b="1" lang="ru-RU" sz="1200" spc="-1" strike="noStrike">
                          <a:solidFill>
                            <a:srgbClr val="99cc00"/>
                          </a:solidFill>
                          <a:latin typeface="Bookman Old Style"/>
                        </a:rPr>
                        <a:t>Казына АИ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6600cc"/>
                          </a:solidFill>
                          <a:latin typeface="Bookman Old Style"/>
                        </a:rPr>
                        <a:t>Навигатор - Облигации и денежный рынок -Дельта Инвес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22280" y="2781360"/>
            <a:ext cx="9016920" cy="394632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216000" y="260280"/>
            <a:ext cx="9583560" cy="10936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Palatino Linotype"/>
              </a:rPr>
              <a:t>СРАВНИТЕЛЬНЫЕ ДАННЫЕ РСП ПО ФОНДАМ ОТКРЫТОГО ТИПА ДАННЫЕ ЗА ПЕРИОД С 01.01.07 ПО 01.09.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8T07:02:07Z</dcterms:created>
  <dc:creator>ruslan yegembayev</dc:creator>
  <dc:description/>
  <dc:language>en-US</dc:language>
  <cp:lastModifiedBy>Juassov</cp:lastModifiedBy>
  <dcterms:modified xsi:type="dcterms:W3CDTF">2007-09-24T07:15:57Z</dcterms:modified>
  <cp:revision>757</cp:revision>
  <dc:subject/>
  <dc:title>Результаты деятельности ТуранАлем Секьюритис (2003 – 1H04)</dc:title>
</cp:coreProperties>
</file>