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28C-342F-49F3-BAAB-9CF71533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B9A-5F72-40C3-A2D3-8313BD5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196-12B7-444E-9577-137083F9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D7C-22A4-4D3C-8DC4-542E7900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C0BE8-E543-49F5-8C5F-40212E4B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0D2D-D670-4F96-BC9A-E13F9E40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29C96-4B5F-4D95-858A-A5A59161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619F7-64FD-4A94-9775-1BA2411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9598D-EA08-43D9-B7C3-251ACA5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0E727-2507-4FF8-B7B5-0CC0214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87C5-857A-4242-AB26-15C6BEF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AEC-4628-48EC-914D-EC20D58F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D2C39-65DD-48C7-AA66-C9DAFF58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7C35C-8AF7-43AF-AAD3-84012C9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CC0F-5DBD-4DCD-BEDC-C497C36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05FA6-B35A-4FE3-88BB-7254E8FA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3508-CB58-4527-8852-874CE7EE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7A1-429E-4173-AD0B-4158932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CD3-32F2-41F6-BCB0-5AADA931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693-3BEA-4630-9FEE-5256F2A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F90-087C-4555-9050-C1EEF91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BA5-6D56-4A84-9E80-3DB2754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0C9-CD25-4346-B9C8-42CEB59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905-6549-4ED0-9384-0446530C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81E8-062C-4D59-ACA0-AC256F51D5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FC31-025C-461F-A8AF-ABC31E9A1B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1.png"/><Relationship Id="rId25" Type="http://schemas.openxmlformats.org/officeDocument/2006/relationships/image" Target="../media/image13.png"/><Relationship Id="rId26" Type="http://schemas.openxmlformats.org/officeDocument/2006/relationships/image" Target="../media/image12.png"/><Relationship Id="rId27" Type="http://schemas.openxmlformats.org/officeDocument/2006/relationships/image" Target="../media/image15.png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ЕЖКОРПОРАТИВНАЯ ИНТЕГРАЦИОННАЯ Ш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8560" y="5373360"/>
            <a:ext cx="7643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йшибаев Кема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спективы развит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информационных технолог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дульное проект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делирование новых бизнес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нового современного программного обесп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грация бизнес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ка компание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Моделирование</a:t>
            </a:r>
            <a:r>
              <a:rPr b="0" lang="en-US" sz="4000" spc="-1" strike="noStrike">
                <a:solidFill>
                  <a:srgbClr val="6600cc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cc"/>
                </a:solidFill>
                <a:latin typeface="Tahoma"/>
              </a:rPr>
              <a:t>WebSphere Business Model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8" descr="Small Tint Model"/>
          <p:cNvPicPr/>
          <p:nvPr/>
        </p:nvPicPr>
        <p:blipFill>
          <a:blip r:embed="rId2"/>
          <a:stretch/>
        </p:blipFill>
        <p:spPr>
          <a:xfrm>
            <a:off x="7815240" y="547560"/>
            <a:ext cx="1262160" cy="76860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5"/>
          <p:cNvSpPr/>
          <p:nvPr/>
        </p:nvSpPr>
        <p:spPr>
          <a:xfrm>
            <a:off x="154080" y="6399360"/>
            <a:ext cx="660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C1D-133E-4029-8FD4-6E154ADDE71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 flipH="1">
            <a:off x="0" y="1392120"/>
            <a:ext cx="9144000" cy="4950000"/>
          </a:xfrm>
          <a:prstGeom prst="rect">
            <a:avLst/>
          </a:prstGeom>
          <a:gradFill rotWithShape="0">
            <a:gsLst>
              <a:gs pos="0">
                <a:srgbClr val="6c96c4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collab explore as is draft3"/>
          <p:cNvPicPr/>
          <p:nvPr/>
        </p:nvPicPr>
        <p:blipFill>
          <a:blip r:embed="rId3"/>
          <a:stretch/>
        </p:blipFill>
        <p:spPr>
          <a:xfrm>
            <a:off x="4572000" y="3716280"/>
            <a:ext cx="4140360" cy="2527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5580000" y="1197000"/>
            <a:ext cx="31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Arial"/>
                <a:ea typeface="Arial"/>
              </a:rPr>
              <a:t>IBM WebSphere Business Mode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230040" y="1432080"/>
            <a:ext cx="470880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роста в использов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очное моделирование важнейших аспектов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ценка моделей и принятие решений до внед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Ресурсы, роли и организационная структура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овместное моде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Размещение модели в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Командная работа над модел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розрачная передача модели в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Быстрое и точное внедрение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Моделирование – первый шаг на пути к внедр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8" descr="Small Tint Model"/>
          <p:cNvPicPr/>
          <p:nvPr/>
        </p:nvPicPr>
        <p:blipFill>
          <a:blip r:embed="rId4"/>
          <a:stretch/>
        </p:blipFill>
        <p:spPr>
          <a:xfrm>
            <a:off x="7815240" y="547560"/>
            <a:ext cx="1262160" cy="768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4356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ис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ость стандартизации прило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рытые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вки 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ержка сроков выполнения в связи со спецификой предприят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ан докла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теграционные технологии на основе сервисной шины предприятия - поня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рвис ориентированная архите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меры использ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езультат внед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стигаемые ц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и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нтеграционные технологии на основе сервисной шины предприятия - взвешенный под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12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дача интег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хническая интегр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изнес интегр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е охватывающая интеграция: АРМы, справочники, классификаторы, информационные под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10200" y="4743360"/>
            <a:ext cx="3133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вис ориентированная архитектура (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A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0920" y="1628640"/>
            <a:ext cx="865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11320" y="3408480"/>
            <a:ext cx="1163160" cy="1115640"/>
            <a:chOff x="1111320" y="3408480"/>
            <a:chExt cx="1163160" cy="1115640"/>
          </a:xfrm>
        </p:grpSpPr>
        <p:sp>
          <p:nvSpPr>
            <p:cNvPr id="93" name=""/>
            <p:cNvSpPr/>
            <p:nvPr/>
          </p:nvSpPr>
          <p:spPr>
            <a:xfrm>
              <a:off x="1366920" y="3956040"/>
              <a:ext cx="73332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59800" y="3702600"/>
              <a:ext cx="267120" cy="619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726920" y="4217760"/>
              <a:ext cx="259200" cy="100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1463400" y="4211640"/>
              <a:ext cx="52704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63400" y="3701520"/>
              <a:ext cx="527040" cy="5126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459800" y="3701520"/>
              <a:ext cx="53568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467360" y="3958560"/>
              <a:ext cx="632520" cy="257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453320" y="3600360"/>
              <a:ext cx="273600" cy="101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359000" y="3608280"/>
              <a:ext cx="364320" cy="349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7920" y="3600720"/>
              <a:ext cx="272520" cy="610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7920" y="3604680"/>
              <a:ext cx="381960" cy="3553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11440" y="3604680"/>
              <a:ext cx="285480" cy="92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719000" y="3697560"/>
              <a:ext cx="274680" cy="613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90800" y="3697560"/>
              <a:ext cx="109440" cy="2606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95480" y="3972600"/>
              <a:ext cx="105840" cy="2415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458000" y="4219200"/>
              <a:ext cx="264600" cy="96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364040" y="3962160"/>
              <a:ext cx="104400" cy="253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62600" y="3697560"/>
              <a:ext cx="90360" cy="255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723320" y="3971160"/>
              <a:ext cx="374400" cy="339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359000" y="3953160"/>
              <a:ext cx="630000" cy="264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455840" y="3702240"/>
              <a:ext cx="530640" cy="516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8480" y="3570840"/>
              <a:ext cx="1080" cy="802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307160" y="3970800"/>
              <a:ext cx="396360" cy="3963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0040" y="3966480"/>
              <a:ext cx="802800" cy="46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1411560" y="3679560"/>
              <a:ext cx="700920" cy="291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11920" y="3682080"/>
              <a:ext cx="291960" cy="696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03880" y="4260600"/>
              <a:ext cx="284040" cy="1123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1415520" y="4252680"/>
              <a:ext cx="577080" cy="46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415880" y="3679200"/>
              <a:ext cx="577080" cy="577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411560" y="3679560"/>
              <a:ext cx="585000" cy="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79560"/>
              <a:ext cx="698400" cy="289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418040" y="3969000"/>
              <a:ext cx="694440" cy="289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404000" y="3679200"/>
              <a:ext cx="11160" cy="586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04360" y="3566880"/>
              <a:ext cx="299520" cy="114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301760" y="3574800"/>
              <a:ext cx="396360" cy="393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414080" y="3572280"/>
              <a:ext cx="281160" cy="6843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3440" y="3567240"/>
              <a:ext cx="299520" cy="685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992600" y="3679560"/>
              <a:ext cx="2520" cy="577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3440" y="3572280"/>
              <a:ext cx="419400" cy="398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85880" y="3572280"/>
              <a:ext cx="315000" cy="1044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07160" y="3682080"/>
              <a:ext cx="682920" cy="2865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95960" y="3677040"/>
              <a:ext cx="299520" cy="686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2960" y="3675600"/>
              <a:ext cx="119880" cy="293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96920" y="3985560"/>
              <a:ext cx="117360" cy="27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409040" y="4263480"/>
              <a:ext cx="291960" cy="105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307160" y="3973680"/>
              <a:ext cx="113400" cy="284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304640" y="3677040"/>
              <a:ext cx="99360" cy="2865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701000" y="3983040"/>
              <a:ext cx="407880" cy="380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99240" y="3963240"/>
              <a:ext cx="690840" cy="297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406520" y="3682080"/>
              <a:ext cx="581040" cy="581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520" y="3408480"/>
              <a:ext cx="194760" cy="194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0480" y="3543840"/>
              <a:ext cx="194760" cy="19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79720" y="3868200"/>
              <a:ext cx="194760" cy="194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11640"/>
              <a:ext cx="194760" cy="19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12080" y="4329360"/>
              <a:ext cx="194760" cy="1947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36240" y="4211640"/>
              <a:ext cx="194760" cy="19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55680" y="4211640"/>
              <a:ext cx="194760" cy="1947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1320" y="3868200"/>
              <a:ext cx="194760" cy="1947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5680" y="3524760"/>
              <a:ext cx="194760" cy="1947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17800" y="2708280"/>
            <a:ext cx="1163520" cy="1115640"/>
            <a:chOff x="3817800" y="2708280"/>
            <a:chExt cx="1163520" cy="1115640"/>
          </a:xfrm>
        </p:grpSpPr>
        <p:sp>
          <p:nvSpPr>
            <p:cNvPr id="153" name=""/>
            <p:cNvSpPr/>
            <p:nvPr/>
          </p:nvSpPr>
          <p:spPr>
            <a:xfrm>
              <a:off x="4394880" y="2837160"/>
              <a:ext cx="0" cy="848520"/>
            </a:xfrm>
            <a:prstGeom prst="line">
              <a:avLst/>
            </a:prstGeom>
            <a:ln w="88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09240" y="3264840"/>
              <a:ext cx="975240" cy="6120"/>
            </a:xfrm>
            <a:prstGeom prst="line">
              <a:avLst/>
            </a:prstGeom>
            <a:ln w="88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065840" y="2953080"/>
              <a:ext cx="658440" cy="639000"/>
            </a:xfrm>
            <a:prstGeom prst="line">
              <a:avLst/>
            </a:prstGeom>
            <a:ln w="88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075560" y="2961000"/>
              <a:ext cx="636840" cy="617400"/>
            </a:xfrm>
            <a:prstGeom prst="line">
              <a:avLst/>
            </a:prstGeom>
            <a:ln w="88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11640" y="3095640"/>
              <a:ext cx="370440" cy="356400"/>
            </a:xfrm>
            <a:prstGeom prst="ellipse">
              <a:avLst/>
            </a:prstGeom>
            <a:gradFill rotWithShape="0">
              <a:gsLst>
                <a:gs pos="0">
                  <a:srgbClr val="00efe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88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94440" y="2708280"/>
              <a:ext cx="194760" cy="19476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7320" y="2843640"/>
              <a:ext cx="194760" cy="1947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6560" y="3168000"/>
              <a:ext cx="194760" cy="19476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58760" y="3511440"/>
              <a:ext cx="194760" cy="19476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93000" y="3629160"/>
              <a:ext cx="194760" cy="19476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2520" y="3511440"/>
              <a:ext cx="194760" cy="19476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17800" y="3168000"/>
              <a:ext cx="194760" cy="19476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2824560"/>
              <a:ext cx="194760" cy="19476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84280" y="4702320"/>
            <a:ext cx="22176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 indent="-117360">
              <a:spcAft>
                <a:spcPts val="238"/>
              </a:spcAft>
              <a:buClr>
                <a:srgbClr val="00c600"/>
              </a:buClr>
              <a:buFont typeface="Wingdings" charset="2"/>
              <a:buChar char="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Связь точка-точка между приложениям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17360" indent="-117360">
              <a:spcAft>
                <a:spcPts val="238"/>
              </a:spcAft>
              <a:buClr>
                <a:srgbClr val="00c600"/>
              </a:buClr>
              <a:buFont typeface="Wingdings" charset="2"/>
              <a:buChar char="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Простая, базовая связь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0" y="287640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ing Backb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3440" y="4021200"/>
            <a:ext cx="23749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 indent="-117360">
              <a:spcAft>
                <a:spcPts val="238"/>
              </a:spcAft>
              <a:buClr>
                <a:srgbClr val="00c600"/>
              </a:buClr>
              <a:buFont typeface="Wingdings" charset="2"/>
              <a:buChar char="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AI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соединяет приложения при помощи центрального узла (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17360" indent="-117360">
              <a:spcAft>
                <a:spcPts val="238"/>
              </a:spcAft>
              <a:buClr>
                <a:srgbClr val="00c600"/>
              </a:buClr>
              <a:buFont typeface="Wingdings" charset="2"/>
              <a:buChar char="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Проще управлять большим количеством связе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036880"/>
            <a:ext cx="27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Application Integration (EA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4221000"/>
            <a:ext cx="27162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 indent="-117360">
              <a:spcAft>
                <a:spcPts val="238"/>
              </a:spcAft>
              <a:buClr>
                <a:srgbClr val="00c600"/>
              </a:buClr>
              <a:buFont typeface="Wingdings" charset="2"/>
              <a:buChar char="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Интеграция и хореография сервисов за счет внедрения Корпоративной Шины Данных (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nterprise Service Bus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17360" indent="-117360">
              <a:spcAft>
                <a:spcPts val="238"/>
              </a:spcAft>
              <a:buClr>
                <a:srgbClr val="00c600"/>
              </a:buClr>
              <a:buFont typeface="Wingdings" charset="2"/>
              <a:buChar char="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Гибкость связей с хорошо описанными стандартизованными интерфейсам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1916280"/>
            <a:ext cx="2702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Orientated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227640" y="2492280"/>
            <a:ext cx="1533240" cy="1414440"/>
            <a:chOff x="6227640" y="2492280"/>
            <a:chExt cx="1533240" cy="1414440"/>
          </a:xfrm>
        </p:grpSpPr>
        <p:pic>
          <p:nvPicPr>
            <p:cNvPr id="173" name="" descr=""/>
            <p:cNvPicPr/>
            <p:nvPr/>
          </p:nvPicPr>
          <p:blipFill>
            <a:blip r:embed="rId19"/>
            <a:stretch/>
          </p:blipFill>
          <p:spPr>
            <a:xfrm>
              <a:off x="6227640" y="3462480"/>
              <a:ext cx="44424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0"/>
            <a:stretch/>
          </p:blipFill>
          <p:spPr>
            <a:xfrm>
              <a:off x="6586200" y="3490920"/>
              <a:ext cx="41580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1"/>
            <a:stretch/>
          </p:blipFill>
          <p:spPr>
            <a:xfrm>
              <a:off x="6935400" y="3490920"/>
              <a:ext cx="41616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2"/>
            <a:stretch/>
          </p:blipFill>
          <p:spPr>
            <a:xfrm>
              <a:off x="7295760" y="3490920"/>
              <a:ext cx="416160" cy="41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6419520" y="3087720"/>
              <a:ext cx="1136160" cy="461880"/>
              <a:chOff x="6419520" y="3087720"/>
              <a:chExt cx="1136160" cy="461880"/>
            </a:xfrm>
          </p:grpSpPr>
          <p:sp>
            <p:nvSpPr>
              <p:cNvPr id="178" name=""/>
              <p:cNvSpPr/>
              <p:nvPr/>
            </p:nvSpPr>
            <p:spPr>
              <a:xfrm>
                <a:off x="6419520" y="3087720"/>
                <a:ext cx="92520" cy="461880"/>
              </a:xfrm>
              <a:prstGeom prst="can">
                <a:avLst>
                  <a:gd name="adj" fmla="val 15402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65480" y="3087720"/>
                <a:ext cx="92520" cy="461880"/>
              </a:xfrm>
              <a:prstGeom prst="can">
                <a:avLst>
                  <a:gd name="adj" fmla="val 15402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13600" y="3087720"/>
                <a:ext cx="94320" cy="461880"/>
              </a:xfrm>
              <a:prstGeom prst="can">
                <a:avLst>
                  <a:gd name="adj" fmla="val 8398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63520" y="3087720"/>
                <a:ext cx="92160" cy="461880"/>
              </a:xfrm>
              <a:prstGeom prst="can">
                <a:avLst>
                  <a:gd name="adj" fmla="val 10685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270480" y="3078000"/>
              <a:ext cx="1490400" cy="285840"/>
              <a:chOff x="6270480" y="3078000"/>
              <a:chExt cx="1490400" cy="285840"/>
            </a:xfrm>
          </p:grpSpPr>
          <p:sp>
            <p:nvSpPr>
              <p:cNvPr id="183" name=""/>
              <p:cNvSpPr/>
              <p:nvPr/>
            </p:nvSpPr>
            <p:spPr>
              <a:xfrm rot="5400000">
                <a:off x="6872760" y="2475720"/>
                <a:ext cx="285840" cy="1490400"/>
              </a:xfrm>
              <a:prstGeom prst="can">
                <a:avLst>
                  <a:gd name="adj" fmla="val 10222"/>
                </a:avLst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0040" y="3089160"/>
                <a:ext cx="147960" cy="264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389280" y="2681280"/>
              <a:ext cx="1136520" cy="461880"/>
              <a:chOff x="6389280" y="2681280"/>
              <a:chExt cx="1136520" cy="461880"/>
            </a:xfrm>
          </p:grpSpPr>
          <p:sp>
            <p:nvSpPr>
              <p:cNvPr id="186" name=""/>
              <p:cNvSpPr/>
              <p:nvPr/>
            </p:nvSpPr>
            <p:spPr>
              <a:xfrm>
                <a:off x="6389280" y="2681280"/>
                <a:ext cx="92520" cy="461880"/>
              </a:xfrm>
              <a:prstGeom prst="can">
                <a:avLst>
                  <a:gd name="adj" fmla="val 15402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35240" y="2681280"/>
                <a:ext cx="92520" cy="461880"/>
              </a:xfrm>
              <a:prstGeom prst="can">
                <a:avLst>
                  <a:gd name="adj" fmla="val 15402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83720" y="2681280"/>
                <a:ext cx="94320" cy="461880"/>
              </a:xfrm>
              <a:prstGeom prst="can">
                <a:avLst>
                  <a:gd name="adj" fmla="val 8398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33640" y="2681280"/>
                <a:ext cx="92160" cy="461880"/>
              </a:xfrm>
              <a:prstGeom prst="can">
                <a:avLst>
                  <a:gd name="adj" fmla="val 10685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0" name="" descr=""/>
            <p:cNvPicPr/>
            <p:nvPr/>
          </p:nvPicPr>
          <p:blipFill>
            <a:blip r:embed="rId23"/>
            <a:stretch/>
          </p:blipFill>
          <p:spPr>
            <a:xfrm>
              <a:off x="6227640" y="2492280"/>
              <a:ext cx="41580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4"/>
            <a:stretch/>
          </p:blipFill>
          <p:spPr>
            <a:xfrm>
              <a:off x="7267320" y="249228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5"/>
            <a:stretch/>
          </p:blipFill>
          <p:spPr>
            <a:xfrm>
              <a:off x="6575040" y="2492280"/>
              <a:ext cx="41616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6"/>
            <a:stretch/>
          </p:blipFill>
          <p:spPr>
            <a:xfrm>
              <a:off x="6921360" y="2492280"/>
              <a:ext cx="415800" cy="41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" descr=""/>
          <p:cNvPicPr/>
          <p:nvPr/>
        </p:nvPicPr>
        <p:blipFill>
          <a:blip r:embed="rId27"/>
          <a:stretch/>
        </p:blipFill>
        <p:spPr>
          <a:xfrm>
            <a:off x="3635280" y="5445000"/>
            <a:ext cx="16099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мер использ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4365720"/>
            <a:ext cx="136656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1280" y="3499920"/>
            <a:ext cx="7848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11280" y="3860280"/>
            <a:ext cx="7848360" cy="7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5020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 е ж к о р п о р а т и в н а я       Ш   и   н 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2276640"/>
            <a:ext cx="1584360" cy="792000"/>
          </a:xfrm>
          <a:prstGeom prst="flowChartMagneticDisk">
            <a:avLst/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 АФ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276640"/>
            <a:ext cx="1584360" cy="7189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 Ста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гент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3141720"/>
            <a:ext cx="216000" cy="288720"/>
          </a:xfrm>
          <a:prstGeom prst="upDownArrow">
            <a:avLst>
              <a:gd name="adj1" fmla="val 50000"/>
              <a:gd name="adj2" fmla="val 26609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3068640"/>
            <a:ext cx="43200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4365720"/>
            <a:ext cx="136656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4365720"/>
            <a:ext cx="136692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4365720"/>
            <a:ext cx="136656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005360"/>
            <a:ext cx="216000" cy="288720"/>
          </a:xfrm>
          <a:prstGeom prst="upDownArrow">
            <a:avLst>
              <a:gd name="adj1" fmla="val 50000"/>
              <a:gd name="adj2" fmla="val 26609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4005360"/>
            <a:ext cx="216000" cy="288720"/>
          </a:xfrm>
          <a:prstGeom prst="upDownArrow">
            <a:avLst>
              <a:gd name="adj1" fmla="val 50000"/>
              <a:gd name="adj2" fmla="val 26609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005360"/>
            <a:ext cx="216000" cy="288720"/>
          </a:xfrm>
          <a:prstGeom prst="upDownArrow">
            <a:avLst>
              <a:gd name="adj1" fmla="val 50000"/>
              <a:gd name="adj2" fmla="val 26609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4005360"/>
            <a:ext cx="215640" cy="288720"/>
          </a:xfrm>
          <a:prstGeom prst="upDownArrow">
            <a:avLst>
              <a:gd name="adj1" fmla="val 50000"/>
              <a:gd name="adj2" fmla="val 26654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2276640"/>
            <a:ext cx="1584360" cy="7189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 П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3068640"/>
            <a:ext cx="431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3640" y="2276640"/>
            <a:ext cx="1584360" cy="7189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 НК Р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48360" y="3068640"/>
            <a:ext cx="43200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3080" y="4365720"/>
            <a:ext cx="136656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67640" y="4005360"/>
            <a:ext cx="216000" cy="288720"/>
          </a:xfrm>
          <a:prstGeom prst="upDownArrow">
            <a:avLst>
              <a:gd name="adj1" fmla="val 50000"/>
              <a:gd name="adj2" fmla="val 26609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мер использ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уменьшит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автоматизировать перевод ЦБ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564000" y="981000"/>
            <a:ext cx="244944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а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785840" y="2060640"/>
            <a:ext cx="1800" cy="1871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227808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0620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4160" y="2133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42100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928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5620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58360" y="2801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70360" y="3160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378936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270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31080" y="359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299736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99736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314172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350028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386064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422100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02880" y="2924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02880" y="335772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2160" y="3716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02520" y="407844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1640" y="2276640"/>
            <a:ext cx="0" cy="165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278280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51640" y="314172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350208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386244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2520" y="256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2520" y="2998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2160" y="3357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41800" y="3719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516360" y="2276640"/>
            <a:ext cx="93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2708280"/>
            <a:ext cx="3960720" cy="1728720"/>
          </a:xfrm>
          <a:prstGeom prst="rect">
            <a:avLst/>
          </a:prstGeom>
          <a:solidFill>
            <a:srgbClr val="00c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85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дача ценных бум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342900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52360" y="32130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3800" y="3213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7640" y="378936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2720" y="35733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Ц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472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25131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3800" y="306864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8532720" y="2060280"/>
            <a:ext cx="0" cy="647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804000" y="2060640"/>
            <a:ext cx="172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04000" y="2060640"/>
            <a:ext cx="0" cy="1008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6920" y="1647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=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3800" y="5805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1800" y="5805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616572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659772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6165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 е ж к о р п о р а т и в н а я     Ш   и   н 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5013360"/>
            <a:ext cx="2376720" cy="792000"/>
          </a:xfrm>
          <a:prstGeom prst="flowChartMagneticDisk">
            <a:avLst/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Д историй сдел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5013360"/>
            <a:ext cx="1441440" cy="7192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 Ц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877000"/>
            <a:ext cx="215640" cy="288720"/>
          </a:xfrm>
          <a:prstGeom prst="upDownArrow">
            <a:avLst>
              <a:gd name="adj1" fmla="val 50000"/>
              <a:gd name="adj2" fmla="val 26654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360" y="5877000"/>
            <a:ext cx="216000" cy="288720"/>
          </a:xfrm>
          <a:prstGeom prst="upDownArrow">
            <a:avLst>
              <a:gd name="adj1" fmla="val 50000"/>
              <a:gd name="adj2" fmla="val 26609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5734080"/>
            <a:ext cx="43200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360" y="443700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95640" y="6021360"/>
            <a:ext cx="1152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7080" y="57340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02520" y="53006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94880" y="530064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5661000"/>
            <a:ext cx="431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5661000"/>
            <a:ext cx="431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24720" y="5013360"/>
            <a:ext cx="1333440" cy="7192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 РСЦ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28000" y="5734080"/>
            <a:ext cx="431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227664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зультат внедр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ая НСИ и, как следствие, общедоступная интеграция с 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матическая интеграция Бизнес-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сть моделирования бизнес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межкорпоративного хранилища данных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ehou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ОСТИГАЕМЫЕ ЦЕЛ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ъединение профессиональных участников в единую информационную систе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лючение дублирования функций и данных в разных И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ие влияния человеческого фактора и уменьшить количество ошибок, связанных с ручным переносом информации из системы в систе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ие затрат времени на ручной поиск информации в различных систем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ньшение затрат на администрирование системы за счет централизации хранения логики преобразования и политик интегр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ие затрат на интеграцию систем, которые будут созданы в будущем, за счет упрощения подключения к интеграционной системе и предоставления уже накопленной прикладной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ОСТИГАЕМЫЕ ЦЕЛ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 счет асинхронного взаимодействия и гарантированной доставки информации снижение рисков, связанных с ошибками в работе сетевых и прикладных сис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учение полного и унифицированного взгляда на объект бизнеса (например, на клиентов) в результате использования релевантной информации сразу из нескольких сист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хранение инвестиций в имеющиеся системы за счет их интеграции, вместо замены на более полнофункциональ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предпосылки для увеличения прибыли за счет построения корпоративной информационной системы, быстро и адекватно реагирующей на изме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8:25:22Z</dcterms:created>
  <dc:creator>Кемаль</dc:creator>
  <dc:description/>
  <dc:language>en-US</dc:language>
  <cp:lastModifiedBy>Juassov</cp:lastModifiedBy>
  <dcterms:modified xsi:type="dcterms:W3CDTF">2007-09-24T07:15:01Z</dcterms:modified>
  <cp:revision>41</cp:revision>
  <dc:subject/>
  <dc:title>Нормативная система управления</dc:title>
</cp:coreProperties>
</file>