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8.png" ContentType="image/png"/>
  <Override PartName="/ppt/media/image30.png" ContentType="image/png"/>
  <Override PartName="/ppt/media/image13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36.png" ContentType="image/png"/>
  <Override PartName="/ppt/media/image7.wmf" ContentType="image/x-wmf"/>
  <Override PartName="/ppt/media/image12.png" ContentType="image/png"/>
  <Override PartName="/ppt/media/image37.png" ContentType="image/png"/>
  <Override PartName="/ppt/media/image40.png" ContentType="image/png"/>
  <Override PartName="/ppt/media/image8.wmf" ContentType="image/x-wmf"/>
  <Override PartName="/ppt/media/image39.png" ContentType="image/png"/>
  <Override PartName="/ppt/media/image9.png" ContentType="image/png"/>
  <Override PartName="/ppt/media/image10.wmf" ContentType="image/x-wmf"/>
  <Override PartName="/ppt/media/image19.jpeg" ContentType="image/jpeg"/>
  <Override PartName="/ppt/media/image25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3.wmf" ContentType="image/x-wmf"/>
  <Override PartName="/ppt/media/image34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1518-AD4D-4CDA-9E7E-087C41AE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9080" y="708120"/>
            <a:ext cx="4527360" cy="339552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28800" y="4316400"/>
            <a:ext cx="5024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527720" cy="339552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28800" y="4316400"/>
            <a:ext cx="5024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316A-749F-48B1-BB72-50CE4821E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B6DA-018A-4CC2-A33E-85959CDF7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3D1E-9DFA-4377-95E8-A29482287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976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072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976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BE9D-91CB-4BE3-8E16-CB1F5C833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8760" y="456840"/>
            <a:ext cx="6154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3877-3F41-4588-A4E6-763A8179C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976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072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976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0D93-38BA-4396-9C1D-257677F67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1A45-9213-4CBF-AE6D-5645D742F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4902-F365-457A-ABF9-C5108BC4E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456840"/>
            <a:ext cx="6154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B8CD-4899-49AD-8C8D-1C432F4F1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0538-E45B-4A71-B40C-605972275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9AB1-4417-46F3-90E7-78643B213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D339-2385-4E38-9774-F379D18E8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2440" y="380880"/>
            <a:ext cx="6278400" cy="76212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2440" y="1338120"/>
            <a:ext cx="8451720" cy="5139000"/>
          </a:xfrm>
          <a:prstGeom prst="rect">
            <a:avLst/>
          </a:prstGeom>
          <a:noFill/>
          <a:ln w="6480">
            <a:solidFill>
              <a:srgbClr val="6f7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08680" y="380880"/>
            <a:ext cx="1976400" cy="762120"/>
          </a:xfrm>
          <a:prstGeom prst="rect">
            <a:avLst/>
          </a:prstGeom>
          <a:noFill/>
          <a:ln w="6480">
            <a:solidFill>
              <a:srgbClr val="6f7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1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2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3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4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5" marL="6480" indent="-64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6" marL="6480" indent="-64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189864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79D6-9CFC-4355-BD2A-E50CF460C16A}" type="slidenum">
              <a:rPr b="1" lang="en-US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40440" y="533520"/>
            <a:ext cx="984240" cy="40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7239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-я Ежегодная конференция Казахстанской фондовой биржи по финансовому рынку, 18-19 сентября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2007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380880"/>
            <a:ext cx="6278400" cy="76212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8680" y="380880"/>
            <a:ext cx="1976400" cy="7621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440" y="2482920"/>
            <a:ext cx="8432640" cy="3986280"/>
          </a:xfrm>
          <a:prstGeom prst="rect">
            <a:avLst/>
          </a:prstGeom>
          <a:solidFill>
            <a:srgbClr val="6f73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6680" y="2612880"/>
            <a:ext cx="619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800" y="1330200"/>
            <a:ext cx="1638360" cy="68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lvl="1" marL="196920" indent="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2" marL="67320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3" marL="109224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4" marL="151128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5" marL="15112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6" marL="15112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image" Target="../media/image13.wmf"/><Relationship Id="rId5" Type="http://schemas.openxmlformats.org/officeDocument/2006/relationships/image" Target="../media/image11.jpeg"/><Relationship Id="rId6" Type="http://schemas.openxmlformats.org/officeDocument/2006/relationships/image" Target="../media/image14.wmf"/><Relationship Id="rId7" Type="http://schemas.openxmlformats.org/officeDocument/2006/relationships/image" Target="../media/image11.jpeg"/><Relationship Id="rId8" Type="http://schemas.openxmlformats.org/officeDocument/2006/relationships/image" Target="../media/image15.png"/><Relationship Id="rId9" Type="http://schemas.openxmlformats.org/officeDocument/2006/relationships/image" Target="../media/image11.jpeg"/><Relationship Id="rId10" Type="http://schemas.openxmlformats.org/officeDocument/2006/relationships/image" Target="../media/image1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7.png"/><Relationship Id="rId14" Type="http://schemas.openxmlformats.org/officeDocument/2006/relationships/image" Target="../media/image11.jpeg"/><Relationship Id="rId15" Type="http://schemas.openxmlformats.org/officeDocument/2006/relationships/image" Target="../media/image18.png"/><Relationship Id="rId16" Type="http://schemas.openxmlformats.org/officeDocument/2006/relationships/image" Target="../media/image11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6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7.png"/><Relationship Id="rId14" Type="http://schemas.openxmlformats.org/officeDocument/2006/relationships/image" Target="../media/image18.png"/><Relationship Id="rId15" Type="http://schemas.openxmlformats.org/officeDocument/2006/relationships/image" Target="../media/image23.png"/><Relationship Id="rId16" Type="http://schemas.openxmlformats.org/officeDocument/2006/relationships/image" Target="../media/image28.jpeg"/><Relationship Id="rId17" Type="http://schemas.openxmlformats.org/officeDocument/2006/relationships/image" Target="../media/image23.png"/><Relationship Id="rId18" Type="http://schemas.openxmlformats.org/officeDocument/2006/relationships/image" Target="../media/image29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6.png"/><Relationship Id="rId22" Type="http://schemas.openxmlformats.org/officeDocument/2006/relationships/image" Target="../media/image23.png"/><Relationship Id="rId23" Type="http://schemas.openxmlformats.org/officeDocument/2006/relationships/image" Target="../media/image30.png"/><Relationship Id="rId2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wm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2.png"/><Relationship Id="rId6" Type="http://schemas.openxmlformats.org/officeDocument/2006/relationships/image" Target="../media/image23.png"/><Relationship Id="rId7" Type="http://schemas.openxmlformats.org/officeDocument/2006/relationships/image" Target="../media/image33.png"/><Relationship Id="rId8" Type="http://schemas.openxmlformats.org/officeDocument/2006/relationships/image" Target="../media/image23.png"/><Relationship Id="rId9" Type="http://schemas.openxmlformats.org/officeDocument/2006/relationships/image" Target="../media/image34.wmf"/><Relationship Id="rId10" Type="http://schemas.openxmlformats.org/officeDocument/2006/relationships/image" Target="../media/image23.png"/><Relationship Id="rId11" Type="http://schemas.openxmlformats.org/officeDocument/2006/relationships/image" Target="../media/image12.png"/><Relationship Id="rId12" Type="http://schemas.openxmlformats.org/officeDocument/2006/relationships/image" Target="../media/image23.png"/><Relationship Id="rId13" Type="http://schemas.openxmlformats.org/officeDocument/2006/relationships/image" Target="../media/image35.wmf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36.png"/><Relationship Id="rId17" Type="http://schemas.openxmlformats.org/officeDocument/2006/relationships/image" Target="../media/image23.png"/><Relationship Id="rId18" Type="http://schemas.openxmlformats.org/officeDocument/2006/relationships/image" Target="../media/image36.png"/><Relationship Id="rId19" Type="http://schemas.openxmlformats.org/officeDocument/2006/relationships/image" Target="../media/image31.wmf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6.png"/><Relationship Id="rId23" Type="http://schemas.openxmlformats.org/officeDocument/2006/relationships/image" Target="../media/image23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23.png"/><Relationship Id="rId27" Type="http://schemas.openxmlformats.org/officeDocument/2006/relationships/image" Target="../media/image38.png"/><Relationship Id="rId28" Type="http://schemas.openxmlformats.org/officeDocument/2006/relationships/image" Target="../media/image32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38.png"/><Relationship Id="rId32" Type="http://schemas.openxmlformats.org/officeDocument/2006/relationships/image" Target="../media/image35.wmf"/><Relationship Id="rId33" Type="http://schemas.openxmlformats.org/officeDocument/2006/relationships/image" Target="../media/image23.png"/><Relationship Id="rId34" Type="http://schemas.openxmlformats.org/officeDocument/2006/relationships/image" Target="../media/image32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23.png"/><Relationship Id="rId40" Type="http://schemas.openxmlformats.org/officeDocument/2006/relationships/image" Target="../media/image40.png"/><Relationship Id="rId4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320" y="2612880"/>
            <a:ext cx="81738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казахстанских компаний на международные рынки акционерного капитал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39560" y="480960"/>
            <a:ext cx="6104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508720"/>
            <a:ext cx="81532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-я Ежегодная конференция  Казахстанской фондовой биржи по финансовому рын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8-19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нтябр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br>
              <a:rPr sz="1600"/>
            </a:b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Max Petroleum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2066760"/>
          <a:ext cx="5862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66760"/>
                    <a:ext cx="5862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1066680" y="2505240"/>
            <a:ext cx="1447560" cy="533160"/>
            <a:chOff x="1066680" y="2505240"/>
            <a:chExt cx="1447560" cy="533160"/>
          </a:xfrm>
        </p:grpSpPr>
        <p:sp>
          <p:nvSpPr>
            <p:cNvPr id="221" name=""/>
            <p:cNvSpPr/>
            <p:nvPr/>
          </p:nvSpPr>
          <p:spPr>
            <a:xfrm>
              <a:off x="1066680" y="2505240"/>
              <a:ext cx="14475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66680" y="2619360"/>
              <a:ext cx="144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marL="106200" indent="-10620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27.10.05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начало торговли н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I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14760" y="2514600"/>
            <a:ext cx="1676160" cy="761760"/>
            <a:chOff x="2714760" y="2514600"/>
            <a:chExt cx="1676160" cy="761760"/>
          </a:xfrm>
        </p:grpSpPr>
        <p:sp>
          <p:nvSpPr>
            <p:cNvPr id="224" name=""/>
            <p:cNvSpPr/>
            <p:nvPr/>
          </p:nvSpPr>
          <p:spPr>
            <a:xfrm>
              <a:off x="2714760" y="2514600"/>
              <a:ext cx="1676160" cy="761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14760" y="2666880"/>
              <a:ext cx="16761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marL="122040" indent="-1220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16.01.06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Закончена регистрация вновь приобретенного Астраханского блока в Казахстан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52480" y="4419720"/>
            <a:ext cx="1676520" cy="761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4572000"/>
            <a:ext cx="1676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marL="128880" indent="-1288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. 08.08.06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ривлекает $75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ыпустив конвертируемые облигации с датой погашения 201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447920"/>
            <a:ext cx="18288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1447920"/>
            <a:ext cx="1828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4. 01.02.07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юю с учетом риска оценку ресурсов Блока Е в размере 157.9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cDaniel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4307040"/>
            <a:ext cx="18288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307040"/>
            <a:ext cx="1828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5. 02.04.07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юю с учетом риска оценку ресурсов Астраханского блока в размере 559.5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cDaniel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3247920"/>
            <a:ext cx="182880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3252960"/>
            <a:ext cx="182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6. 08.06.07 Компания привлекает кредит от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quarie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 размере $100 мл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1714680"/>
            <a:ext cx="1828800" cy="1085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29400" y="1714680"/>
            <a:ext cx="18288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71000" indent="-17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7. 13.07.07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ую с учетом риска оценку ресурсов перспективного участка Кузбак в размере 250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yder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tt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52560" y="3048120"/>
            <a:ext cx="876240" cy="2133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523520" y="3276720"/>
            <a:ext cx="2057400" cy="7333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90920" y="4086360"/>
            <a:ext cx="533160" cy="333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495680" y="2362320"/>
            <a:ext cx="53352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952520" y="3733560"/>
            <a:ext cx="1676520" cy="10666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486040" y="2971440"/>
            <a:ext cx="1143000" cy="552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715000" y="2209680"/>
            <a:ext cx="91440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F088-FF6E-4AC2-AE5F-44412B133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82880" y="1508040"/>
            <a:ext cx="2995560" cy="722520"/>
          </a:xfrm>
          <a:prstGeom prst="rect">
            <a:avLst/>
          </a:prstGeom>
          <a:solidFill>
            <a:srgbClr val="658d78"/>
          </a:solidFill>
          <a:ln w="19080">
            <a:solidFill>
              <a:srgbClr val="658d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E-IPO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7933200">
            <a:off x="2689560" y="2775240"/>
            <a:ext cx="1076400" cy="306360"/>
          </a:xfrm>
          <a:prstGeom prst="rightArrow">
            <a:avLst>
              <a:gd name="adj1" fmla="val 50000"/>
              <a:gd name="adj2" fmla="val 87838"/>
            </a:avLst>
          </a:prstGeom>
          <a:solidFill>
            <a:srgbClr val="acc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876400">
            <a:off x="4992840" y="2775600"/>
            <a:ext cx="1076400" cy="306360"/>
          </a:xfrm>
          <a:prstGeom prst="rightArrow">
            <a:avLst>
              <a:gd name="adj1" fmla="val 50000"/>
              <a:gd name="adj2" fmla="val 87838"/>
            </a:avLst>
          </a:prstGeom>
          <a:solidFill>
            <a:srgbClr val="acc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267080"/>
            <a:ext cx="28958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Частные размещения а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Финансирование акцион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Конвертируемые облигации / варр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3429000"/>
            <a:ext cx="2895840" cy="614520"/>
          </a:xfrm>
          <a:prstGeom prst="rect">
            <a:avLst/>
          </a:prstGeom>
          <a:solidFill>
            <a:srgbClr val="b7d0bf"/>
          </a:solidFill>
          <a:ln w="1908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Финансирование акционерного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3424320"/>
            <a:ext cx="2895840" cy="614160"/>
          </a:xfrm>
          <a:prstGeom prst="rect">
            <a:avLst/>
          </a:prstGeom>
          <a:solidFill>
            <a:srgbClr val="b7d0bf"/>
          </a:solidFill>
          <a:ln w="1908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Долговое 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56120" y="4349880"/>
            <a:ext cx="266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Кредитные н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Евробо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нструменты финансирования до выхода на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338C-8F0E-4229-A783-44B4B7FBB8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финансирования до и посл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: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нтегр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9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14400" y="3733920"/>
            <a:ext cx="7620120" cy="380880"/>
            <a:chOff x="914400" y="3733920"/>
            <a:chExt cx="7620120" cy="380880"/>
          </a:xfrm>
        </p:grpSpPr>
        <p:sp>
          <p:nvSpPr>
            <p:cNvPr id="254" name=""/>
            <p:cNvSpPr/>
            <p:nvPr/>
          </p:nvSpPr>
          <p:spPr>
            <a:xfrm>
              <a:off x="9144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46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81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812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483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14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816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152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487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57200" y="2666880"/>
            <a:ext cx="1905120" cy="762120"/>
          </a:xfrm>
          <a:prstGeom prst="wedgeEllipseCallout">
            <a:avLst>
              <a:gd name="adj1" fmla="val 1249"/>
              <a:gd name="adj2" fmla="val 9125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Янв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34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4343400"/>
            <a:ext cx="1828800" cy="914400"/>
            <a:chOff x="685800" y="4343400"/>
            <a:chExt cx="1828800" cy="914400"/>
          </a:xfrm>
        </p:grpSpPr>
        <p:sp>
          <p:nvSpPr>
            <p:cNvPr id="270" name=""/>
            <p:cNvSpPr/>
            <p:nvPr/>
          </p:nvSpPr>
          <p:spPr>
            <a:xfrm rot="10800000">
              <a:off x="685800" y="4419720"/>
              <a:ext cx="1828800" cy="761760"/>
            </a:xfrm>
            <a:prstGeom prst="wedgeEllipseCallout">
              <a:avLst>
                <a:gd name="adj1" fmla="val 865"/>
                <a:gd name="adj2" fmla="val 9124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1760" y="434340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Дек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5 – Feb’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IK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о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905120" y="2057400"/>
            <a:ext cx="1752480" cy="838080"/>
          </a:xfrm>
          <a:prstGeom prst="wedgeEllipseCallout">
            <a:avLst>
              <a:gd name="adj1" fmla="val 1356"/>
              <a:gd name="adj2" fmla="val 151134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Мар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057400" y="4944960"/>
            <a:ext cx="1828800" cy="914400"/>
            <a:chOff x="2057400" y="4944960"/>
            <a:chExt cx="1828800" cy="914400"/>
          </a:xfrm>
        </p:grpSpPr>
        <p:sp>
          <p:nvSpPr>
            <p:cNvPr id="274" name=""/>
            <p:cNvSpPr/>
            <p:nvPr/>
          </p:nvSpPr>
          <p:spPr>
            <a:xfrm rot="10800000">
              <a:off x="2057400" y="5028840"/>
              <a:ext cx="1828800" cy="762120"/>
            </a:xfrm>
            <a:prstGeom prst="wedgeEllipseCallout">
              <a:avLst>
                <a:gd name="adj1" fmla="val 865"/>
                <a:gd name="adj2" fmla="val 16999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33360" y="494496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Июнь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6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мещение рублевых облигац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76720" y="2666880"/>
            <a:ext cx="1828800" cy="762120"/>
          </a:xfrm>
          <a:prstGeom prst="wedgeEllipseCallout">
            <a:avLst>
              <a:gd name="adj1" fmla="val -171"/>
              <a:gd name="adj2" fmla="val 9125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Июль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Авг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06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10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III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 225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4343400"/>
            <a:ext cx="1828800" cy="914400"/>
            <a:chOff x="3962520" y="4343400"/>
            <a:chExt cx="1828800" cy="914400"/>
          </a:xfrm>
        </p:grpSpPr>
        <p:sp>
          <p:nvSpPr>
            <p:cNvPr id="278" name=""/>
            <p:cNvSpPr/>
            <p:nvPr/>
          </p:nvSpPr>
          <p:spPr>
            <a:xfrm rot="10800000">
              <a:off x="3962520" y="4419720"/>
              <a:ext cx="1828800" cy="761760"/>
            </a:xfrm>
            <a:prstGeom prst="wedgeEllipseCallout">
              <a:avLst>
                <a:gd name="adj1" fmla="val 865"/>
                <a:gd name="adj2" fmla="val 9124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434340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Авг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 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реди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50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н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800600" y="2057400"/>
            <a:ext cx="1752480" cy="838080"/>
          </a:xfrm>
          <a:prstGeom prst="wedgeEllipseCallout">
            <a:avLst>
              <a:gd name="adj1" fmla="val 1356"/>
              <a:gd name="adj2" fmla="val 151134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Окт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‘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 5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 Частное размещение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715000" y="4952880"/>
            <a:ext cx="1828800" cy="914400"/>
            <a:chOff x="5715000" y="4952880"/>
            <a:chExt cx="1828800" cy="914400"/>
          </a:xfrm>
        </p:grpSpPr>
        <p:sp>
          <p:nvSpPr>
            <p:cNvPr id="282" name=""/>
            <p:cNvSpPr/>
            <p:nvPr/>
          </p:nvSpPr>
          <p:spPr>
            <a:xfrm rot="10800000">
              <a:off x="5715000" y="5036760"/>
              <a:ext cx="1828800" cy="762120"/>
            </a:xfrm>
            <a:prstGeom prst="wedgeEllipseCallout">
              <a:avLst>
                <a:gd name="adj1" fmla="val 865"/>
                <a:gd name="adj2" fmla="val 169995"/>
              </a:avLst>
            </a:prstGeom>
            <a:solidFill>
              <a:srgbClr val="d000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90960" y="495288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Фев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768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н.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IPO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SE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о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335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«за акцию» (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D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477120" y="2362320"/>
            <a:ext cx="1828800" cy="1066680"/>
          </a:xfrm>
          <a:prstGeom prst="wedgeEllipseCallout">
            <a:avLst>
              <a:gd name="adj1" fmla="val -171"/>
              <a:gd name="adj2" fmla="val 79462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Апр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‘07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19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 Вторич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400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2F9C-83F5-4700-90C1-59BEA18EC7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48240" y="1473120"/>
            <a:ext cx="3957480" cy="2403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76280" y="1542960"/>
            <a:ext cx="4162320" cy="2400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724280" y="4011480"/>
            <a:ext cx="3886200" cy="2465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Текущее состояние фондовых рынков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33520" y="3819600"/>
            <a:ext cx="3961800" cy="228600"/>
            <a:chOff x="533520" y="3819600"/>
            <a:chExt cx="3961800" cy="228600"/>
          </a:xfrm>
        </p:grpSpPr>
        <p:sp>
          <p:nvSpPr>
            <p:cNvPr id="290" name=""/>
            <p:cNvSpPr/>
            <p:nvPr/>
          </p:nvSpPr>
          <p:spPr>
            <a:xfrm>
              <a:off x="533520" y="3819600"/>
              <a:ext cx="396180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Комментар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520" y="4048200"/>
              <a:ext cx="395964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778120" y="3814920"/>
            <a:ext cx="1790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777777"/>
                </a:solidFill>
                <a:latin typeface="Arial"/>
              </a:rPr>
              <a:t>Источник: Bloombe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35720" y="3814920"/>
            <a:ext cx="1236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777777"/>
                </a:solidFill>
                <a:latin typeface="Arial"/>
              </a:rPr>
              <a:t>Источник: Bloombe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46640" y="2006640"/>
            <a:ext cx="482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19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6640" y="2082960"/>
            <a:ext cx="482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19.1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6280" y="251460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7.2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46280" y="264780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4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46280" y="281304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0.2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328760"/>
            <a:ext cx="39621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Динамика мировых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р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ын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с начал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538280"/>
            <a:ext cx="396072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00600" y="3821040"/>
            <a:ext cx="3692160" cy="228600"/>
            <a:chOff x="4800600" y="3821040"/>
            <a:chExt cx="3692160" cy="228600"/>
          </a:xfrm>
        </p:grpSpPr>
        <p:sp>
          <p:nvSpPr>
            <p:cNvPr id="302" name=""/>
            <p:cNvSpPr/>
            <p:nvPr/>
          </p:nvSpPr>
          <p:spPr>
            <a:xfrm>
              <a:off x="4800600" y="3821040"/>
              <a:ext cx="36921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Сравнение потоков средств фон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0600" y="4049640"/>
              <a:ext cx="369000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20690400">
            <a:off x="1294920" y="2590920"/>
            <a:ext cx="609840" cy="914400"/>
          </a:xfrm>
          <a:prstGeom prst="ellipse">
            <a:avLst/>
          </a:prstGeom>
          <a:noFill/>
          <a:ln w="19080">
            <a:solidFill>
              <a:srgbClr val="d000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0887200">
            <a:off x="3425760" y="1536840"/>
            <a:ext cx="990720" cy="1724040"/>
          </a:xfrm>
          <a:prstGeom prst="ellipse">
            <a:avLst/>
          </a:prstGeom>
          <a:noFill/>
          <a:ln w="19080">
            <a:solidFill>
              <a:srgbClr val="d000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1328760"/>
            <a:ext cx="39625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Динамика мировых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рынков с начала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1538280"/>
            <a:ext cx="369576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17000" y="2128680"/>
            <a:ext cx="4107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</a:t>
            </a: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.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20240" y="2228760"/>
            <a:ext cx="4107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17000" y="2301840"/>
            <a:ext cx="41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-6.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6.3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6.5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17000" y="2622600"/>
            <a:ext cx="4107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9.3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46280" y="2438280"/>
            <a:ext cx="4334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7.</a:t>
            </a: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9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7"/>
          <p:cNvSpPr/>
          <p:nvPr/>
        </p:nvSpPr>
        <p:spPr>
          <a:xfrm>
            <a:off x="476280" y="4114800"/>
            <a:ext cx="41911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торой раз в этом году, после длительного роста, резко возросла волатильность на мировых фондовых рынках, пик которой пришелся на вторую и третью недели август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Главными причинами высокой волатильности стал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Bef>
                <a:spcPts val="125"/>
              </a:spcBef>
              <a:buClr>
                <a:srgbClr val="658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Кризис на американском рынке высокорисковой ипотеки, сопровождаемый увеличением процентных ставок и глобальным падением межбанковской ликвидно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Bef>
                <a:spcPts val="125"/>
              </a:spcBef>
              <a:buClr>
                <a:srgbClr val="658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Глобальная переоценка риска инвесторами, стремящимися вложить средства в самые безопасные ценные бумаги доступные на рынках, такие как государственные облигац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 начала роста волатильности на рынках акции во всем мире потеряли 10-16%, при этом продажа активов имела место как на развитых, так и развивающихся рынках. Больше всего пострадали финансовые институт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смотря на резкую реакцию рынка на  кризис в американском секторе высокорисковой ипотеки, большинство аналитиков полагает, что основные показатели рынка все еще остаются надежными; Это подтверждает и уверенный рост, который демонстрируют мировые рынки в течение последней недел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;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осенью ожидается восстановление рынков и появление достаточного спроса на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в 4 кв. 2007 г.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ы также отмечаем, что общие оттоки средств с развивающихся рынков  остаются на умеренном уровне и не идут ни в какое сравнение с оттоками, отмечавшимися во время предыдущего кризиса в начале весны 2007 г., который был отыгран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ольшинством рынков уже к началу лета. При этом, на последней неделе августа уже зафиксирован значительный приток средство на развивающиеся рынки, подтверждающий интерес инвесторов к этому регион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95FE-D925-40CA-88CC-BECA1B6CA9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Торговые площадки для торгующихся Казахстанских и Центрально-Азиатских публичных нефтяных компаний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2057400"/>
          <a:ext cx="4248000" cy="382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424800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334120" y="312408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Лондонская фондовая бирж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358128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5040" indent="-504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Американские торговые площа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411480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Фондовая биржа в Торон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3162240"/>
            <a:ext cx="228600" cy="228600"/>
          </a:xfrm>
          <a:prstGeom prst="rect">
            <a:avLst/>
          </a:prstGeom>
          <a:solidFill>
            <a:srgbClr val="b5d1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411480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520" y="3657600"/>
            <a:ext cx="228600" cy="228600"/>
          </a:xfrm>
          <a:prstGeom prst="rect">
            <a:avLst/>
          </a:prstGeom>
          <a:solidFill>
            <a:srgbClr val="648a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AE9D-0C9E-422A-B70C-EDF79424E3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19240" y="1057320"/>
            <a:ext cx="16221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1434960"/>
            <a:ext cx="2660760" cy="47016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ternative Investment Market (A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441440"/>
            <a:ext cx="2662200" cy="46980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ndon Stock Exchang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760" y="457200"/>
            <a:ext cx="528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еимущества и недостатки различных торговых площа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1962000"/>
            <a:ext cx="25495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 широкому кругу международных инвесторов, включая американс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Более гибкие требования к отчетности компании и раскрытию информации по сравнения с N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Понимание инвесторами компаний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СНГ ввиду большого количества IPO стран СНГ на LSE. Ведущая торговая площадка для комп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олее низки издержки получения листинга,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N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280" y="4132440"/>
            <a:ext cx="25560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олее высокие требования к раскрытию финансовой информации и корпоративному управлению по сравнению с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Более длительный процесс получения листинга,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6880" y="1955880"/>
            <a:ext cx="26143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о многим международным инвестор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низкие требования к отчетности компании и корпоративному управл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ыстрый процесс размещ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й простой процесс подготовки к получению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97160" y="4125960"/>
            <a:ext cx="2621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сть оффшорной регистрации листингуемой 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Меньший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LSE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и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NYSE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 международным инвестор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Часть инвесторов рассматривает компании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как недостаточно прозрачные и ликвид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 постоянно иметь номинированного консульта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4040" y="4038480"/>
            <a:ext cx="8002440" cy="9720"/>
          </a:xfrm>
          <a:prstGeom prst="line">
            <a:avLst/>
          </a:prstGeom>
          <a:ln w="15840">
            <a:solidFill>
              <a:srgbClr val="acca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XXI Century Investments"/>
          <p:cNvPicPr/>
          <p:nvPr/>
        </p:nvPicPr>
        <p:blipFill>
          <a:blip r:embed="rId1"/>
          <a:stretch/>
        </p:blipFill>
        <p:spPr>
          <a:xfrm>
            <a:off x="8265960" y="4251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XXI Century Investments"/>
          <p:cNvPicPr/>
          <p:nvPr/>
        </p:nvPicPr>
        <p:blipFill>
          <a:blip r:embed="rId2"/>
          <a:stretch/>
        </p:blipFill>
        <p:spPr>
          <a:xfrm>
            <a:off x="8265960" y="4251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950080" y="1441440"/>
            <a:ext cx="2660400" cy="46980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w York Stock Exchang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NY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59440" y="1962000"/>
            <a:ext cx="261468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NYSE остается одной из самых крупных и известных бирж акций в ми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Американский рынок капитала является как самым ликвидным и эффективным, так и наиболее надежным в ми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Листинг на NYSE является бесспорным знаком успеха и надежности эмите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50080" y="4132440"/>
            <a:ext cx="26208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Самые высокие требования к листингу и раскрытию информации, значительно выше, чем на LSE или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 соблюдение закона Сарбанса-Окс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требования к корпоративному управл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издержки получения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требования к компании после получения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D4AD-33F6-4CF1-9BEB-78701D084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Высокая оценка стоимости при проведении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M&amp;A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 сделок для нефтяных компаний Казахстан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15960"/>
          <a:ext cx="839304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15960"/>
                    <a:ext cx="83930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762120" y="4267080"/>
            <a:ext cx="7619400" cy="1219320"/>
            <a:chOff x="762120" y="4267080"/>
            <a:chExt cx="7619400" cy="1219320"/>
          </a:xfrm>
        </p:grpSpPr>
        <p:grpSp>
          <p:nvGrpSpPr>
            <p:cNvPr id="342" name=""/>
            <p:cNvGrpSpPr/>
            <p:nvPr/>
          </p:nvGrpSpPr>
          <p:grpSpPr>
            <a:xfrm>
              <a:off x="762120" y="5105520"/>
              <a:ext cx="7619400" cy="380880"/>
              <a:chOff x="762120" y="5105520"/>
              <a:chExt cx="7619400" cy="380880"/>
            </a:xfrm>
          </p:grpSpPr>
          <p:sp>
            <p:nvSpPr>
              <p:cNvPr id="343" name=""/>
              <p:cNvSpPr/>
              <p:nvPr/>
            </p:nvSpPr>
            <p:spPr>
              <a:xfrm>
                <a:off x="76212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952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284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9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954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286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621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956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288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623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958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290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625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960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1295280" y="4267080"/>
              <a:ext cx="1600200" cy="609840"/>
            </a:xfrm>
            <a:prstGeom prst="wedgeEllipseCallout">
              <a:avLst>
                <a:gd name="adj1" fmla="val 597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траны бывшего СССР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0.76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4267080"/>
              <a:ext cx="1295640" cy="609840"/>
            </a:xfrm>
            <a:prstGeom prst="wedgeEllipseCallout">
              <a:avLst>
                <a:gd name="adj1" fmla="val 736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азахстан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$6.84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7120" y="4267080"/>
              <a:ext cx="1295280" cy="609840"/>
            </a:xfrm>
            <a:prstGeom prst="wedgeEllipseCallout">
              <a:avLst>
                <a:gd name="adj1" fmla="val 736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ША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$8.76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62120" y="5715000"/>
            <a:ext cx="761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ctr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Средняя стоимость 1 бар. </a:t>
            </a:r>
            <a:r>
              <a:rPr b="1" lang="en-US" sz="1500" spc="-1" strike="noStrike">
                <a:solidFill>
                  <a:srgbClr val="6f736f"/>
                </a:solidFill>
                <a:latin typeface="Arial"/>
              </a:rPr>
              <a:t>2P </a:t>
            </a: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запасов при проведении сдел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6095880"/>
            <a:ext cx="761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Источник: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John S. Herold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0AB8-8001-4D87-A4A3-532917A355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-135000" y="1316160"/>
            <a:ext cx="378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2007 г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нессанс Капитал - лидер на финансовых рынках развивающихся стран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52360" y="3406680"/>
            <a:ext cx="205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второго крупнейшего банка в России 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8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существенно переподписана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осуществлял функции брокера эмитента при размещении локального транша и привлек большую часть спроса как в локальных акциях, так и в ГД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0200" y="1498680"/>
            <a:ext cx="281160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7760" y="3152880"/>
            <a:ext cx="6721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Источник</a:t>
            </a:r>
            <a:r>
              <a:rPr b="0" i="1" lang="en-US" sz="600" spc="-1" strike="noStrike">
                <a:solidFill>
                  <a:srgbClr val="5f5f5f"/>
                </a:solidFill>
                <a:latin typeface="Arial"/>
                <a:ea typeface="Arial"/>
              </a:rPr>
              <a:t>: Thomson Financial, </a:t>
            </a:r>
            <a:r>
              <a:rPr b="0" i="1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Ренессанс Капитал</a:t>
            </a:r>
            <a:br>
              <a:rPr sz="600"/>
            </a:br>
            <a:r>
              <a:rPr b="0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Примечание: пропорциональный объем размещения каждому букраннеру, учитывается институциональная составляющая объема размещения. Ведущие 10 банк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934240" y="5450040"/>
            <a:ext cx="631800" cy="931680"/>
            <a:chOff x="5934240" y="5450040"/>
            <a:chExt cx="631800" cy="931680"/>
          </a:xfrm>
        </p:grpSpPr>
        <p:sp>
          <p:nvSpPr>
            <p:cNvPr id="368" name=""/>
            <p:cNvSpPr/>
            <p:nvPr/>
          </p:nvSpPr>
          <p:spPr>
            <a:xfrm>
              <a:off x="5934240" y="5450040"/>
              <a:ext cx="6318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2160" y="5467680"/>
              <a:ext cx="238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етал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84640" y="5889600"/>
              <a:ext cx="5781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1,0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69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67600" y="5467680"/>
              <a:ext cx="297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Окт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50800" y="6220440"/>
              <a:ext cx="6148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6085800" y="6041880"/>
              <a:ext cx="3376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Client Name/Logo - Slide Master" descr=""/>
            <p:cNvPicPr/>
            <p:nvPr/>
          </p:nvPicPr>
          <p:blipFill>
            <a:blip r:embed="rId2"/>
            <a:stretch/>
          </p:blipFill>
          <p:spPr>
            <a:xfrm>
              <a:off x="6138000" y="5576760"/>
              <a:ext cx="239040" cy="24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"/>
          <p:cNvSpPr/>
          <p:nvPr/>
        </p:nvSpPr>
        <p:spPr>
          <a:xfrm>
            <a:off x="6686640" y="5303880"/>
            <a:ext cx="2139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трубной компании – боле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1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млрд. капитала привлечено в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при спросе свыш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20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млрд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ереподписана более чем в 20 раз по верхней границе ценового диапазона – наивысший уровень переподписки в истории российского рынк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создал спроса больше, че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Credit Suisse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и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Dresdner Kleinwort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как по количеству принятых заказов, так и по аллокации среди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923080" y="4427640"/>
            <a:ext cx="635400" cy="931680"/>
            <a:chOff x="5923080" y="4427640"/>
            <a:chExt cx="635400" cy="931680"/>
          </a:xfrm>
        </p:grpSpPr>
        <p:sp>
          <p:nvSpPr>
            <p:cNvPr id="377" name=""/>
            <p:cNvSpPr/>
            <p:nvPr/>
          </p:nvSpPr>
          <p:spPr>
            <a:xfrm>
              <a:off x="5923080" y="44276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26680" y="444924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елеко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484164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LSE /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40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75880" y="4452120"/>
              <a:ext cx="28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ев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23080" y="518112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6082200" y="4987440"/>
              <a:ext cx="32688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4"/>
            <a:stretch/>
          </p:blipFill>
          <p:spPr>
            <a:xfrm>
              <a:off x="5956920" y="4673880"/>
              <a:ext cx="568080" cy="9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6686640" y="4533840"/>
            <a:ext cx="2139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компании ИТ сектора –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402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смог привлечь больше спроса, чем 2 других международных букраннер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86640" y="3433680"/>
            <a:ext cx="2139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нефтесервисной компании на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LSE – US$786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Интегр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ереподписана 10 раз и размещение состоялось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был единственным банком, привлекающим спрос на первых этапах размещения, и в итоге смог привлечь большую часть спрос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931000" y="3390840"/>
            <a:ext cx="632520" cy="932040"/>
            <a:chOff x="5931000" y="3390840"/>
            <a:chExt cx="632520" cy="932040"/>
          </a:xfrm>
        </p:grpSpPr>
        <p:sp>
          <p:nvSpPr>
            <p:cNvPr id="387" name=""/>
            <p:cNvSpPr/>
            <p:nvPr/>
          </p:nvSpPr>
          <p:spPr>
            <a:xfrm>
              <a:off x="5931000" y="3390840"/>
              <a:ext cx="63180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35320" y="3412440"/>
              <a:ext cx="308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ефть и </a:t>
              </a:r>
              <a:br>
                <a:rPr sz="500"/>
              </a:b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1000" y="3804840"/>
              <a:ext cx="6022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6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80920" y="3415320"/>
              <a:ext cx="28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ев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31000" y="4143240"/>
              <a:ext cx="615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6090840" y="3950640"/>
              <a:ext cx="32400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"/>
            <a:stretch/>
          </p:blipFill>
          <p:spPr>
            <a:xfrm>
              <a:off x="5998320" y="3548160"/>
              <a:ext cx="496800" cy="18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409680" y="3390840"/>
            <a:ext cx="637200" cy="932040"/>
            <a:chOff x="409680" y="3390840"/>
            <a:chExt cx="637200" cy="932040"/>
          </a:xfrm>
        </p:grpSpPr>
        <p:sp>
          <p:nvSpPr>
            <p:cNvPr id="395" name=""/>
            <p:cNvSpPr/>
            <p:nvPr/>
          </p:nvSpPr>
          <p:spPr>
            <a:xfrm>
              <a:off x="409680" y="3390840"/>
              <a:ext cx="63324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2720" y="3413160"/>
              <a:ext cx="29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инанс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9600" y="341640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2160" y="3747960"/>
              <a:ext cx="590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,98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8320" y="4149720"/>
              <a:ext cx="6026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7"/>
            <a:stretch/>
          </p:blipFill>
          <p:spPr>
            <a:xfrm>
              <a:off x="552960" y="3970440"/>
              <a:ext cx="336960" cy="1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8"/>
            <a:stretch/>
          </p:blipFill>
          <p:spPr>
            <a:xfrm>
              <a:off x="552960" y="3568680"/>
              <a:ext cx="3398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6107040" y="1508040"/>
            <a:ext cx="236556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25960" y="1316160"/>
            <a:ext cx="276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все врем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26960" y="1523880"/>
          <a:ext cx="2805120" cy="1719360"/>
        </p:xfrm>
        <a:graphic>
          <a:graphicData uri="http://schemas.openxmlformats.org/drawingml/2006/table">
            <a:tbl>
              <a:tblPr/>
              <a:tblGrid>
                <a:gridCol w="445320"/>
                <a:gridCol w="758520"/>
                <a:gridCol w="181800"/>
                <a:gridCol w="953640"/>
                <a:gridCol w="465840"/>
              </a:tblGrid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Объем привлеченных ср-в (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S$</a:t>
                      </a: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млн.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,2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27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,06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198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19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03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,63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JP Mor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,50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4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Nom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1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иа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387600" y="1531800"/>
          <a:ext cx="2565360" cy="1743120"/>
        </p:xfrm>
        <a:graphic>
          <a:graphicData uri="http://schemas.openxmlformats.org/drawingml/2006/table">
            <a:tbl>
              <a:tblPr/>
              <a:tblGrid>
                <a:gridCol w="521280"/>
                <a:gridCol w="833760"/>
                <a:gridCol w="612360"/>
                <a:gridCol w="597960"/>
              </a:tblGrid>
              <a:tr h="223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л-во сдело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иа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JP Mor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Nom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168960" y="1536840"/>
          <a:ext cx="2320920" cy="1774800"/>
        </p:xfrm>
        <a:graphic>
          <a:graphicData uri="http://schemas.openxmlformats.org/drawingml/2006/table">
            <a:tbl>
              <a:tblPr/>
              <a:tblGrid>
                <a:gridCol w="436320"/>
                <a:gridCol w="822240"/>
                <a:gridCol w="487800"/>
                <a:gridCol w="574560"/>
              </a:tblGrid>
              <a:tr h="209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л-во сдело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1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8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аи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errill Lyn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2787480" y="1314360"/>
            <a:ext cx="378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2007 г. (по кол-в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1498680"/>
            <a:ext cx="260676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9680" y="4427640"/>
            <a:ext cx="637920" cy="931680"/>
            <a:chOff x="409680" y="4427640"/>
            <a:chExt cx="637920" cy="931680"/>
          </a:xfrm>
        </p:grpSpPr>
        <p:sp>
          <p:nvSpPr>
            <p:cNvPr id="410" name=""/>
            <p:cNvSpPr/>
            <p:nvPr/>
          </p:nvSpPr>
          <p:spPr>
            <a:xfrm>
              <a:off x="409680" y="44276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080" y="444960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9680" y="484200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1720" y="4452840"/>
              <a:ext cx="335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Июнь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9680" y="518004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9"/>
            <a:stretch/>
          </p:blipFill>
          <p:spPr>
            <a:xfrm>
              <a:off x="569880" y="5013360"/>
              <a:ext cx="325440" cy="1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0"/>
            <a:srcRect l="15556" t="52152" r="16953" b="-2642"/>
            <a:stretch/>
          </p:blipFill>
          <p:spPr>
            <a:xfrm>
              <a:off x="571680" y="4568760"/>
              <a:ext cx="30924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409680" y="5450040"/>
            <a:ext cx="637200" cy="931680"/>
            <a:chOff x="409680" y="5450040"/>
            <a:chExt cx="637200" cy="931680"/>
          </a:xfrm>
        </p:grpSpPr>
        <p:sp>
          <p:nvSpPr>
            <p:cNvPr id="418" name=""/>
            <p:cNvSpPr/>
            <p:nvPr/>
          </p:nvSpPr>
          <p:spPr>
            <a:xfrm>
              <a:off x="409680" y="54500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080" y="547200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9680" y="588960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/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36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9960" y="5475240"/>
              <a:ext cx="28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9680" y="620244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1"/>
            <a:stretch/>
          </p:blipFill>
          <p:spPr>
            <a:xfrm>
              <a:off x="569880" y="6054840"/>
              <a:ext cx="325440" cy="1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4" name=""/>
            <p:cNvGrpSpPr/>
            <p:nvPr/>
          </p:nvGrpSpPr>
          <p:grpSpPr>
            <a:xfrm>
              <a:off x="620640" y="5635800"/>
              <a:ext cx="220680" cy="226800"/>
              <a:chOff x="620640" y="5635800"/>
              <a:chExt cx="220680" cy="226800"/>
            </a:xfrm>
          </p:grpSpPr>
          <p:sp>
            <p:nvSpPr>
              <p:cNvPr id="425" name=""/>
              <p:cNvSpPr/>
              <p:nvPr/>
            </p:nvSpPr>
            <p:spPr>
              <a:xfrm>
                <a:off x="620640" y="5635800"/>
                <a:ext cx="220680" cy="226800"/>
              </a:xfrm>
              <a:custGeom>
                <a:avLst/>
                <a:gdLst/>
                <a:ahLst/>
                <a:rect l="l" t="t" r="r" b="b"/>
                <a:pathLst>
                  <a:path w="16137" h="16137">
                    <a:moveTo>
                      <a:pt x="0" y="0"/>
                    </a:moveTo>
                    <a:lnTo>
                      <a:pt x="16137" y="0"/>
                    </a:lnTo>
                    <a:lnTo>
                      <a:pt x="16137" y="14618"/>
                    </a:lnTo>
                    <a:lnTo>
                      <a:pt x="16136" y="14716"/>
                    </a:lnTo>
                    <a:lnTo>
                      <a:pt x="16134" y="14810"/>
                    </a:lnTo>
                    <a:lnTo>
                      <a:pt x="16129" y="14901"/>
                    </a:lnTo>
                    <a:lnTo>
                      <a:pt x="16123" y="14988"/>
                    </a:lnTo>
                    <a:lnTo>
                      <a:pt x="16115" y="15072"/>
                    </a:lnTo>
                    <a:lnTo>
                      <a:pt x="16104" y="15153"/>
                    </a:lnTo>
                    <a:lnTo>
                      <a:pt x="16091" y="15230"/>
                    </a:lnTo>
                    <a:lnTo>
                      <a:pt x="16075" y="15304"/>
                    </a:lnTo>
                    <a:lnTo>
                      <a:pt x="16057" y="15375"/>
                    </a:lnTo>
                    <a:lnTo>
                      <a:pt x="16036" y="15441"/>
                    </a:lnTo>
                    <a:lnTo>
                      <a:pt x="16013" y="15506"/>
                    </a:lnTo>
                    <a:lnTo>
                      <a:pt x="15986" y="15566"/>
                    </a:lnTo>
                    <a:lnTo>
                      <a:pt x="15956" y="15624"/>
                    </a:lnTo>
                    <a:lnTo>
                      <a:pt x="15923" y="15677"/>
                    </a:lnTo>
                    <a:lnTo>
                      <a:pt x="15887" y="15729"/>
                    </a:lnTo>
                    <a:lnTo>
                      <a:pt x="15847" y="15776"/>
                    </a:lnTo>
                    <a:lnTo>
                      <a:pt x="15802" y="15821"/>
                    </a:lnTo>
                    <a:lnTo>
                      <a:pt x="15755" y="15863"/>
                    </a:lnTo>
                    <a:lnTo>
                      <a:pt x="15703" y="15901"/>
                    </a:lnTo>
                    <a:lnTo>
                      <a:pt x="15648" y="15937"/>
                    </a:lnTo>
                    <a:lnTo>
                      <a:pt x="15588" y="15970"/>
                    </a:lnTo>
                    <a:lnTo>
                      <a:pt x="15524" y="15999"/>
                    </a:lnTo>
                    <a:lnTo>
                      <a:pt x="15456" y="16026"/>
                    </a:lnTo>
                    <a:lnTo>
                      <a:pt x="15383" y="16049"/>
                    </a:lnTo>
                    <a:lnTo>
                      <a:pt x="15305" y="16070"/>
                    </a:lnTo>
                    <a:lnTo>
                      <a:pt x="15222" y="16088"/>
                    </a:lnTo>
                    <a:lnTo>
                      <a:pt x="15134" y="16103"/>
                    </a:lnTo>
                    <a:lnTo>
                      <a:pt x="15042" y="16116"/>
                    </a:lnTo>
                    <a:lnTo>
                      <a:pt x="14944" y="16125"/>
                    </a:lnTo>
                    <a:lnTo>
                      <a:pt x="14841" y="16132"/>
                    </a:lnTo>
                    <a:lnTo>
                      <a:pt x="14732" y="16136"/>
                    </a:lnTo>
                    <a:lnTo>
                      <a:pt x="14618" y="16137"/>
                    </a:lnTo>
                    <a:lnTo>
                      <a:pt x="1467" y="16137"/>
                    </a:lnTo>
                    <a:lnTo>
                      <a:pt x="1378" y="16136"/>
                    </a:lnTo>
                    <a:lnTo>
                      <a:pt x="1291" y="16133"/>
                    </a:lnTo>
                    <a:lnTo>
                      <a:pt x="1207" y="16127"/>
                    </a:lnTo>
                    <a:lnTo>
                      <a:pt x="1126" y="16120"/>
                    </a:lnTo>
                    <a:lnTo>
                      <a:pt x="1047" y="16110"/>
                    </a:lnTo>
                    <a:lnTo>
                      <a:pt x="972" y="16097"/>
                    </a:lnTo>
                    <a:lnTo>
                      <a:pt x="899" y="16083"/>
                    </a:lnTo>
                    <a:lnTo>
                      <a:pt x="829" y="16064"/>
                    </a:lnTo>
                    <a:lnTo>
                      <a:pt x="761" y="16044"/>
                    </a:lnTo>
                    <a:lnTo>
                      <a:pt x="697" y="16021"/>
                    </a:lnTo>
                    <a:lnTo>
                      <a:pt x="635" y="15996"/>
                    </a:lnTo>
                    <a:lnTo>
                      <a:pt x="577" y="15967"/>
                    </a:lnTo>
                    <a:lnTo>
                      <a:pt x="521" y="15935"/>
                    </a:lnTo>
                    <a:lnTo>
                      <a:pt x="468" y="15900"/>
                    </a:lnTo>
                    <a:lnTo>
                      <a:pt x="418" y="15863"/>
                    </a:lnTo>
                    <a:lnTo>
                      <a:pt x="370" y="15821"/>
                    </a:lnTo>
                    <a:lnTo>
                      <a:pt x="326" y="15777"/>
                    </a:lnTo>
                    <a:lnTo>
                      <a:pt x="283" y="15730"/>
                    </a:lnTo>
                    <a:lnTo>
                      <a:pt x="245" y="15678"/>
                    </a:lnTo>
                    <a:lnTo>
                      <a:pt x="209" y="15624"/>
                    </a:lnTo>
                    <a:lnTo>
                      <a:pt x="175" y="15566"/>
                    </a:lnTo>
                    <a:lnTo>
                      <a:pt x="145" y="15504"/>
                    </a:lnTo>
                    <a:lnTo>
                      <a:pt x="118" y="15438"/>
                    </a:lnTo>
                    <a:lnTo>
                      <a:pt x="93" y="15369"/>
                    </a:lnTo>
                    <a:lnTo>
                      <a:pt x="72" y="15296"/>
                    </a:lnTo>
                    <a:lnTo>
                      <a:pt x="52" y="15219"/>
                    </a:lnTo>
                    <a:lnTo>
                      <a:pt x="36" y="15139"/>
                    </a:lnTo>
                    <a:lnTo>
                      <a:pt x="23" y="15053"/>
                    </a:lnTo>
                    <a:lnTo>
                      <a:pt x="13" y="14964"/>
                    </a:lnTo>
                    <a:lnTo>
                      <a:pt x="6" y="14870"/>
                    </a:lnTo>
                    <a:lnTo>
                      <a:pt x="1" y="14772"/>
                    </a:lnTo>
                    <a:lnTo>
                      <a:pt x="0" y="146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400" y="5642280"/>
                <a:ext cx="209880" cy="213840"/>
              </a:xfrm>
              <a:custGeom>
                <a:avLst/>
                <a:gdLst/>
                <a:ahLst/>
                <a:rect l="l" t="t" r="r" b="b"/>
                <a:pathLst>
                  <a:path w="15350" h="15193">
                    <a:moveTo>
                      <a:pt x="730" y="0"/>
                    </a:moveTo>
                    <a:lnTo>
                      <a:pt x="14619" y="0"/>
                    </a:lnTo>
                    <a:lnTo>
                      <a:pt x="14657" y="1"/>
                    </a:lnTo>
                    <a:lnTo>
                      <a:pt x="14693" y="3"/>
                    </a:lnTo>
                    <a:lnTo>
                      <a:pt x="14730" y="8"/>
                    </a:lnTo>
                    <a:lnTo>
                      <a:pt x="14766" y="14"/>
                    </a:lnTo>
                    <a:lnTo>
                      <a:pt x="14801" y="23"/>
                    </a:lnTo>
                    <a:lnTo>
                      <a:pt x="14836" y="32"/>
                    </a:lnTo>
                    <a:lnTo>
                      <a:pt x="14870" y="44"/>
                    </a:lnTo>
                    <a:lnTo>
                      <a:pt x="14903" y="57"/>
                    </a:lnTo>
                    <a:lnTo>
                      <a:pt x="14935" y="73"/>
                    </a:lnTo>
                    <a:lnTo>
                      <a:pt x="14967" y="89"/>
                    </a:lnTo>
                    <a:lnTo>
                      <a:pt x="14998" y="106"/>
                    </a:lnTo>
                    <a:lnTo>
                      <a:pt x="15027" y="125"/>
                    </a:lnTo>
                    <a:lnTo>
                      <a:pt x="15055" y="146"/>
                    </a:lnTo>
                    <a:lnTo>
                      <a:pt x="15084" y="167"/>
                    </a:lnTo>
                    <a:lnTo>
                      <a:pt x="15110" y="191"/>
                    </a:lnTo>
                    <a:lnTo>
                      <a:pt x="15135" y="215"/>
                    </a:lnTo>
                    <a:lnTo>
                      <a:pt x="15159" y="241"/>
                    </a:lnTo>
                    <a:lnTo>
                      <a:pt x="15182" y="267"/>
                    </a:lnTo>
                    <a:lnTo>
                      <a:pt x="15205" y="295"/>
                    </a:lnTo>
                    <a:lnTo>
                      <a:pt x="15225" y="324"/>
                    </a:lnTo>
                    <a:lnTo>
                      <a:pt x="15244" y="354"/>
                    </a:lnTo>
                    <a:lnTo>
                      <a:pt x="15261" y="384"/>
                    </a:lnTo>
                    <a:lnTo>
                      <a:pt x="15278" y="416"/>
                    </a:lnTo>
                    <a:lnTo>
                      <a:pt x="15292" y="448"/>
                    </a:lnTo>
                    <a:lnTo>
                      <a:pt x="15306" y="481"/>
                    </a:lnTo>
                    <a:lnTo>
                      <a:pt x="15318" y="515"/>
                    </a:lnTo>
                    <a:lnTo>
                      <a:pt x="15327" y="551"/>
                    </a:lnTo>
                    <a:lnTo>
                      <a:pt x="15336" y="586"/>
                    </a:lnTo>
                    <a:lnTo>
                      <a:pt x="15342" y="621"/>
                    </a:lnTo>
                    <a:lnTo>
                      <a:pt x="15347" y="659"/>
                    </a:lnTo>
                    <a:lnTo>
                      <a:pt x="15349" y="696"/>
                    </a:lnTo>
                    <a:lnTo>
                      <a:pt x="15350" y="733"/>
                    </a:lnTo>
                    <a:lnTo>
                      <a:pt x="15350" y="14460"/>
                    </a:lnTo>
                    <a:lnTo>
                      <a:pt x="15349" y="14498"/>
                    </a:lnTo>
                    <a:lnTo>
                      <a:pt x="15347" y="14534"/>
                    </a:lnTo>
                    <a:lnTo>
                      <a:pt x="15342" y="14572"/>
                    </a:lnTo>
                    <a:lnTo>
                      <a:pt x="15336" y="14607"/>
                    </a:lnTo>
                    <a:lnTo>
                      <a:pt x="15327" y="14643"/>
                    </a:lnTo>
                    <a:lnTo>
                      <a:pt x="15318" y="14678"/>
                    </a:lnTo>
                    <a:lnTo>
                      <a:pt x="15306" y="14712"/>
                    </a:lnTo>
                    <a:lnTo>
                      <a:pt x="15292" y="14745"/>
                    </a:lnTo>
                    <a:lnTo>
                      <a:pt x="15278" y="14777"/>
                    </a:lnTo>
                    <a:lnTo>
                      <a:pt x="15261" y="14809"/>
                    </a:lnTo>
                    <a:lnTo>
                      <a:pt x="15244" y="14840"/>
                    </a:lnTo>
                    <a:lnTo>
                      <a:pt x="15225" y="14869"/>
                    </a:lnTo>
                    <a:lnTo>
                      <a:pt x="15205" y="14898"/>
                    </a:lnTo>
                    <a:lnTo>
                      <a:pt x="15182" y="14926"/>
                    </a:lnTo>
                    <a:lnTo>
                      <a:pt x="15159" y="14953"/>
                    </a:lnTo>
                    <a:lnTo>
                      <a:pt x="15135" y="14978"/>
                    </a:lnTo>
                    <a:lnTo>
                      <a:pt x="15110" y="15002"/>
                    </a:lnTo>
                    <a:lnTo>
                      <a:pt x="15084" y="15026"/>
                    </a:lnTo>
                    <a:lnTo>
                      <a:pt x="15055" y="15048"/>
                    </a:lnTo>
                    <a:lnTo>
                      <a:pt x="15027" y="15068"/>
                    </a:lnTo>
                    <a:lnTo>
                      <a:pt x="14998" y="15087"/>
                    </a:lnTo>
                    <a:lnTo>
                      <a:pt x="14967" y="15104"/>
                    </a:lnTo>
                    <a:lnTo>
                      <a:pt x="14935" y="15121"/>
                    </a:lnTo>
                    <a:lnTo>
                      <a:pt x="14903" y="15136"/>
                    </a:lnTo>
                    <a:lnTo>
                      <a:pt x="14870" y="15149"/>
                    </a:lnTo>
                    <a:lnTo>
                      <a:pt x="14836" y="15161"/>
                    </a:lnTo>
                    <a:lnTo>
                      <a:pt x="14801" y="15171"/>
                    </a:lnTo>
                    <a:lnTo>
                      <a:pt x="14766" y="15179"/>
                    </a:lnTo>
                    <a:lnTo>
                      <a:pt x="14730" y="15185"/>
                    </a:lnTo>
                    <a:lnTo>
                      <a:pt x="14693" y="15190"/>
                    </a:lnTo>
                    <a:lnTo>
                      <a:pt x="14657" y="15193"/>
                    </a:lnTo>
                    <a:lnTo>
                      <a:pt x="14619" y="15193"/>
                    </a:lnTo>
                    <a:lnTo>
                      <a:pt x="730" y="15193"/>
                    </a:lnTo>
                    <a:lnTo>
                      <a:pt x="692" y="15193"/>
                    </a:lnTo>
                    <a:lnTo>
                      <a:pt x="656" y="15190"/>
                    </a:lnTo>
                    <a:lnTo>
                      <a:pt x="619" y="15185"/>
                    </a:lnTo>
                    <a:lnTo>
                      <a:pt x="584" y="15179"/>
                    </a:lnTo>
                    <a:lnTo>
                      <a:pt x="548" y="15171"/>
                    </a:lnTo>
                    <a:lnTo>
                      <a:pt x="513" y="15161"/>
                    </a:lnTo>
                    <a:lnTo>
                      <a:pt x="480" y="15149"/>
                    </a:lnTo>
                    <a:lnTo>
                      <a:pt x="446" y="15136"/>
                    </a:lnTo>
                    <a:lnTo>
                      <a:pt x="414" y="15121"/>
                    </a:lnTo>
                    <a:lnTo>
                      <a:pt x="383" y="15104"/>
                    </a:lnTo>
                    <a:lnTo>
                      <a:pt x="352" y="15087"/>
                    </a:lnTo>
                    <a:lnTo>
                      <a:pt x="322" y="15068"/>
                    </a:lnTo>
                    <a:lnTo>
                      <a:pt x="293" y="15048"/>
                    </a:lnTo>
                    <a:lnTo>
                      <a:pt x="266" y="15026"/>
                    </a:lnTo>
                    <a:lnTo>
                      <a:pt x="240" y="15002"/>
                    </a:lnTo>
                    <a:lnTo>
                      <a:pt x="214" y="14978"/>
                    </a:lnTo>
                    <a:lnTo>
                      <a:pt x="189" y="14953"/>
                    </a:lnTo>
                    <a:lnTo>
                      <a:pt x="167" y="14926"/>
                    </a:lnTo>
                    <a:lnTo>
                      <a:pt x="145" y="14898"/>
                    </a:lnTo>
                    <a:lnTo>
                      <a:pt x="125" y="14869"/>
                    </a:lnTo>
                    <a:lnTo>
                      <a:pt x="105" y="14840"/>
                    </a:lnTo>
                    <a:lnTo>
                      <a:pt x="87" y="14809"/>
                    </a:lnTo>
                    <a:lnTo>
                      <a:pt x="71" y="14777"/>
                    </a:lnTo>
                    <a:lnTo>
                      <a:pt x="57" y="14745"/>
                    </a:lnTo>
                    <a:lnTo>
                      <a:pt x="44" y="14712"/>
                    </a:lnTo>
                    <a:lnTo>
                      <a:pt x="32" y="14678"/>
                    </a:lnTo>
                    <a:lnTo>
                      <a:pt x="22" y="14643"/>
                    </a:lnTo>
                    <a:lnTo>
                      <a:pt x="14" y="14607"/>
                    </a:lnTo>
                    <a:lnTo>
                      <a:pt x="8" y="14572"/>
                    </a:lnTo>
                    <a:lnTo>
                      <a:pt x="3" y="14534"/>
                    </a:lnTo>
                    <a:lnTo>
                      <a:pt x="1" y="14498"/>
                    </a:lnTo>
                    <a:lnTo>
                      <a:pt x="0" y="14460"/>
                    </a:lnTo>
                    <a:lnTo>
                      <a:pt x="0" y="733"/>
                    </a:lnTo>
                    <a:lnTo>
                      <a:pt x="1" y="696"/>
                    </a:lnTo>
                    <a:lnTo>
                      <a:pt x="3" y="659"/>
                    </a:lnTo>
                    <a:lnTo>
                      <a:pt x="8" y="621"/>
                    </a:lnTo>
                    <a:lnTo>
                      <a:pt x="14" y="586"/>
                    </a:lnTo>
                    <a:lnTo>
                      <a:pt x="22" y="551"/>
                    </a:lnTo>
                    <a:lnTo>
                      <a:pt x="32" y="515"/>
                    </a:lnTo>
                    <a:lnTo>
                      <a:pt x="44" y="481"/>
                    </a:lnTo>
                    <a:lnTo>
                      <a:pt x="57" y="448"/>
                    </a:lnTo>
                    <a:lnTo>
                      <a:pt x="71" y="416"/>
                    </a:lnTo>
                    <a:lnTo>
                      <a:pt x="87" y="384"/>
                    </a:lnTo>
                    <a:lnTo>
                      <a:pt x="105" y="354"/>
                    </a:lnTo>
                    <a:lnTo>
                      <a:pt x="125" y="324"/>
                    </a:lnTo>
                    <a:lnTo>
                      <a:pt x="145" y="295"/>
                    </a:lnTo>
                    <a:lnTo>
                      <a:pt x="167" y="267"/>
                    </a:lnTo>
                    <a:lnTo>
                      <a:pt x="189" y="241"/>
                    </a:lnTo>
                    <a:lnTo>
                      <a:pt x="214" y="215"/>
                    </a:lnTo>
                    <a:lnTo>
                      <a:pt x="240" y="191"/>
                    </a:lnTo>
                    <a:lnTo>
                      <a:pt x="266" y="167"/>
                    </a:lnTo>
                    <a:lnTo>
                      <a:pt x="293" y="146"/>
                    </a:lnTo>
                    <a:lnTo>
                      <a:pt x="322" y="125"/>
                    </a:lnTo>
                    <a:lnTo>
                      <a:pt x="352" y="106"/>
                    </a:lnTo>
                    <a:lnTo>
                      <a:pt x="383" y="89"/>
                    </a:lnTo>
                    <a:lnTo>
                      <a:pt x="414" y="73"/>
                    </a:lnTo>
                    <a:lnTo>
                      <a:pt x="446" y="57"/>
                    </a:lnTo>
                    <a:lnTo>
                      <a:pt x="480" y="44"/>
                    </a:lnTo>
                    <a:lnTo>
                      <a:pt x="513" y="32"/>
                    </a:lnTo>
                    <a:lnTo>
                      <a:pt x="548" y="23"/>
                    </a:lnTo>
                    <a:lnTo>
                      <a:pt x="584" y="14"/>
                    </a:lnTo>
                    <a:lnTo>
                      <a:pt x="619" y="8"/>
                    </a:lnTo>
                    <a:lnTo>
                      <a:pt x="656" y="3"/>
                    </a:lnTo>
                    <a:lnTo>
                      <a:pt x="692" y="1"/>
                    </a:lnTo>
                    <a:lnTo>
                      <a:pt x="730" y="0"/>
                    </a:lnTo>
                    <a:close/>
                  </a:path>
                </a:pathLst>
              </a:custGeom>
              <a:solidFill>
                <a:srgbClr val="fce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7200" y="5655600"/>
                <a:ext cx="186840" cy="188280"/>
              </a:xfrm>
              <a:custGeom>
                <a:avLst/>
                <a:gdLst/>
                <a:ahLst/>
                <a:rect l="l" t="t" r="r" b="b"/>
                <a:pathLst>
                  <a:path w="13674" h="13412">
                    <a:moveTo>
                      <a:pt x="6837" y="0"/>
                    </a:moveTo>
                    <a:lnTo>
                      <a:pt x="7189" y="8"/>
                    </a:lnTo>
                    <a:lnTo>
                      <a:pt x="7536" y="34"/>
                    </a:lnTo>
                    <a:lnTo>
                      <a:pt x="7878" y="77"/>
                    </a:lnTo>
                    <a:lnTo>
                      <a:pt x="8215" y="136"/>
                    </a:lnTo>
                    <a:lnTo>
                      <a:pt x="8546" y="211"/>
                    </a:lnTo>
                    <a:lnTo>
                      <a:pt x="8871" y="302"/>
                    </a:lnTo>
                    <a:lnTo>
                      <a:pt x="9188" y="406"/>
                    </a:lnTo>
                    <a:lnTo>
                      <a:pt x="9499" y="526"/>
                    </a:lnTo>
                    <a:lnTo>
                      <a:pt x="9801" y="661"/>
                    </a:lnTo>
                    <a:lnTo>
                      <a:pt x="10096" y="809"/>
                    </a:lnTo>
                    <a:lnTo>
                      <a:pt x="10382" y="970"/>
                    </a:lnTo>
                    <a:lnTo>
                      <a:pt x="10660" y="1145"/>
                    </a:lnTo>
                    <a:lnTo>
                      <a:pt x="10928" y="1332"/>
                    </a:lnTo>
                    <a:lnTo>
                      <a:pt x="11186" y="1531"/>
                    </a:lnTo>
                    <a:lnTo>
                      <a:pt x="11434" y="1742"/>
                    </a:lnTo>
                    <a:lnTo>
                      <a:pt x="11671" y="1964"/>
                    </a:lnTo>
                    <a:lnTo>
                      <a:pt x="11898" y="2197"/>
                    </a:lnTo>
                    <a:lnTo>
                      <a:pt x="12113" y="2441"/>
                    </a:lnTo>
                    <a:lnTo>
                      <a:pt x="12316" y="2694"/>
                    </a:lnTo>
                    <a:lnTo>
                      <a:pt x="12506" y="2957"/>
                    </a:lnTo>
                    <a:lnTo>
                      <a:pt x="12685" y="3228"/>
                    </a:lnTo>
                    <a:lnTo>
                      <a:pt x="12849" y="3510"/>
                    </a:lnTo>
                    <a:lnTo>
                      <a:pt x="13001" y="3799"/>
                    </a:lnTo>
                    <a:lnTo>
                      <a:pt x="13137" y="4096"/>
                    </a:lnTo>
                    <a:lnTo>
                      <a:pt x="13260" y="4400"/>
                    </a:lnTo>
                    <a:lnTo>
                      <a:pt x="13367" y="4712"/>
                    </a:lnTo>
                    <a:lnTo>
                      <a:pt x="13459" y="5030"/>
                    </a:lnTo>
                    <a:lnTo>
                      <a:pt x="13535" y="5354"/>
                    </a:lnTo>
                    <a:lnTo>
                      <a:pt x="13596" y="5685"/>
                    </a:lnTo>
                    <a:lnTo>
                      <a:pt x="13639" y="6020"/>
                    </a:lnTo>
                    <a:lnTo>
                      <a:pt x="13665" y="6361"/>
                    </a:lnTo>
                    <a:lnTo>
                      <a:pt x="13674" y="6706"/>
                    </a:lnTo>
                    <a:lnTo>
                      <a:pt x="13665" y="7051"/>
                    </a:lnTo>
                    <a:lnTo>
                      <a:pt x="13639" y="7392"/>
                    </a:lnTo>
                    <a:lnTo>
                      <a:pt x="13596" y="7727"/>
                    </a:lnTo>
                    <a:lnTo>
                      <a:pt x="13535" y="8057"/>
                    </a:lnTo>
                    <a:lnTo>
                      <a:pt x="13459" y="8382"/>
                    </a:lnTo>
                    <a:lnTo>
                      <a:pt x="13367" y="8700"/>
                    </a:lnTo>
                    <a:lnTo>
                      <a:pt x="13260" y="9012"/>
                    </a:lnTo>
                    <a:lnTo>
                      <a:pt x="13137" y="9316"/>
                    </a:lnTo>
                    <a:lnTo>
                      <a:pt x="13001" y="9614"/>
                    </a:lnTo>
                    <a:lnTo>
                      <a:pt x="12849" y="9902"/>
                    </a:lnTo>
                    <a:lnTo>
                      <a:pt x="12685" y="10183"/>
                    </a:lnTo>
                    <a:lnTo>
                      <a:pt x="12506" y="10455"/>
                    </a:lnTo>
                    <a:lnTo>
                      <a:pt x="12316" y="10718"/>
                    </a:lnTo>
                    <a:lnTo>
                      <a:pt x="12113" y="10971"/>
                    </a:lnTo>
                    <a:lnTo>
                      <a:pt x="11898" y="11215"/>
                    </a:lnTo>
                    <a:lnTo>
                      <a:pt x="11671" y="11448"/>
                    </a:lnTo>
                    <a:lnTo>
                      <a:pt x="11434" y="11670"/>
                    </a:lnTo>
                    <a:lnTo>
                      <a:pt x="11186" y="11881"/>
                    </a:lnTo>
                    <a:lnTo>
                      <a:pt x="10928" y="12080"/>
                    </a:lnTo>
                    <a:lnTo>
                      <a:pt x="10660" y="12267"/>
                    </a:lnTo>
                    <a:lnTo>
                      <a:pt x="10382" y="12442"/>
                    </a:lnTo>
                    <a:lnTo>
                      <a:pt x="10096" y="12603"/>
                    </a:lnTo>
                    <a:lnTo>
                      <a:pt x="9801" y="12751"/>
                    </a:lnTo>
                    <a:lnTo>
                      <a:pt x="9499" y="12885"/>
                    </a:lnTo>
                    <a:lnTo>
                      <a:pt x="9188" y="13005"/>
                    </a:lnTo>
                    <a:lnTo>
                      <a:pt x="8871" y="13110"/>
                    </a:lnTo>
                    <a:lnTo>
                      <a:pt x="8546" y="13201"/>
                    </a:lnTo>
                    <a:lnTo>
                      <a:pt x="8215" y="13276"/>
                    </a:lnTo>
                    <a:lnTo>
                      <a:pt x="7878" y="13335"/>
                    </a:lnTo>
                    <a:lnTo>
                      <a:pt x="7536" y="13378"/>
                    </a:lnTo>
                    <a:lnTo>
                      <a:pt x="7189" y="13404"/>
                    </a:lnTo>
                    <a:lnTo>
                      <a:pt x="6837" y="13412"/>
                    </a:lnTo>
                    <a:lnTo>
                      <a:pt x="6485" y="13404"/>
                    </a:lnTo>
                    <a:lnTo>
                      <a:pt x="6138" y="13378"/>
                    </a:lnTo>
                    <a:lnTo>
                      <a:pt x="5796" y="13335"/>
                    </a:lnTo>
                    <a:lnTo>
                      <a:pt x="5460" y="13276"/>
                    </a:lnTo>
                    <a:lnTo>
                      <a:pt x="5129" y="13201"/>
                    </a:lnTo>
                    <a:lnTo>
                      <a:pt x="4804" y="13110"/>
                    </a:lnTo>
                    <a:lnTo>
                      <a:pt x="4486" y="13005"/>
                    </a:lnTo>
                    <a:lnTo>
                      <a:pt x="4176" y="12885"/>
                    </a:lnTo>
                    <a:lnTo>
                      <a:pt x="3873" y="12751"/>
                    </a:lnTo>
                    <a:lnTo>
                      <a:pt x="3579" y="12603"/>
                    </a:lnTo>
                    <a:lnTo>
                      <a:pt x="3292" y="12442"/>
                    </a:lnTo>
                    <a:lnTo>
                      <a:pt x="3015" y="12267"/>
                    </a:lnTo>
                    <a:lnTo>
                      <a:pt x="2747" y="12080"/>
                    </a:lnTo>
                    <a:lnTo>
                      <a:pt x="2488" y="11881"/>
                    </a:lnTo>
                    <a:lnTo>
                      <a:pt x="2240" y="11670"/>
                    </a:lnTo>
                    <a:lnTo>
                      <a:pt x="2003" y="11448"/>
                    </a:lnTo>
                    <a:lnTo>
                      <a:pt x="1776" y="11215"/>
                    </a:lnTo>
                    <a:lnTo>
                      <a:pt x="1561" y="10971"/>
                    </a:lnTo>
                    <a:lnTo>
                      <a:pt x="1359" y="10718"/>
                    </a:lnTo>
                    <a:lnTo>
                      <a:pt x="1168" y="10455"/>
                    </a:lnTo>
                    <a:lnTo>
                      <a:pt x="990" y="10183"/>
                    </a:lnTo>
                    <a:lnTo>
                      <a:pt x="825" y="9902"/>
                    </a:lnTo>
                    <a:lnTo>
                      <a:pt x="674" y="9614"/>
                    </a:lnTo>
                    <a:lnTo>
                      <a:pt x="538" y="9316"/>
                    </a:lnTo>
                    <a:lnTo>
                      <a:pt x="415" y="9012"/>
                    </a:lnTo>
                    <a:lnTo>
                      <a:pt x="308" y="8700"/>
                    </a:lnTo>
                    <a:lnTo>
                      <a:pt x="215" y="8382"/>
                    </a:lnTo>
                    <a:lnTo>
                      <a:pt x="139" y="8057"/>
                    </a:lnTo>
                    <a:lnTo>
                      <a:pt x="79" y="7727"/>
                    </a:lnTo>
                    <a:lnTo>
                      <a:pt x="36" y="7392"/>
                    </a:lnTo>
                    <a:lnTo>
                      <a:pt x="9" y="7051"/>
                    </a:lnTo>
                    <a:lnTo>
                      <a:pt x="0" y="6706"/>
                    </a:lnTo>
                    <a:lnTo>
                      <a:pt x="9" y="6361"/>
                    </a:lnTo>
                    <a:lnTo>
                      <a:pt x="36" y="6020"/>
                    </a:lnTo>
                    <a:lnTo>
                      <a:pt x="79" y="5685"/>
                    </a:lnTo>
                    <a:lnTo>
                      <a:pt x="139" y="5354"/>
                    </a:lnTo>
                    <a:lnTo>
                      <a:pt x="215" y="5030"/>
                    </a:lnTo>
                    <a:lnTo>
                      <a:pt x="308" y="4712"/>
                    </a:lnTo>
                    <a:lnTo>
                      <a:pt x="415" y="4400"/>
                    </a:lnTo>
                    <a:lnTo>
                      <a:pt x="538" y="4096"/>
                    </a:lnTo>
                    <a:lnTo>
                      <a:pt x="674" y="3799"/>
                    </a:lnTo>
                    <a:lnTo>
                      <a:pt x="825" y="3510"/>
                    </a:lnTo>
                    <a:lnTo>
                      <a:pt x="990" y="3228"/>
                    </a:lnTo>
                    <a:lnTo>
                      <a:pt x="1168" y="2957"/>
                    </a:lnTo>
                    <a:lnTo>
                      <a:pt x="1359" y="2694"/>
                    </a:lnTo>
                    <a:lnTo>
                      <a:pt x="1561" y="2441"/>
                    </a:lnTo>
                    <a:lnTo>
                      <a:pt x="1776" y="2197"/>
                    </a:lnTo>
                    <a:lnTo>
                      <a:pt x="2003" y="1964"/>
                    </a:lnTo>
                    <a:lnTo>
                      <a:pt x="2240" y="1742"/>
                    </a:lnTo>
                    <a:lnTo>
                      <a:pt x="2488" y="1531"/>
                    </a:lnTo>
                    <a:lnTo>
                      <a:pt x="2747" y="1332"/>
                    </a:lnTo>
                    <a:lnTo>
                      <a:pt x="3015" y="1145"/>
                    </a:lnTo>
                    <a:lnTo>
                      <a:pt x="3292" y="970"/>
                    </a:lnTo>
                    <a:lnTo>
                      <a:pt x="3579" y="809"/>
                    </a:lnTo>
                    <a:lnTo>
                      <a:pt x="3873" y="661"/>
                    </a:lnTo>
                    <a:lnTo>
                      <a:pt x="4176" y="526"/>
                    </a:lnTo>
                    <a:lnTo>
                      <a:pt x="4486" y="406"/>
                    </a:lnTo>
                    <a:lnTo>
                      <a:pt x="4804" y="302"/>
                    </a:lnTo>
                    <a:lnTo>
                      <a:pt x="5129" y="211"/>
                    </a:lnTo>
                    <a:lnTo>
                      <a:pt x="5460" y="136"/>
                    </a:lnTo>
                    <a:lnTo>
                      <a:pt x="5796" y="77"/>
                    </a:lnTo>
                    <a:lnTo>
                      <a:pt x="6138" y="34"/>
                    </a:lnTo>
                    <a:lnTo>
                      <a:pt x="6485" y="8"/>
                    </a:lnTo>
                    <a:lnTo>
                      <a:pt x="6837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2600" y="5659560"/>
                <a:ext cx="175680" cy="178560"/>
              </a:xfrm>
              <a:custGeom>
                <a:avLst/>
                <a:gdLst/>
                <a:ahLst/>
                <a:rect l="l" t="t" r="r" b="b"/>
                <a:pathLst>
                  <a:path w="12837" h="12679">
                    <a:moveTo>
                      <a:pt x="6418" y="0"/>
                    </a:moveTo>
                    <a:lnTo>
                      <a:pt x="6748" y="9"/>
                    </a:lnTo>
                    <a:lnTo>
                      <a:pt x="7075" y="33"/>
                    </a:lnTo>
                    <a:lnTo>
                      <a:pt x="7396" y="73"/>
                    </a:lnTo>
                    <a:lnTo>
                      <a:pt x="7711" y="129"/>
                    </a:lnTo>
                    <a:lnTo>
                      <a:pt x="8022" y="199"/>
                    </a:lnTo>
                    <a:lnTo>
                      <a:pt x="8326" y="285"/>
                    </a:lnTo>
                    <a:lnTo>
                      <a:pt x="8625" y="385"/>
                    </a:lnTo>
                    <a:lnTo>
                      <a:pt x="8916" y="498"/>
                    </a:lnTo>
                    <a:lnTo>
                      <a:pt x="9201" y="625"/>
                    </a:lnTo>
                    <a:lnTo>
                      <a:pt x="9477" y="765"/>
                    </a:lnTo>
                    <a:lnTo>
                      <a:pt x="9746" y="918"/>
                    </a:lnTo>
                    <a:lnTo>
                      <a:pt x="10007" y="1083"/>
                    </a:lnTo>
                    <a:lnTo>
                      <a:pt x="10258" y="1259"/>
                    </a:lnTo>
                    <a:lnTo>
                      <a:pt x="10501" y="1448"/>
                    </a:lnTo>
                    <a:lnTo>
                      <a:pt x="10733" y="1647"/>
                    </a:lnTo>
                    <a:lnTo>
                      <a:pt x="10957" y="1857"/>
                    </a:lnTo>
                    <a:lnTo>
                      <a:pt x="11169" y="2077"/>
                    </a:lnTo>
                    <a:lnTo>
                      <a:pt x="11370" y="2307"/>
                    </a:lnTo>
                    <a:lnTo>
                      <a:pt x="11561" y="2547"/>
                    </a:lnTo>
                    <a:lnTo>
                      <a:pt x="11740" y="2795"/>
                    </a:lnTo>
                    <a:lnTo>
                      <a:pt x="11907" y="3053"/>
                    </a:lnTo>
                    <a:lnTo>
                      <a:pt x="12061" y="3318"/>
                    </a:lnTo>
                    <a:lnTo>
                      <a:pt x="12203" y="3591"/>
                    </a:lnTo>
                    <a:lnTo>
                      <a:pt x="12331" y="3873"/>
                    </a:lnTo>
                    <a:lnTo>
                      <a:pt x="12446" y="4160"/>
                    </a:lnTo>
                    <a:lnTo>
                      <a:pt x="12547" y="4454"/>
                    </a:lnTo>
                    <a:lnTo>
                      <a:pt x="12634" y="4755"/>
                    </a:lnTo>
                    <a:lnTo>
                      <a:pt x="12706" y="5062"/>
                    </a:lnTo>
                    <a:lnTo>
                      <a:pt x="12762" y="5374"/>
                    </a:lnTo>
                    <a:lnTo>
                      <a:pt x="12803" y="5691"/>
                    </a:lnTo>
                    <a:lnTo>
                      <a:pt x="12828" y="6014"/>
                    </a:lnTo>
                    <a:lnTo>
                      <a:pt x="12837" y="6340"/>
                    </a:lnTo>
                    <a:lnTo>
                      <a:pt x="12828" y="6665"/>
                    </a:lnTo>
                    <a:lnTo>
                      <a:pt x="12803" y="6988"/>
                    </a:lnTo>
                    <a:lnTo>
                      <a:pt x="12762" y="7305"/>
                    </a:lnTo>
                    <a:lnTo>
                      <a:pt x="12706" y="7617"/>
                    </a:lnTo>
                    <a:lnTo>
                      <a:pt x="12634" y="7924"/>
                    </a:lnTo>
                    <a:lnTo>
                      <a:pt x="12547" y="8225"/>
                    </a:lnTo>
                    <a:lnTo>
                      <a:pt x="12446" y="8519"/>
                    </a:lnTo>
                    <a:lnTo>
                      <a:pt x="12331" y="8806"/>
                    </a:lnTo>
                    <a:lnTo>
                      <a:pt x="12203" y="9088"/>
                    </a:lnTo>
                    <a:lnTo>
                      <a:pt x="12061" y="9361"/>
                    </a:lnTo>
                    <a:lnTo>
                      <a:pt x="11907" y="9626"/>
                    </a:lnTo>
                    <a:lnTo>
                      <a:pt x="11740" y="9884"/>
                    </a:lnTo>
                    <a:lnTo>
                      <a:pt x="11561" y="10133"/>
                    </a:lnTo>
                    <a:lnTo>
                      <a:pt x="11370" y="10372"/>
                    </a:lnTo>
                    <a:lnTo>
                      <a:pt x="11169" y="10602"/>
                    </a:lnTo>
                    <a:lnTo>
                      <a:pt x="10957" y="10822"/>
                    </a:lnTo>
                    <a:lnTo>
                      <a:pt x="10733" y="11032"/>
                    </a:lnTo>
                    <a:lnTo>
                      <a:pt x="10501" y="11231"/>
                    </a:lnTo>
                    <a:lnTo>
                      <a:pt x="10258" y="11420"/>
                    </a:lnTo>
                    <a:lnTo>
                      <a:pt x="10007" y="11596"/>
                    </a:lnTo>
                    <a:lnTo>
                      <a:pt x="9746" y="11762"/>
                    </a:lnTo>
                    <a:lnTo>
                      <a:pt x="9477" y="11914"/>
                    </a:lnTo>
                    <a:lnTo>
                      <a:pt x="9201" y="12054"/>
                    </a:lnTo>
                    <a:lnTo>
                      <a:pt x="8916" y="12181"/>
                    </a:lnTo>
                    <a:lnTo>
                      <a:pt x="8625" y="12294"/>
                    </a:lnTo>
                    <a:lnTo>
                      <a:pt x="8326" y="12394"/>
                    </a:lnTo>
                    <a:lnTo>
                      <a:pt x="8022" y="12480"/>
                    </a:lnTo>
                    <a:lnTo>
                      <a:pt x="7711" y="12550"/>
                    </a:lnTo>
                    <a:lnTo>
                      <a:pt x="7396" y="12606"/>
                    </a:lnTo>
                    <a:lnTo>
                      <a:pt x="7075" y="12646"/>
                    </a:lnTo>
                    <a:lnTo>
                      <a:pt x="6748" y="12671"/>
                    </a:lnTo>
                    <a:lnTo>
                      <a:pt x="6418" y="12679"/>
                    </a:lnTo>
                    <a:lnTo>
                      <a:pt x="6088" y="12671"/>
                    </a:lnTo>
                    <a:lnTo>
                      <a:pt x="5762" y="12646"/>
                    </a:lnTo>
                    <a:lnTo>
                      <a:pt x="5441" y="12606"/>
                    </a:lnTo>
                    <a:lnTo>
                      <a:pt x="5125" y="12550"/>
                    </a:lnTo>
                    <a:lnTo>
                      <a:pt x="4815" y="12480"/>
                    </a:lnTo>
                    <a:lnTo>
                      <a:pt x="4510" y="12394"/>
                    </a:lnTo>
                    <a:lnTo>
                      <a:pt x="4212" y="12294"/>
                    </a:lnTo>
                    <a:lnTo>
                      <a:pt x="3920" y="12181"/>
                    </a:lnTo>
                    <a:lnTo>
                      <a:pt x="3636" y="12054"/>
                    </a:lnTo>
                    <a:lnTo>
                      <a:pt x="3359" y="11914"/>
                    </a:lnTo>
                    <a:lnTo>
                      <a:pt x="3090" y="11762"/>
                    </a:lnTo>
                    <a:lnTo>
                      <a:pt x="2830" y="11596"/>
                    </a:lnTo>
                    <a:lnTo>
                      <a:pt x="2579" y="11420"/>
                    </a:lnTo>
                    <a:lnTo>
                      <a:pt x="2336" y="11231"/>
                    </a:lnTo>
                    <a:lnTo>
                      <a:pt x="2103" y="11032"/>
                    </a:lnTo>
                    <a:lnTo>
                      <a:pt x="1880" y="10822"/>
                    </a:lnTo>
                    <a:lnTo>
                      <a:pt x="1668" y="10602"/>
                    </a:lnTo>
                    <a:lnTo>
                      <a:pt x="1466" y="10372"/>
                    </a:lnTo>
                    <a:lnTo>
                      <a:pt x="1276" y="10133"/>
                    </a:lnTo>
                    <a:lnTo>
                      <a:pt x="1096" y="9884"/>
                    </a:lnTo>
                    <a:lnTo>
                      <a:pt x="930" y="9626"/>
                    </a:lnTo>
                    <a:lnTo>
                      <a:pt x="775" y="9361"/>
                    </a:lnTo>
                    <a:lnTo>
                      <a:pt x="633" y="9088"/>
                    </a:lnTo>
                    <a:lnTo>
                      <a:pt x="505" y="8806"/>
                    </a:lnTo>
                    <a:lnTo>
                      <a:pt x="390" y="8519"/>
                    </a:lnTo>
                    <a:lnTo>
                      <a:pt x="289" y="8225"/>
                    </a:lnTo>
                    <a:lnTo>
                      <a:pt x="203" y="7924"/>
                    </a:lnTo>
                    <a:lnTo>
                      <a:pt x="131" y="7617"/>
                    </a:lnTo>
                    <a:lnTo>
                      <a:pt x="74" y="7305"/>
                    </a:lnTo>
                    <a:lnTo>
                      <a:pt x="33" y="6988"/>
                    </a:lnTo>
                    <a:lnTo>
                      <a:pt x="9" y="6665"/>
                    </a:lnTo>
                    <a:lnTo>
                      <a:pt x="0" y="6340"/>
                    </a:lnTo>
                    <a:lnTo>
                      <a:pt x="9" y="6014"/>
                    </a:lnTo>
                    <a:lnTo>
                      <a:pt x="33" y="5691"/>
                    </a:lnTo>
                    <a:lnTo>
                      <a:pt x="74" y="5374"/>
                    </a:lnTo>
                    <a:lnTo>
                      <a:pt x="131" y="5062"/>
                    </a:lnTo>
                    <a:lnTo>
                      <a:pt x="203" y="4755"/>
                    </a:lnTo>
                    <a:lnTo>
                      <a:pt x="289" y="4454"/>
                    </a:lnTo>
                    <a:lnTo>
                      <a:pt x="390" y="4160"/>
                    </a:lnTo>
                    <a:lnTo>
                      <a:pt x="505" y="3873"/>
                    </a:lnTo>
                    <a:lnTo>
                      <a:pt x="633" y="3591"/>
                    </a:lnTo>
                    <a:lnTo>
                      <a:pt x="775" y="3318"/>
                    </a:lnTo>
                    <a:lnTo>
                      <a:pt x="930" y="3053"/>
                    </a:lnTo>
                    <a:lnTo>
                      <a:pt x="1096" y="2795"/>
                    </a:lnTo>
                    <a:lnTo>
                      <a:pt x="1276" y="2547"/>
                    </a:lnTo>
                    <a:lnTo>
                      <a:pt x="1466" y="2307"/>
                    </a:lnTo>
                    <a:lnTo>
                      <a:pt x="1668" y="2077"/>
                    </a:lnTo>
                    <a:lnTo>
                      <a:pt x="1880" y="1857"/>
                    </a:lnTo>
                    <a:lnTo>
                      <a:pt x="2103" y="1647"/>
                    </a:lnTo>
                    <a:lnTo>
                      <a:pt x="2336" y="1448"/>
                    </a:lnTo>
                    <a:lnTo>
                      <a:pt x="2579" y="1259"/>
                    </a:lnTo>
                    <a:lnTo>
                      <a:pt x="2830" y="1083"/>
                    </a:lnTo>
                    <a:lnTo>
                      <a:pt x="3090" y="918"/>
                    </a:lnTo>
                    <a:lnTo>
                      <a:pt x="3359" y="765"/>
                    </a:lnTo>
                    <a:lnTo>
                      <a:pt x="3636" y="625"/>
                    </a:lnTo>
                    <a:lnTo>
                      <a:pt x="3920" y="498"/>
                    </a:lnTo>
                    <a:lnTo>
                      <a:pt x="4212" y="385"/>
                    </a:lnTo>
                    <a:lnTo>
                      <a:pt x="4510" y="285"/>
                    </a:lnTo>
                    <a:lnTo>
                      <a:pt x="4815" y="199"/>
                    </a:lnTo>
                    <a:lnTo>
                      <a:pt x="5125" y="129"/>
                    </a:lnTo>
                    <a:lnTo>
                      <a:pt x="5441" y="73"/>
                    </a:lnTo>
                    <a:lnTo>
                      <a:pt x="5762" y="33"/>
                    </a:lnTo>
                    <a:lnTo>
                      <a:pt x="6088" y="9"/>
                    </a:lnTo>
                    <a:lnTo>
                      <a:pt x="6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5560" y="579348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510" h="2374">
                    <a:moveTo>
                      <a:pt x="0" y="0"/>
                    </a:moveTo>
                    <a:lnTo>
                      <a:pt x="2510" y="2374"/>
                    </a:lnTo>
                    <a:lnTo>
                      <a:pt x="2412" y="2323"/>
                    </a:lnTo>
                    <a:lnTo>
                      <a:pt x="2317" y="2268"/>
                    </a:lnTo>
                    <a:lnTo>
                      <a:pt x="2221" y="2214"/>
                    </a:lnTo>
                    <a:lnTo>
                      <a:pt x="2127" y="2157"/>
                    </a:lnTo>
                    <a:lnTo>
                      <a:pt x="2033" y="2099"/>
                    </a:lnTo>
                    <a:lnTo>
                      <a:pt x="1941" y="2039"/>
                    </a:lnTo>
                    <a:lnTo>
                      <a:pt x="1851" y="1978"/>
                    </a:lnTo>
                    <a:lnTo>
                      <a:pt x="1761" y="1914"/>
                    </a:lnTo>
                    <a:lnTo>
                      <a:pt x="1672" y="1851"/>
                    </a:lnTo>
                    <a:lnTo>
                      <a:pt x="1585" y="1784"/>
                    </a:lnTo>
                    <a:lnTo>
                      <a:pt x="1499" y="1718"/>
                    </a:lnTo>
                    <a:lnTo>
                      <a:pt x="1414" y="1648"/>
                    </a:lnTo>
                    <a:lnTo>
                      <a:pt x="1330" y="1579"/>
                    </a:lnTo>
                    <a:lnTo>
                      <a:pt x="1248" y="1507"/>
                    </a:lnTo>
                    <a:lnTo>
                      <a:pt x="1167" y="1434"/>
                    </a:lnTo>
                    <a:lnTo>
                      <a:pt x="1086" y="1360"/>
                    </a:lnTo>
                    <a:lnTo>
                      <a:pt x="1008" y="1284"/>
                    </a:lnTo>
                    <a:lnTo>
                      <a:pt x="931" y="1206"/>
                    </a:lnTo>
                    <a:lnTo>
                      <a:pt x="855" y="1129"/>
                    </a:lnTo>
                    <a:lnTo>
                      <a:pt x="781" y="1049"/>
                    </a:lnTo>
                    <a:lnTo>
                      <a:pt x="707" y="968"/>
                    </a:lnTo>
                    <a:lnTo>
                      <a:pt x="635" y="886"/>
                    </a:lnTo>
                    <a:lnTo>
                      <a:pt x="565" y="803"/>
                    </a:lnTo>
                    <a:lnTo>
                      <a:pt x="496" y="718"/>
                    </a:lnTo>
                    <a:lnTo>
                      <a:pt x="429" y="633"/>
                    </a:lnTo>
                    <a:lnTo>
                      <a:pt x="363" y="546"/>
                    </a:lnTo>
                    <a:lnTo>
                      <a:pt x="299" y="457"/>
                    </a:lnTo>
                    <a:lnTo>
                      <a:pt x="236" y="368"/>
                    </a:lnTo>
                    <a:lnTo>
                      <a:pt x="174" y="278"/>
                    </a:lnTo>
                    <a:lnTo>
                      <a:pt x="115" y="186"/>
                    </a:lnTo>
                    <a:lnTo>
                      <a:pt x="5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9800" y="5780520"/>
                <a:ext cx="53280" cy="51840"/>
              </a:xfrm>
              <a:custGeom>
                <a:avLst/>
                <a:gdLst/>
                <a:ahLst/>
                <a:rect l="l" t="t" r="r" b="b"/>
                <a:pathLst>
                  <a:path w="3886" h="3676">
                    <a:moveTo>
                      <a:pt x="0" y="0"/>
                    </a:moveTo>
                    <a:lnTo>
                      <a:pt x="3886" y="3676"/>
                    </a:lnTo>
                    <a:lnTo>
                      <a:pt x="3720" y="3618"/>
                    </a:lnTo>
                    <a:lnTo>
                      <a:pt x="3555" y="3557"/>
                    </a:lnTo>
                    <a:lnTo>
                      <a:pt x="3394" y="3490"/>
                    </a:lnTo>
                    <a:lnTo>
                      <a:pt x="3234" y="3420"/>
                    </a:lnTo>
                    <a:lnTo>
                      <a:pt x="3077" y="3345"/>
                    </a:lnTo>
                    <a:lnTo>
                      <a:pt x="2922" y="3265"/>
                    </a:lnTo>
                    <a:lnTo>
                      <a:pt x="2770" y="3183"/>
                    </a:lnTo>
                    <a:lnTo>
                      <a:pt x="2620" y="3096"/>
                    </a:lnTo>
                    <a:lnTo>
                      <a:pt x="2473" y="3004"/>
                    </a:lnTo>
                    <a:lnTo>
                      <a:pt x="2329" y="2909"/>
                    </a:lnTo>
                    <a:lnTo>
                      <a:pt x="2188" y="2811"/>
                    </a:lnTo>
                    <a:lnTo>
                      <a:pt x="2050" y="2708"/>
                    </a:lnTo>
                    <a:lnTo>
                      <a:pt x="1914" y="2604"/>
                    </a:lnTo>
                    <a:lnTo>
                      <a:pt x="1781" y="2494"/>
                    </a:lnTo>
                    <a:lnTo>
                      <a:pt x="1652" y="2381"/>
                    </a:lnTo>
                    <a:lnTo>
                      <a:pt x="1526" y="2265"/>
                    </a:lnTo>
                    <a:lnTo>
                      <a:pt x="1403" y="2145"/>
                    </a:lnTo>
                    <a:lnTo>
                      <a:pt x="1284" y="2022"/>
                    </a:lnTo>
                    <a:lnTo>
                      <a:pt x="1168" y="1896"/>
                    </a:lnTo>
                    <a:lnTo>
                      <a:pt x="1055" y="1766"/>
                    </a:lnTo>
                    <a:lnTo>
                      <a:pt x="946" y="1634"/>
                    </a:lnTo>
                    <a:lnTo>
                      <a:pt x="840" y="1499"/>
                    </a:lnTo>
                    <a:lnTo>
                      <a:pt x="739" y="1361"/>
                    </a:lnTo>
                    <a:lnTo>
                      <a:pt x="641" y="1221"/>
                    </a:lnTo>
                    <a:lnTo>
                      <a:pt x="546" y="1077"/>
                    </a:lnTo>
                    <a:lnTo>
                      <a:pt x="456" y="930"/>
                    </a:lnTo>
                    <a:lnTo>
                      <a:pt x="369" y="782"/>
                    </a:lnTo>
                    <a:lnTo>
                      <a:pt x="288" y="631"/>
                    </a:lnTo>
                    <a:lnTo>
                      <a:pt x="209" y="477"/>
                    </a:lnTo>
                    <a:lnTo>
                      <a:pt x="135" y="320"/>
                    </a:lnTo>
                    <a:lnTo>
                      <a:pt x="66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6560" y="5770800"/>
                <a:ext cx="66240" cy="64080"/>
              </a:xfrm>
              <a:custGeom>
                <a:avLst/>
                <a:gdLst/>
                <a:ahLst/>
                <a:rect l="l" t="t" r="r" b="b"/>
                <a:pathLst>
                  <a:path w="4831" h="4569">
                    <a:moveTo>
                      <a:pt x="3177" y="3981"/>
                    </a:moveTo>
                    <a:lnTo>
                      <a:pt x="667" y="1607"/>
                    </a:lnTo>
                    <a:lnTo>
                      <a:pt x="613" y="1513"/>
                    </a:lnTo>
                    <a:lnTo>
                      <a:pt x="560" y="1419"/>
                    </a:lnTo>
                    <a:lnTo>
                      <a:pt x="509" y="1324"/>
                    </a:lnTo>
                    <a:lnTo>
                      <a:pt x="459" y="1227"/>
                    </a:lnTo>
                    <a:lnTo>
                      <a:pt x="412" y="1129"/>
                    </a:lnTo>
                    <a:lnTo>
                      <a:pt x="365" y="1031"/>
                    </a:lnTo>
                    <a:lnTo>
                      <a:pt x="343" y="982"/>
                    </a:lnTo>
                    <a:lnTo>
                      <a:pt x="321" y="931"/>
                    </a:lnTo>
                    <a:lnTo>
                      <a:pt x="300" y="882"/>
                    </a:lnTo>
                    <a:lnTo>
                      <a:pt x="279" y="832"/>
                    </a:lnTo>
                    <a:lnTo>
                      <a:pt x="237" y="731"/>
                    </a:lnTo>
                    <a:lnTo>
                      <a:pt x="198" y="629"/>
                    </a:lnTo>
                    <a:lnTo>
                      <a:pt x="180" y="577"/>
                    </a:lnTo>
                    <a:lnTo>
                      <a:pt x="161" y="526"/>
                    </a:lnTo>
                    <a:lnTo>
                      <a:pt x="143" y="475"/>
                    </a:lnTo>
                    <a:lnTo>
                      <a:pt x="125" y="422"/>
                    </a:lnTo>
                    <a:lnTo>
                      <a:pt x="108" y="370"/>
                    </a:lnTo>
                    <a:lnTo>
                      <a:pt x="91" y="318"/>
                    </a:lnTo>
                    <a:lnTo>
                      <a:pt x="75" y="266"/>
                    </a:lnTo>
                    <a:lnTo>
                      <a:pt x="59" y="212"/>
                    </a:lnTo>
                    <a:lnTo>
                      <a:pt x="44" y="160"/>
                    </a:lnTo>
                    <a:lnTo>
                      <a:pt x="29" y="106"/>
                    </a:lnTo>
                    <a:lnTo>
                      <a:pt x="14" y="53"/>
                    </a:lnTo>
                    <a:lnTo>
                      <a:pt x="0" y="0"/>
                    </a:lnTo>
                    <a:lnTo>
                      <a:pt x="4831" y="4569"/>
                    </a:lnTo>
                    <a:lnTo>
                      <a:pt x="4776" y="4557"/>
                    </a:lnTo>
                    <a:lnTo>
                      <a:pt x="4721" y="4546"/>
                    </a:lnTo>
                    <a:lnTo>
                      <a:pt x="4667" y="4533"/>
                    </a:lnTo>
                    <a:lnTo>
                      <a:pt x="4612" y="4520"/>
                    </a:lnTo>
                    <a:lnTo>
                      <a:pt x="4559" y="4507"/>
                    </a:lnTo>
                    <a:lnTo>
                      <a:pt x="4505" y="4494"/>
                    </a:lnTo>
                    <a:lnTo>
                      <a:pt x="4451" y="4479"/>
                    </a:lnTo>
                    <a:lnTo>
                      <a:pt x="4398" y="4464"/>
                    </a:lnTo>
                    <a:lnTo>
                      <a:pt x="4292" y="4433"/>
                    </a:lnTo>
                    <a:lnTo>
                      <a:pt x="4186" y="4401"/>
                    </a:lnTo>
                    <a:lnTo>
                      <a:pt x="4081" y="4367"/>
                    </a:lnTo>
                    <a:lnTo>
                      <a:pt x="3977" y="4330"/>
                    </a:lnTo>
                    <a:lnTo>
                      <a:pt x="3926" y="4312"/>
                    </a:lnTo>
                    <a:lnTo>
                      <a:pt x="3874" y="4293"/>
                    </a:lnTo>
                    <a:lnTo>
                      <a:pt x="3823" y="4274"/>
                    </a:lnTo>
                    <a:lnTo>
                      <a:pt x="3771" y="4254"/>
                    </a:lnTo>
                    <a:lnTo>
                      <a:pt x="3670" y="4212"/>
                    </a:lnTo>
                    <a:lnTo>
                      <a:pt x="3570" y="4169"/>
                    </a:lnTo>
                    <a:lnTo>
                      <a:pt x="3471" y="4125"/>
                    </a:lnTo>
                    <a:lnTo>
                      <a:pt x="3372" y="4078"/>
                    </a:lnTo>
                    <a:lnTo>
                      <a:pt x="3274" y="4031"/>
                    </a:lnTo>
                    <a:lnTo>
                      <a:pt x="3177" y="3981"/>
                    </a:lnTo>
                    <a:close/>
                  </a:path>
                </a:pathLst>
              </a:custGeom>
              <a:solidFill>
                <a:srgbClr val="c00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5120" y="5762520"/>
                <a:ext cx="75600" cy="73440"/>
              </a:xfrm>
              <a:custGeom>
                <a:avLst/>
                <a:gdLst/>
                <a:ahLst/>
                <a:rect l="l" t="t" r="r" b="b"/>
                <a:pathLst>
                  <a:path w="5571" h="5269">
                    <a:moveTo>
                      <a:pt x="4235" y="4982"/>
                    </a:moveTo>
                    <a:lnTo>
                      <a:pt x="349" y="1306"/>
                    </a:lnTo>
                    <a:lnTo>
                      <a:pt x="320" y="1229"/>
                    </a:lnTo>
                    <a:lnTo>
                      <a:pt x="291" y="1150"/>
                    </a:lnTo>
                    <a:lnTo>
                      <a:pt x="264" y="1070"/>
                    </a:lnTo>
                    <a:lnTo>
                      <a:pt x="236" y="991"/>
                    </a:lnTo>
                    <a:lnTo>
                      <a:pt x="210" y="911"/>
                    </a:lnTo>
                    <a:lnTo>
                      <a:pt x="186" y="830"/>
                    </a:lnTo>
                    <a:lnTo>
                      <a:pt x="163" y="749"/>
                    </a:lnTo>
                    <a:lnTo>
                      <a:pt x="140" y="668"/>
                    </a:lnTo>
                    <a:lnTo>
                      <a:pt x="118" y="585"/>
                    </a:lnTo>
                    <a:lnTo>
                      <a:pt x="98" y="504"/>
                    </a:lnTo>
                    <a:lnTo>
                      <a:pt x="79" y="420"/>
                    </a:lnTo>
                    <a:lnTo>
                      <a:pt x="61" y="337"/>
                    </a:lnTo>
                    <a:lnTo>
                      <a:pt x="45" y="254"/>
                    </a:lnTo>
                    <a:lnTo>
                      <a:pt x="29" y="170"/>
                    </a:lnTo>
                    <a:lnTo>
                      <a:pt x="13" y="85"/>
                    </a:lnTo>
                    <a:lnTo>
                      <a:pt x="0" y="0"/>
                    </a:lnTo>
                    <a:lnTo>
                      <a:pt x="5571" y="5269"/>
                    </a:lnTo>
                    <a:lnTo>
                      <a:pt x="5484" y="5259"/>
                    </a:lnTo>
                    <a:lnTo>
                      <a:pt x="5398" y="5249"/>
                    </a:lnTo>
                    <a:lnTo>
                      <a:pt x="5312" y="5237"/>
                    </a:lnTo>
                    <a:lnTo>
                      <a:pt x="5227" y="5224"/>
                    </a:lnTo>
                    <a:lnTo>
                      <a:pt x="5142" y="5210"/>
                    </a:lnTo>
                    <a:lnTo>
                      <a:pt x="5057" y="5195"/>
                    </a:lnTo>
                    <a:lnTo>
                      <a:pt x="4974" y="5178"/>
                    </a:lnTo>
                    <a:lnTo>
                      <a:pt x="4890" y="5160"/>
                    </a:lnTo>
                    <a:lnTo>
                      <a:pt x="4806" y="5142"/>
                    </a:lnTo>
                    <a:lnTo>
                      <a:pt x="4723" y="5122"/>
                    </a:lnTo>
                    <a:lnTo>
                      <a:pt x="4641" y="5102"/>
                    </a:lnTo>
                    <a:lnTo>
                      <a:pt x="4559" y="5080"/>
                    </a:lnTo>
                    <a:lnTo>
                      <a:pt x="4477" y="5057"/>
                    </a:lnTo>
                    <a:lnTo>
                      <a:pt x="4396" y="5033"/>
                    </a:lnTo>
                    <a:lnTo>
                      <a:pt x="4315" y="5008"/>
                    </a:lnTo>
                    <a:lnTo>
                      <a:pt x="4235" y="4982"/>
                    </a:lnTo>
                    <a:close/>
                  </a:path>
                </a:pathLst>
              </a:custGeom>
              <a:solidFill>
                <a:srgbClr val="c10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4400" y="5754600"/>
                <a:ext cx="84240" cy="82080"/>
              </a:xfrm>
              <a:custGeom>
                <a:avLst/>
                <a:gdLst/>
                <a:ahLst/>
                <a:rect l="l" t="t" r="r" b="b"/>
                <a:pathLst>
                  <a:path w="6179" h="5844">
                    <a:moveTo>
                      <a:pt x="5011" y="5716"/>
                    </a:moveTo>
                    <a:lnTo>
                      <a:pt x="180" y="1147"/>
                    </a:lnTo>
                    <a:lnTo>
                      <a:pt x="163" y="1077"/>
                    </a:lnTo>
                    <a:lnTo>
                      <a:pt x="146" y="1007"/>
                    </a:lnTo>
                    <a:lnTo>
                      <a:pt x="131" y="937"/>
                    </a:lnTo>
                    <a:lnTo>
                      <a:pt x="116" y="867"/>
                    </a:lnTo>
                    <a:lnTo>
                      <a:pt x="102" y="796"/>
                    </a:lnTo>
                    <a:lnTo>
                      <a:pt x="88" y="725"/>
                    </a:lnTo>
                    <a:lnTo>
                      <a:pt x="75" y="653"/>
                    </a:lnTo>
                    <a:lnTo>
                      <a:pt x="63" y="582"/>
                    </a:lnTo>
                    <a:lnTo>
                      <a:pt x="53" y="510"/>
                    </a:lnTo>
                    <a:lnTo>
                      <a:pt x="43" y="438"/>
                    </a:lnTo>
                    <a:lnTo>
                      <a:pt x="33" y="365"/>
                    </a:lnTo>
                    <a:lnTo>
                      <a:pt x="25" y="292"/>
                    </a:lnTo>
                    <a:lnTo>
                      <a:pt x="17" y="220"/>
                    </a:lnTo>
                    <a:lnTo>
                      <a:pt x="11" y="147"/>
                    </a:lnTo>
                    <a:lnTo>
                      <a:pt x="5" y="73"/>
                    </a:lnTo>
                    <a:lnTo>
                      <a:pt x="0" y="0"/>
                    </a:lnTo>
                    <a:lnTo>
                      <a:pt x="6179" y="5844"/>
                    </a:lnTo>
                    <a:lnTo>
                      <a:pt x="6105" y="5843"/>
                    </a:lnTo>
                    <a:lnTo>
                      <a:pt x="6030" y="5840"/>
                    </a:lnTo>
                    <a:lnTo>
                      <a:pt x="5955" y="5836"/>
                    </a:lnTo>
                    <a:lnTo>
                      <a:pt x="5881" y="5832"/>
                    </a:lnTo>
                    <a:lnTo>
                      <a:pt x="5807" y="5827"/>
                    </a:lnTo>
                    <a:lnTo>
                      <a:pt x="5733" y="5821"/>
                    </a:lnTo>
                    <a:lnTo>
                      <a:pt x="5660" y="5814"/>
                    </a:lnTo>
                    <a:lnTo>
                      <a:pt x="5587" y="5807"/>
                    </a:lnTo>
                    <a:lnTo>
                      <a:pt x="5514" y="5798"/>
                    </a:lnTo>
                    <a:lnTo>
                      <a:pt x="5441" y="5789"/>
                    </a:lnTo>
                    <a:lnTo>
                      <a:pt x="5368" y="5779"/>
                    </a:lnTo>
                    <a:lnTo>
                      <a:pt x="5297" y="5768"/>
                    </a:lnTo>
                    <a:lnTo>
                      <a:pt x="5225" y="5756"/>
                    </a:lnTo>
                    <a:lnTo>
                      <a:pt x="5154" y="5744"/>
                    </a:lnTo>
                    <a:lnTo>
                      <a:pt x="5082" y="5730"/>
                    </a:lnTo>
                    <a:lnTo>
                      <a:pt x="5011" y="5716"/>
                    </a:lnTo>
                    <a:close/>
                  </a:path>
                </a:pathLst>
              </a:custGeom>
              <a:solidFill>
                <a:srgbClr val="c20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4040" y="5747400"/>
                <a:ext cx="91440" cy="889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5640" y="6310"/>
                    </a:moveTo>
                    <a:lnTo>
                      <a:pt x="69" y="1041"/>
                    </a:lnTo>
                    <a:lnTo>
                      <a:pt x="61" y="984"/>
                    </a:lnTo>
                    <a:lnTo>
                      <a:pt x="53" y="927"/>
                    </a:lnTo>
                    <a:lnTo>
                      <a:pt x="46" y="870"/>
                    </a:lnTo>
                    <a:lnTo>
                      <a:pt x="39" y="812"/>
                    </a:lnTo>
                    <a:lnTo>
                      <a:pt x="33" y="755"/>
                    </a:lnTo>
                    <a:lnTo>
                      <a:pt x="27" y="696"/>
                    </a:lnTo>
                    <a:lnTo>
                      <a:pt x="22" y="639"/>
                    </a:lnTo>
                    <a:lnTo>
                      <a:pt x="17" y="580"/>
                    </a:lnTo>
                    <a:lnTo>
                      <a:pt x="13" y="522"/>
                    </a:lnTo>
                    <a:lnTo>
                      <a:pt x="10" y="463"/>
                    </a:lnTo>
                    <a:lnTo>
                      <a:pt x="6" y="405"/>
                    </a:lnTo>
                    <a:lnTo>
                      <a:pt x="4" y="347"/>
                    </a:lnTo>
                    <a:lnTo>
                      <a:pt x="2" y="288"/>
                    </a:lnTo>
                    <a:lnTo>
                      <a:pt x="1" y="229"/>
                    </a:lnTo>
                    <a:lnTo>
                      <a:pt x="0" y="170"/>
                    </a:lnTo>
                    <a:lnTo>
                      <a:pt x="0" y="111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1" y="28"/>
                    </a:lnTo>
                    <a:lnTo>
                      <a:pt x="1" y="0"/>
                    </a:lnTo>
                    <a:lnTo>
                      <a:pt x="6697" y="6333"/>
                    </a:lnTo>
                    <a:lnTo>
                      <a:pt x="6648" y="6336"/>
                    </a:lnTo>
                    <a:lnTo>
                      <a:pt x="6601" y="6338"/>
                    </a:lnTo>
                    <a:lnTo>
                      <a:pt x="6552" y="6340"/>
                    </a:lnTo>
                    <a:lnTo>
                      <a:pt x="6505" y="6342"/>
                    </a:lnTo>
                    <a:lnTo>
                      <a:pt x="6457" y="6343"/>
                    </a:lnTo>
                    <a:lnTo>
                      <a:pt x="6408" y="6344"/>
                    </a:lnTo>
                    <a:lnTo>
                      <a:pt x="6360" y="6345"/>
                    </a:lnTo>
                    <a:lnTo>
                      <a:pt x="6311" y="6345"/>
                    </a:lnTo>
                    <a:lnTo>
                      <a:pt x="6227" y="6344"/>
                    </a:lnTo>
                    <a:lnTo>
                      <a:pt x="6142" y="6343"/>
                    </a:lnTo>
                    <a:lnTo>
                      <a:pt x="6057" y="6340"/>
                    </a:lnTo>
                    <a:lnTo>
                      <a:pt x="5973" y="6336"/>
                    </a:lnTo>
                    <a:lnTo>
                      <a:pt x="5889" y="6331"/>
                    </a:lnTo>
                    <a:lnTo>
                      <a:pt x="5806" y="6325"/>
                    </a:lnTo>
                    <a:lnTo>
                      <a:pt x="5722" y="6318"/>
                    </a:lnTo>
                    <a:lnTo>
                      <a:pt x="5640" y="6310"/>
                    </a:lnTo>
                    <a:close/>
                  </a:path>
                </a:pathLst>
              </a:custGeom>
              <a:solidFill>
                <a:srgbClr val="c30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4040" y="5740920"/>
                <a:ext cx="98280" cy="9540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6191" y="6807"/>
                    </a:moveTo>
                    <a:lnTo>
                      <a:pt x="12" y="963"/>
                    </a:lnTo>
                    <a:lnTo>
                      <a:pt x="9" y="914"/>
                    </a:lnTo>
                    <a:lnTo>
                      <a:pt x="7" y="866"/>
                    </a:lnTo>
                    <a:lnTo>
                      <a:pt x="5" y="818"/>
                    </a:lnTo>
                    <a:lnTo>
                      <a:pt x="3" y="769"/>
                    </a:lnTo>
                    <a:lnTo>
                      <a:pt x="1" y="721"/>
                    </a:lnTo>
                    <a:lnTo>
                      <a:pt x="0" y="672"/>
                    </a:lnTo>
                    <a:lnTo>
                      <a:pt x="0" y="623"/>
                    </a:lnTo>
                    <a:lnTo>
                      <a:pt x="0" y="575"/>
                    </a:lnTo>
                    <a:lnTo>
                      <a:pt x="0" y="502"/>
                    </a:lnTo>
                    <a:lnTo>
                      <a:pt x="1" y="429"/>
                    </a:lnTo>
                    <a:lnTo>
                      <a:pt x="3" y="358"/>
                    </a:lnTo>
                    <a:lnTo>
                      <a:pt x="6" y="285"/>
                    </a:lnTo>
                    <a:lnTo>
                      <a:pt x="10" y="213"/>
                    </a:lnTo>
                    <a:lnTo>
                      <a:pt x="15" y="142"/>
                    </a:lnTo>
                    <a:lnTo>
                      <a:pt x="20" y="71"/>
                    </a:lnTo>
                    <a:lnTo>
                      <a:pt x="26" y="0"/>
                    </a:lnTo>
                    <a:lnTo>
                      <a:pt x="7165" y="6752"/>
                    </a:lnTo>
                    <a:lnTo>
                      <a:pt x="7112" y="6759"/>
                    </a:lnTo>
                    <a:lnTo>
                      <a:pt x="7060" y="6765"/>
                    </a:lnTo>
                    <a:lnTo>
                      <a:pt x="7007" y="6771"/>
                    </a:lnTo>
                    <a:lnTo>
                      <a:pt x="6955" y="6777"/>
                    </a:lnTo>
                    <a:lnTo>
                      <a:pt x="6901" y="6782"/>
                    </a:lnTo>
                    <a:lnTo>
                      <a:pt x="6849" y="6787"/>
                    </a:lnTo>
                    <a:lnTo>
                      <a:pt x="6795" y="6791"/>
                    </a:lnTo>
                    <a:lnTo>
                      <a:pt x="6742" y="6794"/>
                    </a:lnTo>
                    <a:lnTo>
                      <a:pt x="6688" y="6798"/>
                    </a:lnTo>
                    <a:lnTo>
                      <a:pt x="6635" y="6801"/>
                    </a:lnTo>
                    <a:lnTo>
                      <a:pt x="6582" y="6803"/>
                    </a:lnTo>
                    <a:lnTo>
                      <a:pt x="6527" y="6805"/>
                    </a:lnTo>
                    <a:lnTo>
                      <a:pt x="6474" y="6807"/>
                    </a:lnTo>
                    <a:lnTo>
                      <a:pt x="6419" y="6808"/>
                    </a:lnTo>
                    <a:lnTo>
                      <a:pt x="6366" y="6809"/>
                    </a:lnTo>
                    <a:lnTo>
                      <a:pt x="6311" y="6809"/>
                    </a:lnTo>
                    <a:lnTo>
                      <a:pt x="6281" y="6809"/>
                    </a:lnTo>
                    <a:lnTo>
                      <a:pt x="6251" y="6808"/>
                    </a:lnTo>
                    <a:lnTo>
                      <a:pt x="6222" y="6808"/>
                    </a:lnTo>
                    <a:lnTo>
                      <a:pt x="6191" y="6807"/>
                    </a:lnTo>
                    <a:close/>
                  </a:path>
                </a:pathLst>
              </a:custGeom>
              <a:solidFill>
                <a:srgbClr val="c40e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4040" y="5735160"/>
                <a:ext cx="104400" cy="101520"/>
              </a:xfrm>
              <a:custGeom>
                <a:avLst/>
                <a:gdLst/>
                <a:ahLst/>
                <a:rect l="l" t="t" r="r" b="b"/>
                <a:pathLst>
                  <a:path w="7602" h="7232">
                    <a:moveTo>
                      <a:pt x="6696" y="7232"/>
                    </a:moveTo>
                    <a:lnTo>
                      <a:pt x="0" y="899"/>
                    </a:lnTo>
                    <a:lnTo>
                      <a:pt x="1" y="841"/>
                    </a:lnTo>
                    <a:lnTo>
                      <a:pt x="3" y="785"/>
                    </a:lnTo>
                    <a:lnTo>
                      <a:pt x="5" y="727"/>
                    </a:lnTo>
                    <a:lnTo>
                      <a:pt x="8" y="671"/>
                    </a:lnTo>
                    <a:lnTo>
                      <a:pt x="11" y="614"/>
                    </a:lnTo>
                    <a:lnTo>
                      <a:pt x="15" y="558"/>
                    </a:lnTo>
                    <a:lnTo>
                      <a:pt x="20" y="501"/>
                    </a:lnTo>
                    <a:lnTo>
                      <a:pt x="24" y="445"/>
                    </a:lnTo>
                    <a:lnTo>
                      <a:pt x="30" y="388"/>
                    </a:lnTo>
                    <a:lnTo>
                      <a:pt x="36" y="333"/>
                    </a:lnTo>
                    <a:lnTo>
                      <a:pt x="42" y="276"/>
                    </a:lnTo>
                    <a:lnTo>
                      <a:pt x="49" y="221"/>
                    </a:lnTo>
                    <a:lnTo>
                      <a:pt x="56" y="165"/>
                    </a:lnTo>
                    <a:lnTo>
                      <a:pt x="64" y="110"/>
                    </a:lnTo>
                    <a:lnTo>
                      <a:pt x="72" y="54"/>
                    </a:lnTo>
                    <a:lnTo>
                      <a:pt x="81" y="0"/>
                    </a:lnTo>
                    <a:lnTo>
                      <a:pt x="7602" y="7113"/>
                    </a:lnTo>
                    <a:lnTo>
                      <a:pt x="7547" y="7124"/>
                    </a:lnTo>
                    <a:lnTo>
                      <a:pt x="7490" y="7136"/>
                    </a:lnTo>
                    <a:lnTo>
                      <a:pt x="7435" y="7146"/>
                    </a:lnTo>
                    <a:lnTo>
                      <a:pt x="7379" y="7155"/>
                    </a:lnTo>
                    <a:lnTo>
                      <a:pt x="7323" y="7164"/>
                    </a:lnTo>
                    <a:lnTo>
                      <a:pt x="7266" y="7173"/>
                    </a:lnTo>
                    <a:lnTo>
                      <a:pt x="7210" y="7181"/>
                    </a:lnTo>
                    <a:lnTo>
                      <a:pt x="7153" y="7189"/>
                    </a:lnTo>
                    <a:lnTo>
                      <a:pt x="7097" y="7196"/>
                    </a:lnTo>
                    <a:lnTo>
                      <a:pt x="7039" y="7203"/>
                    </a:lnTo>
                    <a:lnTo>
                      <a:pt x="6983" y="7209"/>
                    </a:lnTo>
                    <a:lnTo>
                      <a:pt x="6926" y="7214"/>
                    </a:lnTo>
                    <a:lnTo>
                      <a:pt x="6868" y="7220"/>
                    </a:lnTo>
                    <a:lnTo>
                      <a:pt x="6811" y="7224"/>
                    </a:lnTo>
                    <a:lnTo>
                      <a:pt x="6753" y="7228"/>
                    </a:lnTo>
                    <a:lnTo>
                      <a:pt x="6696" y="7232"/>
                    </a:lnTo>
                    <a:close/>
                  </a:path>
                </a:pathLst>
              </a:custGeom>
              <a:solidFill>
                <a:srgbClr val="c50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4400" y="5729040"/>
                <a:ext cx="109080" cy="106920"/>
              </a:xfrm>
              <a:custGeom>
                <a:avLst/>
                <a:gdLst/>
                <a:ahLst/>
                <a:rect l="l" t="t" r="r" b="b"/>
                <a:pathLst>
                  <a:path w="7989" h="7599">
                    <a:moveTo>
                      <a:pt x="7139" y="7599"/>
                    </a:moveTo>
                    <a:lnTo>
                      <a:pt x="0" y="847"/>
                    </a:lnTo>
                    <a:lnTo>
                      <a:pt x="6" y="793"/>
                    </a:lnTo>
                    <a:lnTo>
                      <a:pt x="11" y="739"/>
                    </a:lnTo>
                    <a:lnTo>
                      <a:pt x="17" y="685"/>
                    </a:lnTo>
                    <a:lnTo>
                      <a:pt x="24" y="632"/>
                    </a:lnTo>
                    <a:lnTo>
                      <a:pt x="31" y="578"/>
                    </a:lnTo>
                    <a:lnTo>
                      <a:pt x="38" y="525"/>
                    </a:lnTo>
                    <a:lnTo>
                      <a:pt x="46" y="472"/>
                    </a:lnTo>
                    <a:lnTo>
                      <a:pt x="55" y="419"/>
                    </a:lnTo>
                    <a:lnTo>
                      <a:pt x="63" y="367"/>
                    </a:lnTo>
                    <a:lnTo>
                      <a:pt x="74" y="313"/>
                    </a:lnTo>
                    <a:lnTo>
                      <a:pt x="83" y="261"/>
                    </a:lnTo>
                    <a:lnTo>
                      <a:pt x="93" y="208"/>
                    </a:lnTo>
                    <a:lnTo>
                      <a:pt x="104" y="157"/>
                    </a:lnTo>
                    <a:lnTo>
                      <a:pt x="115" y="104"/>
                    </a:lnTo>
                    <a:lnTo>
                      <a:pt x="126" y="53"/>
                    </a:lnTo>
                    <a:lnTo>
                      <a:pt x="138" y="0"/>
                    </a:lnTo>
                    <a:lnTo>
                      <a:pt x="7989" y="7426"/>
                    </a:lnTo>
                    <a:lnTo>
                      <a:pt x="7936" y="7441"/>
                    </a:lnTo>
                    <a:lnTo>
                      <a:pt x="7885" y="7455"/>
                    </a:lnTo>
                    <a:lnTo>
                      <a:pt x="7832" y="7468"/>
                    </a:lnTo>
                    <a:lnTo>
                      <a:pt x="7780" y="7480"/>
                    </a:lnTo>
                    <a:lnTo>
                      <a:pt x="7728" y="7493"/>
                    </a:lnTo>
                    <a:lnTo>
                      <a:pt x="7675" y="7504"/>
                    </a:lnTo>
                    <a:lnTo>
                      <a:pt x="7622" y="7516"/>
                    </a:lnTo>
                    <a:lnTo>
                      <a:pt x="7569" y="7527"/>
                    </a:lnTo>
                    <a:lnTo>
                      <a:pt x="7516" y="7537"/>
                    </a:lnTo>
                    <a:lnTo>
                      <a:pt x="7462" y="7548"/>
                    </a:lnTo>
                    <a:lnTo>
                      <a:pt x="7409" y="7558"/>
                    </a:lnTo>
                    <a:lnTo>
                      <a:pt x="7355" y="7567"/>
                    </a:lnTo>
                    <a:lnTo>
                      <a:pt x="7301" y="7576"/>
                    </a:lnTo>
                    <a:lnTo>
                      <a:pt x="7247" y="7584"/>
                    </a:lnTo>
                    <a:lnTo>
                      <a:pt x="7193" y="7592"/>
                    </a:lnTo>
                    <a:lnTo>
                      <a:pt x="7139" y="7599"/>
                    </a:lnTo>
                    <a:close/>
                  </a:path>
                </a:pathLst>
              </a:custGeom>
              <a:solidFill>
                <a:srgbClr val="c50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5120" y="5724000"/>
                <a:ext cx="113760" cy="110880"/>
              </a:xfrm>
              <a:custGeom>
                <a:avLst/>
                <a:gdLst/>
                <a:ahLst/>
                <a:rect l="l" t="t" r="r" b="b"/>
                <a:pathLst>
                  <a:path w="8320" h="7913">
                    <a:moveTo>
                      <a:pt x="7521" y="7913"/>
                    </a:moveTo>
                    <a:lnTo>
                      <a:pt x="0" y="800"/>
                    </a:lnTo>
                    <a:lnTo>
                      <a:pt x="8" y="748"/>
                    </a:lnTo>
                    <a:lnTo>
                      <a:pt x="18" y="697"/>
                    </a:lnTo>
                    <a:lnTo>
                      <a:pt x="28" y="647"/>
                    </a:lnTo>
                    <a:lnTo>
                      <a:pt x="38" y="596"/>
                    </a:lnTo>
                    <a:lnTo>
                      <a:pt x="48" y="546"/>
                    </a:lnTo>
                    <a:lnTo>
                      <a:pt x="58" y="495"/>
                    </a:lnTo>
                    <a:lnTo>
                      <a:pt x="70" y="445"/>
                    </a:lnTo>
                    <a:lnTo>
                      <a:pt x="81" y="395"/>
                    </a:lnTo>
                    <a:lnTo>
                      <a:pt x="93" y="345"/>
                    </a:lnTo>
                    <a:lnTo>
                      <a:pt x="105" y="296"/>
                    </a:lnTo>
                    <a:lnTo>
                      <a:pt x="118" y="246"/>
                    </a:lnTo>
                    <a:lnTo>
                      <a:pt x="132" y="197"/>
                    </a:lnTo>
                    <a:lnTo>
                      <a:pt x="145" y="147"/>
                    </a:lnTo>
                    <a:lnTo>
                      <a:pt x="159" y="98"/>
                    </a:lnTo>
                    <a:lnTo>
                      <a:pt x="173" y="50"/>
                    </a:lnTo>
                    <a:lnTo>
                      <a:pt x="188" y="0"/>
                    </a:lnTo>
                    <a:lnTo>
                      <a:pt x="8320" y="7693"/>
                    </a:lnTo>
                    <a:lnTo>
                      <a:pt x="8272" y="7711"/>
                    </a:lnTo>
                    <a:lnTo>
                      <a:pt x="8223" y="7727"/>
                    </a:lnTo>
                    <a:lnTo>
                      <a:pt x="8174" y="7743"/>
                    </a:lnTo>
                    <a:lnTo>
                      <a:pt x="8124" y="7758"/>
                    </a:lnTo>
                    <a:lnTo>
                      <a:pt x="8075" y="7773"/>
                    </a:lnTo>
                    <a:lnTo>
                      <a:pt x="8026" y="7788"/>
                    </a:lnTo>
                    <a:lnTo>
                      <a:pt x="7976" y="7802"/>
                    </a:lnTo>
                    <a:lnTo>
                      <a:pt x="7926" y="7816"/>
                    </a:lnTo>
                    <a:lnTo>
                      <a:pt x="7876" y="7830"/>
                    </a:lnTo>
                    <a:lnTo>
                      <a:pt x="7826" y="7843"/>
                    </a:lnTo>
                    <a:lnTo>
                      <a:pt x="7775" y="7856"/>
                    </a:lnTo>
                    <a:lnTo>
                      <a:pt x="7725" y="7868"/>
                    </a:lnTo>
                    <a:lnTo>
                      <a:pt x="7674" y="7880"/>
                    </a:lnTo>
                    <a:lnTo>
                      <a:pt x="7623" y="7891"/>
                    </a:lnTo>
                    <a:lnTo>
                      <a:pt x="7572" y="7903"/>
                    </a:lnTo>
                    <a:lnTo>
                      <a:pt x="7521" y="7913"/>
                    </a:lnTo>
                    <a:close/>
                  </a:path>
                </a:pathLst>
              </a:custGeom>
              <a:solidFill>
                <a:srgbClr val="c61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46200" y="5718240"/>
                <a:ext cx="117720" cy="11484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7851" y="8183"/>
                    </a:moveTo>
                    <a:lnTo>
                      <a:pt x="0" y="757"/>
                    </a:lnTo>
                    <a:lnTo>
                      <a:pt x="12" y="709"/>
                    </a:lnTo>
                    <a:lnTo>
                      <a:pt x="24" y="661"/>
                    </a:lnTo>
                    <a:lnTo>
                      <a:pt x="36" y="613"/>
                    </a:lnTo>
                    <a:lnTo>
                      <a:pt x="50" y="565"/>
                    </a:lnTo>
                    <a:lnTo>
                      <a:pt x="63" y="516"/>
                    </a:lnTo>
                    <a:lnTo>
                      <a:pt x="76" y="469"/>
                    </a:lnTo>
                    <a:lnTo>
                      <a:pt x="90" y="422"/>
                    </a:lnTo>
                    <a:lnTo>
                      <a:pt x="104" y="374"/>
                    </a:lnTo>
                    <a:lnTo>
                      <a:pt x="119" y="327"/>
                    </a:lnTo>
                    <a:lnTo>
                      <a:pt x="134" y="279"/>
                    </a:lnTo>
                    <a:lnTo>
                      <a:pt x="149" y="233"/>
                    </a:lnTo>
                    <a:lnTo>
                      <a:pt x="165" y="186"/>
                    </a:lnTo>
                    <a:lnTo>
                      <a:pt x="182" y="139"/>
                    </a:lnTo>
                    <a:lnTo>
                      <a:pt x="198" y="93"/>
                    </a:lnTo>
                    <a:lnTo>
                      <a:pt x="215" y="46"/>
                    </a:lnTo>
                    <a:lnTo>
                      <a:pt x="232" y="0"/>
                    </a:lnTo>
                    <a:lnTo>
                      <a:pt x="8606" y="7922"/>
                    </a:lnTo>
                    <a:lnTo>
                      <a:pt x="8561" y="7941"/>
                    </a:lnTo>
                    <a:lnTo>
                      <a:pt x="8514" y="7960"/>
                    </a:lnTo>
                    <a:lnTo>
                      <a:pt x="8468" y="7979"/>
                    </a:lnTo>
                    <a:lnTo>
                      <a:pt x="8422" y="7996"/>
                    </a:lnTo>
                    <a:lnTo>
                      <a:pt x="8375" y="8014"/>
                    </a:lnTo>
                    <a:lnTo>
                      <a:pt x="8328" y="8031"/>
                    </a:lnTo>
                    <a:lnTo>
                      <a:pt x="8281" y="8048"/>
                    </a:lnTo>
                    <a:lnTo>
                      <a:pt x="8234" y="8064"/>
                    </a:lnTo>
                    <a:lnTo>
                      <a:pt x="8187" y="8081"/>
                    </a:lnTo>
                    <a:lnTo>
                      <a:pt x="8139" y="8097"/>
                    </a:lnTo>
                    <a:lnTo>
                      <a:pt x="8091" y="8112"/>
                    </a:lnTo>
                    <a:lnTo>
                      <a:pt x="8043" y="8127"/>
                    </a:lnTo>
                    <a:lnTo>
                      <a:pt x="7995" y="8141"/>
                    </a:lnTo>
                    <a:lnTo>
                      <a:pt x="7948" y="8156"/>
                    </a:lnTo>
                    <a:lnTo>
                      <a:pt x="7899" y="8169"/>
                    </a:lnTo>
                    <a:lnTo>
                      <a:pt x="7851" y="8183"/>
                    </a:lnTo>
                    <a:close/>
                  </a:path>
                </a:pathLst>
              </a:custGeom>
              <a:solidFill>
                <a:srgbClr val="c71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8000" y="5713560"/>
                <a:ext cx="120960" cy="1180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132" y="8413"/>
                    </a:moveTo>
                    <a:lnTo>
                      <a:pt x="0" y="720"/>
                    </a:lnTo>
                    <a:lnTo>
                      <a:pt x="14" y="674"/>
                    </a:lnTo>
                    <a:lnTo>
                      <a:pt x="29" y="628"/>
                    </a:lnTo>
                    <a:lnTo>
                      <a:pt x="43" y="582"/>
                    </a:lnTo>
                    <a:lnTo>
                      <a:pt x="59" y="537"/>
                    </a:lnTo>
                    <a:lnTo>
                      <a:pt x="75" y="491"/>
                    </a:lnTo>
                    <a:lnTo>
                      <a:pt x="91" y="446"/>
                    </a:lnTo>
                    <a:lnTo>
                      <a:pt x="108" y="400"/>
                    </a:lnTo>
                    <a:lnTo>
                      <a:pt x="124" y="355"/>
                    </a:lnTo>
                    <a:lnTo>
                      <a:pt x="141" y="311"/>
                    </a:lnTo>
                    <a:lnTo>
                      <a:pt x="159" y="265"/>
                    </a:lnTo>
                    <a:lnTo>
                      <a:pt x="176" y="221"/>
                    </a:lnTo>
                    <a:lnTo>
                      <a:pt x="195" y="177"/>
                    </a:lnTo>
                    <a:lnTo>
                      <a:pt x="214" y="132"/>
                    </a:lnTo>
                    <a:lnTo>
                      <a:pt x="232" y="88"/>
                    </a:lnTo>
                    <a:lnTo>
                      <a:pt x="251" y="44"/>
                    </a:lnTo>
                    <a:lnTo>
                      <a:pt x="271" y="0"/>
                    </a:lnTo>
                    <a:lnTo>
                      <a:pt x="8849" y="8115"/>
                    </a:lnTo>
                    <a:lnTo>
                      <a:pt x="8806" y="8136"/>
                    </a:lnTo>
                    <a:lnTo>
                      <a:pt x="8761" y="8156"/>
                    </a:lnTo>
                    <a:lnTo>
                      <a:pt x="8718" y="8177"/>
                    </a:lnTo>
                    <a:lnTo>
                      <a:pt x="8674" y="8198"/>
                    </a:lnTo>
                    <a:lnTo>
                      <a:pt x="8630" y="8217"/>
                    </a:lnTo>
                    <a:lnTo>
                      <a:pt x="8586" y="8237"/>
                    </a:lnTo>
                    <a:lnTo>
                      <a:pt x="8540" y="8256"/>
                    </a:lnTo>
                    <a:lnTo>
                      <a:pt x="8496" y="8274"/>
                    </a:lnTo>
                    <a:lnTo>
                      <a:pt x="8452" y="8293"/>
                    </a:lnTo>
                    <a:lnTo>
                      <a:pt x="8406" y="8312"/>
                    </a:lnTo>
                    <a:lnTo>
                      <a:pt x="8361" y="8329"/>
                    </a:lnTo>
                    <a:lnTo>
                      <a:pt x="8316" y="8347"/>
                    </a:lnTo>
                    <a:lnTo>
                      <a:pt x="8270" y="8364"/>
                    </a:lnTo>
                    <a:lnTo>
                      <a:pt x="8225" y="8381"/>
                    </a:lnTo>
                    <a:lnTo>
                      <a:pt x="8178" y="8397"/>
                    </a:lnTo>
                    <a:lnTo>
                      <a:pt x="8132" y="8413"/>
                    </a:lnTo>
                    <a:close/>
                  </a:path>
                </a:pathLst>
              </a:custGeom>
              <a:solidFill>
                <a:srgbClr val="c81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9440" y="5708880"/>
                <a:ext cx="124200" cy="120960"/>
              </a:xfrm>
              <a:custGeom>
                <a:avLst/>
                <a:gdLst/>
                <a:ahLst/>
                <a:rect l="l" t="t" r="r" b="b"/>
                <a:pathLst>
                  <a:path w="9054" h="8607">
                    <a:moveTo>
                      <a:pt x="8374" y="8607"/>
                    </a:moveTo>
                    <a:lnTo>
                      <a:pt x="0" y="685"/>
                    </a:lnTo>
                    <a:lnTo>
                      <a:pt x="33" y="597"/>
                    </a:lnTo>
                    <a:lnTo>
                      <a:pt x="69" y="510"/>
                    </a:lnTo>
                    <a:lnTo>
                      <a:pt x="106" y="424"/>
                    </a:lnTo>
                    <a:lnTo>
                      <a:pt x="143" y="337"/>
                    </a:lnTo>
                    <a:lnTo>
                      <a:pt x="183" y="252"/>
                    </a:lnTo>
                    <a:lnTo>
                      <a:pt x="223" y="168"/>
                    </a:lnTo>
                    <a:lnTo>
                      <a:pt x="264" y="83"/>
                    </a:lnTo>
                    <a:lnTo>
                      <a:pt x="308" y="0"/>
                    </a:lnTo>
                    <a:lnTo>
                      <a:pt x="9054" y="8273"/>
                    </a:lnTo>
                    <a:lnTo>
                      <a:pt x="8971" y="8320"/>
                    </a:lnTo>
                    <a:lnTo>
                      <a:pt x="8889" y="8364"/>
                    </a:lnTo>
                    <a:lnTo>
                      <a:pt x="8805" y="8408"/>
                    </a:lnTo>
                    <a:lnTo>
                      <a:pt x="8720" y="8450"/>
                    </a:lnTo>
                    <a:lnTo>
                      <a:pt x="8634" y="8491"/>
                    </a:lnTo>
                    <a:lnTo>
                      <a:pt x="8549" y="8532"/>
                    </a:lnTo>
                    <a:lnTo>
                      <a:pt x="8462" y="8570"/>
                    </a:lnTo>
                    <a:lnTo>
                      <a:pt x="8374" y="8607"/>
                    </a:lnTo>
                    <a:close/>
                  </a:path>
                </a:pathLst>
              </a:custGeom>
              <a:solidFill>
                <a:srgbClr val="c913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51600" y="5704200"/>
                <a:ext cx="126000" cy="123120"/>
              </a:xfrm>
              <a:custGeom>
                <a:avLst/>
                <a:gdLst/>
                <a:ahLst/>
                <a:rect l="l" t="t" r="r" b="b"/>
                <a:pathLst>
                  <a:path w="9224" h="8768">
                    <a:moveTo>
                      <a:pt x="8578" y="8768"/>
                    </a:moveTo>
                    <a:lnTo>
                      <a:pt x="0" y="653"/>
                    </a:lnTo>
                    <a:lnTo>
                      <a:pt x="39" y="569"/>
                    </a:lnTo>
                    <a:lnTo>
                      <a:pt x="78" y="486"/>
                    </a:lnTo>
                    <a:lnTo>
                      <a:pt x="119" y="403"/>
                    </a:lnTo>
                    <a:lnTo>
                      <a:pt x="162" y="321"/>
                    </a:lnTo>
                    <a:lnTo>
                      <a:pt x="205" y="241"/>
                    </a:lnTo>
                    <a:lnTo>
                      <a:pt x="249" y="160"/>
                    </a:lnTo>
                    <a:lnTo>
                      <a:pt x="295" y="80"/>
                    </a:lnTo>
                    <a:lnTo>
                      <a:pt x="342" y="0"/>
                    </a:lnTo>
                    <a:lnTo>
                      <a:pt x="9224" y="8402"/>
                    </a:lnTo>
                    <a:lnTo>
                      <a:pt x="9145" y="8451"/>
                    </a:lnTo>
                    <a:lnTo>
                      <a:pt x="9066" y="8500"/>
                    </a:lnTo>
                    <a:lnTo>
                      <a:pt x="8987" y="8547"/>
                    </a:lnTo>
                    <a:lnTo>
                      <a:pt x="8907" y="8593"/>
                    </a:lnTo>
                    <a:lnTo>
                      <a:pt x="8825" y="8639"/>
                    </a:lnTo>
                    <a:lnTo>
                      <a:pt x="8744" y="8683"/>
                    </a:lnTo>
                    <a:lnTo>
                      <a:pt x="8661" y="8726"/>
                    </a:lnTo>
                    <a:lnTo>
                      <a:pt x="8578" y="8768"/>
                    </a:lnTo>
                    <a:close/>
                  </a:path>
                </a:pathLst>
              </a:custGeom>
              <a:solidFill>
                <a:srgbClr val="ca1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3760" y="5700240"/>
                <a:ext cx="127800" cy="124560"/>
              </a:xfrm>
              <a:custGeom>
                <a:avLst/>
                <a:gdLst/>
                <a:ahLst/>
                <a:rect l="l" t="t" r="r" b="b"/>
                <a:pathLst>
                  <a:path w="9359" h="8895">
                    <a:moveTo>
                      <a:pt x="8746" y="8895"/>
                    </a:moveTo>
                    <a:lnTo>
                      <a:pt x="0" y="622"/>
                    </a:lnTo>
                    <a:lnTo>
                      <a:pt x="42" y="542"/>
                    </a:lnTo>
                    <a:lnTo>
                      <a:pt x="86" y="462"/>
                    </a:lnTo>
                    <a:lnTo>
                      <a:pt x="132" y="383"/>
                    </a:lnTo>
                    <a:lnTo>
                      <a:pt x="178" y="304"/>
                    </a:lnTo>
                    <a:lnTo>
                      <a:pt x="225" y="228"/>
                    </a:lnTo>
                    <a:lnTo>
                      <a:pt x="274" y="151"/>
                    </a:lnTo>
                    <a:lnTo>
                      <a:pt x="323" y="75"/>
                    </a:lnTo>
                    <a:lnTo>
                      <a:pt x="374" y="0"/>
                    </a:lnTo>
                    <a:lnTo>
                      <a:pt x="9359" y="8499"/>
                    </a:lnTo>
                    <a:lnTo>
                      <a:pt x="9286" y="8553"/>
                    </a:lnTo>
                    <a:lnTo>
                      <a:pt x="9211" y="8605"/>
                    </a:lnTo>
                    <a:lnTo>
                      <a:pt x="9135" y="8656"/>
                    </a:lnTo>
                    <a:lnTo>
                      <a:pt x="9059" y="8706"/>
                    </a:lnTo>
                    <a:lnTo>
                      <a:pt x="8982" y="8755"/>
                    </a:lnTo>
                    <a:lnTo>
                      <a:pt x="8904" y="8804"/>
                    </a:lnTo>
                    <a:lnTo>
                      <a:pt x="8826" y="8850"/>
                    </a:lnTo>
                    <a:lnTo>
                      <a:pt x="8746" y="88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6280" y="5695920"/>
                <a:ext cx="129600" cy="126720"/>
              </a:xfrm>
              <a:custGeom>
                <a:avLst/>
                <a:gdLst/>
                <a:ahLst/>
                <a:rect l="l" t="t" r="r" b="b"/>
                <a:pathLst>
                  <a:path w="9464" h="8995">
                    <a:moveTo>
                      <a:pt x="8882" y="8995"/>
                    </a:moveTo>
                    <a:lnTo>
                      <a:pt x="0" y="593"/>
                    </a:lnTo>
                    <a:lnTo>
                      <a:pt x="47" y="517"/>
                    </a:lnTo>
                    <a:lnTo>
                      <a:pt x="95" y="441"/>
                    </a:lnTo>
                    <a:lnTo>
                      <a:pt x="144" y="366"/>
                    </a:lnTo>
                    <a:lnTo>
                      <a:pt x="194" y="291"/>
                    </a:lnTo>
                    <a:lnTo>
                      <a:pt x="245" y="217"/>
                    </a:lnTo>
                    <a:lnTo>
                      <a:pt x="298" y="145"/>
                    </a:lnTo>
                    <a:lnTo>
                      <a:pt x="351" y="72"/>
                    </a:lnTo>
                    <a:lnTo>
                      <a:pt x="406" y="0"/>
                    </a:lnTo>
                    <a:lnTo>
                      <a:pt x="9464" y="8569"/>
                    </a:lnTo>
                    <a:lnTo>
                      <a:pt x="9394" y="8626"/>
                    </a:lnTo>
                    <a:lnTo>
                      <a:pt x="9323" y="8681"/>
                    </a:lnTo>
                    <a:lnTo>
                      <a:pt x="9252" y="8737"/>
                    </a:lnTo>
                    <a:lnTo>
                      <a:pt x="9179" y="8790"/>
                    </a:lnTo>
                    <a:lnTo>
                      <a:pt x="9105" y="8843"/>
                    </a:lnTo>
                    <a:lnTo>
                      <a:pt x="9032" y="8894"/>
                    </a:lnTo>
                    <a:lnTo>
                      <a:pt x="8957" y="8945"/>
                    </a:lnTo>
                    <a:lnTo>
                      <a:pt x="8882" y="89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58800" y="569232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9538" h="9064">
                    <a:moveTo>
                      <a:pt x="8985" y="9064"/>
                    </a:moveTo>
                    <a:lnTo>
                      <a:pt x="0" y="565"/>
                    </a:lnTo>
                    <a:lnTo>
                      <a:pt x="50" y="491"/>
                    </a:lnTo>
                    <a:lnTo>
                      <a:pt x="103" y="419"/>
                    </a:lnTo>
                    <a:lnTo>
                      <a:pt x="155" y="347"/>
                    </a:lnTo>
                    <a:lnTo>
                      <a:pt x="210" y="276"/>
                    </a:lnTo>
                    <a:lnTo>
                      <a:pt x="265" y="206"/>
                    </a:lnTo>
                    <a:lnTo>
                      <a:pt x="321" y="136"/>
                    </a:lnTo>
                    <a:lnTo>
                      <a:pt x="377" y="68"/>
                    </a:lnTo>
                    <a:lnTo>
                      <a:pt x="436" y="0"/>
                    </a:lnTo>
                    <a:lnTo>
                      <a:pt x="9538" y="8610"/>
                    </a:lnTo>
                    <a:lnTo>
                      <a:pt x="9471" y="8670"/>
                    </a:lnTo>
                    <a:lnTo>
                      <a:pt x="9405" y="8729"/>
                    </a:lnTo>
                    <a:lnTo>
                      <a:pt x="9336" y="8788"/>
                    </a:lnTo>
                    <a:lnTo>
                      <a:pt x="9268" y="8845"/>
                    </a:lnTo>
                    <a:lnTo>
                      <a:pt x="9198" y="8901"/>
                    </a:lnTo>
                    <a:lnTo>
                      <a:pt x="9128" y="8956"/>
                    </a:lnTo>
                    <a:lnTo>
                      <a:pt x="9057" y="9011"/>
                    </a:lnTo>
                    <a:lnTo>
                      <a:pt x="8985" y="9064"/>
                    </a:lnTo>
                    <a:close/>
                  </a:path>
                </a:pathLst>
              </a:custGeom>
              <a:solidFill>
                <a:srgbClr val="cc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62040" y="5688720"/>
                <a:ext cx="130680" cy="1278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058" y="9105"/>
                    </a:moveTo>
                    <a:lnTo>
                      <a:pt x="0" y="536"/>
                    </a:lnTo>
                    <a:lnTo>
                      <a:pt x="54" y="467"/>
                    </a:lnTo>
                    <a:lnTo>
                      <a:pt x="110" y="397"/>
                    </a:lnTo>
                    <a:lnTo>
                      <a:pt x="166" y="329"/>
                    </a:lnTo>
                    <a:lnTo>
                      <a:pt x="225" y="261"/>
                    </a:lnTo>
                    <a:lnTo>
                      <a:pt x="283" y="195"/>
                    </a:lnTo>
                    <a:lnTo>
                      <a:pt x="343" y="129"/>
                    </a:lnTo>
                    <a:lnTo>
                      <a:pt x="402" y="63"/>
                    </a:lnTo>
                    <a:lnTo>
                      <a:pt x="464" y="0"/>
                    </a:lnTo>
                    <a:lnTo>
                      <a:pt x="9581" y="8623"/>
                    </a:lnTo>
                    <a:lnTo>
                      <a:pt x="9518" y="8687"/>
                    </a:lnTo>
                    <a:lnTo>
                      <a:pt x="9455" y="8749"/>
                    </a:lnTo>
                    <a:lnTo>
                      <a:pt x="9391" y="8811"/>
                    </a:lnTo>
                    <a:lnTo>
                      <a:pt x="9326" y="8871"/>
                    </a:lnTo>
                    <a:lnTo>
                      <a:pt x="9260" y="8932"/>
                    </a:lnTo>
                    <a:lnTo>
                      <a:pt x="9194" y="8990"/>
                    </a:lnTo>
                    <a:lnTo>
                      <a:pt x="9126" y="9049"/>
                    </a:lnTo>
                    <a:lnTo>
                      <a:pt x="9058" y="9105"/>
                    </a:lnTo>
                    <a:close/>
                  </a:path>
                </a:pathLst>
              </a:custGeom>
              <a:solidFill>
                <a:srgbClr val="cd1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4560" y="5684760"/>
                <a:ext cx="131400" cy="128520"/>
              </a:xfrm>
              <a:custGeom>
                <a:avLst/>
                <a:gdLst/>
                <a:ahLst/>
                <a:rect l="l" t="t" r="r" b="b"/>
                <a:pathLst>
                  <a:path w="9595" h="9119">
                    <a:moveTo>
                      <a:pt x="9102" y="9119"/>
                    </a:moveTo>
                    <a:lnTo>
                      <a:pt x="0" y="509"/>
                    </a:lnTo>
                    <a:lnTo>
                      <a:pt x="58" y="443"/>
                    </a:lnTo>
                    <a:lnTo>
                      <a:pt x="118" y="377"/>
                    </a:lnTo>
                    <a:lnTo>
                      <a:pt x="178" y="311"/>
                    </a:lnTo>
                    <a:lnTo>
                      <a:pt x="240" y="248"/>
                    </a:lnTo>
                    <a:lnTo>
                      <a:pt x="301" y="184"/>
                    </a:lnTo>
                    <a:lnTo>
                      <a:pt x="365" y="122"/>
                    </a:lnTo>
                    <a:lnTo>
                      <a:pt x="428" y="60"/>
                    </a:lnTo>
                    <a:lnTo>
                      <a:pt x="494" y="0"/>
                    </a:lnTo>
                    <a:lnTo>
                      <a:pt x="9595" y="8610"/>
                    </a:lnTo>
                    <a:lnTo>
                      <a:pt x="9537" y="8676"/>
                    </a:lnTo>
                    <a:lnTo>
                      <a:pt x="9477" y="8742"/>
                    </a:lnTo>
                    <a:lnTo>
                      <a:pt x="9416" y="8808"/>
                    </a:lnTo>
                    <a:lnTo>
                      <a:pt x="9356" y="8871"/>
                    </a:lnTo>
                    <a:lnTo>
                      <a:pt x="9293" y="8935"/>
                    </a:lnTo>
                    <a:lnTo>
                      <a:pt x="9230" y="8997"/>
                    </a:lnTo>
                    <a:lnTo>
                      <a:pt x="9166" y="9059"/>
                    </a:lnTo>
                    <a:lnTo>
                      <a:pt x="9102" y="9119"/>
                    </a:lnTo>
                    <a:close/>
                  </a:path>
                </a:pathLst>
              </a:custGeom>
              <a:solidFill>
                <a:srgbClr val="ce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8160" y="5681520"/>
                <a:ext cx="131040" cy="1278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117" y="9105"/>
                    </a:moveTo>
                    <a:lnTo>
                      <a:pt x="0" y="482"/>
                    </a:lnTo>
                    <a:lnTo>
                      <a:pt x="62" y="418"/>
                    </a:lnTo>
                    <a:lnTo>
                      <a:pt x="126" y="356"/>
                    </a:lnTo>
                    <a:lnTo>
                      <a:pt x="189" y="294"/>
                    </a:lnTo>
                    <a:lnTo>
                      <a:pt x="255" y="234"/>
                    </a:lnTo>
                    <a:lnTo>
                      <a:pt x="320" y="173"/>
                    </a:lnTo>
                    <a:lnTo>
                      <a:pt x="387" y="115"/>
                    </a:lnTo>
                    <a:lnTo>
                      <a:pt x="454" y="57"/>
                    </a:lnTo>
                    <a:lnTo>
                      <a:pt x="523" y="0"/>
                    </a:lnTo>
                    <a:lnTo>
                      <a:pt x="9581" y="8569"/>
                    </a:lnTo>
                    <a:lnTo>
                      <a:pt x="9526" y="8638"/>
                    </a:lnTo>
                    <a:lnTo>
                      <a:pt x="9471" y="8708"/>
                    </a:lnTo>
                    <a:lnTo>
                      <a:pt x="9415" y="8776"/>
                    </a:lnTo>
                    <a:lnTo>
                      <a:pt x="9357" y="8844"/>
                    </a:lnTo>
                    <a:lnTo>
                      <a:pt x="9298" y="8910"/>
                    </a:lnTo>
                    <a:lnTo>
                      <a:pt x="9238" y="8976"/>
                    </a:lnTo>
                    <a:lnTo>
                      <a:pt x="9179" y="9042"/>
                    </a:lnTo>
                    <a:lnTo>
                      <a:pt x="9117" y="9105"/>
                    </a:lnTo>
                    <a:close/>
                  </a:path>
                </a:pathLst>
              </a:custGeom>
              <a:solidFill>
                <a:srgbClr val="cf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1400" y="567864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9537" h="9064">
                    <a:moveTo>
                      <a:pt x="9101" y="9064"/>
                    </a:moveTo>
                    <a:lnTo>
                      <a:pt x="0" y="454"/>
                    </a:lnTo>
                    <a:lnTo>
                      <a:pt x="65" y="394"/>
                    </a:lnTo>
                    <a:lnTo>
                      <a:pt x="132" y="335"/>
                    </a:lnTo>
                    <a:lnTo>
                      <a:pt x="200" y="276"/>
                    </a:lnTo>
                    <a:lnTo>
                      <a:pt x="269" y="220"/>
                    </a:lnTo>
                    <a:lnTo>
                      <a:pt x="339" y="163"/>
                    </a:lnTo>
                    <a:lnTo>
                      <a:pt x="408" y="108"/>
                    </a:lnTo>
                    <a:lnTo>
                      <a:pt x="480" y="53"/>
                    </a:lnTo>
                    <a:lnTo>
                      <a:pt x="551" y="0"/>
                    </a:lnTo>
                    <a:lnTo>
                      <a:pt x="9537" y="8499"/>
                    </a:lnTo>
                    <a:lnTo>
                      <a:pt x="9486" y="8573"/>
                    </a:lnTo>
                    <a:lnTo>
                      <a:pt x="9434" y="8645"/>
                    </a:lnTo>
                    <a:lnTo>
                      <a:pt x="9381" y="8717"/>
                    </a:lnTo>
                    <a:lnTo>
                      <a:pt x="9327" y="8789"/>
                    </a:lnTo>
                    <a:lnTo>
                      <a:pt x="9272" y="8858"/>
                    </a:lnTo>
                    <a:lnTo>
                      <a:pt x="9216" y="8928"/>
                    </a:lnTo>
                    <a:lnTo>
                      <a:pt x="9160" y="8996"/>
                    </a:lnTo>
                    <a:lnTo>
                      <a:pt x="9101" y="9064"/>
                    </a:lnTo>
                    <a:close/>
                  </a:path>
                </a:pathLst>
              </a:custGeom>
              <a:solidFill>
                <a:srgbClr val="d01a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5000" y="5675400"/>
                <a:ext cx="129600" cy="126720"/>
              </a:xfrm>
              <a:custGeom>
                <a:avLst/>
                <a:gdLst/>
                <a:ahLst/>
                <a:rect l="l" t="t" r="r" b="b"/>
                <a:pathLst>
                  <a:path w="9463" h="8995">
                    <a:moveTo>
                      <a:pt x="9058" y="8995"/>
                    </a:moveTo>
                    <a:lnTo>
                      <a:pt x="0" y="426"/>
                    </a:lnTo>
                    <a:lnTo>
                      <a:pt x="70" y="369"/>
                    </a:lnTo>
                    <a:lnTo>
                      <a:pt x="140" y="314"/>
                    </a:lnTo>
                    <a:lnTo>
                      <a:pt x="212" y="258"/>
                    </a:lnTo>
                    <a:lnTo>
                      <a:pt x="284" y="205"/>
                    </a:lnTo>
                    <a:lnTo>
                      <a:pt x="358" y="152"/>
                    </a:lnTo>
                    <a:lnTo>
                      <a:pt x="432" y="101"/>
                    </a:lnTo>
                    <a:lnTo>
                      <a:pt x="507" y="51"/>
                    </a:lnTo>
                    <a:lnTo>
                      <a:pt x="582" y="0"/>
                    </a:lnTo>
                    <a:lnTo>
                      <a:pt x="9463" y="8402"/>
                    </a:lnTo>
                    <a:lnTo>
                      <a:pt x="9417" y="8478"/>
                    </a:lnTo>
                    <a:lnTo>
                      <a:pt x="9369" y="8555"/>
                    </a:lnTo>
                    <a:lnTo>
                      <a:pt x="9319" y="8629"/>
                    </a:lnTo>
                    <a:lnTo>
                      <a:pt x="9270" y="8704"/>
                    </a:lnTo>
                    <a:lnTo>
                      <a:pt x="9218" y="8778"/>
                    </a:lnTo>
                    <a:lnTo>
                      <a:pt x="9166" y="8851"/>
                    </a:lnTo>
                    <a:lnTo>
                      <a:pt x="9112" y="8923"/>
                    </a:lnTo>
                    <a:lnTo>
                      <a:pt x="9058" y="8995"/>
                    </a:lnTo>
                    <a:close/>
                  </a:path>
                </a:pathLst>
              </a:custGeom>
              <a:solidFill>
                <a:srgbClr val="d01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9320" y="5673240"/>
                <a:ext cx="128160" cy="124920"/>
              </a:xfrm>
              <a:custGeom>
                <a:avLst/>
                <a:gdLst/>
                <a:ahLst/>
                <a:rect l="l" t="t" r="r" b="b"/>
                <a:pathLst>
                  <a:path w="9360" h="8895">
                    <a:moveTo>
                      <a:pt x="8986" y="8895"/>
                    </a:moveTo>
                    <a:lnTo>
                      <a:pt x="0" y="396"/>
                    </a:lnTo>
                    <a:lnTo>
                      <a:pt x="74" y="342"/>
                    </a:lnTo>
                    <a:lnTo>
                      <a:pt x="149" y="290"/>
                    </a:lnTo>
                    <a:lnTo>
                      <a:pt x="224" y="240"/>
                    </a:lnTo>
                    <a:lnTo>
                      <a:pt x="301" y="189"/>
                    </a:lnTo>
                    <a:lnTo>
                      <a:pt x="378" y="140"/>
                    </a:lnTo>
                    <a:lnTo>
                      <a:pt x="455" y="92"/>
                    </a:lnTo>
                    <a:lnTo>
                      <a:pt x="534" y="45"/>
                    </a:lnTo>
                    <a:lnTo>
                      <a:pt x="614" y="0"/>
                    </a:lnTo>
                    <a:lnTo>
                      <a:pt x="9360" y="8273"/>
                    </a:lnTo>
                    <a:lnTo>
                      <a:pt x="9318" y="8353"/>
                    </a:lnTo>
                    <a:lnTo>
                      <a:pt x="9273" y="8433"/>
                    </a:lnTo>
                    <a:lnTo>
                      <a:pt x="9228" y="8512"/>
                    </a:lnTo>
                    <a:lnTo>
                      <a:pt x="9182" y="8591"/>
                    </a:lnTo>
                    <a:lnTo>
                      <a:pt x="9135" y="8668"/>
                    </a:lnTo>
                    <a:lnTo>
                      <a:pt x="9087" y="8745"/>
                    </a:lnTo>
                    <a:lnTo>
                      <a:pt x="9036" y="8820"/>
                    </a:lnTo>
                    <a:lnTo>
                      <a:pt x="8986" y="8895"/>
                    </a:lnTo>
                    <a:close/>
                  </a:path>
                </a:pathLst>
              </a:custGeom>
              <a:solidFill>
                <a:srgbClr val="d11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3280" y="5670360"/>
                <a:ext cx="126360" cy="123120"/>
              </a:xfrm>
              <a:custGeom>
                <a:avLst/>
                <a:gdLst/>
                <a:ahLst/>
                <a:rect l="l" t="t" r="r" b="b"/>
                <a:pathLst>
                  <a:path w="9224" h="8767">
                    <a:moveTo>
                      <a:pt x="8881" y="8767"/>
                    </a:moveTo>
                    <a:lnTo>
                      <a:pt x="0" y="365"/>
                    </a:lnTo>
                    <a:lnTo>
                      <a:pt x="79" y="316"/>
                    </a:lnTo>
                    <a:lnTo>
                      <a:pt x="157" y="267"/>
                    </a:lnTo>
                    <a:lnTo>
                      <a:pt x="237" y="220"/>
                    </a:lnTo>
                    <a:lnTo>
                      <a:pt x="318" y="174"/>
                    </a:lnTo>
                    <a:lnTo>
                      <a:pt x="398" y="128"/>
                    </a:lnTo>
                    <a:lnTo>
                      <a:pt x="480" y="84"/>
                    </a:lnTo>
                    <a:lnTo>
                      <a:pt x="563" y="41"/>
                    </a:lnTo>
                    <a:lnTo>
                      <a:pt x="646" y="0"/>
                    </a:lnTo>
                    <a:lnTo>
                      <a:pt x="9224" y="8114"/>
                    </a:lnTo>
                    <a:lnTo>
                      <a:pt x="9185" y="8198"/>
                    </a:lnTo>
                    <a:lnTo>
                      <a:pt x="9146" y="8281"/>
                    </a:lnTo>
                    <a:lnTo>
                      <a:pt x="9104" y="8364"/>
                    </a:lnTo>
                    <a:lnTo>
                      <a:pt x="9062" y="8446"/>
                    </a:lnTo>
                    <a:lnTo>
                      <a:pt x="9019" y="8527"/>
                    </a:lnTo>
                    <a:lnTo>
                      <a:pt x="8974" y="8608"/>
                    </a:lnTo>
                    <a:lnTo>
                      <a:pt x="8929" y="8688"/>
                    </a:lnTo>
                    <a:lnTo>
                      <a:pt x="8881" y="8767"/>
                    </a:lnTo>
                    <a:close/>
                  </a:path>
                </a:pathLst>
              </a:custGeom>
              <a:solidFill>
                <a:srgbClr val="d21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7960" y="5668200"/>
                <a:ext cx="123480" cy="120960"/>
              </a:xfrm>
              <a:custGeom>
                <a:avLst/>
                <a:gdLst/>
                <a:ahLst/>
                <a:rect l="l" t="t" r="r" b="b"/>
                <a:pathLst>
                  <a:path w="9053" h="8607">
                    <a:moveTo>
                      <a:pt x="8746" y="8607"/>
                    </a:moveTo>
                    <a:lnTo>
                      <a:pt x="0" y="334"/>
                    </a:lnTo>
                    <a:lnTo>
                      <a:pt x="82" y="287"/>
                    </a:lnTo>
                    <a:lnTo>
                      <a:pt x="165" y="243"/>
                    </a:lnTo>
                    <a:lnTo>
                      <a:pt x="249" y="199"/>
                    </a:lnTo>
                    <a:lnTo>
                      <a:pt x="333" y="157"/>
                    </a:lnTo>
                    <a:lnTo>
                      <a:pt x="419" y="116"/>
                    </a:lnTo>
                    <a:lnTo>
                      <a:pt x="505" y="75"/>
                    </a:lnTo>
                    <a:lnTo>
                      <a:pt x="592" y="37"/>
                    </a:lnTo>
                    <a:lnTo>
                      <a:pt x="679" y="0"/>
                    </a:lnTo>
                    <a:lnTo>
                      <a:pt x="9053" y="7922"/>
                    </a:lnTo>
                    <a:lnTo>
                      <a:pt x="9020" y="8010"/>
                    </a:lnTo>
                    <a:lnTo>
                      <a:pt x="8985" y="8097"/>
                    </a:lnTo>
                    <a:lnTo>
                      <a:pt x="8948" y="8184"/>
                    </a:lnTo>
                    <a:lnTo>
                      <a:pt x="8910" y="8270"/>
                    </a:lnTo>
                    <a:lnTo>
                      <a:pt x="8871" y="8356"/>
                    </a:lnTo>
                    <a:lnTo>
                      <a:pt x="8831" y="8440"/>
                    </a:lnTo>
                    <a:lnTo>
                      <a:pt x="8789" y="8524"/>
                    </a:lnTo>
                    <a:lnTo>
                      <a:pt x="8746" y="8607"/>
                    </a:lnTo>
                    <a:close/>
                  </a:path>
                </a:pathLst>
              </a:custGeom>
              <a:solidFill>
                <a:srgbClr val="d31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2280" y="5666400"/>
                <a:ext cx="120960" cy="1180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578" y="8413"/>
                    </a:moveTo>
                    <a:lnTo>
                      <a:pt x="0" y="299"/>
                    </a:lnTo>
                    <a:lnTo>
                      <a:pt x="44" y="278"/>
                    </a:lnTo>
                    <a:lnTo>
                      <a:pt x="87" y="257"/>
                    </a:lnTo>
                    <a:lnTo>
                      <a:pt x="131" y="237"/>
                    </a:lnTo>
                    <a:lnTo>
                      <a:pt x="175" y="216"/>
                    </a:lnTo>
                    <a:lnTo>
                      <a:pt x="219" y="196"/>
                    </a:lnTo>
                    <a:lnTo>
                      <a:pt x="264" y="177"/>
                    </a:lnTo>
                    <a:lnTo>
                      <a:pt x="308" y="158"/>
                    </a:lnTo>
                    <a:lnTo>
                      <a:pt x="352" y="139"/>
                    </a:lnTo>
                    <a:lnTo>
                      <a:pt x="397" y="121"/>
                    </a:lnTo>
                    <a:lnTo>
                      <a:pt x="442" y="102"/>
                    </a:lnTo>
                    <a:lnTo>
                      <a:pt x="488" y="84"/>
                    </a:lnTo>
                    <a:lnTo>
                      <a:pt x="533" y="66"/>
                    </a:lnTo>
                    <a:lnTo>
                      <a:pt x="578" y="49"/>
                    </a:lnTo>
                    <a:lnTo>
                      <a:pt x="625" y="33"/>
                    </a:lnTo>
                    <a:lnTo>
                      <a:pt x="670" y="16"/>
                    </a:lnTo>
                    <a:lnTo>
                      <a:pt x="717" y="0"/>
                    </a:lnTo>
                    <a:lnTo>
                      <a:pt x="8849" y="7693"/>
                    </a:lnTo>
                    <a:lnTo>
                      <a:pt x="8834" y="7739"/>
                    </a:lnTo>
                    <a:lnTo>
                      <a:pt x="8820" y="7785"/>
                    </a:lnTo>
                    <a:lnTo>
                      <a:pt x="8805" y="7831"/>
                    </a:lnTo>
                    <a:lnTo>
                      <a:pt x="8789" y="7876"/>
                    </a:lnTo>
                    <a:lnTo>
                      <a:pt x="8774" y="7923"/>
                    </a:lnTo>
                    <a:lnTo>
                      <a:pt x="8758" y="7968"/>
                    </a:lnTo>
                    <a:lnTo>
                      <a:pt x="8741" y="8013"/>
                    </a:lnTo>
                    <a:lnTo>
                      <a:pt x="8725" y="8058"/>
                    </a:lnTo>
                    <a:lnTo>
                      <a:pt x="8707" y="8103"/>
                    </a:lnTo>
                    <a:lnTo>
                      <a:pt x="8689" y="8148"/>
                    </a:lnTo>
                    <a:lnTo>
                      <a:pt x="8672" y="8192"/>
                    </a:lnTo>
                    <a:lnTo>
                      <a:pt x="8654" y="8236"/>
                    </a:lnTo>
                    <a:lnTo>
                      <a:pt x="8635" y="8281"/>
                    </a:lnTo>
                    <a:lnTo>
                      <a:pt x="8617" y="8325"/>
                    </a:lnTo>
                    <a:lnTo>
                      <a:pt x="8597" y="8369"/>
                    </a:lnTo>
                    <a:lnTo>
                      <a:pt x="8578" y="8413"/>
                    </a:lnTo>
                    <a:close/>
                  </a:path>
                </a:pathLst>
              </a:custGeom>
              <a:solidFill>
                <a:srgbClr val="d4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6960" y="5664960"/>
                <a:ext cx="117720" cy="11484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8374" y="8183"/>
                    </a:moveTo>
                    <a:lnTo>
                      <a:pt x="0" y="261"/>
                    </a:lnTo>
                    <a:lnTo>
                      <a:pt x="46" y="242"/>
                    </a:lnTo>
                    <a:lnTo>
                      <a:pt x="92" y="223"/>
                    </a:lnTo>
                    <a:lnTo>
                      <a:pt x="139" y="205"/>
                    </a:lnTo>
                    <a:lnTo>
                      <a:pt x="185" y="187"/>
                    </a:lnTo>
                    <a:lnTo>
                      <a:pt x="231" y="169"/>
                    </a:lnTo>
                    <a:lnTo>
                      <a:pt x="279" y="152"/>
                    </a:lnTo>
                    <a:lnTo>
                      <a:pt x="325" y="136"/>
                    </a:lnTo>
                    <a:lnTo>
                      <a:pt x="373" y="119"/>
                    </a:lnTo>
                    <a:lnTo>
                      <a:pt x="420" y="102"/>
                    </a:lnTo>
                    <a:lnTo>
                      <a:pt x="467" y="87"/>
                    </a:lnTo>
                    <a:lnTo>
                      <a:pt x="516" y="71"/>
                    </a:lnTo>
                    <a:lnTo>
                      <a:pt x="563" y="56"/>
                    </a:lnTo>
                    <a:lnTo>
                      <a:pt x="612" y="42"/>
                    </a:lnTo>
                    <a:lnTo>
                      <a:pt x="660" y="28"/>
                    </a:lnTo>
                    <a:lnTo>
                      <a:pt x="707" y="14"/>
                    </a:lnTo>
                    <a:lnTo>
                      <a:pt x="757" y="0"/>
                    </a:lnTo>
                    <a:lnTo>
                      <a:pt x="8606" y="7426"/>
                    </a:lnTo>
                    <a:lnTo>
                      <a:pt x="8594" y="7474"/>
                    </a:lnTo>
                    <a:lnTo>
                      <a:pt x="8582" y="7522"/>
                    </a:lnTo>
                    <a:lnTo>
                      <a:pt x="8570" y="7571"/>
                    </a:lnTo>
                    <a:lnTo>
                      <a:pt x="8557" y="7618"/>
                    </a:lnTo>
                    <a:lnTo>
                      <a:pt x="8544" y="7667"/>
                    </a:lnTo>
                    <a:lnTo>
                      <a:pt x="8531" y="7714"/>
                    </a:lnTo>
                    <a:lnTo>
                      <a:pt x="8517" y="7761"/>
                    </a:lnTo>
                    <a:lnTo>
                      <a:pt x="8503" y="7809"/>
                    </a:lnTo>
                    <a:lnTo>
                      <a:pt x="8487" y="7856"/>
                    </a:lnTo>
                    <a:lnTo>
                      <a:pt x="8472" y="7904"/>
                    </a:lnTo>
                    <a:lnTo>
                      <a:pt x="8457" y="7951"/>
                    </a:lnTo>
                    <a:lnTo>
                      <a:pt x="8442" y="7997"/>
                    </a:lnTo>
                    <a:lnTo>
                      <a:pt x="8425" y="8044"/>
                    </a:lnTo>
                    <a:lnTo>
                      <a:pt x="8409" y="8090"/>
                    </a:lnTo>
                    <a:lnTo>
                      <a:pt x="8392" y="8137"/>
                    </a:lnTo>
                    <a:lnTo>
                      <a:pt x="8374" y="818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2000" y="5663520"/>
                <a:ext cx="113760" cy="110880"/>
              </a:xfrm>
              <a:custGeom>
                <a:avLst/>
                <a:gdLst/>
                <a:ahLst/>
                <a:rect l="l" t="t" r="r" b="b"/>
                <a:pathLst>
                  <a:path w="8319" h="7913">
                    <a:moveTo>
                      <a:pt x="8132" y="7913"/>
                    </a:moveTo>
                    <a:lnTo>
                      <a:pt x="0" y="220"/>
                    </a:lnTo>
                    <a:lnTo>
                      <a:pt x="48" y="203"/>
                    </a:lnTo>
                    <a:lnTo>
                      <a:pt x="96" y="187"/>
                    </a:lnTo>
                    <a:lnTo>
                      <a:pt x="146" y="171"/>
                    </a:lnTo>
                    <a:lnTo>
                      <a:pt x="195" y="155"/>
                    </a:lnTo>
                    <a:lnTo>
                      <a:pt x="245" y="140"/>
                    </a:lnTo>
                    <a:lnTo>
                      <a:pt x="294" y="126"/>
                    </a:lnTo>
                    <a:lnTo>
                      <a:pt x="343" y="112"/>
                    </a:lnTo>
                    <a:lnTo>
                      <a:pt x="394" y="98"/>
                    </a:lnTo>
                    <a:lnTo>
                      <a:pt x="443" y="83"/>
                    </a:lnTo>
                    <a:lnTo>
                      <a:pt x="494" y="70"/>
                    </a:lnTo>
                    <a:lnTo>
                      <a:pt x="544" y="57"/>
                    </a:lnTo>
                    <a:lnTo>
                      <a:pt x="595" y="45"/>
                    </a:lnTo>
                    <a:lnTo>
                      <a:pt x="646" y="33"/>
                    </a:lnTo>
                    <a:lnTo>
                      <a:pt x="696" y="22"/>
                    </a:lnTo>
                    <a:lnTo>
                      <a:pt x="748" y="11"/>
                    </a:lnTo>
                    <a:lnTo>
                      <a:pt x="799" y="0"/>
                    </a:lnTo>
                    <a:lnTo>
                      <a:pt x="8319" y="7114"/>
                    </a:lnTo>
                    <a:lnTo>
                      <a:pt x="8311" y="7165"/>
                    </a:lnTo>
                    <a:lnTo>
                      <a:pt x="8302" y="7216"/>
                    </a:lnTo>
                    <a:lnTo>
                      <a:pt x="8292" y="7266"/>
                    </a:lnTo>
                    <a:lnTo>
                      <a:pt x="8282" y="7317"/>
                    </a:lnTo>
                    <a:lnTo>
                      <a:pt x="8272" y="7367"/>
                    </a:lnTo>
                    <a:lnTo>
                      <a:pt x="8262" y="7418"/>
                    </a:lnTo>
                    <a:lnTo>
                      <a:pt x="8251" y="7468"/>
                    </a:lnTo>
                    <a:lnTo>
                      <a:pt x="8238" y="7519"/>
                    </a:lnTo>
                    <a:lnTo>
                      <a:pt x="8226" y="7568"/>
                    </a:lnTo>
                    <a:lnTo>
                      <a:pt x="8214" y="7617"/>
                    </a:lnTo>
                    <a:lnTo>
                      <a:pt x="8201" y="7668"/>
                    </a:lnTo>
                    <a:lnTo>
                      <a:pt x="8188" y="7717"/>
                    </a:lnTo>
                    <a:lnTo>
                      <a:pt x="8175" y="7766"/>
                    </a:lnTo>
                    <a:lnTo>
                      <a:pt x="8161" y="7815"/>
                    </a:lnTo>
                    <a:lnTo>
                      <a:pt x="8147" y="7864"/>
                    </a:lnTo>
                    <a:lnTo>
                      <a:pt x="8132" y="791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7400" y="5662080"/>
                <a:ext cx="109080" cy="106920"/>
              </a:xfrm>
              <a:custGeom>
                <a:avLst/>
                <a:gdLst/>
                <a:ahLst/>
                <a:rect l="l" t="t" r="r" b="b"/>
                <a:pathLst>
                  <a:path w="7988" h="7599">
                    <a:moveTo>
                      <a:pt x="7849" y="7599"/>
                    </a:moveTo>
                    <a:lnTo>
                      <a:pt x="0" y="173"/>
                    </a:lnTo>
                    <a:lnTo>
                      <a:pt x="51" y="158"/>
                    </a:lnTo>
                    <a:lnTo>
                      <a:pt x="104" y="145"/>
                    </a:lnTo>
                    <a:lnTo>
                      <a:pt x="155" y="132"/>
                    </a:lnTo>
                    <a:lnTo>
                      <a:pt x="208" y="119"/>
                    </a:lnTo>
                    <a:lnTo>
                      <a:pt x="260" y="107"/>
                    </a:lnTo>
                    <a:lnTo>
                      <a:pt x="313" y="95"/>
                    </a:lnTo>
                    <a:lnTo>
                      <a:pt x="366" y="84"/>
                    </a:lnTo>
                    <a:lnTo>
                      <a:pt x="419" y="73"/>
                    </a:lnTo>
                    <a:lnTo>
                      <a:pt x="472" y="62"/>
                    </a:lnTo>
                    <a:lnTo>
                      <a:pt x="525" y="51"/>
                    </a:lnTo>
                    <a:lnTo>
                      <a:pt x="579" y="41"/>
                    </a:lnTo>
                    <a:lnTo>
                      <a:pt x="632" y="32"/>
                    </a:lnTo>
                    <a:lnTo>
                      <a:pt x="687" y="23"/>
                    </a:lnTo>
                    <a:lnTo>
                      <a:pt x="740" y="15"/>
                    </a:lnTo>
                    <a:lnTo>
                      <a:pt x="795" y="7"/>
                    </a:lnTo>
                    <a:lnTo>
                      <a:pt x="849" y="0"/>
                    </a:lnTo>
                    <a:lnTo>
                      <a:pt x="7988" y="6752"/>
                    </a:lnTo>
                    <a:lnTo>
                      <a:pt x="7982" y="6807"/>
                    </a:lnTo>
                    <a:lnTo>
                      <a:pt x="7977" y="6860"/>
                    </a:lnTo>
                    <a:lnTo>
                      <a:pt x="7970" y="6914"/>
                    </a:lnTo>
                    <a:lnTo>
                      <a:pt x="7963" y="6967"/>
                    </a:lnTo>
                    <a:lnTo>
                      <a:pt x="7956" y="7021"/>
                    </a:lnTo>
                    <a:lnTo>
                      <a:pt x="7949" y="7074"/>
                    </a:lnTo>
                    <a:lnTo>
                      <a:pt x="7941" y="7128"/>
                    </a:lnTo>
                    <a:lnTo>
                      <a:pt x="7933" y="7180"/>
                    </a:lnTo>
                    <a:lnTo>
                      <a:pt x="7924" y="7233"/>
                    </a:lnTo>
                    <a:lnTo>
                      <a:pt x="7915" y="7286"/>
                    </a:lnTo>
                    <a:lnTo>
                      <a:pt x="7905" y="7338"/>
                    </a:lnTo>
                    <a:lnTo>
                      <a:pt x="7895" y="7391"/>
                    </a:lnTo>
                    <a:lnTo>
                      <a:pt x="7884" y="7443"/>
                    </a:lnTo>
                    <a:lnTo>
                      <a:pt x="7873" y="7495"/>
                    </a:lnTo>
                    <a:lnTo>
                      <a:pt x="7862" y="7547"/>
                    </a:lnTo>
                    <a:lnTo>
                      <a:pt x="7849" y="7599"/>
                    </a:lnTo>
                    <a:close/>
                  </a:path>
                </a:pathLst>
              </a:custGeom>
              <a:solidFill>
                <a:srgbClr val="d62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13160" y="5661720"/>
                <a:ext cx="103680" cy="101520"/>
              </a:xfrm>
              <a:custGeom>
                <a:avLst/>
                <a:gdLst/>
                <a:ahLst/>
                <a:rect l="l" t="t" r="r" b="b"/>
                <a:pathLst>
                  <a:path w="7602" h="7233">
                    <a:moveTo>
                      <a:pt x="7520" y="7233"/>
                    </a:moveTo>
                    <a:lnTo>
                      <a:pt x="0" y="119"/>
                    </a:lnTo>
                    <a:lnTo>
                      <a:pt x="55" y="108"/>
                    </a:lnTo>
                    <a:lnTo>
                      <a:pt x="111" y="96"/>
                    </a:lnTo>
                    <a:lnTo>
                      <a:pt x="167" y="86"/>
                    </a:lnTo>
                    <a:lnTo>
                      <a:pt x="222" y="77"/>
                    </a:lnTo>
                    <a:lnTo>
                      <a:pt x="279" y="68"/>
                    </a:lnTo>
                    <a:lnTo>
                      <a:pt x="335" y="59"/>
                    </a:lnTo>
                    <a:lnTo>
                      <a:pt x="392" y="51"/>
                    </a:lnTo>
                    <a:lnTo>
                      <a:pt x="448" y="43"/>
                    </a:lnTo>
                    <a:lnTo>
                      <a:pt x="505" y="36"/>
                    </a:lnTo>
                    <a:lnTo>
                      <a:pt x="562" y="30"/>
                    </a:lnTo>
                    <a:lnTo>
                      <a:pt x="619" y="23"/>
                    </a:lnTo>
                    <a:lnTo>
                      <a:pt x="676" y="18"/>
                    </a:lnTo>
                    <a:lnTo>
                      <a:pt x="734" y="13"/>
                    </a:lnTo>
                    <a:lnTo>
                      <a:pt x="791" y="8"/>
                    </a:lnTo>
                    <a:lnTo>
                      <a:pt x="849" y="4"/>
                    </a:lnTo>
                    <a:lnTo>
                      <a:pt x="906" y="0"/>
                    </a:lnTo>
                    <a:lnTo>
                      <a:pt x="7602" y="6333"/>
                    </a:lnTo>
                    <a:lnTo>
                      <a:pt x="7601" y="6391"/>
                    </a:lnTo>
                    <a:lnTo>
                      <a:pt x="7599" y="6447"/>
                    </a:lnTo>
                    <a:lnTo>
                      <a:pt x="7597" y="6505"/>
                    </a:lnTo>
                    <a:lnTo>
                      <a:pt x="7594" y="6561"/>
                    </a:lnTo>
                    <a:lnTo>
                      <a:pt x="7591" y="6618"/>
                    </a:lnTo>
                    <a:lnTo>
                      <a:pt x="7587" y="6675"/>
                    </a:lnTo>
                    <a:lnTo>
                      <a:pt x="7582" y="6732"/>
                    </a:lnTo>
                    <a:lnTo>
                      <a:pt x="7578" y="6787"/>
                    </a:lnTo>
                    <a:lnTo>
                      <a:pt x="7572" y="6844"/>
                    </a:lnTo>
                    <a:lnTo>
                      <a:pt x="7566" y="6900"/>
                    </a:lnTo>
                    <a:lnTo>
                      <a:pt x="7559" y="6956"/>
                    </a:lnTo>
                    <a:lnTo>
                      <a:pt x="7552" y="7011"/>
                    </a:lnTo>
                    <a:lnTo>
                      <a:pt x="7545" y="7067"/>
                    </a:lnTo>
                    <a:lnTo>
                      <a:pt x="7537" y="7122"/>
                    </a:lnTo>
                    <a:lnTo>
                      <a:pt x="7529" y="7178"/>
                    </a:lnTo>
                    <a:lnTo>
                      <a:pt x="7520" y="7233"/>
                    </a:lnTo>
                    <a:close/>
                  </a:path>
                </a:pathLst>
              </a:custGeom>
              <a:solidFill>
                <a:srgbClr val="d721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8920" y="56617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7139" y="6809"/>
                    </a:moveTo>
                    <a:lnTo>
                      <a:pt x="0" y="57"/>
                    </a:lnTo>
                    <a:lnTo>
                      <a:pt x="52" y="50"/>
                    </a:lnTo>
                    <a:lnTo>
                      <a:pt x="105" y="44"/>
                    </a:lnTo>
                    <a:lnTo>
                      <a:pt x="157" y="38"/>
                    </a:lnTo>
                    <a:lnTo>
                      <a:pt x="210" y="32"/>
                    </a:lnTo>
                    <a:lnTo>
                      <a:pt x="263" y="27"/>
                    </a:lnTo>
                    <a:lnTo>
                      <a:pt x="316" y="23"/>
                    </a:lnTo>
                    <a:lnTo>
                      <a:pt x="369" y="18"/>
                    </a:lnTo>
                    <a:lnTo>
                      <a:pt x="423" y="15"/>
                    </a:lnTo>
                    <a:lnTo>
                      <a:pt x="476" y="11"/>
                    </a:lnTo>
                    <a:lnTo>
                      <a:pt x="530" y="8"/>
                    </a:lnTo>
                    <a:lnTo>
                      <a:pt x="583" y="6"/>
                    </a:lnTo>
                    <a:lnTo>
                      <a:pt x="637" y="4"/>
                    </a:lnTo>
                    <a:lnTo>
                      <a:pt x="691" y="2"/>
                    </a:lnTo>
                    <a:lnTo>
                      <a:pt x="745" y="1"/>
                    </a:lnTo>
                    <a:lnTo>
                      <a:pt x="799" y="0"/>
                    </a:lnTo>
                    <a:lnTo>
                      <a:pt x="853" y="0"/>
                    </a:lnTo>
                    <a:lnTo>
                      <a:pt x="884" y="0"/>
                    </a:lnTo>
                    <a:lnTo>
                      <a:pt x="914" y="1"/>
                    </a:lnTo>
                    <a:lnTo>
                      <a:pt x="943" y="1"/>
                    </a:lnTo>
                    <a:lnTo>
                      <a:pt x="973" y="2"/>
                    </a:lnTo>
                    <a:lnTo>
                      <a:pt x="7153" y="5846"/>
                    </a:lnTo>
                    <a:lnTo>
                      <a:pt x="7156" y="5895"/>
                    </a:lnTo>
                    <a:lnTo>
                      <a:pt x="7158" y="5943"/>
                    </a:lnTo>
                    <a:lnTo>
                      <a:pt x="7160" y="5991"/>
                    </a:lnTo>
                    <a:lnTo>
                      <a:pt x="7162" y="6040"/>
                    </a:lnTo>
                    <a:lnTo>
                      <a:pt x="7164" y="6088"/>
                    </a:lnTo>
                    <a:lnTo>
                      <a:pt x="7165" y="6137"/>
                    </a:lnTo>
                    <a:lnTo>
                      <a:pt x="7165" y="6186"/>
                    </a:lnTo>
                    <a:lnTo>
                      <a:pt x="7165" y="6235"/>
                    </a:lnTo>
                    <a:lnTo>
                      <a:pt x="7165" y="6307"/>
                    </a:lnTo>
                    <a:lnTo>
                      <a:pt x="7164" y="6380"/>
                    </a:lnTo>
                    <a:lnTo>
                      <a:pt x="7162" y="6451"/>
                    </a:lnTo>
                    <a:lnTo>
                      <a:pt x="7159" y="6524"/>
                    </a:lnTo>
                    <a:lnTo>
                      <a:pt x="7155" y="6596"/>
                    </a:lnTo>
                    <a:lnTo>
                      <a:pt x="7150" y="6667"/>
                    </a:lnTo>
                    <a:lnTo>
                      <a:pt x="7145" y="6739"/>
                    </a:lnTo>
                    <a:lnTo>
                      <a:pt x="7139" y="6809"/>
                    </a:lnTo>
                    <a:close/>
                  </a:path>
                </a:pathLst>
              </a:custGeom>
              <a:solidFill>
                <a:srgbClr val="d82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5400" y="5661720"/>
                <a:ext cx="91440" cy="889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6696" y="6345"/>
                    </a:moveTo>
                    <a:lnTo>
                      <a:pt x="0" y="12"/>
                    </a:lnTo>
                    <a:lnTo>
                      <a:pt x="48" y="9"/>
                    </a:lnTo>
                    <a:lnTo>
                      <a:pt x="96" y="7"/>
                    </a:lnTo>
                    <a:lnTo>
                      <a:pt x="144" y="5"/>
                    </a:lnTo>
                    <a:lnTo>
                      <a:pt x="192" y="3"/>
                    </a:lnTo>
                    <a:lnTo>
                      <a:pt x="240" y="2"/>
                    </a:lnTo>
                    <a:lnTo>
                      <a:pt x="288" y="1"/>
                    </a:lnTo>
                    <a:lnTo>
                      <a:pt x="337" y="0"/>
                    </a:lnTo>
                    <a:lnTo>
                      <a:pt x="385" y="0"/>
                    </a:lnTo>
                    <a:lnTo>
                      <a:pt x="470" y="1"/>
                    </a:lnTo>
                    <a:lnTo>
                      <a:pt x="555" y="2"/>
                    </a:lnTo>
                    <a:lnTo>
                      <a:pt x="639" y="5"/>
                    </a:lnTo>
                    <a:lnTo>
                      <a:pt x="723" y="9"/>
                    </a:lnTo>
                    <a:lnTo>
                      <a:pt x="807" y="14"/>
                    </a:lnTo>
                    <a:lnTo>
                      <a:pt x="891" y="20"/>
                    </a:lnTo>
                    <a:lnTo>
                      <a:pt x="974" y="27"/>
                    </a:lnTo>
                    <a:lnTo>
                      <a:pt x="1057" y="35"/>
                    </a:lnTo>
                    <a:lnTo>
                      <a:pt x="6627" y="5304"/>
                    </a:lnTo>
                    <a:lnTo>
                      <a:pt x="6635" y="5361"/>
                    </a:lnTo>
                    <a:lnTo>
                      <a:pt x="6643" y="5419"/>
                    </a:lnTo>
                    <a:lnTo>
                      <a:pt x="6650" y="5475"/>
                    </a:lnTo>
                    <a:lnTo>
                      <a:pt x="6658" y="5533"/>
                    </a:lnTo>
                    <a:lnTo>
                      <a:pt x="6664" y="5591"/>
                    </a:lnTo>
                    <a:lnTo>
                      <a:pt x="6670" y="5649"/>
                    </a:lnTo>
                    <a:lnTo>
                      <a:pt x="6675" y="5706"/>
                    </a:lnTo>
                    <a:lnTo>
                      <a:pt x="6680" y="5765"/>
                    </a:lnTo>
                    <a:lnTo>
                      <a:pt x="6684" y="5823"/>
                    </a:lnTo>
                    <a:lnTo>
                      <a:pt x="6687" y="5882"/>
                    </a:lnTo>
                    <a:lnTo>
                      <a:pt x="6690" y="5940"/>
                    </a:lnTo>
                    <a:lnTo>
                      <a:pt x="6693" y="5998"/>
                    </a:lnTo>
                    <a:lnTo>
                      <a:pt x="6695" y="6057"/>
                    </a:lnTo>
                    <a:lnTo>
                      <a:pt x="6696" y="6116"/>
                    </a:lnTo>
                    <a:lnTo>
                      <a:pt x="6697" y="6175"/>
                    </a:lnTo>
                    <a:lnTo>
                      <a:pt x="6697" y="6235"/>
                    </a:lnTo>
                    <a:lnTo>
                      <a:pt x="6697" y="6263"/>
                    </a:lnTo>
                    <a:lnTo>
                      <a:pt x="6697" y="6290"/>
                    </a:lnTo>
                    <a:lnTo>
                      <a:pt x="6697" y="6317"/>
                    </a:lnTo>
                    <a:lnTo>
                      <a:pt x="6696" y="6345"/>
                    </a:lnTo>
                    <a:close/>
                  </a:path>
                </a:pathLst>
              </a:custGeom>
              <a:solidFill>
                <a:srgbClr val="d9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1880" y="5661720"/>
                <a:ext cx="84600" cy="82080"/>
              </a:xfrm>
              <a:custGeom>
                <a:avLst/>
                <a:gdLst/>
                <a:ahLst/>
                <a:rect l="l" t="t" r="r" b="b"/>
                <a:pathLst>
                  <a:path w="6180" h="5844">
                    <a:moveTo>
                      <a:pt x="6180" y="5844"/>
                    </a:moveTo>
                    <a:lnTo>
                      <a:pt x="0" y="0"/>
                    </a:lnTo>
                    <a:lnTo>
                      <a:pt x="75" y="1"/>
                    </a:lnTo>
                    <a:lnTo>
                      <a:pt x="150" y="4"/>
                    </a:lnTo>
                    <a:lnTo>
                      <a:pt x="224" y="8"/>
                    </a:lnTo>
                    <a:lnTo>
                      <a:pt x="298" y="12"/>
                    </a:lnTo>
                    <a:lnTo>
                      <a:pt x="372" y="17"/>
                    </a:lnTo>
                    <a:lnTo>
                      <a:pt x="446" y="23"/>
                    </a:lnTo>
                    <a:lnTo>
                      <a:pt x="520" y="30"/>
                    </a:lnTo>
                    <a:lnTo>
                      <a:pt x="592" y="37"/>
                    </a:lnTo>
                    <a:lnTo>
                      <a:pt x="666" y="46"/>
                    </a:lnTo>
                    <a:lnTo>
                      <a:pt x="739" y="55"/>
                    </a:lnTo>
                    <a:lnTo>
                      <a:pt x="810" y="65"/>
                    </a:lnTo>
                    <a:lnTo>
                      <a:pt x="883" y="76"/>
                    </a:lnTo>
                    <a:lnTo>
                      <a:pt x="954" y="88"/>
                    </a:lnTo>
                    <a:lnTo>
                      <a:pt x="1026" y="100"/>
                    </a:lnTo>
                    <a:lnTo>
                      <a:pt x="1098" y="114"/>
                    </a:lnTo>
                    <a:lnTo>
                      <a:pt x="1169" y="128"/>
                    </a:lnTo>
                    <a:lnTo>
                      <a:pt x="5999" y="4697"/>
                    </a:lnTo>
                    <a:lnTo>
                      <a:pt x="6016" y="4767"/>
                    </a:lnTo>
                    <a:lnTo>
                      <a:pt x="6034" y="4837"/>
                    </a:lnTo>
                    <a:lnTo>
                      <a:pt x="6049" y="4907"/>
                    </a:lnTo>
                    <a:lnTo>
                      <a:pt x="6064" y="4978"/>
                    </a:lnTo>
                    <a:lnTo>
                      <a:pt x="6078" y="5048"/>
                    </a:lnTo>
                    <a:lnTo>
                      <a:pt x="6092" y="5119"/>
                    </a:lnTo>
                    <a:lnTo>
                      <a:pt x="6104" y="5191"/>
                    </a:lnTo>
                    <a:lnTo>
                      <a:pt x="6116" y="5262"/>
                    </a:lnTo>
                    <a:lnTo>
                      <a:pt x="6127" y="5334"/>
                    </a:lnTo>
                    <a:lnTo>
                      <a:pt x="6137" y="5406"/>
                    </a:lnTo>
                    <a:lnTo>
                      <a:pt x="6146" y="5479"/>
                    </a:lnTo>
                    <a:lnTo>
                      <a:pt x="6155" y="5552"/>
                    </a:lnTo>
                    <a:lnTo>
                      <a:pt x="6163" y="5624"/>
                    </a:lnTo>
                    <a:lnTo>
                      <a:pt x="6169" y="5698"/>
                    </a:lnTo>
                    <a:lnTo>
                      <a:pt x="6175" y="5771"/>
                    </a:lnTo>
                    <a:lnTo>
                      <a:pt x="6180" y="5844"/>
                    </a:lnTo>
                    <a:close/>
                  </a:path>
                </a:pathLst>
              </a:custGeom>
              <a:solidFill>
                <a:srgbClr val="d9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9800" y="5662080"/>
                <a:ext cx="76320" cy="73440"/>
              </a:xfrm>
              <a:custGeom>
                <a:avLst/>
                <a:gdLst/>
                <a:ahLst/>
                <a:rect l="l" t="t" r="r" b="b"/>
                <a:pathLst>
                  <a:path w="5570" h="5269">
                    <a:moveTo>
                      <a:pt x="5570" y="5269"/>
                    </a:moveTo>
                    <a:lnTo>
                      <a:pt x="0" y="0"/>
                    </a:lnTo>
                    <a:lnTo>
                      <a:pt x="87" y="10"/>
                    </a:lnTo>
                    <a:lnTo>
                      <a:pt x="172" y="20"/>
                    </a:lnTo>
                    <a:lnTo>
                      <a:pt x="258" y="32"/>
                    </a:lnTo>
                    <a:lnTo>
                      <a:pt x="344" y="45"/>
                    </a:lnTo>
                    <a:lnTo>
                      <a:pt x="429" y="59"/>
                    </a:lnTo>
                    <a:lnTo>
                      <a:pt x="513" y="74"/>
                    </a:lnTo>
                    <a:lnTo>
                      <a:pt x="597" y="92"/>
                    </a:lnTo>
                    <a:lnTo>
                      <a:pt x="681" y="109"/>
                    </a:lnTo>
                    <a:lnTo>
                      <a:pt x="764" y="127"/>
                    </a:lnTo>
                    <a:lnTo>
                      <a:pt x="847" y="147"/>
                    </a:lnTo>
                    <a:lnTo>
                      <a:pt x="930" y="167"/>
                    </a:lnTo>
                    <a:lnTo>
                      <a:pt x="1013" y="189"/>
                    </a:lnTo>
                    <a:lnTo>
                      <a:pt x="1093" y="213"/>
                    </a:lnTo>
                    <a:lnTo>
                      <a:pt x="1175" y="236"/>
                    </a:lnTo>
                    <a:lnTo>
                      <a:pt x="1256" y="261"/>
                    </a:lnTo>
                    <a:lnTo>
                      <a:pt x="1336" y="287"/>
                    </a:lnTo>
                    <a:lnTo>
                      <a:pt x="5221" y="3963"/>
                    </a:lnTo>
                    <a:lnTo>
                      <a:pt x="5251" y="4040"/>
                    </a:lnTo>
                    <a:lnTo>
                      <a:pt x="5280" y="4119"/>
                    </a:lnTo>
                    <a:lnTo>
                      <a:pt x="5308" y="4199"/>
                    </a:lnTo>
                    <a:lnTo>
                      <a:pt x="5334" y="4278"/>
                    </a:lnTo>
                    <a:lnTo>
                      <a:pt x="5360" y="4359"/>
                    </a:lnTo>
                    <a:lnTo>
                      <a:pt x="5385" y="4439"/>
                    </a:lnTo>
                    <a:lnTo>
                      <a:pt x="5408" y="4520"/>
                    </a:lnTo>
                    <a:lnTo>
                      <a:pt x="5431" y="4602"/>
                    </a:lnTo>
                    <a:lnTo>
                      <a:pt x="5452" y="4684"/>
                    </a:lnTo>
                    <a:lnTo>
                      <a:pt x="5472" y="4766"/>
                    </a:lnTo>
                    <a:lnTo>
                      <a:pt x="5492" y="4849"/>
                    </a:lnTo>
                    <a:lnTo>
                      <a:pt x="5510" y="4932"/>
                    </a:lnTo>
                    <a:lnTo>
                      <a:pt x="5526" y="5015"/>
                    </a:lnTo>
                    <a:lnTo>
                      <a:pt x="5542" y="5100"/>
                    </a:lnTo>
                    <a:lnTo>
                      <a:pt x="5557" y="5184"/>
                    </a:lnTo>
                    <a:lnTo>
                      <a:pt x="5570" y="5269"/>
                    </a:lnTo>
                    <a:close/>
                  </a:path>
                </a:pathLst>
              </a:custGeom>
              <a:solidFill>
                <a:srgbClr val="da2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8440" y="566352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4830" h="4569">
                    <a:moveTo>
                      <a:pt x="4830" y="4569"/>
                    </a:moveTo>
                    <a:lnTo>
                      <a:pt x="0" y="0"/>
                    </a:lnTo>
                    <a:lnTo>
                      <a:pt x="109" y="24"/>
                    </a:lnTo>
                    <a:lnTo>
                      <a:pt x="218" y="49"/>
                    </a:lnTo>
                    <a:lnTo>
                      <a:pt x="326" y="76"/>
                    </a:lnTo>
                    <a:lnTo>
                      <a:pt x="433" y="105"/>
                    </a:lnTo>
                    <a:lnTo>
                      <a:pt x="539" y="136"/>
                    </a:lnTo>
                    <a:lnTo>
                      <a:pt x="645" y="168"/>
                    </a:lnTo>
                    <a:lnTo>
                      <a:pt x="750" y="202"/>
                    </a:lnTo>
                    <a:lnTo>
                      <a:pt x="853" y="239"/>
                    </a:lnTo>
                    <a:lnTo>
                      <a:pt x="956" y="276"/>
                    </a:lnTo>
                    <a:lnTo>
                      <a:pt x="1058" y="315"/>
                    </a:lnTo>
                    <a:lnTo>
                      <a:pt x="1160" y="357"/>
                    </a:lnTo>
                    <a:lnTo>
                      <a:pt x="1261" y="400"/>
                    </a:lnTo>
                    <a:lnTo>
                      <a:pt x="1360" y="444"/>
                    </a:lnTo>
                    <a:lnTo>
                      <a:pt x="1459" y="491"/>
                    </a:lnTo>
                    <a:lnTo>
                      <a:pt x="1556" y="538"/>
                    </a:lnTo>
                    <a:lnTo>
                      <a:pt x="1653" y="588"/>
                    </a:lnTo>
                    <a:lnTo>
                      <a:pt x="4164" y="2962"/>
                    </a:lnTo>
                    <a:lnTo>
                      <a:pt x="4218" y="3056"/>
                    </a:lnTo>
                    <a:lnTo>
                      <a:pt x="4270" y="3150"/>
                    </a:lnTo>
                    <a:lnTo>
                      <a:pt x="4322" y="3246"/>
                    </a:lnTo>
                    <a:lnTo>
                      <a:pt x="4371" y="3342"/>
                    </a:lnTo>
                    <a:lnTo>
                      <a:pt x="4419" y="3440"/>
                    </a:lnTo>
                    <a:lnTo>
                      <a:pt x="4465" y="3538"/>
                    </a:lnTo>
                    <a:lnTo>
                      <a:pt x="4510" y="3638"/>
                    </a:lnTo>
                    <a:lnTo>
                      <a:pt x="4552" y="3737"/>
                    </a:lnTo>
                    <a:lnTo>
                      <a:pt x="4593" y="3838"/>
                    </a:lnTo>
                    <a:lnTo>
                      <a:pt x="4633" y="3941"/>
                    </a:lnTo>
                    <a:lnTo>
                      <a:pt x="4670" y="4043"/>
                    </a:lnTo>
                    <a:lnTo>
                      <a:pt x="4705" y="4147"/>
                    </a:lnTo>
                    <a:lnTo>
                      <a:pt x="4739" y="4252"/>
                    </a:lnTo>
                    <a:lnTo>
                      <a:pt x="4772" y="4357"/>
                    </a:lnTo>
                    <a:lnTo>
                      <a:pt x="4802" y="4463"/>
                    </a:lnTo>
                    <a:lnTo>
                      <a:pt x="4830" y="4569"/>
                    </a:lnTo>
                    <a:close/>
                  </a:path>
                </a:pathLst>
              </a:custGeom>
              <a:solidFill>
                <a:srgbClr val="db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8160" y="5665680"/>
                <a:ext cx="52560" cy="51840"/>
              </a:xfrm>
              <a:custGeom>
                <a:avLst/>
                <a:gdLst/>
                <a:ahLst/>
                <a:rect l="l" t="t" r="r" b="b"/>
                <a:pathLst>
                  <a:path w="3885" h="3676">
                    <a:moveTo>
                      <a:pt x="3885" y="3676"/>
                    </a:moveTo>
                    <a:lnTo>
                      <a:pt x="0" y="0"/>
                    </a:lnTo>
                    <a:lnTo>
                      <a:pt x="166" y="58"/>
                    </a:lnTo>
                    <a:lnTo>
                      <a:pt x="330" y="119"/>
                    </a:lnTo>
                    <a:lnTo>
                      <a:pt x="491" y="186"/>
                    </a:lnTo>
                    <a:lnTo>
                      <a:pt x="652" y="256"/>
                    </a:lnTo>
                    <a:lnTo>
                      <a:pt x="808" y="332"/>
                    </a:lnTo>
                    <a:lnTo>
                      <a:pt x="964" y="411"/>
                    </a:lnTo>
                    <a:lnTo>
                      <a:pt x="1116" y="493"/>
                    </a:lnTo>
                    <a:lnTo>
                      <a:pt x="1265" y="581"/>
                    </a:lnTo>
                    <a:lnTo>
                      <a:pt x="1412" y="672"/>
                    </a:lnTo>
                    <a:lnTo>
                      <a:pt x="1557" y="767"/>
                    </a:lnTo>
                    <a:lnTo>
                      <a:pt x="1698" y="865"/>
                    </a:lnTo>
                    <a:lnTo>
                      <a:pt x="1836" y="968"/>
                    </a:lnTo>
                    <a:lnTo>
                      <a:pt x="1971" y="1073"/>
                    </a:lnTo>
                    <a:lnTo>
                      <a:pt x="2104" y="1182"/>
                    </a:lnTo>
                    <a:lnTo>
                      <a:pt x="2233" y="1295"/>
                    </a:lnTo>
                    <a:lnTo>
                      <a:pt x="2359" y="1411"/>
                    </a:lnTo>
                    <a:lnTo>
                      <a:pt x="2482" y="1531"/>
                    </a:lnTo>
                    <a:lnTo>
                      <a:pt x="2601" y="1654"/>
                    </a:lnTo>
                    <a:lnTo>
                      <a:pt x="2718" y="1780"/>
                    </a:lnTo>
                    <a:lnTo>
                      <a:pt x="2830" y="1910"/>
                    </a:lnTo>
                    <a:lnTo>
                      <a:pt x="2939" y="2042"/>
                    </a:lnTo>
                    <a:lnTo>
                      <a:pt x="3045" y="2177"/>
                    </a:lnTo>
                    <a:lnTo>
                      <a:pt x="3147" y="2315"/>
                    </a:lnTo>
                    <a:lnTo>
                      <a:pt x="3245" y="2455"/>
                    </a:lnTo>
                    <a:lnTo>
                      <a:pt x="3340" y="2599"/>
                    </a:lnTo>
                    <a:lnTo>
                      <a:pt x="3429" y="2746"/>
                    </a:lnTo>
                    <a:lnTo>
                      <a:pt x="3516" y="2894"/>
                    </a:lnTo>
                    <a:lnTo>
                      <a:pt x="3598" y="3046"/>
                    </a:lnTo>
                    <a:lnTo>
                      <a:pt x="3677" y="3199"/>
                    </a:lnTo>
                    <a:lnTo>
                      <a:pt x="3750" y="3356"/>
                    </a:lnTo>
                    <a:lnTo>
                      <a:pt x="3820" y="3514"/>
                    </a:lnTo>
                    <a:lnTo>
                      <a:pt x="3885" y="3676"/>
                    </a:lnTo>
                    <a:close/>
                  </a:path>
                </a:pathLst>
              </a:custGeom>
              <a:solidFill>
                <a:srgbClr val="dc2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0760" y="5671440"/>
                <a:ext cx="34200" cy="33120"/>
              </a:xfrm>
              <a:custGeom>
                <a:avLst/>
                <a:gdLst/>
                <a:ahLst/>
                <a:rect l="l" t="t" r="r" b="b"/>
                <a:pathLst>
                  <a:path w="2511" h="2374">
                    <a:moveTo>
                      <a:pt x="2511" y="2374"/>
                    </a:moveTo>
                    <a:lnTo>
                      <a:pt x="0" y="0"/>
                    </a:lnTo>
                    <a:lnTo>
                      <a:pt x="98" y="52"/>
                    </a:lnTo>
                    <a:lnTo>
                      <a:pt x="194" y="106"/>
                    </a:lnTo>
                    <a:lnTo>
                      <a:pt x="290" y="160"/>
                    </a:lnTo>
                    <a:lnTo>
                      <a:pt x="384" y="218"/>
                    </a:lnTo>
                    <a:lnTo>
                      <a:pt x="476" y="275"/>
                    </a:lnTo>
                    <a:lnTo>
                      <a:pt x="569" y="336"/>
                    </a:lnTo>
                    <a:lnTo>
                      <a:pt x="660" y="396"/>
                    </a:lnTo>
                    <a:lnTo>
                      <a:pt x="750" y="460"/>
                    </a:lnTo>
                    <a:lnTo>
                      <a:pt x="838" y="524"/>
                    </a:lnTo>
                    <a:lnTo>
                      <a:pt x="925" y="590"/>
                    </a:lnTo>
                    <a:lnTo>
                      <a:pt x="1012" y="657"/>
                    </a:lnTo>
                    <a:lnTo>
                      <a:pt x="1097" y="726"/>
                    </a:lnTo>
                    <a:lnTo>
                      <a:pt x="1180" y="795"/>
                    </a:lnTo>
                    <a:lnTo>
                      <a:pt x="1263" y="867"/>
                    </a:lnTo>
                    <a:lnTo>
                      <a:pt x="1344" y="941"/>
                    </a:lnTo>
                    <a:lnTo>
                      <a:pt x="1424" y="1014"/>
                    </a:lnTo>
                    <a:lnTo>
                      <a:pt x="1503" y="1090"/>
                    </a:lnTo>
                    <a:lnTo>
                      <a:pt x="1580" y="1168"/>
                    </a:lnTo>
                    <a:lnTo>
                      <a:pt x="1655" y="1245"/>
                    </a:lnTo>
                    <a:lnTo>
                      <a:pt x="1730" y="1325"/>
                    </a:lnTo>
                    <a:lnTo>
                      <a:pt x="1804" y="1406"/>
                    </a:lnTo>
                    <a:lnTo>
                      <a:pt x="1875" y="1488"/>
                    </a:lnTo>
                    <a:lnTo>
                      <a:pt x="1946" y="1572"/>
                    </a:lnTo>
                    <a:lnTo>
                      <a:pt x="2014" y="1656"/>
                    </a:lnTo>
                    <a:lnTo>
                      <a:pt x="2082" y="1741"/>
                    </a:lnTo>
                    <a:lnTo>
                      <a:pt x="2147" y="1829"/>
                    </a:lnTo>
                    <a:lnTo>
                      <a:pt x="2212" y="1917"/>
                    </a:lnTo>
                    <a:lnTo>
                      <a:pt x="2275" y="2006"/>
                    </a:lnTo>
                    <a:lnTo>
                      <a:pt x="2336" y="2096"/>
                    </a:lnTo>
                    <a:lnTo>
                      <a:pt x="2396" y="2188"/>
                    </a:lnTo>
                    <a:lnTo>
                      <a:pt x="2454" y="2281"/>
                    </a:lnTo>
                    <a:lnTo>
                      <a:pt x="2511" y="2374"/>
                    </a:lnTo>
                    <a:close/>
                  </a:path>
                </a:pathLst>
              </a:custGeom>
              <a:solidFill>
                <a:srgbClr val="dd2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7000" y="5732640"/>
                <a:ext cx="23400" cy="34560"/>
              </a:xfrm>
              <a:custGeom>
                <a:avLst/>
                <a:gdLst/>
                <a:ahLst/>
                <a:rect l="l" t="t" r="r" b="b"/>
                <a:pathLst>
                  <a:path w="1726" h="2474">
                    <a:moveTo>
                      <a:pt x="1704" y="66"/>
                    </a:moveTo>
                    <a:lnTo>
                      <a:pt x="1726" y="597"/>
                    </a:lnTo>
                    <a:lnTo>
                      <a:pt x="1636" y="598"/>
                    </a:lnTo>
                    <a:lnTo>
                      <a:pt x="1551" y="600"/>
                    </a:lnTo>
                    <a:lnTo>
                      <a:pt x="1469" y="602"/>
                    </a:lnTo>
                    <a:lnTo>
                      <a:pt x="1391" y="604"/>
                    </a:lnTo>
                    <a:lnTo>
                      <a:pt x="1318" y="605"/>
                    </a:lnTo>
                    <a:lnTo>
                      <a:pt x="1246" y="607"/>
                    </a:lnTo>
                    <a:lnTo>
                      <a:pt x="1177" y="608"/>
                    </a:lnTo>
                    <a:lnTo>
                      <a:pt x="1112" y="608"/>
                    </a:lnTo>
                    <a:lnTo>
                      <a:pt x="1083" y="609"/>
                    </a:lnTo>
                    <a:lnTo>
                      <a:pt x="1053" y="611"/>
                    </a:lnTo>
                    <a:lnTo>
                      <a:pt x="1025" y="614"/>
                    </a:lnTo>
                    <a:lnTo>
                      <a:pt x="998" y="618"/>
                    </a:lnTo>
                    <a:lnTo>
                      <a:pt x="971" y="624"/>
                    </a:lnTo>
                    <a:lnTo>
                      <a:pt x="943" y="631"/>
                    </a:lnTo>
                    <a:lnTo>
                      <a:pt x="918" y="639"/>
                    </a:lnTo>
                    <a:lnTo>
                      <a:pt x="893" y="648"/>
                    </a:lnTo>
                    <a:lnTo>
                      <a:pt x="868" y="658"/>
                    </a:lnTo>
                    <a:lnTo>
                      <a:pt x="844" y="670"/>
                    </a:lnTo>
                    <a:lnTo>
                      <a:pt x="820" y="683"/>
                    </a:lnTo>
                    <a:lnTo>
                      <a:pt x="798" y="697"/>
                    </a:lnTo>
                    <a:lnTo>
                      <a:pt x="776" y="713"/>
                    </a:lnTo>
                    <a:lnTo>
                      <a:pt x="756" y="729"/>
                    </a:lnTo>
                    <a:lnTo>
                      <a:pt x="736" y="747"/>
                    </a:lnTo>
                    <a:lnTo>
                      <a:pt x="717" y="765"/>
                    </a:lnTo>
                    <a:lnTo>
                      <a:pt x="698" y="785"/>
                    </a:lnTo>
                    <a:lnTo>
                      <a:pt x="681" y="806"/>
                    </a:lnTo>
                    <a:lnTo>
                      <a:pt x="665" y="829"/>
                    </a:lnTo>
                    <a:lnTo>
                      <a:pt x="649" y="852"/>
                    </a:lnTo>
                    <a:lnTo>
                      <a:pt x="635" y="877"/>
                    </a:lnTo>
                    <a:lnTo>
                      <a:pt x="622" y="902"/>
                    </a:lnTo>
                    <a:lnTo>
                      <a:pt x="610" y="929"/>
                    </a:lnTo>
                    <a:lnTo>
                      <a:pt x="599" y="957"/>
                    </a:lnTo>
                    <a:lnTo>
                      <a:pt x="589" y="986"/>
                    </a:lnTo>
                    <a:lnTo>
                      <a:pt x="580" y="1016"/>
                    </a:lnTo>
                    <a:lnTo>
                      <a:pt x="573" y="1047"/>
                    </a:lnTo>
                    <a:lnTo>
                      <a:pt x="567" y="1080"/>
                    </a:lnTo>
                    <a:lnTo>
                      <a:pt x="562" y="1113"/>
                    </a:lnTo>
                    <a:lnTo>
                      <a:pt x="559" y="1147"/>
                    </a:lnTo>
                    <a:lnTo>
                      <a:pt x="557" y="1183"/>
                    </a:lnTo>
                    <a:lnTo>
                      <a:pt x="556" y="1219"/>
                    </a:lnTo>
                    <a:lnTo>
                      <a:pt x="557" y="1257"/>
                    </a:lnTo>
                    <a:lnTo>
                      <a:pt x="559" y="1295"/>
                    </a:lnTo>
                    <a:lnTo>
                      <a:pt x="562" y="1332"/>
                    </a:lnTo>
                    <a:lnTo>
                      <a:pt x="567" y="1367"/>
                    </a:lnTo>
                    <a:lnTo>
                      <a:pt x="573" y="1401"/>
                    </a:lnTo>
                    <a:lnTo>
                      <a:pt x="580" y="1435"/>
                    </a:lnTo>
                    <a:lnTo>
                      <a:pt x="589" y="1468"/>
                    </a:lnTo>
                    <a:lnTo>
                      <a:pt x="600" y="1499"/>
                    </a:lnTo>
                    <a:lnTo>
                      <a:pt x="611" y="1530"/>
                    </a:lnTo>
                    <a:lnTo>
                      <a:pt x="623" y="1559"/>
                    </a:lnTo>
                    <a:lnTo>
                      <a:pt x="636" y="1587"/>
                    </a:lnTo>
                    <a:lnTo>
                      <a:pt x="651" y="1614"/>
                    </a:lnTo>
                    <a:lnTo>
                      <a:pt x="666" y="1640"/>
                    </a:lnTo>
                    <a:lnTo>
                      <a:pt x="683" y="1665"/>
                    </a:lnTo>
                    <a:lnTo>
                      <a:pt x="700" y="1689"/>
                    </a:lnTo>
                    <a:lnTo>
                      <a:pt x="719" y="1711"/>
                    </a:lnTo>
                    <a:lnTo>
                      <a:pt x="739" y="1732"/>
                    </a:lnTo>
                    <a:lnTo>
                      <a:pt x="759" y="1752"/>
                    </a:lnTo>
                    <a:lnTo>
                      <a:pt x="780" y="1772"/>
                    </a:lnTo>
                    <a:lnTo>
                      <a:pt x="802" y="1789"/>
                    </a:lnTo>
                    <a:lnTo>
                      <a:pt x="825" y="1806"/>
                    </a:lnTo>
                    <a:lnTo>
                      <a:pt x="850" y="1820"/>
                    </a:lnTo>
                    <a:lnTo>
                      <a:pt x="874" y="1834"/>
                    </a:lnTo>
                    <a:lnTo>
                      <a:pt x="900" y="1846"/>
                    </a:lnTo>
                    <a:lnTo>
                      <a:pt x="925" y="1857"/>
                    </a:lnTo>
                    <a:lnTo>
                      <a:pt x="953" y="1866"/>
                    </a:lnTo>
                    <a:lnTo>
                      <a:pt x="980" y="1874"/>
                    </a:lnTo>
                    <a:lnTo>
                      <a:pt x="1008" y="1882"/>
                    </a:lnTo>
                    <a:lnTo>
                      <a:pt x="1037" y="1887"/>
                    </a:lnTo>
                    <a:lnTo>
                      <a:pt x="1066" y="1891"/>
                    </a:lnTo>
                    <a:lnTo>
                      <a:pt x="1096" y="1893"/>
                    </a:lnTo>
                    <a:lnTo>
                      <a:pt x="1126" y="1894"/>
                    </a:lnTo>
                    <a:lnTo>
                      <a:pt x="1190" y="1894"/>
                    </a:lnTo>
                    <a:lnTo>
                      <a:pt x="1257" y="1894"/>
                    </a:lnTo>
                    <a:lnTo>
                      <a:pt x="1328" y="1894"/>
                    </a:lnTo>
                    <a:lnTo>
                      <a:pt x="1401" y="1893"/>
                    </a:lnTo>
                    <a:lnTo>
                      <a:pt x="1440" y="1892"/>
                    </a:lnTo>
                    <a:lnTo>
                      <a:pt x="1478" y="1891"/>
                    </a:lnTo>
                    <a:lnTo>
                      <a:pt x="1516" y="1889"/>
                    </a:lnTo>
                    <a:lnTo>
                      <a:pt x="1556" y="1886"/>
                    </a:lnTo>
                    <a:lnTo>
                      <a:pt x="1595" y="1883"/>
                    </a:lnTo>
                    <a:lnTo>
                      <a:pt x="1634" y="1877"/>
                    </a:lnTo>
                    <a:lnTo>
                      <a:pt x="1674" y="1872"/>
                    </a:lnTo>
                    <a:lnTo>
                      <a:pt x="1713" y="1866"/>
                    </a:lnTo>
                    <a:lnTo>
                      <a:pt x="1706" y="2426"/>
                    </a:lnTo>
                    <a:lnTo>
                      <a:pt x="1637" y="2439"/>
                    </a:lnTo>
                    <a:lnTo>
                      <a:pt x="1567" y="2450"/>
                    </a:lnTo>
                    <a:lnTo>
                      <a:pt x="1495" y="2459"/>
                    </a:lnTo>
                    <a:lnTo>
                      <a:pt x="1424" y="2466"/>
                    </a:lnTo>
                    <a:lnTo>
                      <a:pt x="1351" y="2471"/>
                    </a:lnTo>
                    <a:lnTo>
                      <a:pt x="1277" y="2474"/>
                    </a:lnTo>
                    <a:lnTo>
                      <a:pt x="1205" y="2474"/>
                    </a:lnTo>
                    <a:lnTo>
                      <a:pt x="1132" y="2471"/>
                    </a:lnTo>
                    <a:lnTo>
                      <a:pt x="1059" y="2465"/>
                    </a:lnTo>
                    <a:lnTo>
                      <a:pt x="987" y="2456"/>
                    </a:lnTo>
                    <a:lnTo>
                      <a:pt x="916" y="2445"/>
                    </a:lnTo>
                    <a:lnTo>
                      <a:pt x="846" y="2430"/>
                    </a:lnTo>
                    <a:lnTo>
                      <a:pt x="777" y="2412"/>
                    </a:lnTo>
                    <a:lnTo>
                      <a:pt x="709" y="2390"/>
                    </a:lnTo>
                    <a:lnTo>
                      <a:pt x="643" y="2365"/>
                    </a:lnTo>
                    <a:lnTo>
                      <a:pt x="579" y="2335"/>
                    </a:lnTo>
                    <a:lnTo>
                      <a:pt x="518" y="2302"/>
                    </a:lnTo>
                    <a:lnTo>
                      <a:pt x="458" y="2265"/>
                    </a:lnTo>
                    <a:lnTo>
                      <a:pt x="402" y="2222"/>
                    </a:lnTo>
                    <a:lnTo>
                      <a:pt x="347" y="2176"/>
                    </a:lnTo>
                    <a:lnTo>
                      <a:pt x="297" y="2125"/>
                    </a:lnTo>
                    <a:lnTo>
                      <a:pt x="249" y="2069"/>
                    </a:lnTo>
                    <a:lnTo>
                      <a:pt x="204" y="2009"/>
                    </a:lnTo>
                    <a:lnTo>
                      <a:pt x="164" y="1942"/>
                    </a:lnTo>
                    <a:lnTo>
                      <a:pt x="128" y="1871"/>
                    </a:lnTo>
                    <a:lnTo>
                      <a:pt x="95" y="1795"/>
                    </a:lnTo>
                    <a:lnTo>
                      <a:pt x="67" y="1712"/>
                    </a:lnTo>
                    <a:lnTo>
                      <a:pt x="44" y="1624"/>
                    </a:lnTo>
                    <a:lnTo>
                      <a:pt x="25" y="1531"/>
                    </a:lnTo>
                    <a:lnTo>
                      <a:pt x="12" y="1432"/>
                    </a:lnTo>
                    <a:lnTo>
                      <a:pt x="3" y="1326"/>
                    </a:lnTo>
                    <a:lnTo>
                      <a:pt x="0" y="1213"/>
                    </a:lnTo>
                    <a:lnTo>
                      <a:pt x="3" y="1102"/>
                    </a:lnTo>
                    <a:lnTo>
                      <a:pt x="12" y="997"/>
                    </a:lnTo>
                    <a:lnTo>
                      <a:pt x="26" y="898"/>
                    </a:lnTo>
                    <a:lnTo>
                      <a:pt x="44" y="806"/>
                    </a:lnTo>
                    <a:lnTo>
                      <a:pt x="68" y="720"/>
                    </a:lnTo>
                    <a:lnTo>
                      <a:pt x="96" y="639"/>
                    </a:lnTo>
                    <a:lnTo>
                      <a:pt x="130" y="563"/>
                    </a:lnTo>
                    <a:lnTo>
                      <a:pt x="167" y="494"/>
                    </a:lnTo>
                    <a:lnTo>
                      <a:pt x="207" y="430"/>
                    </a:lnTo>
                    <a:lnTo>
                      <a:pt x="253" y="371"/>
                    </a:lnTo>
                    <a:lnTo>
                      <a:pt x="300" y="317"/>
                    </a:lnTo>
                    <a:lnTo>
                      <a:pt x="351" y="268"/>
                    </a:lnTo>
                    <a:lnTo>
                      <a:pt x="406" y="223"/>
                    </a:lnTo>
                    <a:lnTo>
                      <a:pt x="463" y="183"/>
                    </a:lnTo>
                    <a:lnTo>
                      <a:pt x="524" y="148"/>
                    </a:lnTo>
                    <a:lnTo>
                      <a:pt x="585" y="117"/>
                    </a:lnTo>
                    <a:lnTo>
                      <a:pt x="650" y="89"/>
                    </a:lnTo>
                    <a:lnTo>
                      <a:pt x="716" y="66"/>
                    </a:lnTo>
                    <a:lnTo>
                      <a:pt x="783" y="46"/>
                    </a:lnTo>
                    <a:lnTo>
                      <a:pt x="853" y="31"/>
                    </a:lnTo>
                    <a:lnTo>
                      <a:pt x="922" y="18"/>
                    </a:lnTo>
                    <a:lnTo>
                      <a:pt x="994" y="9"/>
                    </a:lnTo>
                    <a:lnTo>
                      <a:pt x="1065" y="3"/>
                    </a:lnTo>
                    <a:lnTo>
                      <a:pt x="1138" y="1"/>
                    </a:lnTo>
                    <a:lnTo>
                      <a:pt x="1211" y="0"/>
                    </a:lnTo>
                    <a:lnTo>
                      <a:pt x="1282" y="3"/>
                    </a:lnTo>
                    <a:lnTo>
                      <a:pt x="1355" y="8"/>
                    </a:lnTo>
                    <a:lnTo>
                      <a:pt x="1427" y="15"/>
                    </a:lnTo>
                    <a:lnTo>
                      <a:pt x="1498" y="25"/>
                    </a:lnTo>
                    <a:lnTo>
                      <a:pt x="1568" y="37"/>
                    </a:lnTo>
                    <a:lnTo>
                      <a:pt x="1636" y="50"/>
                    </a:lnTo>
                    <a:lnTo>
                      <a:pt x="170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080" y="5733000"/>
                <a:ext cx="25560" cy="33840"/>
              </a:xfrm>
              <a:custGeom>
                <a:avLst/>
                <a:gdLst/>
                <a:ahLst/>
                <a:rect l="l" t="t" r="r" b="b"/>
                <a:pathLst>
                  <a:path w="1879" h="2418">
                    <a:moveTo>
                      <a:pt x="699" y="1084"/>
                    </a:moveTo>
                    <a:lnTo>
                      <a:pt x="1151" y="0"/>
                    </a:lnTo>
                    <a:lnTo>
                      <a:pt x="1879" y="0"/>
                    </a:lnTo>
                    <a:lnTo>
                      <a:pt x="1269" y="1200"/>
                    </a:lnTo>
                    <a:lnTo>
                      <a:pt x="1879" y="2418"/>
                    </a:lnTo>
                    <a:lnTo>
                      <a:pt x="1181" y="2418"/>
                    </a:lnTo>
                    <a:lnTo>
                      <a:pt x="706" y="1235"/>
                    </a:lnTo>
                    <a:lnTo>
                      <a:pt x="699" y="2418"/>
                    </a:lnTo>
                    <a:lnTo>
                      <a:pt x="0" y="2418"/>
                    </a:lnTo>
                    <a:lnTo>
                      <a:pt x="0" y="0"/>
                    </a:lnTo>
                    <a:lnTo>
                      <a:pt x="699" y="0"/>
                    </a:lnTo>
                    <a:lnTo>
                      <a:pt x="699" y="10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2280" y="5732640"/>
                <a:ext cx="25200" cy="3420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11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1320" y="573264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980" h="2864">
                    <a:moveTo>
                      <a:pt x="820" y="564"/>
                    </a:moveTo>
                    <a:lnTo>
                      <a:pt x="820" y="694"/>
                    </a:lnTo>
                    <a:lnTo>
                      <a:pt x="820" y="812"/>
                    </a:lnTo>
                    <a:lnTo>
                      <a:pt x="820" y="921"/>
                    </a:lnTo>
                    <a:lnTo>
                      <a:pt x="820" y="1023"/>
                    </a:lnTo>
                    <a:lnTo>
                      <a:pt x="820" y="1118"/>
                    </a:lnTo>
                    <a:lnTo>
                      <a:pt x="819" y="1206"/>
                    </a:lnTo>
                    <a:lnTo>
                      <a:pt x="816" y="1288"/>
                    </a:lnTo>
                    <a:lnTo>
                      <a:pt x="813" y="1364"/>
                    </a:lnTo>
                    <a:lnTo>
                      <a:pt x="809" y="1436"/>
                    </a:lnTo>
                    <a:lnTo>
                      <a:pt x="803" y="1504"/>
                    </a:lnTo>
                    <a:lnTo>
                      <a:pt x="799" y="1538"/>
                    </a:lnTo>
                    <a:lnTo>
                      <a:pt x="795" y="1570"/>
                    </a:lnTo>
                    <a:lnTo>
                      <a:pt x="790" y="1601"/>
                    </a:lnTo>
                    <a:lnTo>
                      <a:pt x="785" y="1633"/>
                    </a:lnTo>
                    <a:lnTo>
                      <a:pt x="780" y="1664"/>
                    </a:lnTo>
                    <a:lnTo>
                      <a:pt x="773" y="1694"/>
                    </a:lnTo>
                    <a:lnTo>
                      <a:pt x="767" y="1724"/>
                    </a:lnTo>
                    <a:lnTo>
                      <a:pt x="759" y="1755"/>
                    </a:lnTo>
                    <a:lnTo>
                      <a:pt x="751" y="1784"/>
                    </a:lnTo>
                    <a:lnTo>
                      <a:pt x="743" y="1814"/>
                    </a:lnTo>
                    <a:lnTo>
                      <a:pt x="732" y="1844"/>
                    </a:lnTo>
                    <a:lnTo>
                      <a:pt x="722" y="1875"/>
                    </a:lnTo>
                    <a:lnTo>
                      <a:pt x="1272" y="1875"/>
                    </a:lnTo>
                    <a:lnTo>
                      <a:pt x="1286" y="580"/>
                    </a:lnTo>
                    <a:lnTo>
                      <a:pt x="820" y="564"/>
                    </a:lnTo>
                    <a:close/>
                    <a:moveTo>
                      <a:pt x="282" y="0"/>
                    </a:moveTo>
                    <a:lnTo>
                      <a:pt x="1728" y="0"/>
                    </a:lnTo>
                    <a:lnTo>
                      <a:pt x="1728" y="1875"/>
                    </a:lnTo>
                    <a:lnTo>
                      <a:pt x="1980" y="1875"/>
                    </a:lnTo>
                    <a:lnTo>
                      <a:pt x="1980" y="2849"/>
                    </a:lnTo>
                    <a:lnTo>
                      <a:pt x="1420" y="2864"/>
                    </a:lnTo>
                    <a:lnTo>
                      <a:pt x="1420" y="2439"/>
                    </a:lnTo>
                    <a:lnTo>
                      <a:pt x="532" y="2439"/>
                    </a:lnTo>
                    <a:lnTo>
                      <a:pt x="546" y="2849"/>
                    </a:lnTo>
                    <a:lnTo>
                      <a:pt x="0" y="2849"/>
                    </a:lnTo>
                    <a:lnTo>
                      <a:pt x="0" y="1875"/>
                    </a:lnTo>
                    <a:lnTo>
                      <a:pt x="175" y="1875"/>
                    </a:lnTo>
                    <a:lnTo>
                      <a:pt x="189" y="1838"/>
                    </a:lnTo>
                    <a:lnTo>
                      <a:pt x="201" y="1800"/>
                    </a:lnTo>
                    <a:lnTo>
                      <a:pt x="213" y="1759"/>
                    </a:lnTo>
                    <a:lnTo>
                      <a:pt x="224" y="1715"/>
                    </a:lnTo>
                    <a:lnTo>
                      <a:pt x="233" y="1670"/>
                    </a:lnTo>
                    <a:lnTo>
                      <a:pt x="242" y="1622"/>
                    </a:lnTo>
                    <a:lnTo>
                      <a:pt x="250" y="1573"/>
                    </a:lnTo>
                    <a:lnTo>
                      <a:pt x="256" y="1522"/>
                    </a:lnTo>
                    <a:lnTo>
                      <a:pt x="262" y="1469"/>
                    </a:lnTo>
                    <a:lnTo>
                      <a:pt x="268" y="1415"/>
                    </a:lnTo>
                    <a:lnTo>
                      <a:pt x="273" y="1360"/>
                    </a:lnTo>
                    <a:lnTo>
                      <a:pt x="277" y="1304"/>
                    </a:lnTo>
                    <a:lnTo>
                      <a:pt x="280" y="1247"/>
                    </a:lnTo>
                    <a:lnTo>
                      <a:pt x="283" y="1190"/>
                    </a:lnTo>
                    <a:lnTo>
                      <a:pt x="285" y="1131"/>
                    </a:lnTo>
                    <a:lnTo>
                      <a:pt x="287" y="1073"/>
                    </a:lnTo>
                    <a:lnTo>
                      <a:pt x="289" y="957"/>
                    </a:lnTo>
                    <a:lnTo>
                      <a:pt x="289" y="842"/>
                    </a:lnTo>
                    <a:lnTo>
                      <a:pt x="289" y="728"/>
                    </a:lnTo>
                    <a:lnTo>
                      <a:pt x="287" y="619"/>
                    </a:lnTo>
                    <a:lnTo>
                      <a:pt x="286" y="515"/>
                    </a:lnTo>
                    <a:lnTo>
                      <a:pt x="284" y="417"/>
                    </a:lnTo>
                    <a:lnTo>
                      <a:pt x="283" y="327"/>
                    </a:lnTo>
                    <a:lnTo>
                      <a:pt x="282" y="247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3640" y="5732640"/>
                <a:ext cx="25200" cy="3420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09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11080" y="572904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04" h="439">
                    <a:moveTo>
                      <a:pt x="0" y="177"/>
                    </a:moveTo>
                    <a:lnTo>
                      <a:pt x="0" y="0"/>
                    </a:lnTo>
                    <a:lnTo>
                      <a:pt x="14" y="54"/>
                    </a:lnTo>
                    <a:lnTo>
                      <a:pt x="28" y="108"/>
                    </a:lnTo>
                    <a:lnTo>
                      <a:pt x="42" y="163"/>
                    </a:lnTo>
                    <a:lnTo>
                      <a:pt x="55" y="217"/>
                    </a:lnTo>
                    <a:lnTo>
                      <a:pt x="68" y="273"/>
                    </a:lnTo>
                    <a:lnTo>
                      <a:pt x="80" y="328"/>
                    </a:lnTo>
                    <a:lnTo>
                      <a:pt x="92" y="384"/>
                    </a:lnTo>
                    <a:lnTo>
                      <a:pt x="104" y="439"/>
                    </a:lnTo>
                    <a:lnTo>
                      <a:pt x="91" y="407"/>
                    </a:lnTo>
                    <a:lnTo>
                      <a:pt x="79" y="374"/>
                    </a:lnTo>
                    <a:lnTo>
                      <a:pt x="66" y="340"/>
                    </a:lnTo>
                    <a:lnTo>
                      <a:pt x="53" y="308"/>
                    </a:lnTo>
                    <a:lnTo>
                      <a:pt x="40" y="275"/>
                    </a:lnTo>
                    <a:lnTo>
                      <a:pt x="27" y="242"/>
                    </a:lnTo>
                    <a:lnTo>
                      <a:pt x="13" y="21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0000" y="57240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97">
                    <a:moveTo>
                      <a:pt x="0" y="294"/>
                    </a:moveTo>
                    <a:lnTo>
                      <a:pt x="0" y="0"/>
                    </a:lnTo>
                    <a:lnTo>
                      <a:pt x="16" y="48"/>
                    </a:lnTo>
                    <a:lnTo>
                      <a:pt x="31" y="96"/>
                    </a:lnTo>
                    <a:lnTo>
                      <a:pt x="45" y="145"/>
                    </a:lnTo>
                    <a:lnTo>
                      <a:pt x="59" y="193"/>
                    </a:lnTo>
                    <a:lnTo>
                      <a:pt x="73" y="241"/>
                    </a:lnTo>
                    <a:lnTo>
                      <a:pt x="87" y="291"/>
                    </a:lnTo>
                    <a:lnTo>
                      <a:pt x="100" y="340"/>
                    </a:lnTo>
                    <a:lnTo>
                      <a:pt x="113" y="390"/>
                    </a:lnTo>
                    <a:lnTo>
                      <a:pt x="127" y="440"/>
                    </a:lnTo>
                    <a:lnTo>
                      <a:pt x="139" y="490"/>
                    </a:lnTo>
                    <a:lnTo>
                      <a:pt x="152" y="541"/>
                    </a:lnTo>
                    <a:lnTo>
                      <a:pt x="164" y="591"/>
                    </a:lnTo>
                    <a:lnTo>
                      <a:pt x="175" y="643"/>
                    </a:lnTo>
                    <a:lnTo>
                      <a:pt x="187" y="694"/>
                    </a:lnTo>
                    <a:lnTo>
                      <a:pt x="198" y="746"/>
                    </a:lnTo>
                    <a:lnTo>
                      <a:pt x="209" y="797"/>
                    </a:lnTo>
                    <a:lnTo>
                      <a:pt x="184" y="734"/>
                    </a:lnTo>
                    <a:lnTo>
                      <a:pt x="160" y="669"/>
                    </a:lnTo>
                    <a:lnTo>
                      <a:pt x="134" y="605"/>
                    </a:lnTo>
                    <a:lnTo>
                      <a:pt x="108" y="543"/>
                    </a:lnTo>
                    <a:lnTo>
                      <a:pt x="82" y="479"/>
                    </a:lnTo>
                    <a:lnTo>
                      <a:pt x="55" y="417"/>
                    </a:lnTo>
                    <a:lnTo>
                      <a:pt x="29" y="355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560" y="571968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8" h="838">
                    <a:moveTo>
                      <a:pt x="208" y="661"/>
                    </a:moveTo>
                    <a:lnTo>
                      <a:pt x="208" y="838"/>
                    </a:lnTo>
                    <a:lnTo>
                      <a:pt x="183" y="779"/>
                    </a:lnTo>
                    <a:lnTo>
                      <a:pt x="158" y="720"/>
                    </a:lnTo>
                    <a:lnTo>
                      <a:pt x="133" y="661"/>
                    </a:lnTo>
                    <a:lnTo>
                      <a:pt x="106" y="603"/>
                    </a:lnTo>
                    <a:lnTo>
                      <a:pt x="80" y="544"/>
                    </a:lnTo>
                    <a:lnTo>
                      <a:pt x="54" y="487"/>
                    </a:lnTo>
                    <a:lnTo>
                      <a:pt x="27" y="429"/>
                    </a:lnTo>
                    <a:lnTo>
                      <a:pt x="0" y="372"/>
                    </a:lnTo>
                    <a:lnTo>
                      <a:pt x="0" y="0"/>
                    </a:lnTo>
                    <a:lnTo>
                      <a:pt x="29" y="79"/>
                    </a:lnTo>
                    <a:lnTo>
                      <a:pt x="57" y="160"/>
                    </a:lnTo>
                    <a:lnTo>
                      <a:pt x="84" y="242"/>
                    </a:lnTo>
                    <a:lnTo>
                      <a:pt x="111" y="323"/>
                    </a:lnTo>
                    <a:lnTo>
                      <a:pt x="136" y="407"/>
                    </a:lnTo>
                    <a:lnTo>
                      <a:pt x="161" y="491"/>
                    </a:lnTo>
                    <a:lnTo>
                      <a:pt x="185" y="576"/>
                    </a:lnTo>
                    <a:lnTo>
                      <a:pt x="208" y="661"/>
                    </a:lnTo>
                    <a:close/>
                  </a:path>
                </a:pathLst>
              </a:custGeom>
              <a:solidFill>
                <a:srgbClr val="e53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7120" y="571608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7" h="864">
                    <a:moveTo>
                      <a:pt x="207" y="570"/>
                    </a:moveTo>
                    <a:lnTo>
                      <a:pt x="207" y="864"/>
                    </a:lnTo>
                    <a:lnTo>
                      <a:pt x="183" y="808"/>
                    </a:lnTo>
                    <a:lnTo>
                      <a:pt x="158" y="754"/>
                    </a:lnTo>
                    <a:lnTo>
                      <a:pt x="132" y="698"/>
                    </a:lnTo>
                    <a:lnTo>
                      <a:pt x="107" y="645"/>
                    </a:lnTo>
                    <a:lnTo>
                      <a:pt x="80" y="590"/>
                    </a:lnTo>
                    <a:lnTo>
                      <a:pt x="53" y="537"/>
                    </a:lnTo>
                    <a:lnTo>
                      <a:pt x="27" y="484"/>
                    </a:lnTo>
                    <a:lnTo>
                      <a:pt x="0" y="430"/>
                    </a:lnTo>
                    <a:lnTo>
                      <a:pt x="0" y="0"/>
                    </a:lnTo>
                    <a:lnTo>
                      <a:pt x="28" y="70"/>
                    </a:lnTo>
                    <a:lnTo>
                      <a:pt x="55" y="139"/>
                    </a:lnTo>
                    <a:lnTo>
                      <a:pt x="82" y="209"/>
                    </a:lnTo>
                    <a:lnTo>
                      <a:pt x="109" y="280"/>
                    </a:lnTo>
                    <a:lnTo>
                      <a:pt x="135" y="351"/>
                    </a:lnTo>
                    <a:lnTo>
                      <a:pt x="160" y="424"/>
                    </a:lnTo>
                    <a:lnTo>
                      <a:pt x="184" y="497"/>
                    </a:lnTo>
                    <a:lnTo>
                      <a:pt x="207" y="570"/>
                    </a:lnTo>
                    <a:close/>
                  </a:path>
                </a:pathLst>
              </a:custGeom>
              <a:solidFill>
                <a:srgbClr val="e74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05680" y="57128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8" h="875">
                    <a:moveTo>
                      <a:pt x="208" y="503"/>
                    </a:moveTo>
                    <a:lnTo>
                      <a:pt x="208" y="875"/>
                    </a:lnTo>
                    <a:lnTo>
                      <a:pt x="182" y="823"/>
                    </a:lnTo>
                    <a:lnTo>
                      <a:pt x="157" y="773"/>
                    </a:lnTo>
                    <a:lnTo>
                      <a:pt x="132" y="722"/>
                    </a:lnTo>
                    <a:lnTo>
                      <a:pt x="106" y="671"/>
                    </a:lnTo>
                    <a:lnTo>
                      <a:pt x="79" y="621"/>
                    </a:lnTo>
                    <a:lnTo>
                      <a:pt x="53" y="570"/>
                    </a:lnTo>
                    <a:lnTo>
                      <a:pt x="26" y="52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27" y="62"/>
                    </a:lnTo>
                    <a:lnTo>
                      <a:pt x="54" y="123"/>
                    </a:lnTo>
                    <a:lnTo>
                      <a:pt x="81" y="185"/>
                    </a:lnTo>
                    <a:lnTo>
                      <a:pt x="108" y="248"/>
                    </a:lnTo>
                    <a:lnTo>
                      <a:pt x="134" y="310"/>
                    </a:lnTo>
                    <a:lnTo>
                      <a:pt x="159" y="374"/>
                    </a:lnTo>
                    <a:lnTo>
                      <a:pt x="183" y="438"/>
                    </a:lnTo>
                    <a:lnTo>
                      <a:pt x="208" y="503"/>
                    </a:lnTo>
                    <a:close/>
                  </a:path>
                </a:pathLst>
              </a:custGeom>
              <a:solidFill>
                <a:srgbClr val="e9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04240" y="570924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209" h="878">
                    <a:moveTo>
                      <a:pt x="209" y="448"/>
                    </a:moveTo>
                    <a:lnTo>
                      <a:pt x="209" y="878"/>
                    </a:lnTo>
                    <a:lnTo>
                      <a:pt x="183" y="830"/>
                    </a:lnTo>
                    <a:lnTo>
                      <a:pt x="158" y="782"/>
                    </a:lnTo>
                    <a:lnTo>
                      <a:pt x="132" y="734"/>
                    </a:lnTo>
                    <a:lnTo>
                      <a:pt x="107" y="686"/>
                    </a:lnTo>
                    <a:lnTo>
                      <a:pt x="81" y="639"/>
                    </a:lnTo>
                    <a:lnTo>
                      <a:pt x="54" y="592"/>
                    </a:lnTo>
                    <a:lnTo>
                      <a:pt x="27" y="545"/>
                    </a:lnTo>
                    <a:lnTo>
                      <a:pt x="0" y="499"/>
                    </a:lnTo>
                    <a:lnTo>
                      <a:pt x="0" y="0"/>
                    </a:lnTo>
                    <a:lnTo>
                      <a:pt x="28" y="54"/>
                    </a:lnTo>
                    <a:lnTo>
                      <a:pt x="55" y="109"/>
                    </a:lnTo>
                    <a:lnTo>
                      <a:pt x="82" y="164"/>
                    </a:lnTo>
                    <a:lnTo>
                      <a:pt x="108" y="221"/>
                    </a:lnTo>
                    <a:lnTo>
                      <a:pt x="134" y="277"/>
                    </a:lnTo>
                    <a:lnTo>
                      <a:pt x="159" y="333"/>
                    </a:lnTo>
                    <a:lnTo>
                      <a:pt x="184" y="391"/>
                    </a:lnTo>
                    <a:lnTo>
                      <a:pt x="209" y="448"/>
                    </a:lnTo>
                    <a:close/>
                  </a:path>
                </a:pathLst>
              </a:custGeom>
              <a:solidFill>
                <a:srgbClr val="eb6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2440" y="570708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209" h="877">
                    <a:moveTo>
                      <a:pt x="209" y="407"/>
                    </a:moveTo>
                    <a:lnTo>
                      <a:pt x="209" y="877"/>
                    </a:lnTo>
                    <a:lnTo>
                      <a:pt x="184" y="832"/>
                    </a:lnTo>
                    <a:lnTo>
                      <a:pt x="158" y="787"/>
                    </a:lnTo>
                    <a:lnTo>
                      <a:pt x="132" y="741"/>
                    </a:lnTo>
                    <a:lnTo>
                      <a:pt x="106" y="697"/>
                    </a:lnTo>
                    <a:lnTo>
                      <a:pt x="80" y="652"/>
                    </a:lnTo>
                    <a:lnTo>
                      <a:pt x="53" y="607"/>
                    </a:lnTo>
                    <a:lnTo>
                      <a:pt x="27" y="564"/>
                    </a:lnTo>
                    <a:lnTo>
                      <a:pt x="0" y="519"/>
                    </a:lnTo>
                    <a:lnTo>
                      <a:pt x="0" y="0"/>
                    </a:lnTo>
                    <a:lnTo>
                      <a:pt x="27" y="49"/>
                    </a:lnTo>
                    <a:lnTo>
                      <a:pt x="54" y="99"/>
                    </a:lnTo>
                    <a:lnTo>
                      <a:pt x="81" y="149"/>
                    </a:lnTo>
                    <a:lnTo>
                      <a:pt x="108" y="201"/>
                    </a:lnTo>
                    <a:lnTo>
                      <a:pt x="133" y="252"/>
                    </a:lnTo>
                    <a:lnTo>
                      <a:pt x="158" y="304"/>
                    </a:lnTo>
                    <a:lnTo>
                      <a:pt x="184" y="355"/>
                    </a:lnTo>
                    <a:lnTo>
                      <a:pt x="209" y="407"/>
                    </a:lnTo>
                    <a:close/>
                  </a:path>
                </a:pathLst>
              </a:custGeom>
              <a:solidFill>
                <a:srgbClr val="ed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01360" y="57042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08" h="873">
                    <a:moveTo>
                      <a:pt x="208" y="374"/>
                    </a:moveTo>
                    <a:lnTo>
                      <a:pt x="208" y="873"/>
                    </a:lnTo>
                    <a:lnTo>
                      <a:pt x="183" y="830"/>
                    </a:lnTo>
                    <a:lnTo>
                      <a:pt x="157" y="786"/>
                    </a:lnTo>
                    <a:lnTo>
                      <a:pt x="132" y="744"/>
                    </a:lnTo>
                    <a:lnTo>
                      <a:pt x="106" y="701"/>
                    </a:lnTo>
                    <a:lnTo>
                      <a:pt x="80" y="659"/>
                    </a:lnTo>
                    <a:lnTo>
                      <a:pt x="54" y="618"/>
                    </a:lnTo>
                    <a:lnTo>
                      <a:pt x="26" y="575"/>
                    </a:lnTo>
                    <a:lnTo>
                      <a:pt x="0" y="534"/>
                    </a:lnTo>
                    <a:lnTo>
                      <a:pt x="0" y="0"/>
                    </a:lnTo>
                    <a:lnTo>
                      <a:pt x="27" y="46"/>
                    </a:lnTo>
                    <a:lnTo>
                      <a:pt x="55" y="91"/>
                    </a:lnTo>
                    <a:lnTo>
                      <a:pt x="81" y="138"/>
                    </a:lnTo>
                    <a:lnTo>
                      <a:pt x="107" y="184"/>
                    </a:lnTo>
                    <a:lnTo>
                      <a:pt x="133" y="230"/>
                    </a:lnTo>
                    <a:lnTo>
                      <a:pt x="158" y="278"/>
                    </a:lnTo>
                    <a:lnTo>
                      <a:pt x="184" y="325"/>
                    </a:lnTo>
                    <a:lnTo>
                      <a:pt x="208" y="374"/>
                    </a:lnTo>
                    <a:close/>
                  </a:path>
                </a:pathLst>
              </a:custGeom>
              <a:solidFill>
                <a:srgbClr val="ef87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9920" y="57020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8" h="862">
                    <a:moveTo>
                      <a:pt x="208" y="343"/>
                    </a:moveTo>
                    <a:lnTo>
                      <a:pt x="208" y="862"/>
                    </a:lnTo>
                    <a:lnTo>
                      <a:pt x="183" y="822"/>
                    </a:lnTo>
                    <a:lnTo>
                      <a:pt x="158" y="781"/>
                    </a:lnTo>
                    <a:lnTo>
                      <a:pt x="131" y="740"/>
                    </a:lnTo>
                    <a:lnTo>
                      <a:pt x="106" y="701"/>
                    </a:lnTo>
                    <a:lnTo>
                      <a:pt x="80" y="661"/>
                    </a:lnTo>
                    <a:lnTo>
                      <a:pt x="53" y="621"/>
                    </a:lnTo>
                    <a:lnTo>
                      <a:pt x="26" y="581"/>
                    </a:lnTo>
                    <a:lnTo>
                      <a:pt x="0" y="542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54" y="84"/>
                    </a:lnTo>
                    <a:lnTo>
                      <a:pt x="80" y="126"/>
                    </a:lnTo>
                    <a:lnTo>
                      <a:pt x="106" y="169"/>
                    </a:lnTo>
                    <a:lnTo>
                      <a:pt x="132" y="212"/>
                    </a:lnTo>
                    <a:lnTo>
                      <a:pt x="158" y="255"/>
                    </a:lnTo>
                    <a:lnTo>
                      <a:pt x="183" y="299"/>
                    </a:lnTo>
                    <a:lnTo>
                      <a:pt x="208" y="343"/>
                    </a:lnTo>
                    <a:close/>
                  </a:path>
                </a:pathLst>
              </a:custGeom>
              <a:solidFill>
                <a:srgbClr val="f19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480" y="569988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9" h="851">
                    <a:moveTo>
                      <a:pt x="209" y="317"/>
                    </a:moveTo>
                    <a:lnTo>
                      <a:pt x="209" y="851"/>
                    </a:lnTo>
                    <a:lnTo>
                      <a:pt x="184" y="813"/>
                    </a:lnTo>
                    <a:lnTo>
                      <a:pt x="158" y="773"/>
                    </a:lnTo>
                    <a:lnTo>
                      <a:pt x="132" y="735"/>
                    </a:lnTo>
                    <a:lnTo>
                      <a:pt x="106" y="698"/>
                    </a:lnTo>
                    <a:lnTo>
                      <a:pt x="80" y="659"/>
                    </a:lnTo>
                    <a:lnTo>
                      <a:pt x="54" y="621"/>
                    </a:lnTo>
                    <a:lnTo>
                      <a:pt x="28" y="584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28" y="38"/>
                    </a:lnTo>
                    <a:lnTo>
                      <a:pt x="55" y="77"/>
                    </a:lnTo>
                    <a:lnTo>
                      <a:pt x="81" y="117"/>
                    </a:lnTo>
                    <a:lnTo>
                      <a:pt x="107" y="156"/>
                    </a:lnTo>
                    <a:lnTo>
                      <a:pt x="134" y="196"/>
                    </a:lnTo>
                    <a:lnTo>
                      <a:pt x="159" y="237"/>
                    </a:lnTo>
                    <a:lnTo>
                      <a:pt x="184" y="277"/>
                    </a:lnTo>
                    <a:lnTo>
                      <a:pt x="209" y="317"/>
                    </a:lnTo>
                    <a:close/>
                  </a:path>
                </a:pathLst>
              </a:custGeom>
              <a:solidFill>
                <a:srgbClr val="f19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7040" y="5697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9" h="837">
                    <a:moveTo>
                      <a:pt x="209" y="295"/>
                    </a:moveTo>
                    <a:lnTo>
                      <a:pt x="209" y="837"/>
                    </a:lnTo>
                    <a:lnTo>
                      <a:pt x="183" y="800"/>
                    </a:lnTo>
                    <a:lnTo>
                      <a:pt x="158" y="763"/>
                    </a:lnTo>
                    <a:lnTo>
                      <a:pt x="133" y="727"/>
                    </a:lnTo>
                    <a:lnTo>
                      <a:pt x="106" y="690"/>
                    </a:lnTo>
                    <a:lnTo>
                      <a:pt x="80" y="654"/>
                    </a:lnTo>
                    <a:lnTo>
                      <a:pt x="54" y="619"/>
                    </a:lnTo>
                    <a:lnTo>
                      <a:pt x="28" y="583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8" y="36"/>
                    </a:lnTo>
                    <a:lnTo>
                      <a:pt x="54" y="71"/>
                    </a:lnTo>
                    <a:lnTo>
                      <a:pt x="80" y="109"/>
                    </a:lnTo>
                    <a:lnTo>
                      <a:pt x="106" y="145"/>
                    </a:lnTo>
                    <a:lnTo>
                      <a:pt x="133" y="182"/>
                    </a:lnTo>
                    <a:lnTo>
                      <a:pt x="159" y="219"/>
                    </a:lnTo>
                    <a:lnTo>
                      <a:pt x="184" y="257"/>
                    </a:lnTo>
                    <a:lnTo>
                      <a:pt x="209" y="295"/>
                    </a:lnTo>
                    <a:close/>
                  </a:path>
                </a:pathLst>
              </a:custGeom>
              <a:solidFill>
                <a:srgbClr val="f19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5960" y="569592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7" h="823">
                    <a:moveTo>
                      <a:pt x="207" y="277"/>
                    </a:moveTo>
                    <a:lnTo>
                      <a:pt x="207" y="823"/>
                    </a:lnTo>
                    <a:lnTo>
                      <a:pt x="182" y="788"/>
                    </a:lnTo>
                    <a:lnTo>
                      <a:pt x="157" y="754"/>
                    </a:lnTo>
                    <a:lnTo>
                      <a:pt x="131" y="719"/>
                    </a:lnTo>
                    <a:lnTo>
                      <a:pt x="106" y="684"/>
                    </a:lnTo>
                    <a:lnTo>
                      <a:pt x="79" y="650"/>
                    </a:lnTo>
                    <a:lnTo>
                      <a:pt x="53" y="616"/>
                    </a:lnTo>
                    <a:lnTo>
                      <a:pt x="26" y="581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6" y="35"/>
                    </a:lnTo>
                    <a:lnTo>
                      <a:pt x="53" y="68"/>
                    </a:lnTo>
                    <a:lnTo>
                      <a:pt x="79" y="102"/>
                    </a:lnTo>
                    <a:lnTo>
                      <a:pt x="106" y="137"/>
                    </a:lnTo>
                    <a:lnTo>
                      <a:pt x="132" y="171"/>
                    </a:lnTo>
                    <a:lnTo>
                      <a:pt x="157" y="206"/>
                    </a:lnTo>
                    <a:lnTo>
                      <a:pt x="182" y="241"/>
                    </a:lnTo>
                    <a:lnTo>
                      <a:pt x="207" y="277"/>
                    </a:lnTo>
                    <a:close/>
                  </a:path>
                </a:pathLst>
              </a:custGeom>
              <a:solidFill>
                <a:srgbClr val="f29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4520" y="569412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7" h="807">
                    <a:moveTo>
                      <a:pt x="207" y="260"/>
                    </a:moveTo>
                    <a:lnTo>
                      <a:pt x="207" y="807"/>
                    </a:lnTo>
                    <a:lnTo>
                      <a:pt x="182" y="774"/>
                    </a:lnTo>
                    <a:lnTo>
                      <a:pt x="156" y="741"/>
                    </a:lnTo>
                    <a:lnTo>
                      <a:pt x="131" y="707"/>
                    </a:lnTo>
                    <a:lnTo>
                      <a:pt x="105" y="674"/>
                    </a:lnTo>
                    <a:lnTo>
                      <a:pt x="78" y="641"/>
                    </a:lnTo>
                    <a:lnTo>
                      <a:pt x="52" y="609"/>
                    </a:lnTo>
                    <a:lnTo>
                      <a:pt x="26" y="575"/>
                    </a:lnTo>
                    <a:lnTo>
                      <a:pt x="0" y="543"/>
                    </a:lnTo>
                    <a:lnTo>
                      <a:pt x="0" y="0"/>
                    </a:lnTo>
                    <a:lnTo>
                      <a:pt x="26" y="32"/>
                    </a:lnTo>
                    <a:lnTo>
                      <a:pt x="53" y="64"/>
                    </a:lnTo>
                    <a:lnTo>
                      <a:pt x="79" y="96"/>
                    </a:lnTo>
                    <a:lnTo>
                      <a:pt x="106" y="128"/>
                    </a:lnTo>
                    <a:lnTo>
                      <a:pt x="131" y="161"/>
                    </a:lnTo>
                    <a:lnTo>
                      <a:pt x="157" y="193"/>
                    </a:lnTo>
                    <a:lnTo>
                      <a:pt x="182" y="226"/>
                    </a:lnTo>
                    <a:lnTo>
                      <a:pt x="207" y="260"/>
                    </a:lnTo>
                    <a:close/>
                  </a:path>
                </a:pathLst>
              </a:custGeom>
              <a:solidFill>
                <a:srgbClr val="f2a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2720" y="56926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90">
                    <a:moveTo>
                      <a:pt x="209" y="243"/>
                    </a:moveTo>
                    <a:lnTo>
                      <a:pt x="209" y="790"/>
                    </a:lnTo>
                    <a:lnTo>
                      <a:pt x="183" y="758"/>
                    </a:lnTo>
                    <a:lnTo>
                      <a:pt x="157" y="727"/>
                    </a:lnTo>
                    <a:lnTo>
                      <a:pt x="132" y="694"/>
                    </a:lnTo>
                    <a:lnTo>
                      <a:pt x="106" y="663"/>
                    </a:lnTo>
                    <a:lnTo>
                      <a:pt x="80" y="631"/>
                    </a:lnTo>
                    <a:lnTo>
                      <a:pt x="53" y="599"/>
                    </a:lnTo>
                    <a:lnTo>
                      <a:pt x="27" y="568"/>
                    </a:lnTo>
                    <a:lnTo>
                      <a:pt x="0" y="538"/>
                    </a:lnTo>
                    <a:lnTo>
                      <a:pt x="0" y="0"/>
                    </a:lnTo>
                    <a:lnTo>
                      <a:pt x="27" y="30"/>
                    </a:lnTo>
                    <a:lnTo>
                      <a:pt x="53" y="60"/>
                    </a:lnTo>
                    <a:lnTo>
                      <a:pt x="80" y="90"/>
                    </a:lnTo>
                    <a:lnTo>
                      <a:pt x="106" y="120"/>
                    </a:lnTo>
                    <a:lnTo>
                      <a:pt x="132" y="151"/>
                    </a:lnTo>
                    <a:lnTo>
                      <a:pt x="157" y="182"/>
                    </a:lnTo>
                    <a:lnTo>
                      <a:pt x="183" y="212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f2a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1280" y="56908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72">
                    <a:moveTo>
                      <a:pt x="209" y="229"/>
                    </a:moveTo>
                    <a:lnTo>
                      <a:pt x="209" y="772"/>
                    </a:lnTo>
                    <a:lnTo>
                      <a:pt x="183" y="742"/>
                    </a:lnTo>
                    <a:lnTo>
                      <a:pt x="157" y="710"/>
                    </a:lnTo>
                    <a:lnTo>
                      <a:pt x="131" y="680"/>
                    </a:lnTo>
                    <a:lnTo>
                      <a:pt x="106" y="650"/>
                    </a:lnTo>
                    <a:lnTo>
                      <a:pt x="80" y="620"/>
                    </a:lnTo>
                    <a:lnTo>
                      <a:pt x="53" y="590"/>
                    </a:lnTo>
                    <a:lnTo>
                      <a:pt x="26" y="560"/>
                    </a:lnTo>
                    <a:lnTo>
                      <a:pt x="0" y="530"/>
                    </a:lnTo>
                    <a:lnTo>
                      <a:pt x="0" y="0"/>
                    </a:lnTo>
                    <a:lnTo>
                      <a:pt x="27" y="29"/>
                    </a:lnTo>
                    <a:lnTo>
                      <a:pt x="53" y="57"/>
                    </a:lnTo>
                    <a:lnTo>
                      <a:pt x="80" y="85"/>
                    </a:lnTo>
                    <a:lnTo>
                      <a:pt x="106" y="113"/>
                    </a:lnTo>
                    <a:lnTo>
                      <a:pt x="132" y="142"/>
                    </a:lnTo>
                    <a:lnTo>
                      <a:pt x="157" y="171"/>
                    </a:lnTo>
                    <a:lnTo>
                      <a:pt x="183" y="200"/>
                    </a:lnTo>
                    <a:lnTo>
                      <a:pt x="209" y="229"/>
                    </a:lnTo>
                    <a:close/>
                  </a:path>
                </a:pathLst>
              </a:custGeom>
              <a:solidFill>
                <a:srgbClr val="f3a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9840" y="568944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208" h="753">
                    <a:moveTo>
                      <a:pt x="208" y="215"/>
                    </a:moveTo>
                    <a:lnTo>
                      <a:pt x="208" y="753"/>
                    </a:lnTo>
                    <a:lnTo>
                      <a:pt x="183" y="723"/>
                    </a:lnTo>
                    <a:lnTo>
                      <a:pt x="157" y="693"/>
                    </a:lnTo>
                    <a:lnTo>
                      <a:pt x="131" y="664"/>
                    </a:lnTo>
                    <a:lnTo>
                      <a:pt x="105" y="635"/>
                    </a:lnTo>
                    <a:lnTo>
                      <a:pt x="79" y="607"/>
                    </a:lnTo>
                    <a:lnTo>
                      <a:pt x="53" y="577"/>
                    </a:lnTo>
                    <a:lnTo>
                      <a:pt x="26" y="549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26" y="26"/>
                    </a:lnTo>
                    <a:lnTo>
                      <a:pt x="54" y="52"/>
                    </a:lnTo>
                    <a:lnTo>
                      <a:pt x="80" y="79"/>
                    </a:lnTo>
                    <a:lnTo>
                      <a:pt x="106" y="105"/>
                    </a:lnTo>
                    <a:lnTo>
                      <a:pt x="131" y="133"/>
                    </a:lnTo>
                    <a:lnTo>
                      <a:pt x="157" y="160"/>
                    </a:lnTo>
                    <a:lnTo>
                      <a:pt x="183" y="187"/>
                    </a:lnTo>
                    <a:lnTo>
                      <a:pt x="208" y="215"/>
                    </a:lnTo>
                    <a:close/>
                  </a:path>
                </a:pathLst>
              </a:custGeom>
              <a:solidFill>
                <a:srgbClr val="f3a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8400" y="568800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08" h="734">
                    <a:moveTo>
                      <a:pt x="208" y="204"/>
                    </a:moveTo>
                    <a:lnTo>
                      <a:pt x="208" y="734"/>
                    </a:lnTo>
                    <a:lnTo>
                      <a:pt x="183" y="706"/>
                    </a:lnTo>
                    <a:lnTo>
                      <a:pt x="157" y="677"/>
                    </a:lnTo>
                    <a:lnTo>
                      <a:pt x="131" y="650"/>
                    </a:lnTo>
                    <a:lnTo>
                      <a:pt x="105" y="622"/>
                    </a:lnTo>
                    <a:lnTo>
                      <a:pt x="79" y="594"/>
                    </a:lnTo>
                    <a:lnTo>
                      <a:pt x="53" y="567"/>
                    </a:lnTo>
                    <a:lnTo>
                      <a:pt x="26" y="539"/>
                    </a:lnTo>
                    <a:lnTo>
                      <a:pt x="0" y="511"/>
                    </a:lnTo>
                    <a:lnTo>
                      <a:pt x="0" y="0"/>
                    </a:lnTo>
                    <a:lnTo>
                      <a:pt x="26" y="25"/>
                    </a:lnTo>
                    <a:lnTo>
                      <a:pt x="53" y="50"/>
                    </a:lnTo>
                    <a:lnTo>
                      <a:pt x="79" y="75"/>
                    </a:lnTo>
                    <a:lnTo>
                      <a:pt x="105" y="101"/>
                    </a:lnTo>
                    <a:lnTo>
                      <a:pt x="131" y="126"/>
                    </a:lnTo>
                    <a:lnTo>
                      <a:pt x="157" y="152"/>
                    </a:lnTo>
                    <a:lnTo>
                      <a:pt x="183" y="178"/>
                    </a:lnTo>
                    <a:lnTo>
                      <a:pt x="208" y="204"/>
                    </a:lnTo>
                    <a:close/>
                  </a:path>
                </a:pathLst>
              </a:custGeom>
              <a:solidFill>
                <a:srgbClr val="f3a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7320" y="5686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09" h="714">
                    <a:moveTo>
                      <a:pt x="209" y="194"/>
                    </a:moveTo>
                    <a:lnTo>
                      <a:pt x="209" y="714"/>
                    </a:lnTo>
                    <a:lnTo>
                      <a:pt x="183" y="688"/>
                    </a:lnTo>
                    <a:lnTo>
                      <a:pt x="158" y="661"/>
                    </a:lnTo>
                    <a:lnTo>
                      <a:pt x="131" y="633"/>
                    </a:lnTo>
                    <a:lnTo>
                      <a:pt x="106" y="606"/>
                    </a:lnTo>
                    <a:lnTo>
                      <a:pt x="80" y="580"/>
                    </a:lnTo>
                    <a:lnTo>
                      <a:pt x="54" y="554"/>
                    </a:lnTo>
                    <a:lnTo>
                      <a:pt x="28" y="527"/>
                    </a:lnTo>
                    <a:lnTo>
                      <a:pt x="0" y="500"/>
                    </a:lnTo>
                    <a:lnTo>
                      <a:pt x="0" y="0"/>
                    </a:lnTo>
                    <a:lnTo>
                      <a:pt x="28" y="23"/>
                    </a:lnTo>
                    <a:lnTo>
                      <a:pt x="54" y="47"/>
                    </a:lnTo>
                    <a:lnTo>
                      <a:pt x="80" y="71"/>
                    </a:lnTo>
                    <a:lnTo>
                      <a:pt x="106" y="95"/>
                    </a:lnTo>
                    <a:lnTo>
                      <a:pt x="132" y="119"/>
                    </a:lnTo>
                    <a:lnTo>
                      <a:pt x="158" y="144"/>
                    </a:lnTo>
                    <a:lnTo>
                      <a:pt x="184" y="168"/>
                    </a:lnTo>
                    <a:lnTo>
                      <a:pt x="209" y="194"/>
                    </a:lnTo>
                    <a:close/>
                  </a:path>
                </a:pathLst>
              </a:custGeom>
              <a:solidFill>
                <a:srgbClr val="f4a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5880" y="568584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209" h="695">
                    <a:moveTo>
                      <a:pt x="209" y="184"/>
                    </a:moveTo>
                    <a:lnTo>
                      <a:pt x="209" y="695"/>
                    </a:lnTo>
                    <a:lnTo>
                      <a:pt x="183" y="669"/>
                    </a:lnTo>
                    <a:lnTo>
                      <a:pt x="158" y="644"/>
                    </a:lnTo>
                    <a:lnTo>
                      <a:pt x="132" y="617"/>
                    </a:lnTo>
                    <a:lnTo>
                      <a:pt x="105" y="591"/>
                    </a:lnTo>
                    <a:lnTo>
                      <a:pt x="79" y="566"/>
                    </a:lnTo>
                    <a:lnTo>
                      <a:pt x="53" y="541"/>
                    </a:lnTo>
                    <a:lnTo>
                      <a:pt x="27" y="515"/>
                    </a:lnTo>
                    <a:lnTo>
                      <a:pt x="0" y="489"/>
                    </a:lnTo>
                    <a:lnTo>
                      <a:pt x="0" y="0"/>
                    </a:lnTo>
                    <a:lnTo>
                      <a:pt x="27" y="22"/>
                    </a:lnTo>
                    <a:lnTo>
                      <a:pt x="54" y="46"/>
                    </a:lnTo>
                    <a:lnTo>
                      <a:pt x="80" y="68"/>
                    </a:lnTo>
                    <a:lnTo>
                      <a:pt x="106" y="91"/>
                    </a:lnTo>
                    <a:lnTo>
                      <a:pt x="132" y="113"/>
                    </a:lnTo>
                    <a:lnTo>
                      <a:pt x="158" y="136"/>
                    </a:lnTo>
                    <a:lnTo>
                      <a:pt x="183" y="161"/>
                    </a:lnTo>
                    <a:lnTo>
                      <a:pt x="209" y="184"/>
                    </a:lnTo>
                    <a:close/>
                  </a:path>
                </a:pathLst>
              </a:custGeom>
              <a:solidFill>
                <a:srgbClr val="f4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4080" y="568440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207" h="675">
                    <a:moveTo>
                      <a:pt x="207" y="175"/>
                    </a:moveTo>
                    <a:lnTo>
                      <a:pt x="207" y="675"/>
                    </a:lnTo>
                    <a:lnTo>
                      <a:pt x="182" y="651"/>
                    </a:lnTo>
                    <a:lnTo>
                      <a:pt x="156" y="626"/>
                    </a:lnTo>
                    <a:lnTo>
                      <a:pt x="131" y="601"/>
                    </a:lnTo>
                    <a:lnTo>
                      <a:pt x="104" y="575"/>
                    </a:lnTo>
                    <a:lnTo>
                      <a:pt x="78" y="551"/>
                    </a:lnTo>
                    <a:lnTo>
                      <a:pt x="52" y="526"/>
                    </a:lnTo>
                    <a:lnTo>
                      <a:pt x="26" y="502"/>
                    </a:lnTo>
                    <a:lnTo>
                      <a:pt x="0" y="477"/>
                    </a:lnTo>
                    <a:lnTo>
                      <a:pt x="0" y="0"/>
                    </a:lnTo>
                    <a:lnTo>
                      <a:pt x="26" y="22"/>
                    </a:lnTo>
                    <a:lnTo>
                      <a:pt x="52" y="43"/>
                    </a:lnTo>
                    <a:lnTo>
                      <a:pt x="78" y="64"/>
                    </a:lnTo>
                    <a:lnTo>
                      <a:pt x="104" y="86"/>
                    </a:lnTo>
                    <a:lnTo>
                      <a:pt x="131" y="108"/>
                    </a:lnTo>
                    <a:lnTo>
                      <a:pt x="157" y="130"/>
                    </a:lnTo>
                    <a:lnTo>
                      <a:pt x="182" y="152"/>
                    </a:lnTo>
                    <a:lnTo>
                      <a:pt x="207" y="175"/>
                    </a:lnTo>
                    <a:close/>
                  </a:path>
                </a:pathLst>
              </a:custGeom>
              <a:solidFill>
                <a:srgbClr val="f4b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2640" y="568332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207" h="654">
                    <a:moveTo>
                      <a:pt x="207" y="165"/>
                    </a:moveTo>
                    <a:lnTo>
                      <a:pt x="207" y="654"/>
                    </a:lnTo>
                    <a:lnTo>
                      <a:pt x="182" y="630"/>
                    </a:lnTo>
                    <a:lnTo>
                      <a:pt x="156" y="606"/>
                    </a:lnTo>
                    <a:lnTo>
                      <a:pt x="130" y="582"/>
                    </a:lnTo>
                    <a:lnTo>
                      <a:pt x="105" y="558"/>
                    </a:lnTo>
                    <a:lnTo>
                      <a:pt x="78" y="534"/>
                    </a:lnTo>
                    <a:lnTo>
                      <a:pt x="52" y="511"/>
                    </a:lnTo>
                    <a:lnTo>
                      <a:pt x="26" y="487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26" y="20"/>
                    </a:lnTo>
                    <a:lnTo>
                      <a:pt x="52" y="40"/>
                    </a:lnTo>
                    <a:lnTo>
                      <a:pt x="78" y="60"/>
                    </a:lnTo>
                    <a:lnTo>
                      <a:pt x="105" y="81"/>
                    </a:lnTo>
                    <a:lnTo>
                      <a:pt x="131" y="102"/>
                    </a:lnTo>
                    <a:lnTo>
                      <a:pt x="156" y="123"/>
                    </a:lnTo>
                    <a:lnTo>
                      <a:pt x="182" y="144"/>
                    </a:lnTo>
                    <a:lnTo>
                      <a:pt x="207" y="165"/>
                    </a:lnTo>
                    <a:close/>
                  </a:path>
                </a:pathLst>
              </a:custGeom>
              <a:solidFill>
                <a:srgbClr val="f5b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1200" y="568188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09" h="635">
                    <a:moveTo>
                      <a:pt x="209" y="158"/>
                    </a:moveTo>
                    <a:lnTo>
                      <a:pt x="209" y="635"/>
                    </a:lnTo>
                    <a:lnTo>
                      <a:pt x="182" y="612"/>
                    </a:lnTo>
                    <a:lnTo>
                      <a:pt x="157" y="589"/>
                    </a:lnTo>
                    <a:lnTo>
                      <a:pt x="131" y="566"/>
                    </a:lnTo>
                    <a:lnTo>
                      <a:pt x="105" y="543"/>
                    </a:lnTo>
                    <a:lnTo>
                      <a:pt x="79" y="519"/>
                    </a:lnTo>
                    <a:lnTo>
                      <a:pt x="53" y="497"/>
                    </a:lnTo>
                    <a:lnTo>
                      <a:pt x="26" y="474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53" y="39"/>
                    </a:lnTo>
                    <a:lnTo>
                      <a:pt x="79" y="59"/>
                    </a:lnTo>
                    <a:lnTo>
                      <a:pt x="106" y="78"/>
                    </a:lnTo>
                    <a:lnTo>
                      <a:pt x="131" y="98"/>
                    </a:lnTo>
                    <a:lnTo>
                      <a:pt x="157" y="118"/>
                    </a:lnTo>
                    <a:lnTo>
                      <a:pt x="182" y="138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f5b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0120" y="568116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09" h="615">
                    <a:moveTo>
                      <a:pt x="209" y="151"/>
                    </a:moveTo>
                    <a:lnTo>
                      <a:pt x="209" y="615"/>
                    </a:lnTo>
                    <a:lnTo>
                      <a:pt x="182" y="592"/>
                    </a:lnTo>
                    <a:lnTo>
                      <a:pt x="157" y="570"/>
                    </a:lnTo>
                    <a:lnTo>
                      <a:pt x="131" y="547"/>
                    </a:lnTo>
                    <a:lnTo>
                      <a:pt x="105" y="525"/>
                    </a:lnTo>
                    <a:lnTo>
                      <a:pt x="79" y="503"/>
                    </a:lnTo>
                    <a:lnTo>
                      <a:pt x="52" y="482"/>
                    </a:lnTo>
                    <a:lnTo>
                      <a:pt x="26" y="459"/>
                    </a:lnTo>
                    <a:lnTo>
                      <a:pt x="0" y="437"/>
                    </a:lnTo>
                    <a:lnTo>
                      <a:pt x="0" y="0"/>
                    </a:lnTo>
                    <a:lnTo>
                      <a:pt x="26" y="19"/>
                    </a:lnTo>
                    <a:lnTo>
                      <a:pt x="52" y="37"/>
                    </a:lnTo>
                    <a:lnTo>
                      <a:pt x="79" y="55"/>
                    </a:lnTo>
                    <a:lnTo>
                      <a:pt x="105" y="74"/>
                    </a:lnTo>
                    <a:lnTo>
                      <a:pt x="131" y="93"/>
                    </a:lnTo>
                    <a:lnTo>
                      <a:pt x="157" y="112"/>
                    </a:lnTo>
                    <a:lnTo>
                      <a:pt x="182" y="132"/>
                    </a:lnTo>
                    <a:lnTo>
                      <a:pt x="209" y="151"/>
                    </a:lnTo>
                    <a:close/>
                  </a:path>
                </a:pathLst>
              </a:custGeom>
              <a:solidFill>
                <a:srgbClr val="f5b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8680" y="568008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08" h="595">
                    <a:moveTo>
                      <a:pt x="208" y="143"/>
                    </a:moveTo>
                    <a:lnTo>
                      <a:pt x="208" y="595"/>
                    </a:lnTo>
                    <a:lnTo>
                      <a:pt x="183" y="573"/>
                    </a:lnTo>
                    <a:lnTo>
                      <a:pt x="156" y="552"/>
                    </a:lnTo>
                    <a:lnTo>
                      <a:pt x="131" y="529"/>
                    </a:lnTo>
                    <a:lnTo>
                      <a:pt x="105" y="508"/>
                    </a:lnTo>
                    <a:lnTo>
                      <a:pt x="79" y="487"/>
                    </a:lnTo>
                    <a:lnTo>
                      <a:pt x="52" y="465"/>
                    </a:lnTo>
                    <a:lnTo>
                      <a:pt x="26" y="445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26" y="18"/>
                    </a:lnTo>
                    <a:lnTo>
                      <a:pt x="52" y="35"/>
                    </a:lnTo>
                    <a:lnTo>
                      <a:pt x="79" y="53"/>
                    </a:lnTo>
                    <a:lnTo>
                      <a:pt x="105" y="70"/>
                    </a:lnTo>
                    <a:lnTo>
                      <a:pt x="131" y="89"/>
                    </a:lnTo>
                    <a:lnTo>
                      <a:pt x="156" y="107"/>
                    </a:lnTo>
                    <a:lnTo>
                      <a:pt x="183" y="125"/>
                    </a:lnTo>
                    <a:lnTo>
                      <a:pt x="208" y="143"/>
                    </a:lnTo>
                    <a:close/>
                  </a:path>
                </a:pathLst>
              </a:custGeom>
              <a:solidFill>
                <a:srgbClr val="f6b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7240" y="567936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208" h="573">
                    <a:moveTo>
                      <a:pt x="208" y="136"/>
                    </a:moveTo>
                    <a:lnTo>
                      <a:pt x="208" y="573"/>
                    </a:lnTo>
                    <a:lnTo>
                      <a:pt x="183" y="552"/>
                    </a:lnTo>
                    <a:lnTo>
                      <a:pt x="156" y="532"/>
                    </a:lnTo>
                    <a:lnTo>
                      <a:pt x="130" y="511"/>
                    </a:lnTo>
                    <a:lnTo>
                      <a:pt x="105" y="489"/>
                    </a:lnTo>
                    <a:lnTo>
                      <a:pt x="79" y="469"/>
                    </a:lnTo>
                    <a:lnTo>
                      <a:pt x="53" y="449"/>
                    </a:lnTo>
                    <a:lnTo>
                      <a:pt x="26" y="42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53" y="34"/>
                    </a:lnTo>
                    <a:lnTo>
                      <a:pt x="79" y="50"/>
                    </a:lnTo>
                    <a:lnTo>
                      <a:pt x="105" y="67"/>
                    </a:lnTo>
                    <a:lnTo>
                      <a:pt x="130" y="84"/>
                    </a:lnTo>
                    <a:lnTo>
                      <a:pt x="156" y="101"/>
                    </a:lnTo>
                    <a:lnTo>
                      <a:pt x="183" y="118"/>
                    </a:lnTo>
                    <a:lnTo>
                      <a:pt x="208" y="136"/>
                    </a:lnTo>
                    <a:close/>
                  </a:path>
                </a:pathLst>
              </a:custGeom>
              <a:solidFill>
                <a:srgbClr val="f6b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5440" y="56782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09" h="552">
                    <a:moveTo>
                      <a:pt x="209" y="129"/>
                    </a:moveTo>
                    <a:lnTo>
                      <a:pt x="209" y="552"/>
                    </a:lnTo>
                    <a:lnTo>
                      <a:pt x="183" y="531"/>
                    </a:lnTo>
                    <a:lnTo>
                      <a:pt x="158" y="511"/>
                    </a:lnTo>
                    <a:lnTo>
                      <a:pt x="131" y="492"/>
                    </a:lnTo>
                    <a:lnTo>
                      <a:pt x="105" y="472"/>
                    </a:lnTo>
                    <a:lnTo>
                      <a:pt x="79" y="452"/>
                    </a:lnTo>
                    <a:lnTo>
                      <a:pt x="53" y="431"/>
                    </a:lnTo>
                    <a:lnTo>
                      <a:pt x="26" y="412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54" y="31"/>
                    </a:lnTo>
                    <a:lnTo>
                      <a:pt x="80" y="47"/>
                    </a:lnTo>
                    <a:lnTo>
                      <a:pt x="105" y="63"/>
                    </a:lnTo>
                    <a:lnTo>
                      <a:pt x="131" y="79"/>
                    </a:lnTo>
                    <a:lnTo>
                      <a:pt x="158" y="97"/>
                    </a:lnTo>
                    <a:lnTo>
                      <a:pt x="183" y="113"/>
                    </a:lnTo>
                    <a:lnTo>
                      <a:pt x="209" y="129"/>
                    </a:lnTo>
                    <a:close/>
                  </a:path>
                </a:pathLst>
              </a:custGeom>
              <a:solidFill>
                <a:srgbClr val="f6c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74000" y="567756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209" h="532">
                    <a:moveTo>
                      <a:pt x="209" y="124"/>
                    </a:moveTo>
                    <a:lnTo>
                      <a:pt x="209" y="532"/>
                    </a:lnTo>
                    <a:lnTo>
                      <a:pt x="183" y="513"/>
                    </a:lnTo>
                    <a:lnTo>
                      <a:pt x="157" y="492"/>
                    </a:lnTo>
                    <a:lnTo>
                      <a:pt x="131" y="473"/>
                    </a:lnTo>
                    <a:lnTo>
                      <a:pt x="105" y="454"/>
                    </a:lnTo>
                    <a:lnTo>
                      <a:pt x="79" y="435"/>
                    </a:lnTo>
                    <a:lnTo>
                      <a:pt x="53" y="416"/>
                    </a:lnTo>
                    <a:lnTo>
                      <a:pt x="27" y="397"/>
                    </a:lnTo>
                    <a:lnTo>
                      <a:pt x="0" y="37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31"/>
                    </a:lnTo>
                    <a:lnTo>
                      <a:pt x="79" y="46"/>
                    </a:lnTo>
                    <a:lnTo>
                      <a:pt x="105" y="61"/>
                    </a:lnTo>
                    <a:lnTo>
                      <a:pt x="131" y="77"/>
                    </a:lnTo>
                    <a:lnTo>
                      <a:pt x="158" y="92"/>
                    </a:lnTo>
                    <a:lnTo>
                      <a:pt x="183" y="108"/>
                    </a:lnTo>
                    <a:lnTo>
                      <a:pt x="209" y="124"/>
                    </a:lnTo>
                    <a:close/>
                  </a:path>
                </a:pathLst>
              </a:custGeom>
              <a:solidFill>
                <a:srgbClr val="f7c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2560" y="567648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208" h="511">
                    <a:moveTo>
                      <a:pt x="208" y="119"/>
                    </a:moveTo>
                    <a:lnTo>
                      <a:pt x="208" y="511"/>
                    </a:lnTo>
                    <a:lnTo>
                      <a:pt x="183" y="493"/>
                    </a:lnTo>
                    <a:lnTo>
                      <a:pt x="157" y="474"/>
                    </a:lnTo>
                    <a:lnTo>
                      <a:pt x="132" y="455"/>
                    </a:lnTo>
                    <a:lnTo>
                      <a:pt x="105" y="436"/>
                    </a:lnTo>
                    <a:lnTo>
                      <a:pt x="79" y="418"/>
                    </a:lnTo>
                    <a:lnTo>
                      <a:pt x="53" y="399"/>
                    </a:lnTo>
                    <a:lnTo>
                      <a:pt x="27" y="381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29"/>
                    </a:lnTo>
                    <a:lnTo>
                      <a:pt x="79" y="44"/>
                    </a:lnTo>
                    <a:lnTo>
                      <a:pt x="105" y="58"/>
                    </a:lnTo>
                    <a:lnTo>
                      <a:pt x="132" y="73"/>
                    </a:lnTo>
                    <a:lnTo>
                      <a:pt x="157" y="89"/>
                    </a:lnTo>
                    <a:lnTo>
                      <a:pt x="183" y="104"/>
                    </a:lnTo>
                    <a:lnTo>
                      <a:pt x="208" y="119"/>
                    </a:lnTo>
                    <a:close/>
                  </a:path>
                </a:pathLst>
              </a:custGeom>
              <a:solidFill>
                <a:srgbClr val="f7c5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1480" y="567612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08" h="490">
                    <a:moveTo>
                      <a:pt x="208" y="113"/>
                    </a:moveTo>
                    <a:lnTo>
                      <a:pt x="208" y="490"/>
                    </a:lnTo>
                    <a:lnTo>
                      <a:pt x="182" y="472"/>
                    </a:lnTo>
                    <a:lnTo>
                      <a:pt x="157" y="454"/>
                    </a:lnTo>
                    <a:lnTo>
                      <a:pt x="131" y="436"/>
                    </a:lnTo>
                    <a:lnTo>
                      <a:pt x="104" y="418"/>
                    </a:lnTo>
                    <a:lnTo>
                      <a:pt x="79" y="400"/>
                    </a:lnTo>
                    <a:lnTo>
                      <a:pt x="53" y="383"/>
                    </a:lnTo>
                    <a:lnTo>
                      <a:pt x="27" y="364"/>
                    </a:lnTo>
                    <a:lnTo>
                      <a:pt x="0" y="346"/>
                    </a:lnTo>
                    <a:lnTo>
                      <a:pt x="0" y="0"/>
                    </a:lnTo>
                    <a:lnTo>
                      <a:pt x="27" y="13"/>
                    </a:lnTo>
                    <a:lnTo>
                      <a:pt x="53" y="28"/>
                    </a:lnTo>
                    <a:lnTo>
                      <a:pt x="79" y="42"/>
                    </a:lnTo>
                    <a:lnTo>
                      <a:pt x="105" y="56"/>
                    </a:lnTo>
                    <a:lnTo>
                      <a:pt x="131" y="70"/>
                    </a:lnTo>
                    <a:lnTo>
                      <a:pt x="157" y="84"/>
                    </a:lnTo>
                    <a:lnTo>
                      <a:pt x="182" y="98"/>
                    </a:lnTo>
                    <a:lnTo>
                      <a:pt x="208" y="113"/>
                    </a:lnTo>
                    <a:close/>
                  </a:path>
                </a:pathLst>
              </a:custGeom>
              <a:solidFill>
                <a:srgbClr val="f7c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0040" y="567504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08" h="471">
                    <a:moveTo>
                      <a:pt x="208" y="108"/>
                    </a:moveTo>
                    <a:lnTo>
                      <a:pt x="208" y="471"/>
                    </a:lnTo>
                    <a:lnTo>
                      <a:pt x="182" y="453"/>
                    </a:lnTo>
                    <a:lnTo>
                      <a:pt x="157" y="436"/>
                    </a:lnTo>
                    <a:lnTo>
                      <a:pt x="131" y="417"/>
                    </a:lnTo>
                    <a:lnTo>
                      <a:pt x="105" y="400"/>
                    </a:lnTo>
                    <a:lnTo>
                      <a:pt x="78" y="383"/>
                    </a:lnTo>
                    <a:lnTo>
                      <a:pt x="52" y="365"/>
                    </a:lnTo>
                    <a:lnTo>
                      <a:pt x="26" y="348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52" y="26"/>
                    </a:lnTo>
                    <a:lnTo>
                      <a:pt x="78" y="40"/>
                    </a:lnTo>
                    <a:lnTo>
                      <a:pt x="105" y="53"/>
                    </a:lnTo>
                    <a:lnTo>
                      <a:pt x="131" y="66"/>
                    </a:lnTo>
                    <a:lnTo>
                      <a:pt x="157" y="81"/>
                    </a:lnTo>
                    <a:lnTo>
                      <a:pt x="182" y="95"/>
                    </a:lnTo>
                    <a:lnTo>
                      <a:pt x="208" y="108"/>
                    </a:lnTo>
                    <a:close/>
                  </a:path>
                </a:pathLst>
              </a:custGeom>
              <a:solidFill>
                <a:srgbClr val="f8c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8600" y="567468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08" h="450">
                    <a:moveTo>
                      <a:pt x="208" y="104"/>
                    </a:moveTo>
                    <a:lnTo>
                      <a:pt x="208" y="450"/>
                    </a:lnTo>
                    <a:lnTo>
                      <a:pt x="182" y="433"/>
                    </a:lnTo>
                    <a:lnTo>
                      <a:pt x="156" y="416"/>
                    </a:lnTo>
                    <a:lnTo>
                      <a:pt x="131" y="400"/>
                    </a:lnTo>
                    <a:lnTo>
                      <a:pt x="105" y="383"/>
                    </a:lnTo>
                    <a:lnTo>
                      <a:pt x="78" y="366"/>
                    </a:lnTo>
                    <a:lnTo>
                      <a:pt x="52" y="349"/>
                    </a:lnTo>
                    <a:lnTo>
                      <a:pt x="26" y="332"/>
                    </a:lnTo>
                    <a:lnTo>
                      <a:pt x="0" y="316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52" y="26"/>
                    </a:lnTo>
                    <a:lnTo>
                      <a:pt x="78" y="39"/>
                    </a:lnTo>
                    <a:lnTo>
                      <a:pt x="105" y="52"/>
                    </a:lnTo>
                    <a:lnTo>
                      <a:pt x="131" y="64"/>
                    </a:lnTo>
                    <a:lnTo>
                      <a:pt x="156" y="77"/>
                    </a:lnTo>
                    <a:lnTo>
                      <a:pt x="182" y="90"/>
                    </a:lnTo>
                    <a:lnTo>
                      <a:pt x="208" y="104"/>
                    </a:lnTo>
                    <a:close/>
                  </a:path>
                </a:pathLst>
              </a:custGeom>
              <a:solidFill>
                <a:srgbClr val="f8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7160" y="56736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08" h="429">
                    <a:moveTo>
                      <a:pt x="208" y="98"/>
                    </a:moveTo>
                    <a:lnTo>
                      <a:pt x="208" y="429"/>
                    </a:lnTo>
                    <a:lnTo>
                      <a:pt x="182" y="413"/>
                    </a:lnTo>
                    <a:lnTo>
                      <a:pt x="156" y="396"/>
                    </a:lnTo>
                    <a:lnTo>
                      <a:pt x="130" y="379"/>
                    </a:lnTo>
                    <a:lnTo>
                      <a:pt x="105" y="363"/>
                    </a:lnTo>
                    <a:lnTo>
                      <a:pt x="79" y="347"/>
                    </a:lnTo>
                    <a:lnTo>
                      <a:pt x="52" y="331"/>
                    </a:lnTo>
                    <a:lnTo>
                      <a:pt x="26" y="315"/>
                    </a:lnTo>
                    <a:lnTo>
                      <a:pt x="0" y="299"/>
                    </a:lnTo>
                    <a:lnTo>
                      <a:pt x="0" y="0"/>
                    </a:lnTo>
                    <a:lnTo>
                      <a:pt x="26" y="11"/>
                    </a:lnTo>
                    <a:lnTo>
                      <a:pt x="52" y="23"/>
                    </a:lnTo>
                    <a:lnTo>
                      <a:pt x="79" y="36"/>
                    </a:lnTo>
                    <a:lnTo>
                      <a:pt x="105" y="48"/>
                    </a:lnTo>
                    <a:lnTo>
                      <a:pt x="130" y="61"/>
                    </a:lnTo>
                    <a:lnTo>
                      <a:pt x="156" y="73"/>
                    </a:lnTo>
                    <a:lnTo>
                      <a:pt x="182" y="86"/>
                    </a:lnTo>
                    <a:lnTo>
                      <a:pt x="208" y="98"/>
                    </a:lnTo>
                    <a:close/>
                  </a:path>
                </a:pathLst>
              </a:custGeom>
              <a:solidFill>
                <a:srgbClr val="f8c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5360" y="56732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9" h="409">
                    <a:moveTo>
                      <a:pt x="209" y="93"/>
                    </a:moveTo>
                    <a:lnTo>
                      <a:pt x="209" y="409"/>
                    </a:lnTo>
                    <a:lnTo>
                      <a:pt x="183" y="393"/>
                    </a:lnTo>
                    <a:lnTo>
                      <a:pt x="157" y="377"/>
                    </a:lnTo>
                    <a:lnTo>
                      <a:pt x="131" y="361"/>
                    </a:lnTo>
                    <a:lnTo>
                      <a:pt x="105" y="345"/>
                    </a:lnTo>
                    <a:lnTo>
                      <a:pt x="79" y="329"/>
                    </a:lnTo>
                    <a:lnTo>
                      <a:pt x="53" y="313"/>
                    </a:lnTo>
                    <a:lnTo>
                      <a:pt x="27" y="298"/>
                    </a:lnTo>
                    <a:lnTo>
                      <a:pt x="0" y="282"/>
                    </a:lnTo>
                    <a:lnTo>
                      <a:pt x="0" y="0"/>
                    </a:lnTo>
                    <a:lnTo>
                      <a:pt x="27" y="11"/>
                    </a:lnTo>
                    <a:lnTo>
                      <a:pt x="53" y="23"/>
                    </a:lnTo>
                    <a:lnTo>
                      <a:pt x="80" y="34"/>
                    </a:lnTo>
                    <a:lnTo>
                      <a:pt x="105" y="46"/>
                    </a:lnTo>
                    <a:lnTo>
                      <a:pt x="131" y="58"/>
                    </a:lnTo>
                    <a:lnTo>
                      <a:pt x="157" y="69"/>
                    </a:lnTo>
                    <a:lnTo>
                      <a:pt x="183" y="81"/>
                    </a:lnTo>
                    <a:lnTo>
                      <a:pt x="209" y="93"/>
                    </a:lnTo>
                    <a:close/>
                  </a:path>
                </a:pathLst>
              </a:custGeom>
              <a:solidFill>
                <a:srgbClr val="f9d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4280" y="567252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9" h="389">
                    <a:moveTo>
                      <a:pt x="209" y="90"/>
                    </a:moveTo>
                    <a:lnTo>
                      <a:pt x="209" y="389"/>
                    </a:lnTo>
                    <a:lnTo>
                      <a:pt x="183" y="372"/>
                    </a:lnTo>
                    <a:lnTo>
                      <a:pt x="157" y="357"/>
                    </a:lnTo>
                    <a:lnTo>
                      <a:pt x="131" y="342"/>
                    </a:lnTo>
                    <a:lnTo>
                      <a:pt x="105" y="327"/>
                    </a:lnTo>
                    <a:lnTo>
                      <a:pt x="79" y="311"/>
                    </a:lnTo>
                    <a:lnTo>
                      <a:pt x="53" y="296"/>
                    </a:lnTo>
                    <a:lnTo>
                      <a:pt x="26" y="281"/>
                    </a:lnTo>
                    <a:lnTo>
                      <a:pt x="0" y="266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3"/>
                    </a:lnTo>
                    <a:lnTo>
                      <a:pt x="105" y="44"/>
                    </a:lnTo>
                    <a:lnTo>
                      <a:pt x="131" y="56"/>
                    </a:lnTo>
                    <a:lnTo>
                      <a:pt x="157" y="67"/>
                    </a:lnTo>
                    <a:lnTo>
                      <a:pt x="183" y="78"/>
                    </a:lnTo>
                    <a:lnTo>
                      <a:pt x="209" y="90"/>
                    </a:lnTo>
                    <a:close/>
                  </a:path>
                </a:pathLst>
              </a:custGeom>
              <a:solidFill>
                <a:srgbClr val="f9d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62840" y="56718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08" h="368">
                    <a:moveTo>
                      <a:pt x="208" y="86"/>
                    </a:moveTo>
                    <a:lnTo>
                      <a:pt x="208" y="368"/>
                    </a:lnTo>
                    <a:lnTo>
                      <a:pt x="183" y="353"/>
                    </a:lnTo>
                    <a:lnTo>
                      <a:pt x="157" y="338"/>
                    </a:lnTo>
                    <a:lnTo>
                      <a:pt x="131" y="324"/>
                    </a:lnTo>
                    <a:lnTo>
                      <a:pt x="105" y="309"/>
                    </a:lnTo>
                    <a:lnTo>
                      <a:pt x="79" y="293"/>
                    </a:lnTo>
                    <a:lnTo>
                      <a:pt x="53" y="279"/>
                    </a:lnTo>
                    <a:lnTo>
                      <a:pt x="26" y="264"/>
                    </a:lnTo>
                    <a:lnTo>
                      <a:pt x="0" y="250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1"/>
                    </a:lnTo>
                    <a:lnTo>
                      <a:pt x="105" y="42"/>
                    </a:lnTo>
                    <a:lnTo>
                      <a:pt x="131" y="53"/>
                    </a:lnTo>
                    <a:lnTo>
                      <a:pt x="157" y="63"/>
                    </a:lnTo>
                    <a:lnTo>
                      <a:pt x="183" y="75"/>
                    </a:lnTo>
                    <a:lnTo>
                      <a:pt x="208" y="86"/>
                    </a:lnTo>
                    <a:close/>
                  </a:path>
                </a:pathLst>
              </a:custGeom>
              <a:solidFill>
                <a:srgbClr val="f9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1400" y="5671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08" h="348">
                    <a:moveTo>
                      <a:pt x="208" y="82"/>
                    </a:moveTo>
                    <a:lnTo>
                      <a:pt x="208" y="348"/>
                    </a:lnTo>
                    <a:lnTo>
                      <a:pt x="183" y="333"/>
                    </a:lnTo>
                    <a:lnTo>
                      <a:pt x="157" y="319"/>
                    </a:lnTo>
                    <a:lnTo>
                      <a:pt x="130" y="304"/>
                    </a:lnTo>
                    <a:lnTo>
                      <a:pt x="105" y="290"/>
                    </a:lnTo>
                    <a:lnTo>
                      <a:pt x="79" y="276"/>
                    </a:lnTo>
                    <a:lnTo>
                      <a:pt x="53" y="262"/>
                    </a:lnTo>
                    <a:lnTo>
                      <a:pt x="27" y="248"/>
                    </a:lnTo>
                    <a:lnTo>
                      <a:pt x="0" y="234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53" y="20"/>
                    </a:lnTo>
                    <a:lnTo>
                      <a:pt x="79" y="30"/>
                    </a:lnTo>
                    <a:lnTo>
                      <a:pt x="105" y="40"/>
                    </a:lnTo>
                    <a:lnTo>
                      <a:pt x="130" y="51"/>
                    </a:lnTo>
                    <a:lnTo>
                      <a:pt x="157" y="61"/>
                    </a:lnTo>
                    <a:lnTo>
                      <a:pt x="183" y="71"/>
                    </a:lnTo>
                    <a:lnTo>
                      <a:pt x="208" y="82"/>
                    </a:lnTo>
                    <a:close/>
                  </a:path>
                </a:pathLst>
              </a:custGeom>
              <a:solidFill>
                <a:srgbClr val="fad9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9960" y="56707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209" y="79"/>
                    </a:moveTo>
                    <a:lnTo>
                      <a:pt x="209" y="329"/>
                    </a:lnTo>
                    <a:lnTo>
                      <a:pt x="183" y="315"/>
                    </a:lnTo>
                    <a:lnTo>
                      <a:pt x="158" y="301"/>
                    </a:lnTo>
                    <a:lnTo>
                      <a:pt x="132" y="287"/>
                    </a:lnTo>
                    <a:lnTo>
                      <a:pt x="105" y="273"/>
                    </a:lnTo>
                    <a:lnTo>
                      <a:pt x="79" y="258"/>
                    </a:lnTo>
                    <a:lnTo>
                      <a:pt x="53" y="245"/>
                    </a:lnTo>
                    <a:lnTo>
                      <a:pt x="27" y="231"/>
                    </a:lnTo>
                    <a:lnTo>
                      <a:pt x="0" y="217"/>
                    </a:lnTo>
                    <a:lnTo>
                      <a:pt x="0" y="0"/>
                    </a:lnTo>
                    <a:lnTo>
                      <a:pt x="28" y="10"/>
                    </a:lnTo>
                    <a:lnTo>
                      <a:pt x="54" y="19"/>
                    </a:lnTo>
                    <a:lnTo>
                      <a:pt x="79" y="29"/>
                    </a:lnTo>
                    <a:lnTo>
                      <a:pt x="105" y="40"/>
                    </a:lnTo>
                    <a:lnTo>
                      <a:pt x="132" y="49"/>
                    </a:lnTo>
                    <a:lnTo>
                      <a:pt x="158" y="59"/>
                    </a:lnTo>
                    <a:lnTo>
                      <a:pt x="183" y="69"/>
                    </a:lnTo>
                    <a:lnTo>
                      <a:pt x="209" y="79"/>
                    </a:lnTo>
                    <a:close/>
                  </a:path>
                </a:pathLst>
              </a:custGeom>
              <a:solidFill>
                <a:srgbClr val="fa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58520" y="5670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08" h="308">
                    <a:moveTo>
                      <a:pt x="208" y="74"/>
                    </a:moveTo>
                    <a:lnTo>
                      <a:pt x="208" y="308"/>
                    </a:lnTo>
                    <a:lnTo>
                      <a:pt x="182" y="293"/>
                    </a:lnTo>
                    <a:lnTo>
                      <a:pt x="156" y="280"/>
                    </a:lnTo>
                    <a:lnTo>
                      <a:pt x="131" y="266"/>
                    </a:lnTo>
                    <a:lnTo>
                      <a:pt x="105" y="253"/>
                    </a:lnTo>
                    <a:lnTo>
                      <a:pt x="78" y="240"/>
                    </a:lnTo>
                    <a:lnTo>
                      <a:pt x="52" y="226"/>
                    </a:lnTo>
                    <a:lnTo>
                      <a:pt x="26" y="213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7"/>
                    </a:lnTo>
                    <a:lnTo>
                      <a:pt x="78" y="27"/>
                    </a:lnTo>
                    <a:lnTo>
                      <a:pt x="105" y="36"/>
                    </a:lnTo>
                    <a:lnTo>
                      <a:pt x="131" y="45"/>
                    </a:lnTo>
                    <a:lnTo>
                      <a:pt x="157" y="54"/>
                    </a:lnTo>
                    <a:lnTo>
                      <a:pt x="182" y="64"/>
                    </a:lnTo>
                    <a:lnTo>
                      <a:pt x="208" y="74"/>
                    </a:lnTo>
                    <a:close/>
                  </a:path>
                </a:pathLst>
              </a:custGeom>
              <a:solidFill>
                <a:srgbClr val="fa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57080" y="567000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7" h="287">
                    <a:moveTo>
                      <a:pt x="207" y="70"/>
                    </a:moveTo>
                    <a:lnTo>
                      <a:pt x="207" y="287"/>
                    </a:lnTo>
                    <a:lnTo>
                      <a:pt x="182" y="274"/>
                    </a:lnTo>
                    <a:lnTo>
                      <a:pt x="156" y="261"/>
                    </a:lnTo>
                    <a:lnTo>
                      <a:pt x="130" y="248"/>
                    </a:lnTo>
                    <a:lnTo>
                      <a:pt x="105" y="235"/>
                    </a:lnTo>
                    <a:lnTo>
                      <a:pt x="78" y="222"/>
                    </a:lnTo>
                    <a:lnTo>
                      <a:pt x="52" y="209"/>
                    </a:lnTo>
                    <a:lnTo>
                      <a:pt x="26" y="196"/>
                    </a:lnTo>
                    <a:lnTo>
                      <a:pt x="0" y="183"/>
                    </a:lnTo>
                    <a:lnTo>
                      <a:pt x="0" y="0"/>
                    </a:lnTo>
                    <a:lnTo>
                      <a:pt x="26" y="9"/>
                    </a:lnTo>
                    <a:lnTo>
                      <a:pt x="52" y="17"/>
                    </a:lnTo>
                    <a:lnTo>
                      <a:pt x="78" y="26"/>
                    </a:lnTo>
                    <a:lnTo>
                      <a:pt x="105" y="35"/>
                    </a:lnTo>
                    <a:lnTo>
                      <a:pt x="130" y="44"/>
                    </a:lnTo>
                    <a:lnTo>
                      <a:pt x="156" y="52"/>
                    </a:lnTo>
                    <a:lnTo>
                      <a:pt x="182" y="61"/>
                    </a:lnTo>
                    <a:lnTo>
                      <a:pt x="207" y="70"/>
                    </a:lnTo>
                    <a:close/>
                  </a:path>
                </a:pathLst>
              </a:custGeom>
              <a:solidFill>
                <a:srgbClr val="fb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55640" y="566964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8" h="268">
                    <a:moveTo>
                      <a:pt x="208" y="68"/>
                    </a:moveTo>
                    <a:lnTo>
                      <a:pt x="208" y="268"/>
                    </a:lnTo>
                    <a:lnTo>
                      <a:pt x="182" y="255"/>
                    </a:lnTo>
                    <a:lnTo>
                      <a:pt x="156" y="242"/>
                    </a:lnTo>
                    <a:lnTo>
                      <a:pt x="130" y="229"/>
                    </a:lnTo>
                    <a:lnTo>
                      <a:pt x="104" y="216"/>
                    </a:lnTo>
                    <a:lnTo>
                      <a:pt x="79" y="204"/>
                    </a:lnTo>
                    <a:lnTo>
                      <a:pt x="52" y="192"/>
                    </a:lnTo>
                    <a:lnTo>
                      <a:pt x="26" y="179"/>
                    </a:lnTo>
                    <a:lnTo>
                      <a:pt x="0" y="16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5"/>
                    </a:lnTo>
                    <a:lnTo>
                      <a:pt x="104" y="33"/>
                    </a:lnTo>
                    <a:lnTo>
                      <a:pt x="130" y="42"/>
                    </a:lnTo>
                    <a:lnTo>
                      <a:pt x="156" y="50"/>
                    </a:lnTo>
                    <a:lnTo>
                      <a:pt x="182" y="59"/>
                    </a:lnTo>
                    <a:lnTo>
                      <a:pt x="208" y="68"/>
                    </a:lnTo>
                    <a:close/>
                  </a:path>
                </a:pathLst>
              </a:custGeom>
              <a:solidFill>
                <a:srgbClr val="fb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200" y="56689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209" y="65"/>
                    </a:moveTo>
                    <a:lnTo>
                      <a:pt x="209" y="248"/>
                    </a:lnTo>
                    <a:lnTo>
                      <a:pt x="183" y="236"/>
                    </a:lnTo>
                    <a:lnTo>
                      <a:pt x="157" y="224"/>
                    </a:lnTo>
                    <a:lnTo>
                      <a:pt x="131" y="211"/>
                    </a:lnTo>
                    <a:lnTo>
                      <a:pt x="105" y="199"/>
                    </a:lnTo>
                    <a:lnTo>
                      <a:pt x="79" y="187"/>
                    </a:lnTo>
                    <a:lnTo>
                      <a:pt x="52" y="175"/>
                    </a:lnTo>
                    <a:lnTo>
                      <a:pt x="26" y="162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4"/>
                    </a:lnTo>
                    <a:lnTo>
                      <a:pt x="105" y="32"/>
                    </a:lnTo>
                    <a:lnTo>
                      <a:pt x="131" y="40"/>
                    </a:lnTo>
                    <a:lnTo>
                      <a:pt x="157" y="48"/>
                    </a:lnTo>
                    <a:lnTo>
                      <a:pt x="183" y="57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fb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2760" y="56685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09" h="228">
                    <a:moveTo>
                      <a:pt x="209" y="61"/>
                    </a:moveTo>
                    <a:lnTo>
                      <a:pt x="209" y="228"/>
                    </a:lnTo>
                    <a:lnTo>
                      <a:pt x="183" y="216"/>
                    </a:lnTo>
                    <a:lnTo>
                      <a:pt x="156" y="204"/>
                    </a:lnTo>
                    <a:lnTo>
                      <a:pt x="131" y="191"/>
                    </a:lnTo>
                    <a:lnTo>
                      <a:pt x="105" y="179"/>
                    </a:lnTo>
                    <a:lnTo>
                      <a:pt x="79" y="168"/>
                    </a:lnTo>
                    <a:lnTo>
                      <a:pt x="53" y="156"/>
                    </a:lnTo>
                    <a:lnTo>
                      <a:pt x="26" y="14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30"/>
                    </a:lnTo>
                    <a:lnTo>
                      <a:pt x="131" y="37"/>
                    </a:lnTo>
                    <a:lnTo>
                      <a:pt x="156" y="45"/>
                    </a:lnTo>
                    <a:lnTo>
                      <a:pt x="183" y="53"/>
                    </a:lnTo>
                    <a:lnTo>
                      <a:pt x="209" y="61"/>
                    </a:lnTo>
                    <a:close/>
                  </a:path>
                </a:pathLst>
              </a:custGeom>
              <a:solidFill>
                <a:srgbClr val="f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1680" y="5668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08" h="208">
                    <a:moveTo>
                      <a:pt x="208" y="58"/>
                    </a:moveTo>
                    <a:lnTo>
                      <a:pt x="208" y="208"/>
                    </a:lnTo>
                    <a:lnTo>
                      <a:pt x="183" y="197"/>
                    </a:lnTo>
                    <a:lnTo>
                      <a:pt x="157" y="185"/>
                    </a:lnTo>
                    <a:lnTo>
                      <a:pt x="130" y="174"/>
                    </a:lnTo>
                    <a:lnTo>
                      <a:pt x="105" y="162"/>
                    </a:lnTo>
                    <a:lnTo>
                      <a:pt x="79" y="151"/>
                    </a:lnTo>
                    <a:lnTo>
                      <a:pt x="53" y="140"/>
                    </a:lnTo>
                    <a:lnTo>
                      <a:pt x="26" y="128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29"/>
                    </a:lnTo>
                    <a:lnTo>
                      <a:pt x="130" y="36"/>
                    </a:lnTo>
                    <a:lnTo>
                      <a:pt x="157" y="44"/>
                    </a:lnTo>
                    <a:lnTo>
                      <a:pt x="183" y="51"/>
                    </a:lnTo>
                    <a:lnTo>
                      <a:pt x="208" y="58"/>
                    </a:lnTo>
                    <a:close/>
                  </a:path>
                </a:pathLst>
              </a:custGeom>
              <a:solidFill>
                <a:srgbClr val="f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0240" y="5667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208" y="56"/>
                    </a:moveTo>
                    <a:lnTo>
                      <a:pt x="208" y="189"/>
                    </a:lnTo>
                    <a:lnTo>
                      <a:pt x="182" y="178"/>
                    </a:lnTo>
                    <a:lnTo>
                      <a:pt x="157" y="167"/>
                    </a:lnTo>
                    <a:lnTo>
                      <a:pt x="130" y="156"/>
                    </a:lnTo>
                    <a:lnTo>
                      <a:pt x="104" y="144"/>
                    </a:lnTo>
                    <a:lnTo>
                      <a:pt x="78" y="133"/>
                    </a:lnTo>
                    <a:lnTo>
                      <a:pt x="53" y="122"/>
                    </a:lnTo>
                    <a:lnTo>
                      <a:pt x="27" y="11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21"/>
                    </a:lnTo>
                    <a:lnTo>
                      <a:pt x="104" y="28"/>
                    </a:lnTo>
                    <a:lnTo>
                      <a:pt x="130" y="35"/>
                    </a:lnTo>
                    <a:lnTo>
                      <a:pt x="157" y="42"/>
                    </a:lnTo>
                    <a:lnTo>
                      <a:pt x="182" y="49"/>
                    </a:lnTo>
                    <a:lnTo>
                      <a:pt x="208" y="56"/>
                    </a:lnTo>
                    <a:close/>
                  </a:path>
                </a:pathLst>
              </a:custGeom>
              <a:solidFill>
                <a:srgbClr val="fc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8440" y="566712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09" h="170">
                    <a:moveTo>
                      <a:pt x="209" y="53"/>
                    </a:moveTo>
                    <a:lnTo>
                      <a:pt x="209" y="170"/>
                    </a:lnTo>
                    <a:lnTo>
                      <a:pt x="183" y="158"/>
                    </a:lnTo>
                    <a:lnTo>
                      <a:pt x="158" y="148"/>
                    </a:lnTo>
                    <a:lnTo>
                      <a:pt x="132" y="137"/>
                    </a:lnTo>
                    <a:lnTo>
                      <a:pt x="105" y="126"/>
                    </a:lnTo>
                    <a:lnTo>
                      <a:pt x="79" y="116"/>
                    </a:lnTo>
                    <a:lnTo>
                      <a:pt x="53" y="105"/>
                    </a:lnTo>
                    <a:lnTo>
                      <a:pt x="27" y="9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19"/>
                    </a:lnTo>
                    <a:lnTo>
                      <a:pt x="105" y="26"/>
                    </a:lnTo>
                    <a:lnTo>
                      <a:pt x="132" y="32"/>
                    </a:lnTo>
                    <a:lnTo>
                      <a:pt x="158" y="39"/>
                    </a:lnTo>
                    <a:lnTo>
                      <a:pt x="183" y="47"/>
                    </a:lnTo>
                    <a:lnTo>
                      <a:pt x="209" y="53"/>
                    </a:lnTo>
                    <a:close/>
                  </a:path>
                </a:pathLst>
              </a:custGeom>
              <a:solidFill>
                <a:srgbClr val="fd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00" y="5667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08" h="150">
                    <a:moveTo>
                      <a:pt x="208" y="50"/>
                    </a:moveTo>
                    <a:lnTo>
                      <a:pt x="208" y="150"/>
                    </a:lnTo>
                    <a:lnTo>
                      <a:pt x="182" y="139"/>
                    </a:lnTo>
                    <a:lnTo>
                      <a:pt x="156" y="129"/>
                    </a:lnTo>
                    <a:lnTo>
                      <a:pt x="131" y="119"/>
                    </a:lnTo>
                    <a:lnTo>
                      <a:pt x="104" y="108"/>
                    </a:lnTo>
                    <a:lnTo>
                      <a:pt x="78" y="98"/>
                    </a:lnTo>
                    <a:lnTo>
                      <a:pt x="52" y="88"/>
                    </a:lnTo>
                    <a:lnTo>
                      <a:pt x="26" y="77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8"/>
                    </a:lnTo>
                    <a:lnTo>
                      <a:pt x="104" y="24"/>
                    </a:lnTo>
                    <a:lnTo>
                      <a:pt x="131" y="31"/>
                    </a:lnTo>
                    <a:lnTo>
                      <a:pt x="156" y="37"/>
                    </a:lnTo>
                    <a:lnTo>
                      <a:pt x="182" y="43"/>
                    </a:lnTo>
                    <a:lnTo>
                      <a:pt x="208" y="50"/>
                    </a:lnTo>
                    <a:close/>
                  </a:path>
                </a:pathLst>
              </a:custGeom>
              <a:solidFill>
                <a:srgbClr val="fd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5560" y="5666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207" y="47"/>
                    </a:moveTo>
                    <a:lnTo>
                      <a:pt x="207" y="131"/>
                    </a:lnTo>
                    <a:lnTo>
                      <a:pt x="182" y="121"/>
                    </a:lnTo>
                    <a:lnTo>
                      <a:pt x="156" y="111"/>
                    </a:lnTo>
                    <a:lnTo>
                      <a:pt x="130" y="101"/>
                    </a:lnTo>
                    <a:lnTo>
                      <a:pt x="105" y="89"/>
                    </a:lnTo>
                    <a:lnTo>
                      <a:pt x="78" y="80"/>
                    </a:lnTo>
                    <a:lnTo>
                      <a:pt x="52" y="70"/>
                    </a:lnTo>
                    <a:lnTo>
                      <a:pt x="26" y="6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7"/>
                    </a:lnTo>
                    <a:lnTo>
                      <a:pt x="105" y="23"/>
                    </a:lnTo>
                    <a:lnTo>
                      <a:pt x="130" y="29"/>
                    </a:lnTo>
                    <a:lnTo>
                      <a:pt x="156" y="35"/>
                    </a:lnTo>
                    <a:lnTo>
                      <a:pt x="182" y="41"/>
                    </a:lnTo>
                    <a:lnTo>
                      <a:pt x="207" y="47"/>
                    </a:lnTo>
                    <a:close/>
                  </a:path>
                </a:pathLst>
              </a:custGeom>
              <a:solidFill>
                <a:srgbClr val="f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44120" y="56664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208" h="110">
                    <a:moveTo>
                      <a:pt x="208" y="44"/>
                    </a:moveTo>
                    <a:lnTo>
                      <a:pt x="208" y="110"/>
                    </a:lnTo>
                    <a:lnTo>
                      <a:pt x="181" y="100"/>
                    </a:lnTo>
                    <a:lnTo>
                      <a:pt x="156" y="91"/>
                    </a:lnTo>
                    <a:lnTo>
                      <a:pt x="130" y="81"/>
                    </a:lnTo>
                    <a:lnTo>
                      <a:pt x="104" y="71"/>
                    </a:lnTo>
                    <a:lnTo>
                      <a:pt x="77" y="61"/>
                    </a:lnTo>
                    <a:lnTo>
                      <a:pt x="52" y="52"/>
                    </a:lnTo>
                    <a:lnTo>
                      <a:pt x="26" y="42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1"/>
                    </a:lnTo>
                    <a:lnTo>
                      <a:pt x="77" y="16"/>
                    </a:lnTo>
                    <a:lnTo>
                      <a:pt x="104" y="21"/>
                    </a:lnTo>
                    <a:lnTo>
                      <a:pt x="130" y="27"/>
                    </a:lnTo>
                    <a:lnTo>
                      <a:pt x="156" y="33"/>
                    </a:lnTo>
                    <a:lnTo>
                      <a:pt x="181" y="38"/>
                    </a:lnTo>
                    <a:lnTo>
                      <a:pt x="208" y="44"/>
                    </a:lnTo>
                    <a:close/>
                  </a:path>
                </a:pathLst>
              </a:custGeom>
              <a:solidFill>
                <a:srgbClr val="fe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3040" y="5666400"/>
                <a:ext cx="2520" cy="72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209" y="43"/>
                    </a:moveTo>
                    <a:lnTo>
                      <a:pt x="209" y="93"/>
                    </a:lnTo>
                    <a:lnTo>
                      <a:pt x="182" y="83"/>
                    </a:lnTo>
                    <a:lnTo>
                      <a:pt x="156" y="74"/>
                    </a:lnTo>
                    <a:lnTo>
                      <a:pt x="131" y="64"/>
                    </a:lnTo>
                    <a:lnTo>
                      <a:pt x="105" y="55"/>
                    </a:lnTo>
                    <a:lnTo>
                      <a:pt x="79" y="46"/>
                    </a:lnTo>
                    <a:lnTo>
                      <a:pt x="52" y="36"/>
                    </a:lnTo>
                    <a:lnTo>
                      <a:pt x="26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0"/>
                    </a:lnTo>
                    <a:lnTo>
                      <a:pt x="79" y="17"/>
                    </a:lnTo>
                    <a:lnTo>
                      <a:pt x="105" y="22"/>
                    </a:lnTo>
                    <a:lnTo>
                      <a:pt x="131" y="27"/>
                    </a:lnTo>
                    <a:lnTo>
                      <a:pt x="157" y="33"/>
                    </a:lnTo>
                    <a:lnTo>
                      <a:pt x="182" y="38"/>
                    </a:lnTo>
                    <a:lnTo>
                      <a:pt x="209" y="43"/>
                    </a:lnTo>
                    <a:close/>
                  </a:path>
                </a:pathLst>
              </a:custGeom>
              <a:solidFill>
                <a:srgbClr val="fe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1600" y="5665680"/>
                <a:ext cx="2520" cy="720"/>
              </a:xfrm>
              <a:custGeom>
                <a:avLst/>
                <a:gdLst/>
                <a:ahLst/>
                <a:rect l="l" t="t" r="r" b="b"/>
                <a:pathLst>
                  <a:path w="209" h="74">
                    <a:moveTo>
                      <a:pt x="209" y="41"/>
                    </a:moveTo>
                    <a:lnTo>
                      <a:pt x="209" y="74"/>
                    </a:lnTo>
                    <a:lnTo>
                      <a:pt x="183" y="64"/>
                    </a:lnTo>
                    <a:lnTo>
                      <a:pt x="156" y="55"/>
                    </a:lnTo>
                    <a:lnTo>
                      <a:pt x="131" y="46"/>
                    </a:lnTo>
                    <a:lnTo>
                      <a:pt x="105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5" y="19"/>
                    </a:lnTo>
                    <a:lnTo>
                      <a:pt x="131" y="24"/>
                    </a:lnTo>
                    <a:lnTo>
                      <a:pt x="156" y="29"/>
                    </a:lnTo>
                    <a:lnTo>
                      <a:pt x="183" y="36"/>
                    </a:lnTo>
                    <a:lnTo>
                      <a:pt x="209" y="41"/>
                    </a:lnTo>
                    <a:close/>
                  </a:path>
                </a:pathLst>
              </a:cu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1600" y="56656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04" h="37">
                    <a:moveTo>
                      <a:pt x="104" y="19"/>
                    </a:moveTo>
                    <a:lnTo>
                      <a:pt x="104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1152360" y="4464000"/>
            <a:ext cx="205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ведущей компании в сфере общественного питания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осинтер в объем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100 млн. на РТ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Глобальным координатором и букраннер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роведена успешно, несмотря на снижение РТС на 10% во время роуд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152360" y="5400720"/>
            <a:ext cx="2036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одного из ведущих российских дискаунтеров – Дикси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360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лн. долла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азмещение компании потребительского сектора с наибольшим объемом акций в свободном обращении на российских биржа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совместным букраннером и привлек высококачественных инвесторов в структуру акционеров Дикс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0" y="3433680"/>
            <a:ext cx="1844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IPO одного из ведущих Российских производителей детского питания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эксклюзивным букраннером размещения Нутритека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200 млн. и обеспечил достаточ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0" y="5454720"/>
            <a:ext cx="18036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13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6 млн.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оссийской компании по добыче и разведке газа в центральной части Росс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в качестве эксклюзивного букраннера и смог привлечь большой объем спроса несмотря на негативную динамику рынка и сектора во время роуд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40000" y="3390840"/>
            <a:ext cx="636480" cy="932040"/>
            <a:chOff x="3240000" y="3390840"/>
            <a:chExt cx="636480" cy="932040"/>
          </a:xfrm>
        </p:grpSpPr>
        <p:sp>
          <p:nvSpPr>
            <p:cNvPr id="527" name=""/>
            <p:cNvSpPr/>
            <p:nvPr/>
          </p:nvSpPr>
          <p:spPr>
            <a:xfrm>
              <a:off x="3240000" y="3390840"/>
              <a:ext cx="63360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341244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0000" y="3805200"/>
              <a:ext cx="6051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/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89560" y="3415320"/>
              <a:ext cx="28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40000" y="4143600"/>
              <a:ext cx="6181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12"/>
            <a:stretch/>
          </p:blipFill>
          <p:spPr>
            <a:xfrm>
              <a:off x="3399480" y="3951000"/>
              <a:ext cx="32688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3"/>
            <a:stretch/>
          </p:blipFill>
          <p:spPr>
            <a:xfrm>
              <a:off x="3360240" y="3567240"/>
              <a:ext cx="380160" cy="2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3235680" y="4427640"/>
            <a:ext cx="637920" cy="931680"/>
            <a:chOff x="3235680" y="4427640"/>
            <a:chExt cx="637920" cy="931680"/>
          </a:xfrm>
        </p:grpSpPr>
        <p:sp>
          <p:nvSpPr>
            <p:cNvPr id="535" name=""/>
            <p:cNvSpPr/>
            <p:nvPr/>
          </p:nvSpPr>
          <p:spPr>
            <a:xfrm>
              <a:off x="3240000" y="4427640"/>
              <a:ext cx="6336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83440" y="4439160"/>
              <a:ext cx="28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Апр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80680" y="4822560"/>
              <a:ext cx="548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,121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5680" y="4439160"/>
              <a:ext cx="31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40080" y="5186880"/>
              <a:ext cx="431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4"/>
            <a:stretch/>
          </p:blipFill>
          <p:spPr>
            <a:xfrm>
              <a:off x="3417840" y="5015160"/>
              <a:ext cx="33840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15"/>
            <a:srcRect l="55918" t="10503" r="28526" b="55436"/>
            <a:stretch/>
          </p:blipFill>
          <p:spPr>
            <a:xfrm>
              <a:off x="3429000" y="4545360"/>
              <a:ext cx="273600" cy="2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3240000" y="5450040"/>
            <a:ext cx="634680" cy="931680"/>
            <a:chOff x="3240000" y="5450040"/>
            <a:chExt cx="634680" cy="931680"/>
          </a:xfrm>
        </p:grpSpPr>
        <p:sp>
          <p:nvSpPr>
            <p:cNvPr id="543" name=""/>
            <p:cNvSpPr/>
            <p:nvPr/>
          </p:nvSpPr>
          <p:spPr>
            <a:xfrm>
              <a:off x="3240000" y="5450040"/>
              <a:ext cx="6336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46120" y="5472000"/>
              <a:ext cx="308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ефть и </a:t>
              </a:r>
              <a:br>
                <a:rPr sz="500"/>
              </a:b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17400" y="5802120"/>
              <a:ext cx="503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AI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3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6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90640" y="5474880"/>
              <a:ext cx="28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Апр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0000" y="6202080"/>
              <a:ext cx="6166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16"/>
            <a:stretch/>
          </p:blipFill>
          <p:spPr>
            <a:xfrm>
              <a:off x="3400560" y="6009840"/>
              <a:ext cx="324720" cy="1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17"/>
            <a:stretch/>
          </p:blipFill>
          <p:spPr>
            <a:xfrm>
              <a:off x="3376440" y="5636520"/>
              <a:ext cx="341640" cy="1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3952800" y="4375080"/>
            <a:ext cx="1844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0880" indent="-1108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МК, одной из ведущих металлургических российских компаний на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LSE – 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1,121 млн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0880" indent="-1108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привлек большую часть спроса в первые дни построения книги заявок, что значительно способствовало успеху размещения. Ренессанс был также первым банком, приносившим в книгу самые крупные заявки от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B5BC-7247-4377-8EF2-291D393D3F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1268280" y="1371600"/>
            <a:ext cx="6607440" cy="3743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3733920" y="1928880"/>
            <a:ext cx="79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Лонд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11480" y="1833480"/>
            <a:ext cx="139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Моск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7400" y="2209680"/>
            <a:ext cx="80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Нью-Йор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05360" y="203832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Кие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225252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91120" y="208116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1947960"/>
            <a:ext cx="76320" cy="7596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69000" y="214308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РЕНЕССАНС КАПИТАЛ ЯВЛЯЕТСЯ БЕЗУСЛОВНЫМ ЛИДЕРОМ</a:t>
            </a:r>
            <a:br>
              <a:rPr sz="1500"/>
            </a:b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СРЕДИ ИНВЕСТИЦИОННЫХ БАНКОВ В СНГ</a:t>
            </a:r>
            <a:endParaRPr b="1" lang="en-US" sz="15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2544840"/>
            <a:ext cx="76320" cy="7596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40200" y="249552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Кип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26000" y="2227320"/>
            <a:ext cx="7632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0920" y="205884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Алм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1960" y="221616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91080" y="2149560"/>
            <a:ext cx="79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Жен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95280" y="3046320"/>
            <a:ext cx="175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Инвестиционно-банковские услу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914400" y="3013200"/>
            <a:ext cx="461880" cy="463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855720" y="3465360"/>
            <a:ext cx="2362320" cy="180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28960" y="3046320"/>
            <a:ext cx="172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Рынки долгового и акционерного капит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3429000" y="3013200"/>
            <a:ext cx="460440" cy="4633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6410160" y="3124080"/>
            <a:ext cx="204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Торговля ценными бумага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6019920" y="3013200"/>
            <a:ext cx="461880" cy="4633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828960" y="4889520"/>
            <a:ext cx="24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Аналитика на рынке ак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3448080" y="4809960"/>
            <a:ext cx="461880" cy="4035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429000" y="5207040"/>
            <a:ext cx="25257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ий аналитический отдел по рынку акций и облигаций Росс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.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аналитика в рейтинге журнала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Institutional Investor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за 2003-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200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7 го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9 из 11 лучших аналитиков в России работают в Ренессанс Капитал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В июне 2007 г.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Thomson Extel Survey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назвал команду аналитиков Ренессанс Капитала № 1 в Росс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10160" y="4889520"/>
            <a:ext cx="246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Лидерство на рынке СН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5999040" y="4809960"/>
            <a:ext cx="462240" cy="403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429000" y="3486240"/>
            <a:ext cx="24354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Привлек для российских компаний более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27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рд.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больше чем любой другой инвестиционный бан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Недавние удачные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IPO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ВТБ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8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рд.),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МК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1.1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н.), Интегры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768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н.), Ситроникса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402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н.) и ТМК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.07 млрд.), вторичное размещение акций Открытых Инвестиций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881 млн.), ЕвразХолдинга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389 млн.) ,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IPO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Группы Черкизово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25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н.) и Комстара-ОТС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.06 млрд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55720" y="3486240"/>
            <a:ext cx="2197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ий банк по оказанию инвестиционно-банковских услуг в Росси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00% фокус на российских клиента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Ренессанс Капитал располагает более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чем 600 профессионалами для оказания   инвестиционно-банковских услуг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99040" y="3486240"/>
            <a:ext cx="25290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Крупнейших отдел торговли акциями и облигациями, насчитывающий 27 профессионалов в Москве и 16 в Лондоне и Нью-Йорк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No.1 по торговле акциями российских компа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.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отдел по торговле акциями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(Institutional Investor 2005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и 2004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99040" y="5207040"/>
            <a:ext cx="256392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идер на рынке производных финансовых инструмен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Наиболее динамично развивающееся подразделение по управлению активами на рынк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Быстро растущее подразделение потребительского кредитова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Опыт собственных частных инвести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27560" y="3467160"/>
            <a:ext cx="236196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99040" y="346716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7"/>
          <a:stretch/>
        </p:blipFill>
        <p:spPr>
          <a:xfrm>
            <a:off x="900000" y="4809960"/>
            <a:ext cx="462240" cy="4035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855720" y="5207040"/>
            <a:ext cx="2257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Уникальное понимание многих отраслей России и стран СНГ, подтвержденное множеством крупнейших сдело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ее понимание особенностей экономики России и стран СНГ по сравнению с конкурентам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48974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Экспертиза в индустрии</a:t>
            </a:r>
            <a:r>
              <a:rPr b="1" lang="ru-RU" sz="900" spc="-1" strike="noStrike">
                <a:solidFill>
                  <a:srgbClr val="d00062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572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14400" y="1260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1339-0575-458A-ABD9-C021DD55F9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НЕССАНС КАПИТАЛ В ПРЕССЕ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2960" y="3862440"/>
            <a:ext cx="8259840" cy="84600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19120" y="2181240"/>
            <a:ext cx="36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79480" y="395748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…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[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в России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]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Международные инвестиционные банки сталкиваются с необычайно высоким уровнем конкуренции со стороны местных банков,  что нетипично ни для одного из развивающихся рынков… </a:t>
            </a:r>
            <a:r>
              <a:rPr b="0" i="1" lang="ru-RU" sz="900" spc="-1" strike="noStrike" u="sng">
                <a:solidFill>
                  <a:srgbClr val="6f736f"/>
                </a:solidFill>
                <a:uFillTx/>
                <a:latin typeface="Arial"/>
              </a:rPr>
              <a:t>Ренессанс Капитал – это, бесспорно, самый успешный инвестиционный банк в России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. Последний квартал он закончил лидером, обогнав 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Deutsche Bank, Morgan Stanley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и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UBS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по сделкам на рынках капитала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…”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                  </a:t>
            </a:r>
            <a:r>
              <a:rPr b="1" i="1" lang="en-US" sz="900" spc="-1" strike="noStrike">
                <a:solidFill>
                  <a:srgbClr val="6f736f"/>
                </a:solidFill>
                <a:latin typeface="Arial"/>
              </a:rPr>
              <a:t>Financial News,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16 июня 200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8120" y="5180040"/>
            <a:ext cx="36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4640" y="4809960"/>
            <a:ext cx="8263080" cy="156708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92080" y="5008680"/>
            <a:ext cx="74232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…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Ренессанс Капитал стал первым российским банком, оказавшимся в топ-10 рейтинга букраннеров европейских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. Во многом этому способствовали 4 крупных сделки внутри страны. Ренессанс Капитал переместился на 6 позицию с 20, которую он занимал в прошлом году – рекордный прыжок для банка по данным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Thomson Financia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На долю банка пришлось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$2.7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млрд. в четырех сделках, одна из которых -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$8.2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млрд.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российского банка ВТБ – крупнейшее в Европе в этом году и крупнейшее в истории европейского банковского сектора. В сделке помимо Ренессанс Капитала участвовали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Deutsche Bank, Citigroup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и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Goldman Sachs.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Окончательная цена сделки была установлена у верхней границы ценового диапазона, а книга заказов была переподписана 9 раз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…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              </a:t>
            </a:r>
            <a:r>
              <a:rPr b="1" i="1" lang="en-US" sz="900" spc="-1" strike="noStrike">
                <a:solidFill>
                  <a:srgbClr val="6f736f"/>
                </a:solidFill>
                <a:latin typeface="Arial"/>
              </a:rPr>
              <a:t>Financial News Online,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22 июня 2007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г.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52880" y="1380960"/>
            <a:ext cx="3791160" cy="230508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6360" y="1596960"/>
            <a:ext cx="31384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Вчера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Thomson Extel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и “Интерфакс” впервые вручили премии лучшим российским аналитикам и аналитическим командам. Половина из 22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наград ушла “Ренессанс Капиталу”… В анализе потребительского рынка лучшим оказался “Ренессанс”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— победила и его аналитическая команда, и аналитик Наталья Загвоздина. Такая же двойная победа у отделов анализа телекоммуникационного и финансовых рынков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— они стали лучшими, как и аналитики Александр Казбеги и Дэвид Нэнгл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1" lang="ru-RU" sz="900" spc="-1" strike="noStrike">
                <a:solidFill>
                  <a:srgbClr val="6f736f"/>
                </a:solidFill>
                <a:latin typeface="Arial"/>
              </a:rPr>
              <a:t>        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Ведомости, 28 июня 2007 г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50960" y="1382760"/>
            <a:ext cx="4152960" cy="22334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602" name=""/>
          <p:cNvSpPr/>
          <p:nvPr/>
        </p:nvSpPr>
        <p:spPr>
          <a:xfrm>
            <a:off x="701640" y="3571920"/>
            <a:ext cx="495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5f5f5f"/>
                </a:solidFill>
                <a:latin typeface="Arial"/>
              </a:rPr>
              <a:t>Источник</a:t>
            </a:r>
            <a:r>
              <a:rPr b="1" i="1" lang="en-US" sz="9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1" i="1" lang="ru-RU" sz="900" spc="-1" strike="noStrike">
                <a:solidFill>
                  <a:srgbClr val="5f5f5f"/>
                </a:solidFill>
                <a:latin typeface="Arial"/>
              </a:rPr>
              <a:t>Ведомости, 4 июля 200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A1BE-9879-47A9-95D7-1FA8059F7A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зультаты некоторых казахстанских компаний, вышедших на рынок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5880" y="1368360"/>
            <a:ext cx="2286000" cy="4237200"/>
            <a:chOff x="6095880" y="1368360"/>
            <a:chExt cx="2286000" cy="4237200"/>
          </a:xfrm>
        </p:grpSpPr>
        <p:sp>
          <p:nvSpPr>
            <p:cNvPr id="98" name=""/>
            <p:cNvSpPr/>
            <p:nvPr/>
          </p:nvSpPr>
          <p:spPr>
            <a:xfrm>
              <a:off x="6095880" y="1368360"/>
              <a:ext cx="2286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CAGR</a:t>
              </a: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 (в пересчете на 1 год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5880" y="1676520"/>
              <a:ext cx="212436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201456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96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0" y="254808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0" y="312408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2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0" y="365760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16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422424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-61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0" y="480060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-2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8000" y="533412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-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36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14400" y="1447920"/>
            <a:ext cx="4495680" cy="4875480"/>
            <a:chOff x="914400" y="1447920"/>
            <a:chExt cx="4495680" cy="4875480"/>
          </a:xfrm>
        </p:grpSpPr>
        <p:sp>
          <p:nvSpPr>
            <p:cNvPr id="108" name=""/>
            <p:cNvSpPr/>
            <p:nvPr/>
          </p:nvSpPr>
          <p:spPr>
            <a:xfrm>
              <a:off x="990720" y="1447920"/>
              <a:ext cx="42670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Изменение цены акции с момента </a:t>
              </a: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676520"/>
              <a:ext cx="426708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6122880"/>
              <a:ext cx="239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700" spc="-1" strike="noStrike">
                  <a:solidFill>
                    <a:srgbClr val="6f736f"/>
                  </a:solidFill>
                  <a:latin typeface="Arial"/>
                </a:rPr>
                <a:t>Источник</a:t>
              </a:r>
              <a:r>
                <a:rPr b="0" i="1" lang="en-US" sz="700" spc="-1" strike="noStrike">
                  <a:solidFill>
                    <a:srgbClr val="6f736f"/>
                  </a:solidFill>
                  <a:latin typeface="Arial"/>
                </a:rPr>
                <a:t>: Bloomberg, Thomson Financi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914400" y="1676520"/>
            <a:ext cx="4495680" cy="4495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6520"/>
                      <a:ext cx="44956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0641-EB85-4B46-9397-24CF592E4F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976560" y="4035600"/>
            <a:ext cx="1832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Ренессанс Капитал выступил Эксклюзивным букраннером размещения украинской страховой компании Универсальна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6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СДЕЛКИ РЕНЕССАНС КАПИТАЛА НА РЫНКЕ АКЦИОНЕРНОГО КАПИТАЛ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702480" y="5324400"/>
            <a:ext cx="1832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Первое международног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оссийской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T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компании –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402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смотря на то, что размещение проводилось при трудных рыночных условиях, Ренессанс Капитал привлек больший объем спроса по сравнению с другими инвестиционными банкам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4240" y="2747880"/>
            <a:ext cx="1832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Дикси, одного из ведущих дискаунтеров России,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36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компании потребительского сектора с наибольшим объемом акций в свободном обращении на российских биржа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, и смог привлечь высококачественных инвесторов в структуру акционеров Дикс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76560" y="146052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Интегра провела вторичное размещение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96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лн., вызванное стремлением удовлетворить огромный спрос во время своег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в феврале того же год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.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есь объем был успешно размещен за 2 д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54240" y="5324400"/>
            <a:ext cx="1832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Ренессанс Капитал в качестве Эксклюзивного букраннера успешно завершил частное размещение Каравана – ведущей украинской компании сектора недвижимо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удучи частью подготовки к процессу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, данная сделка позволит компании оптимизировать свою структуру акционеров, предоставляя частным инвесторам возможность инвестировать в компани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76560" y="2747880"/>
            <a:ext cx="1832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дного из ведущих российских производителей детского питан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Эксклюзивным букраннером размещения Нутритека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2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и обеспечил значитель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76560" y="5324400"/>
            <a:ext cx="1832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МК, одной из ведущих металлургических компаний Росси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,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1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первые дни роуд-шоу Ренессанс Капитал привлек больший объем спроса по сравнению с другими букраннерами, а также был единственным банком, который принес в книгу самые крупные заявки от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02480" y="146052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3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6 млн.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зависимой российской газодобывающей компании Волга-Газ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в качестве Эксклюзивного букраннера сделки, и, несмотря на плохую рыночную конъюнктуру и негативные тенденции в секторе во время роуд-шоу, смог привлечь значитель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02480" y="403560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феврале 2007 Ренессанс Капитал в качестве совместного глобального координатора и букраннера успешно завершил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768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Интегры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,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дной из ведущих российских компаний в области обслуживания нефтегазового сектор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первый день роуд-шоу книжка заявок была полностью покрыта, где  90% спроса было привлечено Ренессанс Капитал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54240" y="1460520"/>
            <a:ext cx="1828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а РТС Росинтера, ведущей компании России в сфере ресторанного бизнес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Эксклюзивным глобальным координатором и букраннер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было завершено успешно, несмотря на снижение РТС на 10% во время роуд-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02480" y="2747880"/>
            <a:ext cx="18320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апреле 2007 Ренессанс Капитал успешно завершил первое в истории международное частное размещение ГДР Нигерийской компан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было переподписано в 3 раз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(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6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 спрос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)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, что позволило увеличить объем предлагаемых ГДР с первоначальных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2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 до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3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и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бъем спроса, привлеченного Ренессанс Капиталом, в разы отличался в большую сторону от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JP Morgan,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оставив 8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54240" y="4035600"/>
            <a:ext cx="18320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торого крупнейшего банка России объемом окол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8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делка была существенно переподписана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привлек больше спроса, чем другие букраннеры из синдиката -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олее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проса в первый день заполнения книги заявок, а общий объем привлеченного Ренессанс Капиталом спроса превысил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39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61880" y="4035600"/>
            <a:ext cx="722520" cy="975960"/>
            <a:chOff x="461880" y="4035600"/>
            <a:chExt cx="722520" cy="975960"/>
          </a:xfrm>
        </p:grpSpPr>
        <p:sp>
          <p:nvSpPr>
            <p:cNvPr id="617" name=""/>
            <p:cNvSpPr/>
            <p:nvPr/>
          </p:nvSpPr>
          <p:spPr>
            <a:xfrm>
              <a:off x="461880" y="403560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8080" y="4054320"/>
              <a:ext cx="374760" cy="9972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1120" y="444492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7,988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440" y="48416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6160" y="4054320"/>
              <a:ext cx="30204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1"/>
            <a:stretch/>
          </p:blipFill>
          <p:spPr>
            <a:xfrm>
              <a:off x="590760" y="4624200"/>
              <a:ext cx="4644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"/>
            <a:stretch/>
          </p:blipFill>
          <p:spPr>
            <a:xfrm>
              <a:off x="612720" y="4198680"/>
              <a:ext cx="421920" cy="1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"/>
          <p:cNvGrpSpPr/>
          <p:nvPr/>
        </p:nvGrpSpPr>
        <p:grpSpPr>
          <a:xfrm>
            <a:off x="461880" y="1460520"/>
            <a:ext cx="722520" cy="1010880"/>
            <a:chOff x="461880" y="1460520"/>
            <a:chExt cx="722520" cy="1010880"/>
          </a:xfrm>
        </p:grpSpPr>
        <p:sp>
          <p:nvSpPr>
            <p:cNvPr id="625" name=""/>
            <p:cNvSpPr/>
            <p:nvPr/>
          </p:nvSpPr>
          <p:spPr>
            <a:xfrm>
              <a:off x="461880" y="146052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1120" y="186984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00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6440" y="2266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3"/>
            <a:srcRect l="15556" t="52152" r="16953" b="-2642"/>
            <a:stretch/>
          </p:blipFill>
          <p:spPr>
            <a:xfrm>
              <a:off x="649440" y="1565280"/>
              <a:ext cx="3456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4"/>
            <a:stretch/>
          </p:blipFill>
          <p:spPr>
            <a:xfrm>
              <a:off x="590760" y="204948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78080" y="14763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Ресторан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6160" y="147636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61880" y="2747880"/>
            <a:ext cx="722520" cy="976320"/>
            <a:chOff x="461880" y="2747880"/>
            <a:chExt cx="722520" cy="976320"/>
          </a:xfrm>
        </p:grpSpPr>
        <p:grpSp>
          <p:nvGrpSpPr>
            <p:cNvPr id="633" name=""/>
            <p:cNvGrpSpPr/>
            <p:nvPr/>
          </p:nvGrpSpPr>
          <p:grpSpPr>
            <a:xfrm>
              <a:off x="689040" y="2876760"/>
              <a:ext cx="268200" cy="268200"/>
              <a:chOff x="689040" y="2876760"/>
              <a:chExt cx="268200" cy="268200"/>
            </a:xfrm>
          </p:grpSpPr>
          <p:sp>
            <p:nvSpPr>
              <p:cNvPr id="634" name=""/>
              <p:cNvSpPr/>
              <p:nvPr/>
            </p:nvSpPr>
            <p:spPr>
              <a:xfrm>
                <a:off x="689040" y="287676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16137" h="16137">
                    <a:moveTo>
                      <a:pt x="0" y="0"/>
                    </a:moveTo>
                    <a:lnTo>
                      <a:pt x="16137" y="0"/>
                    </a:lnTo>
                    <a:lnTo>
                      <a:pt x="16137" y="14618"/>
                    </a:lnTo>
                    <a:lnTo>
                      <a:pt x="16136" y="14716"/>
                    </a:lnTo>
                    <a:lnTo>
                      <a:pt x="16134" y="14810"/>
                    </a:lnTo>
                    <a:lnTo>
                      <a:pt x="16129" y="14901"/>
                    </a:lnTo>
                    <a:lnTo>
                      <a:pt x="16123" y="14988"/>
                    </a:lnTo>
                    <a:lnTo>
                      <a:pt x="16115" y="15072"/>
                    </a:lnTo>
                    <a:lnTo>
                      <a:pt x="16104" y="15153"/>
                    </a:lnTo>
                    <a:lnTo>
                      <a:pt x="16091" y="15230"/>
                    </a:lnTo>
                    <a:lnTo>
                      <a:pt x="16075" y="15304"/>
                    </a:lnTo>
                    <a:lnTo>
                      <a:pt x="16057" y="15375"/>
                    </a:lnTo>
                    <a:lnTo>
                      <a:pt x="16036" y="15441"/>
                    </a:lnTo>
                    <a:lnTo>
                      <a:pt x="16013" y="15506"/>
                    </a:lnTo>
                    <a:lnTo>
                      <a:pt x="15986" y="15566"/>
                    </a:lnTo>
                    <a:lnTo>
                      <a:pt x="15956" y="15624"/>
                    </a:lnTo>
                    <a:lnTo>
                      <a:pt x="15923" y="15677"/>
                    </a:lnTo>
                    <a:lnTo>
                      <a:pt x="15887" y="15729"/>
                    </a:lnTo>
                    <a:lnTo>
                      <a:pt x="15847" y="15776"/>
                    </a:lnTo>
                    <a:lnTo>
                      <a:pt x="15802" y="15821"/>
                    </a:lnTo>
                    <a:lnTo>
                      <a:pt x="15755" y="15863"/>
                    </a:lnTo>
                    <a:lnTo>
                      <a:pt x="15703" y="15901"/>
                    </a:lnTo>
                    <a:lnTo>
                      <a:pt x="15648" y="15937"/>
                    </a:lnTo>
                    <a:lnTo>
                      <a:pt x="15588" y="15970"/>
                    </a:lnTo>
                    <a:lnTo>
                      <a:pt x="15524" y="15999"/>
                    </a:lnTo>
                    <a:lnTo>
                      <a:pt x="15456" y="16026"/>
                    </a:lnTo>
                    <a:lnTo>
                      <a:pt x="15383" y="16049"/>
                    </a:lnTo>
                    <a:lnTo>
                      <a:pt x="15305" y="16070"/>
                    </a:lnTo>
                    <a:lnTo>
                      <a:pt x="15222" y="16088"/>
                    </a:lnTo>
                    <a:lnTo>
                      <a:pt x="15134" y="16103"/>
                    </a:lnTo>
                    <a:lnTo>
                      <a:pt x="15042" y="16116"/>
                    </a:lnTo>
                    <a:lnTo>
                      <a:pt x="14944" y="16125"/>
                    </a:lnTo>
                    <a:lnTo>
                      <a:pt x="14841" y="16132"/>
                    </a:lnTo>
                    <a:lnTo>
                      <a:pt x="14732" y="16136"/>
                    </a:lnTo>
                    <a:lnTo>
                      <a:pt x="14618" y="16137"/>
                    </a:lnTo>
                    <a:lnTo>
                      <a:pt x="1467" y="16137"/>
                    </a:lnTo>
                    <a:lnTo>
                      <a:pt x="1378" y="16136"/>
                    </a:lnTo>
                    <a:lnTo>
                      <a:pt x="1291" y="16133"/>
                    </a:lnTo>
                    <a:lnTo>
                      <a:pt x="1207" y="16127"/>
                    </a:lnTo>
                    <a:lnTo>
                      <a:pt x="1126" y="16120"/>
                    </a:lnTo>
                    <a:lnTo>
                      <a:pt x="1047" y="16110"/>
                    </a:lnTo>
                    <a:lnTo>
                      <a:pt x="972" y="16097"/>
                    </a:lnTo>
                    <a:lnTo>
                      <a:pt x="899" y="16083"/>
                    </a:lnTo>
                    <a:lnTo>
                      <a:pt x="829" y="16064"/>
                    </a:lnTo>
                    <a:lnTo>
                      <a:pt x="761" y="16044"/>
                    </a:lnTo>
                    <a:lnTo>
                      <a:pt x="697" y="16021"/>
                    </a:lnTo>
                    <a:lnTo>
                      <a:pt x="635" y="15996"/>
                    </a:lnTo>
                    <a:lnTo>
                      <a:pt x="577" y="15967"/>
                    </a:lnTo>
                    <a:lnTo>
                      <a:pt x="521" y="15935"/>
                    </a:lnTo>
                    <a:lnTo>
                      <a:pt x="468" y="15900"/>
                    </a:lnTo>
                    <a:lnTo>
                      <a:pt x="418" y="15863"/>
                    </a:lnTo>
                    <a:lnTo>
                      <a:pt x="370" y="15821"/>
                    </a:lnTo>
                    <a:lnTo>
                      <a:pt x="326" y="15777"/>
                    </a:lnTo>
                    <a:lnTo>
                      <a:pt x="283" y="15730"/>
                    </a:lnTo>
                    <a:lnTo>
                      <a:pt x="245" y="15678"/>
                    </a:lnTo>
                    <a:lnTo>
                      <a:pt x="209" y="15624"/>
                    </a:lnTo>
                    <a:lnTo>
                      <a:pt x="175" y="15566"/>
                    </a:lnTo>
                    <a:lnTo>
                      <a:pt x="145" y="15504"/>
                    </a:lnTo>
                    <a:lnTo>
                      <a:pt x="118" y="15438"/>
                    </a:lnTo>
                    <a:lnTo>
                      <a:pt x="93" y="15369"/>
                    </a:lnTo>
                    <a:lnTo>
                      <a:pt x="72" y="15296"/>
                    </a:lnTo>
                    <a:lnTo>
                      <a:pt x="52" y="15219"/>
                    </a:lnTo>
                    <a:lnTo>
                      <a:pt x="36" y="15139"/>
                    </a:lnTo>
                    <a:lnTo>
                      <a:pt x="23" y="15053"/>
                    </a:lnTo>
                    <a:lnTo>
                      <a:pt x="13" y="14964"/>
                    </a:lnTo>
                    <a:lnTo>
                      <a:pt x="6" y="14870"/>
                    </a:lnTo>
                    <a:lnTo>
                      <a:pt x="1" y="14772"/>
                    </a:lnTo>
                    <a:lnTo>
                      <a:pt x="0" y="146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5880" y="2884320"/>
                <a:ext cx="255240" cy="252720"/>
              </a:xfrm>
              <a:custGeom>
                <a:avLst/>
                <a:gdLst/>
                <a:ahLst/>
                <a:rect l="l" t="t" r="r" b="b"/>
                <a:pathLst>
                  <a:path w="15350" h="15193">
                    <a:moveTo>
                      <a:pt x="730" y="0"/>
                    </a:moveTo>
                    <a:lnTo>
                      <a:pt x="14619" y="0"/>
                    </a:lnTo>
                    <a:lnTo>
                      <a:pt x="14657" y="1"/>
                    </a:lnTo>
                    <a:lnTo>
                      <a:pt x="14693" y="3"/>
                    </a:lnTo>
                    <a:lnTo>
                      <a:pt x="14730" y="8"/>
                    </a:lnTo>
                    <a:lnTo>
                      <a:pt x="14766" y="14"/>
                    </a:lnTo>
                    <a:lnTo>
                      <a:pt x="14801" y="23"/>
                    </a:lnTo>
                    <a:lnTo>
                      <a:pt x="14836" y="32"/>
                    </a:lnTo>
                    <a:lnTo>
                      <a:pt x="14870" y="44"/>
                    </a:lnTo>
                    <a:lnTo>
                      <a:pt x="14903" y="57"/>
                    </a:lnTo>
                    <a:lnTo>
                      <a:pt x="14935" y="73"/>
                    </a:lnTo>
                    <a:lnTo>
                      <a:pt x="14967" y="89"/>
                    </a:lnTo>
                    <a:lnTo>
                      <a:pt x="14998" y="106"/>
                    </a:lnTo>
                    <a:lnTo>
                      <a:pt x="15027" y="125"/>
                    </a:lnTo>
                    <a:lnTo>
                      <a:pt x="15055" y="146"/>
                    </a:lnTo>
                    <a:lnTo>
                      <a:pt x="15084" y="167"/>
                    </a:lnTo>
                    <a:lnTo>
                      <a:pt x="15110" y="191"/>
                    </a:lnTo>
                    <a:lnTo>
                      <a:pt x="15135" y="215"/>
                    </a:lnTo>
                    <a:lnTo>
                      <a:pt x="15159" y="241"/>
                    </a:lnTo>
                    <a:lnTo>
                      <a:pt x="15182" y="267"/>
                    </a:lnTo>
                    <a:lnTo>
                      <a:pt x="15205" y="295"/>
                    </a:lnTo>
                    <a:lnTo>
                      <a:pt x="15225" y="324"/>
                    </a:lnTo>
                    <a:lnTo>
                      <a:pt x="15244" y="354"/>
                    </a:lnTo>
                    <a:lnTo>
                      <a:pt x="15261" y="384"/>
                    </a:lnTo>
                    <a:lnTo>
                      <a:pt x="15278" y="416"/>
                    </a:lnTo>
                    <a:lnTo>
                      <a:pt x="15292" y="448"/>
                    </a:lnTo>
                    <a:lnTo>
                      <a:pt x="15306" y="481"/>
                    </a:lnTo>
                    <a:lnTo>
                      <a:pt x="15318" y="515"/>
                    </a:lnTo>
                    <a:lnTo>
                      <a:pt x="15327" y="551"/>
                    </a:lnTo>
                    <a:lnTo>
                      <a:pt x="15336" y="586"/>
                    </a:lnTo>
                    <a:lnTo>
                      <a:pt x="15342" y="621"/>
                    </a:lnTo>
                    <a:lnTo>
                      <a:pt x="15347" y="659"/>
                    </a:lnTo>
                    <a:lnTo>
                      <a:pt x="15349" y="696"/>
                    </a:lnTo>
                    <a:lnTo>
                      <a:pt x="15350" y="733"/>
                    </a:lnTo>
                    <a:lnTo>
                      <a:pt x="15350" y="14460"/>
                    </a:lnTo>
                    <a:lnTo>
                      <a:pt x="15349" y="14498"/>
                    </a:lnTo>
                    <a:lnTo>
                      <a:pt x="15347" y="14534"/>
                    </a:lnTo>
                    <a:lnTo>
                      <a:pt x="15342" y="14572"/>
                    </a:lnTo>
                    <a:lnTo>
                      <a:pt x="15336" y="14607"/>
                    </a:lnTo>
                    <a:lnTo>
                      <a:pt x="15327" y="14643"/>
                    </a:lnTo>
                    <a:lnTo>
                      <a:pt x="15318" y="14678"/>
                    </a:lnTo>
                    <a:lnTo>
                      <a:pt x="15306" y="14712"/>
                    </a:lnTo>
                    <a:lnTo>
                      <a:pt x="15292" y="14745"/>
                    </a:lnTo>
                    <a:lnTo>
                      <a:pt x="15278" y="14777"/>
                    </a:lnTo>
                    <a:lnTo>
                      <a:pt x="15261" y="14809"/>
                    </a:lnTo>
                    <a:lnTo>
                      <a:pt x="15244" y="14840"/>
                    </a:lnTo>
                    <a:lnTo>
                      <a:pt x="15225" y="14869"/>
                    </a:lnTo>
                    <a:lnTo>
                      <a:pt x="15205" y="14898"/>
                    </a:lnTo>
                    <a:lnTo>
                      <a:pt x="15182" y="14926"/>
                    </a:lnTo>
                    <a:lnTo>
                      <a:pt x="15159" y="14953"/>
                    </a:lnTo>
                    <a:lnTo>
                      <a:pt x="15135" y="14978"/>
                    </a:lnTo>
                    <a:lnTo>
                      <a:pt x="15110" y="15002"/>
                    </a:lnTo>
                    <a:lnTo>
                      <a:pt x="15084" y="15026"/>
                    </a:lnTo>
                    <a:lnTo>
                      <a:pt x="15055" y="15048"/>
                    </a:lnTo>
                    <a:lnTo>
                      <a:pt x="15027" y="15068"/>
                    </a:lnTo>
                    <a:lnTo>
                      <a:pt x="14998" y="15087"/>
                    </a:lnTo>
                    <a:lnTo>
                      <a:pt x="14967" y="15104"/>
                    </a:lnTo>
                    <a:lnTo>
                      <a:pt x="14935" y="15121"/>
                    </a:lnTo>
                    <a:lnTo>
                      <a:pt x="14903" y="15136"/>
                    </a:lnTo>
                    <a:lnTo>
                      <a:pt x="14870" y="15149"/>
                    </a:lnTo>
                    <a:lnTo>
                      <a:pt x="14836" y="15161"/>
                    </a:lnTo>
                    <a:lnTo>
                      <a:pt x="14801" y="15171"/>
                    </a:lnTo>
                    <a:lnTo>
                      <a:pt x="14766" y="15179"/>
                    </a:lnTo>
                    <a:lnTo>
                      <a:pt x="14730" y="15185"/>
                    </a:lnTo>
                    <a:lnTo>
                      <a:pt x="14693" y="15190"/>
                    </a:lnTo>
                    <a:lnTo>
                      <a:pt x="14657" y="15193"/>
                    </a:lnTo>
                    <a:lnTo>
                      <a:pt x="14619" y="15193"/>
                    </a:lnTo>
                    <a:lnTo>
                      <a:pt x="730" y="15193"/>
                    </a:lnTo>
                    <a:lnTo>
                      <a:pt x="692" y="15193"/>
                    </a:lnTo>
                    <a:lnTo>
                      <a:pt x="656" y="15190"/>
                    </a:lnTo>
                    <a:lnTo>
                      <a:pt x="619" y="15185"/>
                    </a:lnTo>
                    <a:lnTo>
                      <a:pt x="584" y="15179"/>
                    </a:lnTo>
                    <a:lnTo>
                      <a:pt x="548" y="15171"/>
                    </a:lnTo>
                    <a:lnTo>
                      <a:pt x="513" y="15161"/>
                    </a:lnTo>
                    <a:lnTo>
                      <a:pt x="480" y="15149"/>
                    </a:lnTo>
                    <a:lnTo>
                      <a:pt x="446" y="15136"/>
                    </a:lnTo>
                    <a:lnTo>
                      <a:pt x="414" y="15121"/>
                    </a:lnTo>
                    <a:lnTo>
                      <a:pt x="383" y="15104"/>
                    </a:lnTo>
                    <a:lnTo>
                      <a:pt x="352" y="15087"/>
                    </a:lnTo>
                    <a:lnTo>
                      <a:pt x="322" y="15068"/>
                    </a:lnTo>
                    <a:lnTo>
                      <a:pt x="293" y="15048"/>
                    </a:lnTo>
                    <a:lnTo>
                      <a:pt x="266" y="15026"/>
                    </a:lnTo>
                    <a:lnTo>
                      <a:pt x="240" y="15002"/>
                    </a:lnTo>
                    <a:lnTo>
                      <a:pt x="214" y="14978"/>
                    </a:lnTo>
                    <a:lnTo>
                      <a:pt x="189" y="14953"/>
                    </a:lnTo>
                    <a:lnTo>
                      <a:pt x="167" y="14926"/>
                    </a:lnTo>
                    <a:lnTo>
                      <a:pt x="145" y="14898"/>
                    </a:lnTo>
                    <a:lnTo>
                      <a:pt x="125" y="14869"/>
                    </a:lnTo>
                    <a:lnTo>
                      <a:pt x="105" y="14840"/>
                    </a:lnTo>
                    <a:lnTo>
                      <a:pt x="87" y="14809"/>
                    </a:lnTo>
                    <a:lnTo>
                      <a:pt x="71" y="14777"/>
                    </a:lnTo>
                    <a:lnTo>
                      <a:pt x="57" y="14745"/>
                    </a:lnTo>
                    <a:lnTo>
                      <a:pt x="44" y="14712"/>
                    </a:lnTo>
                    <a:lnTo>
                      <a:pt x="32" y="14678"/>
                    </a:lnTo>
                    <a:lnTo>
                      <a:pt x="22" y="14643"/>
                    </a:lnTo>
                    <a:lnTo>
                      <a:pt x="14" y="14607"/>
                    </a:lnTo>
                    <a:lnTo>
                      <a:pt x="8" y="14572"/>
                    </a:lnTo>
                    <a:lnTo>
                      <a:pt x="3" y="14534"/>
                    </a:lnTo>
                    <a:lnTo>
                      <a:pt x="1" y="14498"/>
                    </a:lnTo>
                    <a:lnTo>
                      <a:pt x="0" y="14460"/>
                    </a:lnTo>
                    <a:lnTo>
                      <a:pt x="0" y="733"/>
                    </a:lnTo>
                    <a:lnTo>
                      <a:pt x="1" y="696"/>
                    </a:lnTo>
                    <a:lnTo>
                      <a:pt x="3" y="659"/>
                    </a:lnTo>
                    <a:lnTo>
                      <a:pt x="8" y="621"/>
                    </a:lnTo>
                    <a:lnTo>
                      <a:pt x="14" y="586"/>
                    </a:lnTo>
                    <a:lnTo>
                      <a:pt x="22" y="551"/>
                    </a:lnTo>
                    <a:lnTo>
                      <a:pt x="32" y="515"/>
                    </a:lnTo>
                    <a:lnTo>
                      <a:pt x="44" y="481"/>
                    </a:lnTo>
                    <a:lnTo>
                      <a:pt x="57" y="448"/>
                    </a:lnTo>
                    <a:lnTo>
                      <a:pt x="71" y="416"/>
                    </a:lnTo>
                    <a:lnTo>
                      <a:pt x="87" y="384"/>
                    </a:lnTo>
                    <a:lnTo>
                      <a:pt x="105" y="354"/>
                    </a:lnTo>
                    <a:lnTo>
                      <a:pt x="125" y="324"/>
                    </a:lnTo>
                    <a:lnTo>
                      <a:pt x="145" y="295"/>
                    </a:lnTo>
                    <a:lnTo>
                      <a:pt x="167" y="267"/>
                    </a:lnTo>
                    <a:lnTo>
                      <a:pt x="189" y="241"/>
                    </a:lnTo>
                    <a:lnTo>
                      <a:pt x="214" y="215"/>
                    </a:lnTo>
                    <a:lnTo>
                      <a:pt x="240" y="191"/>
                    </a:lnTo>
                    <a:lnTo>
                      <a:pt x="266" y="167"/>
                    </a:lnTo>
                    <a:lnTo>
                      <a:pt x="293" y="146"/>
                    </a:lnTo>
                    <a:lnTo>
                      <a:pt x="322" y="125"/>
                    </a:lnTo>
                    <a:lnTo>
                      <a:pt x="352" y="106"/>
                    </a:lnTo>
                    <a:lnTo>
                      <a:pt x="383" y="89"/>
                    </a:lnTo>
                    <a:lnTo>
                      <a:pt x="414" y="73"/>
                    </a:lnTo>
                    <a:lnTo>
                      <a:pt x="446" y="57"/>
                    </a:lnTo>
                    <a:lnTo>
                      <a:pt x="480" y="44"/>
                    </a:lnTo>
                    <a:lnTo>
                      <a:pt x="513" y="32"/>
                    </a:lnTo>
                    <a:lnTo>
                      <a:pt x="548" y="23"/>
                    </a:lnTo>
                    <a:lnTo>
                      <a:pt x="584" y="14"/>
                    </a:lnTo>
                    <a:lnTo>
                      <a:pt x="619" y="8"/>
                    </a:lnTo>
                    <a:lnTo>
                      <a:pt x="656" y="3"/>
                    </a:lnTo>
                    <a:lnTo>
                      <a:pt x="692" y="1"/>
                    </a:lnTo>
                    <a:lnTo>
                      <a:pt x="730" y="0"/>
                    </a:lnTo>
                    <a:close/>
                  </a:path>
                </a:pathLst>
              </a:custGeom>
              <a:solidFill>
                <a:srgbClr val="fce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9200" y="2900160"/>
                <a:ext cx="227160" cy="222480"/>
              </a:xfrm>
              <a:custGeom>
                <a:avLst/>
                <a:gdLst/>
                <a:ahLst/>
                <a:rect l="l" t="t" r="r" b="b"/>
                <a:pathLst>
                  <a:path w="13674" h="13412">
                    <a:moveTo>
                      <a:pt x="6837" y="0"/>
                    </a:moveTo>
                    <a:lnTo>
                      <a:pt x="7189" y="8"/>
                    </a:lnTo>
                    <a:lnTo>
                      <a:pt x="7536" y="34"/>
                    </a:lnTo>
                    <a:lnTo>
                      <a:pt x="7878" y="77"/>
                    </a:lnTo>
                    <a:lnTo>
                      <a:pt x="8215" y="136"/>
                    </a:lnTo>
                    <a:lnTo>
                      <a:pt x="8546" y="211"/>
                    </a:lnTo>
                    <a:lnTo>
                      <a:pt x="8871" y="302"/>
                    </a:lnTo>
                    <a:lnTo>
                      <a:pt x="9188" y="406"/>
                    </a:lnTo>
                    <a:lnTo>
                      <a:pt x="9499" y="526"/>
                    </a:lnTo>
                    <a:lnTo>
                      <a:pt x="9801" y="661"/>
                    </a:lnTo>
                    <a:lnTo>
                      <a:pt x="10096" y="809"/>
                    </a:lnTo>
                    <a:lnTo>
                      <a:pt x="10382" y="970"/>
                    </a:lnTo>
                    <a:lnTo>
                      <a:pt x="10660" y="1145"/>
                    </a:lnTo>
                    <a:lnTo>
                      <a:pt x="10928" y="1332"/>
                    </a:lnTo>
                    <a:lnTo>
                      <a:pt x="11186" y="1531"/>
                    </a:lnTo>
                    <a:lnTo>
                      <a:pt x="11434" y="1742"/>
                    </a:lnTo>
                    <a:lnTo>
                      <a:pt x="11671" y="1964"/>
                    </a:lnTo>
                    <a:lnTo>
                      <a:pt x="11898" y="2197"/>
                    </a:lnTo>
                    <a:lnTo>
                      <a:pt x="12113" y="2441"/>
                    </a:lnTo>
                    <a:lnTo>
                      <a:pt x="12316" y="2694"/>
                    </a:lnTo>
                    <a:lnTo>
                      <a:pt x="12506" y="2957"/>
                    </a:lnTo>
                    <a:lnTo>
                      <a:pt x="12685" y="3228"/>
                    </a:lnTo>
                    <a:lnTo>
                      <a:pt x="12849" y="3510"/>
                    </a:lnTo>
                    <a:lnTo>
                      <a:pt x="13001" y="3799"/>
                    </a:lnTo>
                    <a:lnTo>
                      <a:pt x="13137" y="4096"/>
                    </a:lnTo>
                    <a:lnTo>
                      <a:pt x="13260" y="4400"/>
                    </a:lnTo>
                    <a:lnTo>
                      <a:pt x="13367" y="4712"/>
                    </a:lnTo>
                    <a:lnTo>
                      <a:pt x="13459" y="5030"/>
                    </a:lnTo>
                    <a:lnTo>
                      <a:pt x="13535" y="5354"/>
                    </a:lnTo>
                    <a:lnTo>
                      <a:pt x="13596" y="5685"/>
                    </a:lnTo>
                    <a:lnTo>
                      <a:pt x="13639" y="6020"/>
                    </a:lnTo>
                    <a:lnTo>
                      <a:pt x="13665" y="6361"/>
                    </a:lnTo>
                    <a:lnTo>
                      <a:pt x="13674" y="6706"/>
                    </a:lnTo>
                    <a:lnTo>
                      <a:pt x="13665" y="7051"/>
                    </a:lnTo>
                    <a:lnTo>
                      <a:pt x="13639" y="7392"/>
                    </a:lnTo>
                    <a:lnTo>
                      <a:pt x="13596" y="7727"/>
                    </a:lnTo>
                    <a:lnTo>
                      <a:pt x="13535" y="8057"/>
                    </a:lnTo>
                    <a:lnTo>
                      <a:pt x="13459" y="8382"/>
                    </a:lnTo>
                    <a:lnTo>
                      <a:pt x="13367" y="8700"/>
                    </a:lnTo>
                    <a:lnTo>
                      <a:pt x="13260" y="9012"/>
                    </a:lnTo>
                    <a:lnTo>
                      <a:pt x="13137" y="9316"/>
                    </a:lnTo>
                    <a:lnTo>
                      <a:pt x="13001" y="9614"/>
                    </a:lnTo>
                    <a:lnTo>
                      <a:pt x="12849" y="9902"/>
                    </a:lnTo>
                    <a:lnTo>
                      <a:pt x="12685" y="10183"/>
                    </a:lnTo>
                    <a:lnTo>
                      <a:pt x="12506" y="10455"/>
                    </a:lnTo>
                    <a:lnTo>
                      <a:pt x="12316" y="10718"/>
                    </a:lnTo>
                    <a:lnTo>
                      <a:pt x="12113" y="10971"/>
                    </a:lnTo>
                    <a:lnTo>
                      <a:pt x="11898" y="11215"/>
                    </a:lnTo>
                    <a:lnTo>
                      <a:pt x="11671" y="11448"/>
                    </a:lnTo>
                    <a:lnTo>
                      <a:pt x="11434" y="11670"/>
                    </a:lnTo>
                    <a:lnTo>
                      <a:pt x="11186" y="11881"/>
                    </a:lnTo>
                    <a:lnTo>
                      <a:pt x="10928" y="12080"/>
                    </a:lnTo>
                    <a:lnTo>
                      <a:pt x="10660" y="12267"/>
                    </a:lnTo>
                    <a:lnTo>
                      <a:pt x="10382" y="12442"/>
                    </a:lnTo>
                    <a:lnTo>
                      <a:pt x="10096" y="12603"/>
                    </a:lnTo>
                    <a:lnTo>
                      <a:pt x="9801" y="12751"/>
                    </a:lnTo>
                    <a:lnTo>
                      <a:pt x="9499" y="12885"/>
                    </a:lnTo>
                    <a:lnTo>
                      <a:pt x="9188" y="13005"/>
                    </a:lnTo>
                    <a:lnTo>
                      <a:pt x="8871" y="13110"/>
                    </a:lnTo>
                    <a:lnTo>
                      <a:pt x="8546" y="13201"/>
                    </a:lnTo>
                    <a:lnTo>
                      <a:pt x="8215" y="13276"/>
                    </a:lnTo>
                    <a:lnTo>
                      <a:pt x="7878" y="13335"/>
                    </a:lnTo>
                    <a:lnTo>
                      <a:pt x="7536" y="13378"/>
                    </a:lnTo>
                    <a:lnTo>
                      <a:pt x="7189" y="13404"/>
                    </a:lnTo>
                    <a:lnTo>
                      <a:pt x="6837" y="13412"/>
                    </a:lnTo>
                    <a:lnTo>
                      <a:pt x="6485" y="13404"/>
                    </a:lnTo>
                    <a:lnTo>
                      <a:pt x="6138" y="13378"/>
                    </a:lnTo>
                    <a:lnTo>
                      <a:pt x="5796" y="13335"/>
                    </a:lnTo>
                    <a:lnTo>
                      <a:pt x="5460" y="13276"/>
                    </a:lnTo>
                    <a:lnTo>
                      <a:pt x="5129" y="13201"/>
                    </a:lnTo>
                    <a:lnTo>
                      <a:pt x="4804" y="13110"/>
                    </a:lnTo>
                    <a:lnTo>
                      <a:pt x="4486" y="13005"/>
                    </a:lnTo>
                    <a:lnTo>
                      <a:pt x="4176" y="12885"/>
                    </a:lnTo>
                    <a:lnTo>
                      <a:pt x="3873" y="12751"/>
                    </a:lnTo>
                    <a:lnTo>
                      <a:pt x="3579" y="12603"/>
                    </a:lnTo>
                    <a:lnTo>
                      <a:pt x="3292" y="12442"/>
                    </a:lnTo>
                    <a:lnTo>
                      <a:pt x="3015" y="12267"/>
                    </a:lnTo>
                    <a:lnTo>
                      <a:pt x="2747" y="12080"/>
                    </a:lnTo>
                    <a:lnTo>
                      <a:pt x="2488" y="11881"/>
                    </a:lnTo>
                    <a:lnTo>
                      <a:pt x="2240" y="11670"/>
                    </a:lnTo>
                    <a:lnTo>
                      <a:pt x="2003" y="11448"/>
                    </a:lnTo>
                    <a:lnTo>
                      <a:pt x="1776" y="11215"/>
                    </a:lnTo>
                    <a:lnTo>
                      <a:pt x="1561" y="10971"/>
                    </a:lnTo>
                    <a:lnTo>
                      <a:pt x="1359" y="10718"/>
                    </a:lnTo>
                    <a:lnTo>
                      <a:pt x="1168" y="10455"/>
                    </a:lnTo>
                    <a:lnTo>
                      <a:pt x="990" y="10183"/>
                    </a:lnTo>
                    <a:lnTo>
                      <a:pt x="825" y="9902"/>
                    </a:lnTo>
                    <a:lnTo>
                      <a:pt x="674" y="9614"/>
                    </a:lnTo>
                    <a:lnTo>
                      <a:pt x="538" y="9316"/>
                    </a:lnTo>
                    <a:lnTo>
                      <a:pt x="415" y="9012"/>
                    </a:lnTo>
                    <a:lnTo>
                      <a:pt x="308" y="8700"/>
                    </a:lnTo>
                    <a:lnTo>
                      <a:pt x="215" y="8382"/>
                    </a:lnTo>
                    <a:lnTo>
                      <a:pt x="139" y="8057"/>
                    </a:lnTo>
                    <a:lnTo>
                      <a:pt x="79" y="7727"/>
                    </a:lnTo>
                    <a:lnTo>
                      <a:pt x="36" y="7392"/>
                    </a:lnTo>
                    <a:lnTo>
                      <a:pt x="9" y="7051"/>
                    </a:lnTo>
                    <a:lnTo>
                      <a:pt x="0" y="6706"/>
                    </a:lnTo>
                    <a:lnTo>
                      <a:pt x="9" y="6361"/>
                    </a:lnTo>
                    <a:lnTo>
                      <a:pt x="36" y="6020"/>
                    </a:lnTo>
                    <a:lnTo>
                      <a:pt x="79" y="5685"/>
                    </a:lnTo>
                    <a:lnTo>
                      <a:pt x="139" y="5354"/>
                    </a:lnTo>
                    <a:lnTo>
                      <a:pt x="215" y="5030"/>
                    </a:lnTo>
                    <a:lnTo>
                      <a:pt x="308" y="4712"/>
                    </a:lnTo>
                    <a:lnTo>
                      <a:pt x="415" y="4400"/>
                    </a:lnTo>
                    <a:lnTo>
                      <a:pt x="538" y="4096"/>
                    </a:lnTo>
                    <a:lnTo>
                      <a:pt x="674" y="3799"/>
                    </a:lnTo>
                    <a:lnTo>
                      <a:pt x="825" y="3510"/>
                    </a:lnTo>
                    <a:lnTo>
                      <a:pt x="990" y="3228"/>
                    </a:lnTo>
                    <a:lnTo>
                      <a:pt x="1168" y="2957"/>
                    </a:lnTo>
                    <a:lnTo>
                      <a:pt x="1359" y="2694"/>
                    </a:lnTo>
                    <a:lnTo>
                      <a:pt x="1561" y="2441"/>
                    </a:lnTo>
                    <a:lnTo>
                      <a:pt x="1776" y="2197"/>
                    </a:lnTo>
                    <a:lnTo>
                      <a:pt x="2003" y="1964"/>
                    </a:lnTo>
                    <a:lnTo>
                      <a:pt x="2240" y="1742"/>
                    </a:lnTo>
                    <a:lnTo>
                      <a:pt x="2488" y="1531"/>
                    </a:lnTo>
                    <a:lnTo>
                      <a:pt x="2747" y="1332"/>
                    </a:lnTo>
                    <a:lnTo>
                      <a:pt x="3015" y="1145"/>
                    </a:lnTo>
                    <a:lnTo>
                      <a:pt x="3292" y="970"/>
                    </a:lnTo>
                    <a:lnTo>
                      <a:pt x="3579" y="809"/>
                    </a:lnTo>
                    <a:lnTo>
                      <a:pt x="3873" y="661"/>
                    </a:lnTo>
                    <a:lnTo>
                      <a:pt x="4176" y="526"/>
                    </a:lnTo>
                    <a:lnTo>
                      <a:pt x="4486" y="406"/>
                    </a:lnTo>
                    <a:lnTo>
                      <a:pt x="4804" y="302"/>
                    </a:lnTo>
                    <a:lnTo>
                      <a:pt x="5129" y="211"/>
                    </a:lnTo>
                    <a:lnTo>
                      <a:pt x="5460" y="136"/>
                    </a:lnTo>
                    <a:lnTo>
                      <a:pt x="5796" y="77"/>
                    </a:lnTo>
                    <a:lnTo>
                      <a:pt x="6138" y="34"/>
                    </a:lnTo>
                    <a:lnTo>
                      <a:pt x="6485" y="8"/>
                    </a:lnTo>
                    <a:lnTo>
                      <a:pt x="6837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5680" y="2905200"/>
                <a:ext cx="213480" cy="210960"/>
              </a:xfrm>
              <a:custGeom>
                <a:avLst/>
                <a:gdLst/>
                <a:ahLst/>
                <a:rect l="l" t="t" r="r" b="b"/>
                <a:pathLst>
                  <a:path w="12837" h="12679">
                    <a:moveTo>
                      <a:pt x="6418" y="0"/>
                    </a:moveTo>
                    <a:lnTo>
                      <a:pt x="6748" y="9"/>
                    </a:lnTo>
                    <a:lnTo>
                      <a:pt x="7075" y="33"/>
                    </a:lnTo>
                    <a:lnTo>
                      <a:pt x="7396" y="73"/>
                    </a:lnTo>
                    <a:lnTo>
                      <a:pt x="7711" y="129"/>
                    </a:lnTo>
                    <a:lnTo>
                      <a:pt x="8022" y="199"/>
                    </a:lnTo>
                    <a:lnTo>
                      <a:pt x="8326" y="285"/>
                    </a:lnTo>
                    <a:lnTo>
                      <a:pt x="8625" y="385"/>
                    </a:lnTo>
                    <a:lnTo>
                      <a:pt x="8916" y="498"/>
                    </a:lnTo>
                    <a:lnTo>
                      <a:pt x="9201" y="625"/>
                    </a:lnTo>
                    <a:lnTo>
                      <a:pt x="9477" y="765"/>
                    </a:lnTo>
                    <a:lnTo>
                      <a:pt x="9746" y="918"/>
                    </a:lnTo>
                    <a:lnTo>
                      <a:pt x="10007" y="1083"/>
                    </a:lnTo>
                    <a:lnTo>
                      <a:pt x="10258" y="1259"/>
                    </a:lnTo>
                    <a:lnTo>
                      <a:pt x="10501" y="1448"/>
                    </a:lnTo>
                    <a:lnTo>
                      <a:pt x="10733" y="1647"/>
                    </a:lnTo>
                    <a:lnTo>
                      <a:pt x="10957" y="1857"/>
                    </a:lnTo>
                    <a:lnTo>
                      <a:pt x="11169" y="2077"/>
                    </a:lnTo>
                    <a:lnTo>
                      <a:pt x="11370" y="2307"/>
                    </a:lnTo>
                    <a:lnTo>
                      <a:pt x="11561" y="2547"/>
                    </a:lnTo>
                    <a:lnTo>
                      <a:pt x="11740" y="2795"/>
                    </a:lnTo>
                    <a:lnTo>
                      <a:pt x="11907" y="3053"/>
                    </a:lnTo>
                    <a:lnTo>
                      <a:pt x="12061" y="3318"/>
                    </a:lnTo>
                    <a:lnTo>
                      <a:pt x="12203" y="3591"/>
                    </a:lnTo>
                    <a:lnTo>
                      <a:pt x="12331" y="3873"/>
                    </a:lnTo>
                    <a:lnTo>
                      <a:pt x="12446" y="4160"/>
                    </a:lnTo>
                    <a:lnTo>
                      <a:pt x="12547" y="4454"/>
                    </a:lnTo>
                    <a:lnTo>
                      <a:pt x="12634" y="4755"/>
                    </a:lnTo>
                    <a:lnTo>
                      <a:pt x="12706" y="5062"/>
                    </a:lnTo>
                    <a:lnTo>
                      <a:pt x="12762" y="5374"/>
                    </a:lnTo>
                    <a:lnTo>
                      <a:pt x="12803" y="5691"/>
                    </a:lnTo>
                    <a:lnTo>
                      <a:pt x="12828" y="6014"/>
                    </a:lnTo>
                    <a:lnTo>
                      <a:pt x="12837" y="6340"/>
                    </a:lnTo>
                    <a:lnTo>
                      <a:pt x="12828" y="6665"/>
                    </a:lnTo>
                    <a:lnTo>
                      <a:pt x="12803" y="6988"/>
                    </a:lnTo>
                    <a:lnTo>
                      <a:pt x="12762" y="7305"/>
                    </a:lnTo>
                    <a:lnTo>
                      <a:pt x="12706" y="7617"/>
                    </a:lnTo>
                    <a:lnTo>
                      <a:pt x="12634" y="7924"/>
                    </a:lnTo>
                    <a:lnTo>
                      <a:pt x="12547" y="8225"/>
                    </a:lnTo>
                    <a:lnTo>
                      <a:pt x="12446" y="8519"/>
                    </a:lnTo>
                    <a:lnTo>
                      <a:pt x="12331" y="8806"/>
                    </a:lnTo>
                    <a:lnTo>
                      <a:pt x="12203" y="9088"/>
                    </a:lnTo>
                    <a:lnTo>
                      <a:pt x="12061" y="9361"/>
                    </a:lnTo>
                    <a:lnTo>
                      <a:pt x="11907" y="9626"/>
                    </a:lnTo>
                    <a:lnTo>
                      <a:pt x="11740" y="9884"/>
                    </a:lnTo>
                    <a:lnTo>
                      <a:pt x="11561" y="10133"/>
                    </a:lnTo>
                    <a:lnTo>
                      <a:pt x="11370" y="10372"/>
                    </a:lnTo>
                    <a:lnTo>
                      <a:pt x="11169" y="10602"/>
                    </a:lnTo>
                    <a:lnTo>
                      <a:pt x="10957" y="10822"/>
                    </a:lnTo>
                    <a:lnTo>
                      <a:pt x="10733" y="11032"/>
                    </a:lnTo>
                    <a:lnTo>
                      <a:pt x="10501" y="11231"/>
                    </a:lnTo>
                    <a:lnTo>
                      <a:pt x="10258" y="11420"/>
                    </a:lnTo>
                    <a:lnTo>
                      <a:pt x="10007" y="11596"/>
                    </a:lnTo>
                    <a:lnTo>
                      <a:pt x="9746" y="11762"/>
                    </a:lnTo>
                    <a:lnTo>
                      <a:pt x="9477" y="11914"/>
                    </a:lnTo>
                    <a:lnTo>
                      <a:pt x="9201" y="12054"/>
                    </a:lnTo>
                    <a:lnTo>
                      <a:pt x="8916" y="12181"/>
                    </a:lnTo>
                    <a:lnTo>
                      <a:pt x="8625" y="12294"/>
                    </a:lnTo>
                    <a:lnTo>
                      <a:pt x="8326" y="12394"/>
                    </a:lnTo>
                    <a:lnTo>
                      <a:pt x="8022" y="12480"/>
                    </a:lnTo>
                    <a:lnTo>
                      <a:pt x="7711" y="12550"/>
                    </a:lnTo>
                    <a:lnTo>
                      <a:pt x="7396" y="12606"/>
                    </a:lnTo>
                    <a:lnTo>
                      <a:pt x="7075" y="12646"/>
                    </a:lnTo>
                    <a:lnTo>
                      <a:pt x="6748" y="12671"/>
                    </a:lnTo>
                    <a:lnTo>
                      <a:pt x="6418" y="12679"/>
                    </a:lnTo>
                    <a:lnTo>
                      <a:pt x="6088" y="12671"/>
                    </a:lnTo>
                    <a:lnTo>
                      <a:pt x="5762" y="12646"/>
                    </a:lnTo>
                    <a:lnTo>
                      <a:pt x="5441" y="12606"/>
                    </a:lnTo>
                    <a:lnTo>
                      <a:pt x="5125" y="12550"/>
                    </a:lnTo>
                    <a:lnTo>
                      <a:pt x="4815" y="12480"/>
                    </a:lnTo>
                    <a:lnTo>
                      <a:pt x="4510" y="12394"/>
                    </a:lnTo>
                    <a:lnTo>
                      <a:pt x="4212" y="12294"/>
                    </a:lnTo>
                    <a:lnTo>
                      <a:pt x="3920" y="12181"/>
                    </a:lnTo>
                    <a:lnTo>
                      <a:pt x="3636" y="12054"/>
                    </a:lnTo>
                    <a:lnTo>
                      <a:pt x="3359" y="11914"/>
                    </a:lnTo>
                    <a:lnTo>
                      <a:pt x="3090" y="11762"/>
                    </a:lnTo>
                    <a:lnTo>
                      <a:pt x="2830" y="11596"/>
                    </a:lnTo>
                    <a:lnTo>
                      <a:pt x="2579" y="11420"/>
                    </a:lnTo>
                    <a:lnTo>
                      <a:pt x="2336" y="11231"/>
                    </a:lnTo>
                    <a:lnTo>
                      <a:pt x="2103" y="11032"/>
                    </a:lnTo>
                    <a:lnTo>
                      <a:pt x="1880" y="10822"/>
                    </a:lnTo>
                    <a:lnTo>
                      <a:pt x="1668" y="10602"/>
                    </a:lnTo>
                    <a:lnTo>
                      <a:pt x="1466" y="10372"/>
                    </a:lnTo>
                    <a:lnTo>
                      <a:pt x="1276" y="10133"/>
                    </a:lnTo>
                    <a:lnTo>
                      <a:pt x="1096" y="9884"/>
                    </a:lnTo>
                    <a:lnTo>
                      <a:pt x="930" y="9626"/>
                    </a:lnTo>
                    <a:lnTo>
                      <a:pt x="775" y="9361"/>
                    </a:lnTo>
                    <a:lnTo>
                      <a:pt x="633" y="9088"/>
                    </a:lnTo>
                    <a:lnTo>
                      <a:pt x="505" y="8806"/>
                    </a:lnTo>
                    <a:lnTo>
                      <a:pt x="390" y="8519"/>
                    </a:lnTo>
                    <a:lnTo>
                      <a:pt x="289" y="8225"/>
                    </a:lnTo>
                    <a:lnTo>
                      <a:pt x="203" y="7924"/>
                    </a:lnTo>
                    <a:lnTo>
                      <a:pt x="131" y="7617"/>
                    </a:lnTo>
                    <a:lnTo>
                      <a:pt x="74" y="7305"/>
                    </a:lnTo>
                    <a:lnTo>
                      <a:pt x="33" y="6988"/>
                    </a:lnTo>
                    <a:lnTo>
                      <a:pt x="9" y="6665"/>
                    </a:lnTo>
                    <a:lnTo>
                      <a:pt x="0" y="6340"/>
                    </a:lnTo>
                    <a:lnTo>
                      <a:pt x="9" y="6014"/>
                    </a:lnTo>
                    <a:lnTo>
                      <a:pt x="33" y="5691"/>
                    </a:lnTo>
                    <a:lnTo>
                      <a:pt x="74" y="5374"/>
                    </a:lnTo>
                    <a:lnTo>
                      <a:pt x="131" y="5062"/>
                    </a:lnTo>
                    <a:lnTo>
                      <a:pt x="203" y="4755"/>
                    </a:lnTo>
                    <a:lnTo>
                      <a:pt x="289" y="4454"/>
                    </a:lnTo>
                    <a:lnTo>
                      <a:pt x="390" y="4160"/>
                    </a:lnTo>
                    <a:lnTo>
                      <a:pt x="505" y="3873"/>
                    </a:lnTo>
                    <a:lnTo>
                      <a:pt x="633" y="3591"/>
                    </a:lnTo>
                    <a:lnTo>
                      <a:pt x="775" y="3318"/>
                    </a:lnTo>
                    <a:lnTo>
                      <a:pt x="930" y="3053"/>
                    </a:lnTo>
                    <a:lnTo>
                      <a:pt x="1096" y="2795"/>
                    </a:lnTo>
                    <a:lnTo>
                      <a:pt x="1276" y="2547"/>
                    </a:lnTo>
                    <a:lnTo>
                      <a:pt x="1466" y="2307"/>
                    </a:lnTo>
                    <a:lnTo>
                      <a:pt x="1668" y="2077"/>
                    </a:lnTo>
                    <a:lnTo>
                      <a:pt x="1880" y="1857"/>
                    </a:lnTo>
                    <a:lnTo>
                      <a:pt x="2103" y="1647"/>
                    </a:lnTo>
                    <a:lnTo>
                      <a:pt x="2336" y="1448"/>
                    </a:lnTo>
                    <a:lnTo>
                      <a:pt x="2579" y="1259"/>
                    </a:lnTo>
                    <a:lnTo>
                      <a:pt x="2830" y="1083"/>
                    </a:lnTo>
                    <a:lnTo>
                      <a:pt x="3090" y="918"/>
                    </a:lnTo>
                    <a:lnTo>
                      <a:pt x="3359" y="765"/>
                    </a:lnTo>
                    <a:lnTo>
                      <a:pt x="3636" y="625"/>
                    </a:lnTo>
                    <a:lnTo>
                      <a:pt x="3920" y="498"/>
                    </a:lnTo>
                    <a:lnTo>
                      <a:pt x="4212" y="385"/>
                    </a:lnTo>
                    <a:lnTo>
                      <a:pt x="4510" y="285"/>
                    </a:lnTo>
                    <a:lnTo>
                      <a:pt x="4815" y="199"/>
                    </a:lnTo>
                    <a:lnTo>
                      <a:pt x="5125" y="129"/>
                    </a:lnTo>
                    <a:lnTo>
                      <a:pt x="5441" y="73"/>
                    </a:lnTo>
                    <a:lnTo>
                      <a:pt x="5762" y="33"/>
                    </a:lnTo>
                    <a:lnTo>
                      <a:pt x="6088" y="9"/>
                    </a:lnTo>
                    <a:lnTo>
                      <a:pt x="6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1520" y="30632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2510" h="2374">
                    <a:moveTo>
                      <a:pt x="0" y="0"/>
                    </a:moveTo>
                    <a:lnTo>
                      <a:pt x="2510" y="2374"/>
                    </a:lnTo>
                    <a:lnTo>
                      <a:pt x="2412" y="2323"/>
                    </a:lnTo>
                    <a:lnTo>
                      <a:pt x="2317" y="2268"/>
                    </a:lnTo>
                    <a:lnTo>
                      <a:pt x="2221" y="2214"/>
                    </a:lnTo>
                    <a:lnTo>
                      <a:pt x="2127" y="2157"/>
                    </a:lnTo>
                    <a:lnTo>
                      <a:pt x="2033" y="2099"/>
                    </a:lnTo>
                    <a:lnTo>
                      <a:pt x="1941" y="2039"/>
                    </a:lnTo>
                    <a:lnTo>
                      <a:pt x="1851" y="1978"/>
                    </a:lnTo>
                    <a:lnTo>
                      <a:pt x="1761" y="1914"/>
                    </a:lnTo>
                    <a:lnTo>
                      <a:pt x="1672" y="1851"/>
                    </a:lnTo>
                    <a:lnTo>
                      <a:pt x="1585" y="1784"/>
                    </a:lnTo>
                    <a:lnTo>
                      <a:pt x="1499" y="1718"/>
                    </a:lnTo>
                    <a:lnTo>
                      <a:pt x="1414" y="1648"/>
                    </a:lnTo>
                    <a:lnTo>
                      <a:pt x="1330" y="1579"/>
                    </a:lnTo>
                    <a:lnTo>
                      <a:pt x="1248" y="1507"/>
                    </a:lnTo>
                    <a:lnTo>
                      <a:pt x="1167" y="1434"/>
                    </a:lnTo>
                    <a:lnTo>
                      <a:pt x="1086" y="1360"/>
                    </a:lnTo>
                    <a:lnTo>
                      <a:pt x="1008" y="1284"/>
                    </a:lnTo>
                    <a:lnTo>
                      <a:pt x="931" y="1206"/>
                    </a:lnTo>
                    <a:lnTo>
                      <a:pt x="855" y="1129"/>
                    </a:lnTo>
                    <a:lnTo>
                      <a:pt x="781" y="1049"/>
                    </a:lnTo>
                    <a:lnTo>
                      <a:pt x="707" y="968"/>
                    </a:lnTo>
                    <a:lnTo>
                      <a:pt x="635" y="886"/>
                    </a:lnTo>
                    <a:lnTo>
                      <a:pt x="565" y="803"/>
                    </a:lnTo>
                    <a:lnTo>
                      <a:pt x="496" y="718"/>
                    </a:lnTo>
                    <a:lnTo>
                      <a:pt x="429" y="633"/>
                    </a:lnTo>
                    <a:lnTo>
                      <a:pt x="363" y="546"/>
                    </a:lnTo>
                    <a:lnTo>
                      <a:pt x="299" y="457"/>
                    </a:lnTo>
                    <a:lnTo>
                      <a:pt x="236" y="368"/>
                    </a:lnTo>
                    <a:lnTo>
                      <a:pt x="174" y="278"/>
                    </a:lnTo>
                    <a:lnTo>
                      <a:pt x="115" y="186"/>
                    </a:lnTo>
                    <a:lnTo>
                      <a:pt x="5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4680" y="3047760"/>
                <a:ext cx="64440" cy="61200"/>
              </a:xfrm>
              <a:custGeom>
                <a:avLst/>
                <a:gdLst/>
                <a:ahLst/>
                <a:rect l="l" t="t" r="r" b="b"/>
                <a:pathLst>
                  <a:path w="3886" h="3676">
                    <a:moveTo>
                      <a:pt x="0" y="0"/>
                    </a:moveTo>
                    <a:lnTo>
                      <a:pt x="3886" y="3676"/>
                    </a:lnTo>
                    <a:lnTo>
                      <a:pt x="3720" y="3618"/>
                    </a:lnTo>
                    <a:lnTo>
                      <a:pt x="3555" y="3557"/>
                    </a:lnTo>
                    <a:lnTo>
                      <a:pt x="3394" y="3490"/>
                    </a:lnTo>
                    <a:lnTo>
                      <a:pt x="3234" y="3420"/>
                    </a:lnTo>
                    <a:lnTo>
                      <a:pt x="3077" y="3345"/>
                    </a:lnTo>
                    <a:lnTo>
                      <a:pt x="2922" y="3265"/>
                    </a:lnTo>
                    <a:lnTo>
                      <a:pt x="2770" y="3183"/>
                    </a:lnTo>
                    <a:lnTo>
                      <a:pt x="2620" y="3096"/>
                    </a:lnTo>
                    <a:lnTo>
                      <a:pt x="2473" y="3004"/>
                    </a:lnTo>
                    <a:lnTo>
                      <a:pt x="2329" y="2909"/>
                    </a:lnTo>
                    <a:lnTo>
                      <a:pt x="2188" y="2811"/>
                    </a:lnTo>
                    <a:lnTo>
                      <a:pt x="2050" y="2708"/>
                    </a:lnTo>
                    <a:lnTo>
                      <a:pt x="1914" y="2604"/>
                    </a:lnTo>
                    <a:lnTo>
                      <a:pt x="1781" y="2494"/>
                    </a:lnTo>
                    <a:lnTo>
                      <a:pt x="1652" y="2381"/>
                    </a:lnTo>
                    <a:lnTo>
                      <a:pt x="1526" y="2265"/>
                    </a:lnTo>
                    <a:lnTo>
                      <a:pt x="1403" y="2145"/>
                    </a:lnTo>
                    <a:lnTo>
                      <a:pt x="1284" y="2022"/>
                    </a:lnTo>
                    <a:lnTo>
                      <a:pt x="1168" y="1896"/>
                    </a:lnTo>
                    <a:lnTo>
                      <a:pt x="1055" y="1766"/>
                    </a:lnTo>
                    <a:lnTo>
                      <a:pt x="946" y="1634"/>
                    </a:lnTo>
                    <a:lnTo>
                      <a:pt x="840" y="1499"/>
                    </a:lnTo>
                    <a:lnTo>
                      <a:pt x="739" y="1361"/>
                    </a:lnTo>
                    <a:lnTo>
                      <a:pt x="641" y="1221"/>
                    </a:lnTo>
                    <a:lnTo>
                      <a:pt x="546" y="1077"/>
                    </a:lnTo>
                    <a:lnTo>
                      <a:pt x="456" y="930"/>
                    </a:lnTo>
                    <a:lnTo>
                      <a:pt x="369" y="782"/>
                    </a:lnTo>
                    <a:lnTo>
                      <a:pt x="288" y="631"/>
                    </a:lnTo>
                    <a:lnTo>
                      <a:pt x="209" y="477"/>
                    </a:lnTo>
                    <a:lnTo>
                      <a:pt x="135" y="320"/>
                    </a:lnTo>
                    <a:lnTo>
                      <a:pt x="66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20720" y="3036240"/>
                <a:ext cx="80640" cy="75600"/>
              </a:xfrm>
              <a:custGeom>
                <a:avLst/>
                <a:gdLst/>
                <a:ahLst/>
                <a:rect l="l" t="t" r="r" b="b"/>
                <a:pathLst>
                  <a:path w="4831" h="4569">
                    <a:moveTo>
                      <a:pt x="3177" y="3981"/>
                    </a:moveTo>
                    <a:lnTo>
                      <a:pt x="667" y="1607"/>
                    </a:lnTo>
                    <a:lnTo>
                      <a:pt x="613" y="1513"/>
                    </a:lnTo>
                    <a:lnTo>
                      <a:pt x="560" y="1419"/>
                    </a:lnTo>
                    <a:lnTo>
                      <a:pt x="509" y="1324"/>
                    </a:lnTo>
                    <a:lnTo>
                      <a:pt x="459" y="1227"/>
                    </a:lnTo>
                    <a:lnTo>
                      <a:pt x="412" y="1129"/>
                    </a:lnTo>
                    <a:lnTo>
                      <a:pt x="365" y="1031"/>
                    </a:lnTo>
                    <a:lnTo>
                      <a:pt x="343" y="982"/>
                    </a:lnTo>
                    <a:lnTo>
                      <a:pt x="321" y="931"/>
                    </a:lnTo>
                    <a:lnTo>
                      <a:pt x="300" y="882"/>
                    </a:lnTo>
                    <a:lnTo>
                      <a:pt x="279" y="832"/>
                    </a:lnTo>
                    <a:lnTo>
                      <a:pt x="237" y="731"/>
                    </a:lnTo>
                    <a:lnTo>
                      <a:pt x="198" y="629"/>
                    </a:lnTo>
                    <a:lnTo>
                      <a:pt x="180" y="577"/>
                    </a:lnTo>
                    <a:lnTo>
                      <a:pt x="161" y="526"/>
                    </a:lnTo>
                    <a:lnTo>
                      <a:pt x="143" y="475"/>
                    </a:lnTo>
                    <a:lnTo>
                      <a:pt x="125" y="422"/>
                    </a:lnTo>
                    <a:lnTo>
                      <a:pt x="108" y="370"/>
                    </a:lnTo>
                    <a:lnTo>
                      <a:pt x="91" y="318"/>
                    </a:lnTo>
                    <a:lnTo>
                      <a:pt x="75" y="266"/>
                    </a:lnTo>
                    <a:lnTo>
                      <a:pt x="59" y="212"/>
                    </a:lnTo>
                    <a:lnTo>
                      <a:pt x="44" y="160"/>
                    </a:lnTo>
                    <a:lnTo>
                      <a:pt x="29" y="106"/>
                    </a:lnTo>
                    <a:lnTo>
                      <a:pt x="14" y="53"/>
                    </a:lnTo>
                    <a:lnTo>
                      <a:pt x="0" y="0"/>
                    </a:lnTo>
                    <a:lnTo>
                      <a:pt x="4831" y="4569"/>
                    </a:lnTo>
                    <a:lnTo>
                      <a:pt x="4776" y="4557"/>
                    </a:lnTo>
                    <a:lnTo>
                      <a:pt x="4721" y="4546"/>
                    </a:lnTo>
                    <a:lnTo>
                      <a:pt x="4667" y="4533"/>
                    </a:lnTo>
                    <a:lnTo>
                      <a:pt x="4612" y="4520"/>
                    </a:lnTo>
                    <a:lnTo>
                      <a:pt x="4559" y="4507"/>
                    </a:lnTo>
                    <a:lnTo>
                      <a:pt x="4505" y="4494"/>
                    </a:lnTo>
                    <a:lnTo>
                      <a:pt x="4451" y="4479"/>
                    </a:lnTo>
                    <a:lnTo>
                      <a:pt x="4398" y="4464"/>
                    </a:lnTo>
                    <a:lnTo>
                      <a:pt x="4292" y="4433"/>
                    </a:lnTo>
                    <a:lnTo>
                      <a:pt x="4186" y="4401"/>
                    </a:lnTo>
                    <a:lnTo>
                      <a:pt x="4081" y="4367"/>
                    </a:lnTo>
                    <a:lnTo>
                      <a:pt x="3977" y="4330"/>
                    </a:lnTo>
                    <a:lnTo>
                      <a:pt x="3926" y="4312"/>
                    </a:lnTo>
                    <a:lnTo>
                      <a:pt x="3874" y="4293"/>
                    </a:lnTo>
                    <a:lnTo>
                      <a:pt x="3823" y="4274"/>
                    </a:lnTo>
                    <a:lnTo>
                      <a:pt x="3771" y="4254"/>
                    </a:lnTo>
                    <a:lnTo>
                      <a:pt x="3670" y="4212"/>
                    </a:lnTo>
                    <a:lnTo>
                      <a:pt x="3570" y="4169"/>
                    </a:lnTo>
                    <a:lnTo>
                      <a:pt x="3471" y="4125"/>
                    </a:lnTo>
                    <a:lnTo>
                      <a:pt x="3372" y="4078"/>
                    </a:lnTo>
                    <a:lnTo>
                      <a:pt x="3274" y="4031"/>
                    </a:lnTo>
                    <a:lnTo>
                      <a:pt x="3177" y="3981"/>
                    </a:lnTo>
                    <a:close/>
                  </a:path>
                </a:pathLst>
              </a:custGeom>
              <a:solidFill>
                <a:srgbClr val="c00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8920" y="3026520"/>
                <a:ext cx="92160" cy="87120"/>
              </a:xfrm>
              <a:custGeom>
                <a:avLst/>
                <a:gdLst/>
                <a:ahLst/>
                <a:rect l="l" t="t" r="r" b="b"/>
                <a:pathLst>
                  <a:path w="5571" h="5269">
                    <a:moveTo>
                      <a:pt x="4235" y="4982"/>
                    </a:moveTo>
                    <a:lnTo>
                      <a:pt x="349" y="1306"/>
                    </a:lnTo>
                    <a:lnTo>
                      <a:pt x="320" y="1229"/>
                    </a:lnTo>
                    <a:lnTo>
                      <a:pt x="291" y="1150"/>
                    </a:lnTo>
                    <a:lnTo>
                      <a:pt x="264" y="1070"/>
                    </a:lnTo>
                    <a:lnTo>
                      <a:pt x="236" y="991"/>
                    </a:lnTo>
                    <a:lnTo>
                      <a:pt x="210" y="911"/>
                    </a:lnTo>
                    <a:lnTo>
                      <a:pt x="186" y="830"/>
                    </a:lnTo>
                    <a:lnTo>
                      <a:pt x="163" y="749"/>
                    </a:lnTo>
                    <a:lnTo>
                      <a:pt x="140" y="668"/>
                    </a:lnTo>
                    <a:lnTo>
                      <a:pt x="118" y="585"/>
                    </a:lnTo>
                    <a:lnTo>
                      <a:pt x="98" y="504"/>
                    </a:lnTo>
                    <a:lnTo>
                      <a:pt x="79" y="420"/>
                    </a:lnTo>
                    <a:lnTo>
                      <a:pt x="61" y="337"/>
                    </a:lnTo>
                    <a:lnTo>
                      <a:pt x="45" y="254"/>
                    </a:lnTo>
                    <a:lnTo>
                      <a:pt x="29" y="170"/>
                    </a:lnTo>
                    <a:lnTo>
                      <a:pt x="13" y="85"/>
                    </a:lnTo>
                    <a:lnTo>
                      <a:pt x="0" y="0"/>
                    </a:lnTo>
                    <a:lnTo>
                      <a:pt x="5571" y="5269"/>
                    </a:lnTo>
                    <a:lnTo>
                      <a:pt x="5484" y="5259"/>
                    </a:lnTo>
                    <a:lnTo>
                      <a:pt x="5398" y="5249"/>
                    </a:lnTo>
                    <a:lnTo>
                      <a:pt x="5312" y="5237"/>
                    </a:lnTo>
                    <a:lnTo>
                      <a:pt x="5227" y="5224"/>
                    </a:lnTo>
                    <a:lnTo>
                      <a:pt x="5142" y="5210"/>
                    </a:lnTo>
                    <a:lnTo>
                      <a:pt x="5057" y="5195"/>
                    </a:lnTo>
                    <a:lnTo>
                      <a:pt x="4974" y="5178"/>
                    </a:lnTo>
                    <a:lnTo>
                      <a:pt x="4890" y="5160"/>
                    </a:lnTo>
                    <a:lnTo>
                      <a:pt x="4806" y="5142"/>
                    </a:lnTo>
                    <a:lnTo>
                      <a:pt x="4723" y="5122"/>
                    </a:lnTo>
                    <a:lnTo>
                      <a:pt x="4641" y="5102"/>
                    </a:lnTo>
                    <a:lnTo>
                      <a:pt x="4559" y="5080"/>
                    </a:lnTo>
                    <a:lnTo>
                      <a:pt x="4477" y="5057"/>
                    </a:lnTo>
                    <a:lnTo>
                      <a:pt x="4396" y="5033"/>
                    </a:lnTo>
                    <a:lnTo>
                      <a:pt x="4315" y="5008"/>
                    </a:lnTo>
                    <a:lnTo>
                      <a:pt x="4235" y="4982"/>
                    </a:lnTo>
                    <a:close/>
                  </a:path>
                </a:pathLst>
              </a:custGeom>
              <a:solidFill>
                <a:srgbClr val="c10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7840" y="3017160"/>
                <a:ext cx="102240" cy="96840"/>
              </a:xfrm>
              <a:custGeom>
                <a:avLst/>
                <a:gdLst/>
                <a:ahLst/>
                <a:rect l="l" t="t" r="r" b="b"/>
                <a:pathLst>
                  <a:path w="6179" h="5844">
                    <a:moveTo>
                      <a:pt x="5011" y="5716"/>
                    </a:moveTo>
                    <a:lnTo>
                      <a:pt x="180" y="1147"/>
                    </a:lnTo>
                    <a:lnTo>
                      <a:pt x="163" y="1077"/>
                    </a:lnTo>
                    <a:lnTo>
                      <a:pt x="146" y="1007"/>
                    </a:lnTo>
                    <a:lnTo>
                      <a:pt x="131" y="937"/>
                    </a:lnTo>
                    <a:lnTo>
                      <a:pt x="116" y="867"/>
                    </a:lnTo>
                    <a:lnTo>
                      <a:pt x="102" y="796"/>
                    </a:lnTo>
                    <a:lnTo>
                      <a:pt x="88" y="725"/>
                    </a:lnTo>
                    <a:lnTo>
                      <a:pt x="75" y="653"/>
                    </a:lnTo>
                    <a:lnTo>
                      <a:pt x="63" y="582"/>
                    </a:lnTo>
                    <a:lnTo>
                      <a:pt x="53" y="510"/>
                    </a:lnTo>
                    <a:lnTo>
                      <a:pt x="43" y="438"/>
                    </a:lnTo>
                    <a:lnTo>
                      <a:pt x="33" y="365"/>
                    </a:lnTo>
                    <a:lnTo>
                      <a:pt x="25" y="292"/>
                    </a:lnTo>
                    <a:lnTo>
                      <a:pt x="17" y="220"/>
                    </a:lnTo>
                    <a:lnTo>
                      <a:pt x="11" y="147"/>
                    </a:lnTo>
                    <a:lnTo>
                      <a:pt x="5" y="73"/>
                    </a:lnTo>
                    <a:lnTo>
                      <a:pt x="0" y="0"/>
                    </a:lnTo>
                    <a:lnTo>
                      <a:pt x="6179" y="5844"/>
                    </a:lnTo>
                    <a:lnTo>
                      <a:pt x="6105" y="5843"/>
                    </a:lnTo>
                    <a:lnTo>
                      <a:pt x="6030" y="5840"/>
                    </a:lnTo>
                    <a:lnTo>
                      <a:pt x="5955" y="5836"/>
                    </a:lnTo>
                    <a:lnTo>
                      <a:pt x="5881" y="5832"/>
                    </a:lnTo>
                    <a:lnTo>
                      <a:pt x="5807" y="5827"/>
                    </a:lnTo>
                    <a:lnTo>
                      <a:pt x="5733" y="5821"/>
                    </a:lnTo>
                    <a:lnTo>
                      <a:pt x="5660" y="5814"/>
                    </a:lnTo>
                    <a:lnTo>
                      <a:pt x="5587" y="5807"/>
                    </a:lnTo>
                    <a:lnTo>
                      <a:pt x="5514" y="5798"/>
                    </a:lnTo>
                    <a:lnTo>
                      <a:pt x="5441" y="5789"/>
                    </a:lnTo>
                    <a:lnTo>
                      <a:pt x="5368" y="5779"/>
                    </a:lnTo>
                    <a:lnTo>
                      <a:pt x="5297" y="5768"/>
                    </a:lnTo>
                    <a:lnTo>
                      <a:pt x="5225" y="5756"/>
                    </a:lnTo>
                    <a:lnTo>
                      <a:pt x="5154" y="5744"/>
                    </a:lnTo>
                    <a:lnTo>
                      <a:pt x="5082" y="5730"/>
                    </a:lnTo>
                    <a:lnTo>
                      <a:pt x="5011" y="5716"/>
                    </a:lnTo>
                    <a:close/>
                  </a:path>
                </a:pathLst>
              </a:custGeom>
              <a:solidFill>
                <a:srgbClr val="c20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7480" y="3008880"/>
                <a:ext cx="111240" cy="1051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5640" y="6310"/>
                    </a:moveTo>
                    <a:lnTo>
                      <a:pt x="69" y="1041"/>
                    </a:lnTo>
                    <a:lnTo>
                      <a:pt x="61" y="984"/>
                    </a:lnTo>
                    <a:lnTo>
                      <a:pt x="53" y="927"/>
                    </a:lnTo>
                    <a:lnTo>
                      <a:pt x="46" y="870"/>
                    </a:lnTo>
                    <a:lnTo>
                      <a:pt x="39" y="812"/>
                    </a:lnTo>
                    <a:lnTo>
                      <a:pt x="33" y="755"/>
                    </a:lnTo>
                    <a:lnTo>
                      <a:pt x="27" y="696"/>
                    </a:lnTo>
                    <a:lnTo>
                      <a:pt x="22" y="639"/>
                    </a:lnTo>
                    <a:lnTo>
                      <a:pt x="17" y="580"/>
                    </a:lnTo>
                    <a:lnTo>
                      <a:pt x="13" y="522"/>
                    </a:lnTo>
                    <a:lnTo>
                      <a:pt x="10" y="463"/>
                    </a:lnTo>
                    <a:lnTo>
                      <a:pt x="6" y="405"/>
                    </a:lnTo>
                    <a:lnTo>
                      <a:pt x="4" y="347"/>
                    </a:lnTo>
                    <a:lnTo>
                      <a:pt x="2" y="288"/>
                    </a:lnTo>
                    <a:lnTo>
                      <a:pt x="1" y="229"/>
                    </a:lnTo>
                    <a:lnTo>
                      <a:pt x="0" y="170"/>
                    </a:lnTo>
                    <a:lnTo>
                      <a:pt x="0" y="111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1" y="28"/>
                    </a:lnTo>
                    <a:lnTo>
                      <a:pt x="1" y="0"/>
                    </a:lnTo>
                    <a:lnTo>
                      <a:pt x="6697" y="6333"/>
                    </a:lnTo>
                    <a:lnTo>
                      <a:pt x="6648" y="6336"/>
                    </a:lnTo>
                    <a:lnTo>
                      <a:pt x="6601" y="6338"/>
                    </a:lnTo>
                    <a:lnTo>
                      <a:pt x="6552" y="6340"/>
                    </a:lnTo>
                    <a:lnTo>
                      <a:pt x="6505" y="6342"/>
                    </a:lnTo>
                    <a:lnTo>
                      <a:pt x="6457" y="6343"/>
                    </a:lnTo>
                    <a:lnTo>
                      <a:pt x="6408" y="6344"/>
                    </a:lnTo>
                    <a:lnTo>
                      <a:pt x="6360" y="6345"/>
                    </a:lnTo>
                    <a:lnTo>
                      <a:pt x="6311" y="6345"/>
                    </a:lnTo>
                    <a:lnTo>
                      <a:pt x="6227" y="6344"/>
                    </a:lnTo>
                    <a:lnTo>
                      <a:pt x="6142" y="6343"/>
                    </a:lnTo>
                    <a:lnTo>
                      <a:pt x="6057" y="6340"/>
                    </a:lnTo>
                    <a:lnTo>
                      <a:pt x="5973" y="6336"/>
                    </a:lnTo>
                    <a:lnTo>
                      <a:pt x="5889" y="6331"/>
                    </a:lnTo>
                    <a:lnTo>
                      <a:pt x="5806" y="6325"/>
                    </a:lnTo>
                    <a:lnTo>
                      <a:pt x="5722" y="6318"/>
                    </a:lnTo>
                    <a:lnTo>
                      <a:pt x="5640" y="6310"/>
                    </a:lnTo>
                    <a:close/>
                  </a:path>
                </a:pathLst>
              </a:custGeom>
              <a:solidFill>
                <a:srgbClr val="c30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7480" y="3001320"/>
                <a:ext cx="119520" cy="11304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6191" y="6807"/>
                    </a:moveTo>
                    <a:lnTo>
                      <a:pt x="12" y="963"/>
                    </a:lnTo>
                    <a:lnTo>
                      <a:pt x="9" y="914"/>
                    </a:lnTo>
                    <a:lnTo>
                      <a:pt x="7" y="866"/>
                    </a:lnTo>
                    <a:lnTo>
                      <a:pt x="5" y="818"/>
                    </a:lnTo>
                    <a:lnTo>
                      <a:pt x="3" y="769"/>
                    </a:lnTo>
                    <a:lnTo>
                      <a:pt x="1" y="721"/>
                    </a:lnTo>
                    <a:lnTo>
                      <a:pt x="0" y="672"/>
                    </a:lnTo>
                    <a:lnTo>
                      <a:pt x="0" y="623"/>
                    </a:lnTo>
                    <a:lnTo>
                      <a:pt x="0" y="575"/>
                    </a:lnTo>
                    <a:lnTo>
                      <a:pt x="0" y="502"/>
                    </a:lnTo>
                    <a:lnTo>
                      <a:pt x="1" y="429"/>
                    </a:lnTo>
                    <a:lnTo>
                      <a:pt x="3" y="358"/>
                    </a:lnTo>
                    <a:lnTo>
                      <a:pt x="6" y="285"/>
                    </a:lnTo>
                    <a:lnTo>
                      <a:pt x="10" y="213"/>
                    </a:lnTo>
                    <a:lnTo>
                      <a:pt x="15" y="142"/>
                    </a:lnTo>
                    <a:lnTo>
                      <a:pt x="20" y="71"/>
                    </a:lnTo>
                    <a:lnTo>
                      <a:pt x="26" y="0"/>
                    </a:lnTo>
                    <a:lnTo>
                      <a:pt x="7165" y="6752"/>
                    </a:lnTo>
                    <a:lnTo>
                      <a:pt x="7112" y="6759"/>
                    </a:lnTo>
                    <a:lnTo>
                      <a:pt x="7060" y="6765"/>
                    </a:lnTo>
                    <a:lnTo>
                      <a:pt x="7007" y="6771"/>
                    </a:lnTo>
                    <a:lnTo>
                      <a:pt x="6955" y="6777"/>
                    </a:lnTo>
                    <a:lnTo>
                      <a:pt x="6901" y="6782"/>
                    </a:lnTo>
                    <a:lnTo>
                      <a:pt x="6849" y="6787"/>
                    </a:lnTo>
                    <a:lnTo>
                      <a:pt x="6795" y="6791"/>
                    </a:lnTo>
                    <a:lnTo>
                      <a:pt x="6742" y="6794"/>
                    </a:lnTo>
                    <a:lnTo>
                      <a:pt x="6688" y="6798"/>
                    </a:lnTo>
                    <a:lnTo>
                      <a:pt x="6635" y="6801"/>
                    </a:lnTo>
                    <a:lnTo>
                      <a:pt x="6582" y="6803"/>
                    </a:lnTo>
                    <a:lnTo>
                      <a:pt x="6527" y="6805"/>
                    </a:lnTo>
                    <a:lnTo>
                      <a:pt x="6474" y="6807"/>
                    </a:lnTo>
                    <a:lnTo>
                      <a:pt x="6419" y="6808"/>
                    </a:lnTo>
                    <a:lnTo>
                      <a:pt x="6366" y="6809"/>
                    </a:lnTo>
                    <a:lnTo>
                      <a:pt x="6311" y="6809"/>
                    </a:lnTo>
                    <a:lnTo>
                      <a:pt x="6281" y="6809"/>
                    </a:lnTo>
                    <a:lnTo>
                      <a:pt x="6251" y="6808"/>
                    </a:lnTo>
                    <a:lnTo>
                      <a:pt x="6222" y="6808"/>
                    </a:lnTo>
                    <a:lnTo>
                      <a:pt x="6191" y="6807"/>
                    </a:lnTo>
                    <a:close/>
                  </a:path>
                </a:pathLst>
              </a:custGeom>
              <a:solidFill>
                <a:srgbClr val="c40e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7480" y="2994120"/>
                <a:ext cx="126720" cy="119880"/>
              </a:xfrm>
              <a:custGeom>
                <a:avLst/>
                <a:gdLst/>
                <a:ahLst/>
                <a:rect l="l" t="t" r="r" b="b"/>
                <a:pathLst>
                  <a:path w="7602" h="7232">
                    <a:moveTo>
                      <a:pt x="6696" y="7232"/>
                    </a:moveTo>
                    <a:lnTo>
                      <a:pt x="0" y="899"/>
                    </a:lnTo>
                    <a:lnTo>
                      <a:pt x="1" y="841"/>
                    </a:lnTo>
                    <a:lnTo>
                      <a:pt x="3" y="785"/>
                    </a:lnTo>
                    <a:lnTo>
                      <a:pt x="5" y="727"/>
                    </a:lnTo>
                    <a:lnTo>
                      <a:pt x="8" y="671"/>
                    </a:lnTo>
                    <a:lnTo>
                      <a:pt x="11" y="614"/>
                    </a:lnTo>
                    <a:lnTo>
                      <a:pt x="15" y="558"/>
                    </a:lnTo>
                    <a:lnTo>
                      <a:pt x="20" y="501"/>
                    </a:lnTo>
                    <a:lnTo>
                      <a:pt x="24" y="445"/>
                    </a:lnTo>
                    <a:lnTo>
                      <a:pt x="30" y="388"/>
                    </a:lnTo>
                    <a:lnTo>
                      <a:pt x="36" y="333"/>
                    </a:lnTo>
                    <a:lnTo>
                      <a:pt x="42" y="276"/>
                    </a:lnTo>
                    <a:lnTo>
                      <a:pt x="49" y="221"/>
                    </a:lnTo>
                    <a:lnTo>
                      <a:pt x="56" y="165"/>
                    </a:lnTo>
                    <a:lnTo>
                      <a:pt x="64" y="110"/>
                    </a:lnTo>
                    <a:lnTo>
                      <a:pt x="72" y="54"/>
                    </a:lnTo>
                    <a:lnTo>
                      <a:pt x="81" y="0"/>
                    </a:lnTo>
                    <a:lnTo>
                      <a:pt x="7602" y="7113"/>
                    </a:lnTo>
                    <a:lnTo>
                      <a:pt x="7547" y="7124"/>
                    </a:lnTo>
                    <a:lnTo>
                      <a:pt x="7490" y="7136"/>
                    </a:lnTo>
                    <a:lnTo>
                      <a:pt x="7435" y="7146"/>
                    </a:lnTo>
                    <a:lnTo>
                      <a:pt x="7379" y="7155"/>
                    </a:lnTo>
                    <a:lnTo>
                      <a:pt x="7323" y="7164"/>
                    </a:lnTo>
                    <a:lnTo>
                      <a:pt x="7266" y="7173"/>
                    </a:lnTo>
                    <a:lnTo>
                      <a:pt x="7210" y="7181"/>
                    </a:lnTo>
                    <a:lnTo>
                      <a:pt x="7153" y="7189"/>
                    </a:lnTo>
                    <a:lnTo>
                      <a:pt x="7097" y="7196"/>
                    </a:lnTo>
                    <a:lnTo>
                      <a:pt x="7039" y="7203"/>
                    </a:lnTo>
                    <a:lnTo>
                      <a:pt x="6983" y="7209"/>
                    </a:lnTo>
                    <a:lnTo>
                      <a:pt x="6926" y="7214"/>
                    </a:lnTo>
                    <a:lnTo>
                      <a:pt x="6868" y="7220"/>
                    </a:lnTo>
                    <a:lnTo>
                      <a:pt x="6811" y="7224"/>
                    </a:lnTo>
                    <a:lnTo>
                      <a:pt x="6753" y="7228"/>
                    </a:lnTo>
                    <a:lnTo>
                      <a:pt x="6696" y="7232"/>
                    </a:lnTo>
                    <a:close/>
                  </a:path>
                </a:pathLst>
              </a:custGeom>
              <a:solidFill>
                <a:srgbClr val="c50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7840" y="2986920"/>
                <a:ext cx="132840" cy="126360"/>
              </a:xfrm>
              <a:custGeom>
                <a:avLst/>
                <a:gdLst/>
                <a:ahLst/>
                <a:rect l="l" t="t" r="r" b="b"/>
                <a:pathLst>
                  <a:path w="7989" h="7599">
                    <a:moveTo>
                      <a:pt x="7139" y="7599"/>
                    </a:moveTo>
                    <a:lnTo>
                      <a:pt x="0" y="847"/>
                    </a:lnTo>
                    <a:lnTo>
                      <a:pt x="6" y="793"/>
                    </a:lnTo>
                    <a:lnTo>
                      <a:pt x="11" y="739"/>
                    </a:lnTo>
                    <a:lnTo>
                      <a:pt x="17" y="685"/>
                    </a:lnTo>
                    <a:lnTo>
                      <a:pt x="24" y="632"/>
                    </a:lnTo>
                    <a:lnTo>
                      <a:pt x="31" y="578"/>
                    </a:lnTo>
                    <a:lnTo>
                      <a:pt x="38" y="525"/>
                    </a:lnTo>
                    <a:lnTo>
                      <a:pt x="46" y="472"/>
                    </a:lnTo>
                    <a:lnTo>
                      <a:pt x="55" y="419"/>
                    </a:lnTo>
                    <a:lnTo>
                      <a:pt x="63" y="367"/>
                    </a:lnTo>
                    <a:lnTo>
                      <a:pt x="74" y="313"/>
                    </a:lnTo>
                    <a:lnTo>
                      <a:pt x="83" y="261"/>
                    </a:lnTo>
                    <a:lnTo>
                      <a:pt x="93" y="208"/>
                    </a:lnTo>
                    <a:lnTo>
                      <a:pt x="104" y="157"/>
                    </a:lnTo>
                    <a:lnTo>
                      <a:pt x="115" y="104"/>
                    </a:lnTo>
                    <a:lnTo>
                      <a:pt x="126" y="53"/>
                    </a:lnTo>
                    <a:lnTo>
                      <a:pt x="138" y="0"/>
                    </a:lnTo>
                    <a:lnTo>
                      <a:pt x="7989" y="7426"/>
                    </a:lnTo>
                    <a:lnTo>
                      <a:pt x="7936" y="7441"/>
                    </a:lnTo>
                    <a:lnTo>
                      <a:pt x="7885" y="7455"/>
                    </a:lnTo>
                    <a:lnTo>
                      <a:pt x="7832" y="7468"/>
                    </a:lnTo>
                    <a:lnTo>
                      <a:pt x="7780" y="7480"/>
                    </a:lnTo>
                    <a:lnTo>
                      <a:pt x="7728" y="7493"/>
                    </a:lnTo>
                    <a:lnTo>
                      <a:pt x="7675" y="7504"/>
                    </a:lnTo>
                    <a:lnTo>
                      <a:pt x="7622" y="7516"/>
                    </a:lnTo>
                    <a:lnTo>
                      <a:pt x="7569" y="7527"/>
                    </a:lnTo>
                    <a:lnTo>
                      <a:pt x="7516" y="7537"/>
                    </a:lnTo>
                    <a:lnTo>
                      <a:pt x="7462" y="7548"/>
                    </a:lnTo>
                    <a:lnTo>
                      <a:pt x="7409" y="7558"/>
                    </a:lnTo>
                    <a:lnTo>
                      <a:pt x="7355" y="7567"/>
                    </a:lnTo>
                    <a:lnTo>
                      <a:pt x="7301" y="7576"/>
                    </a:lnTo>
                    <a:lnTo>
                      <a:pt x="7247" y="7584"/>
                    </a:lnTo>
                    <a:lnTo>
                      <a:pt x="7193" y="7592"/>
                    </a:lnTo>
                    <a:lnTo>
                      <a:pt x="7139" y="7599"/>
                    </a:lnTo>
                    <a:close/>
                  </a:path>
                </a:pathLst>
              </a:custGeom>
              <a:solidFill>
                <a:srgbClr val="c50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8920" y="2980800"/>
                <a:ext cx="138240" cy="131040"/>
              </a:xfrm>
              <a:custGeom>
                <a:avLst/>
                <a:gdLst/>
                <a:ahLst/>
                <a:rect l="l" t="t" r="r" b="b"/>
                <a:pathLst>
                  <a:path w="8320" h="7913">
                    <a:moveTo>
                      <a:pt x="7521" y="7913"/>
                    </a:moveTo>
                    <a:lnTo>
                      <a:pt x="0" y="800"/>
                    </a:lnTo>
                    <a:lnTo>
                      <a:pt x="8" y="748"/>
                    </a:lnTo>
                    <a:lnTo>
                      <a:pt x="18" y="697"/>
                    </a:lnTo>
                    <a:lnTo>
                      <a:pt x="28" y="647"/>
                    </a:lnTo>
                    <a:lnTo>
                      <a:pt x="38" y="596"/>
                    </a:lnTo>
                    <a:lnTo>
                      <a:pt x="48" y="546"/>
                    </a:lnTo>
                    <a:lnTo>
                      <a:pt x="58" y="495"/>
                    </a:lnTo>
                    <a:lnTo>
                      <a:pt x="70" y="445"/>
                    </a:lnTo>
                    <a:lnTo>
                      <a:pt x="81" y="395"/>
                    </a:lnTo>
                    <a:lnTo>
                      <a:pt x="93" y="345"/>
                    </a:lnTo>
                    <a:lnTo>
                      <a:pt x="105" y="296"/>
                    </a:lnTo>
                    <a:lnTo>
                      <a:pt x="118" y="246"/>
                    </a:lnTo>
                    <a:lnTo>
                      <a:pt x="132" y="197"/>
                    </a:lnTo>
                    <a:lnTo>
                      <a:pt x="145" y="147"/>
                    </a:lnTo>
                    <a:lnTo>
                      <a:pt x="159" y="98"/>
                    </a:lnTo>
                    <a:lnTo>
                      <a:pt x="173" y="50"/>
                    </a:lnTo>
                    <a:lnTo>
                      <a:pt x="188" y="0"/>
                    </a:lnTo>
                    <a:lnTo>
                      <a:pt x="8320" y="7693"/>
                    </a:lnTo>
                    <a:lnTo>
                      <a:pt x="8272" y="7711"/>
                    </a:lnTo>
                    <a:lnTo>
                      <a:pt x="8223" y="7727"/>
                    </a:lnTo>
                    <a:lnTo>
                      <a:pt x="8174" y="7743"/>
                    </a:lnTo>
                    <a:lnTo>
                      <a:pt x="8124" y="7758"/>
                    </a:lnTo>
                    <a:lnTo>
                      <a:pt x="8075" y="7773"/>
                    </a:lnTo>
                    <a:lnTo>
                      <a:pt x="8026" y="7788"/>
                    </a:lnTo>
                    <a:lnTo>
                      <a:pt x="7976" y="7802"/>
                    </a:lnTo>
                    <a:lnTo>
                      <a:pt x="7926" y="7816"/>
                    </a:lnTo>
                    <a:lnTo>
                      <a:pt x="7876" y="7830"/>
                    </a:lnTo>
                    <a:lnTo>
                      <a:pt x="7826" y="7843"/>
                    </a:lnTo>
                    <a:lnTo>
                      <a:pt x="7775" y="7856"/>
                    </a:lnTo>
                    <a:lnTo>
                      <a:pt x="7725" y="7868"/>
                    </a:lnTo>
                    <a:lnTo>
                      <a:pt x="7674" y="7880"/>
                    </a:lnTo>
                    <a:lnTo>
                      <a:pt x="7623" y="7891"/>
                    </a:lnTo>
                    <a:lnTo>
                      <a:pt x="7572" y="7903"/>
                    </a:lnTo>
                    <a:lnTo>
                      <a:pt x="7521" y="7913"/>
                    </a:lnTo>
                    <a:close/>
                  </a:path>
                </a:pathLst>
              </a:custGeom>
              <a:solidFill>
                <a:srgbClr val="c61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0000" y="2974320"/>
                <a:ext cx="143280" cy="13608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7851" y="8183"/>
                    </a:moveTo>
                    <a:lnTo>
                      <a:pt x="0" y="757"/>
                    </a:lnTo>
                    <a:lnTo>
                      <a:pt x="12" y="709"/>
                    </a:lnTo>
                    <a:lnTo>
                      <a:pt x="24" y="661"/>
                    </a:lnTo>
                    <a:lnTo>
                      <a:pt x="36" y="613"/>
                    </a:lnTo>
                    <a:lnTo>
                      <a:pt x="50" y="565"/>
                    </a:lnTo>
                    <a:lnTo>
                      <a:pt x="63" y="516"/>
                    </a:lnTo>
                    <a:lnTo>
                      <a:pt x="76" y="469"/>
                    </a:lnTo>
                    <a:lnTo>
                      <a:pt x="90" y="422"/>
                    </a:lnTo>
                    <a:lnTo>
                      <a:pt x="104" y="374"/>
                    </a:lnTo>
                    <a:lnTo>
                      <a:pt x="119" y="327"/>
                    </a:lnTo>
                    <a:lnTo>
                      <a:pt x="134" y="279"/>
                    </a:lnTo>
                    <a:lnTo>
                      <a:pt x="149" y="233"/>
                    </a:lnTo>
                    <a:lnTo>
                      <a:pt x="165" y="186"/>
                    </a:lnTo>
                    <a:lnTo>
                      <a:pt x="182" y="139"/>
                    </a:lnTo>
                    <a:lnTo>
                      <a:pt x="198" y="93"/>
                    </a:lnTo>
                    <a:lnTo>
                      <a:pt x="215" y="46"/>
                    </a:lnTo>
                    <a:lnTo>
                      <a:pt x="232" y="0"/>
                    </a:lnTo>
                    <a:lnTo>
                      <a:pt x="8606" y="7922"/>
                    </a:lnTo>
                    <a:lnTo>
                      <a:pt x="8561" y="7941"/>
                    </a:lnTo>
                    <a:lnTo>
                      <a:pt x="8514" y="7960"/>
                    </a:lnTo>
                    <a:lnTo>
                      <a:pt x="8468" y="7979"/>
                    </a:lnTo>
                    <a:lnTo>
                      <a:pt x="8422" y="7996"/>
                    </a:lnTo>
                    <a:lnTo>
                      <a:pt x="8375" y="8014"/>
                    </a:lnTo>
                    <a:lnTo>
                      <a:pt x="8328" y="8031"/>
                    </a:lnTo>
                    <a:lnTo>
                      <a:pt x="8281" y="8048"/>
                    </a:lnTo>
                    <a:lnTo>
                      <a:pt x="8234" y="8064"/>
                    </a:lnTo>
                    <a:lnTo>
                      <a:pt x="8187" y="8081"/>
                    </a:lnTo>
                    <a:lnTo>
                      <a:pt x="8139" y="8097"/>
                    </a:lnTo>
                    <a:lnTo>
                      <a:pt x="8091" y="8112"/>
                    </a:lnTo>
                    <a:lnTo>
                      <a:pt x="8043" y="8127"/>
                    </a:lnTo>
                    <a:lnTo>
                      <a:pt x="7995" y="8141"/>
                    </a:lnTo>
                    <a:lnTo>
                      <a:pt x="7948" y="8156"/>
                    </a:lnTo>
                    <a:lnTo>
                      <a:pt x="7899" y="8169"/>
                    </a:lnTo>
                    <a:lnTo>
                      <a:pt x="7851" y="8183"/>
                    </a:lnTo>
                    <a:close/>
                  </a:path>
                </a:pathLst>
              </a:custGeom>
              <a:solidFill>
                <a:srgbClr val="c71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2520" y="2968920"/>
                <a:ext cx="146880" cy="1396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132" y="8413"/>
                    </a:moveTo>
                    <a:lnTo>
                      <a:pt x="0" y="720"/>
                    </a:lnTo>
                    <a:lnTo>
                      <a:pt x="14" y="674"/>
                    </a:lnTo>
                    <a:lnTo>
                      <a:pt x="29" y="628"/>
                    </a:lnTo>
                    <a:lnTo>
                      <a:pt x="43" y="582"/>
                    </a:lnTo>
                    <a:lnTo>
                      <a:pt x="59" y="537"/>
                    </a:lnTo>
                    <a:lnTo>
                      <a:pt x="75" y="491"/>
                    </a:lnTo>
                    <a:lnTo>
                      <a:pt x="91" y="446"/>
                    </a:lnTo>
                    <a:lnTo>
                      <a:pt x="108" y="400"/>
                    </a:lnTo>
                    <a:lnTo>
                      <a:pt x="124" y="355"/>
                    </a:lnTo>
                    <a:lnTo>
                      <a:pt x="141" y="311"/>
                    </a:lnTo>
                    <a:lnTo>
                      <a:pt x="159" y="265"/>
                    </a:lnTo>
                    <a:lnTo>
                      <a:pt x="176" y="221"/>
                    </a:lnTo>
                    <a:lnTo>
                      <a:pt x="195" y="177"/>
                    </a:lnTo>
                    <a:lnTo>
                      <a:pt x="214" y="132"/>
                    </a:lnTo>
                    <a:lnTo>
                      <a:pt x="232" y="88"/>
                    </a:lnTo>
                    <a:lnTo>
                      <a:pt x="251" y="44"/>
                    </a:lnTo>
                    <a:lnTo>
                      <a:pt x="271" y="0"/>
                    </a:lnTo>
                    <a:lnTo>
                      <a:pt x="8849" y="8115"/>
                    </a:lnTo>
                    <a:lnTo>
                      <a:pt x="8806" y="8136"/>
                    </a:lnTo>
                    <a:lnTo>
                      <a:pt x="8761" y="8156"/>
                    </a:lnTo>
                    <a:lnTo>
                      <a:pt x="8718" y="8177"/>
                    </a:lnTo>
                    <a:lnTo>
                      <a:pt x="8674" y="8198"/>
                    </a:lnTo>
                    <a:lnTo>
                      <a:pt x="8630" y="8217"/>
                    </a:lnTo>
                    <a:lnTo>
                      <a:pt x="8586" y="8237"/>
                    </a:lnTo>
                    <a:lnTo>
                      <a:pt x="8540" y="8256"/>
                    </a:lnTo>
                    <a:lnTo>
                      <a:pt x="8496" y="8274"/>
                    </a:lnTo>
                    <a:lnTo>
                      <a:pt x="8452" y="8293"/>
                    </a:lnTo>
                    <a:lnTo>
                      <a:pt x="8406" y="8312"/>
                    </a:lnTo>
                    <a:lnTo>
                      <a:pt x="8361" y="8329"/>
                    </a:lnTo>
                    <a:lnTo>
                      <a:pt x="8316" y="8347"/>
                    </a:lnTo>
                    <a:lnTo>
                      <a:pt x="8270" y="8364"/>
                    </a:lnTo>
                    <a:lnTo>
                      <a:pt x="8225" y="8381"/>
                    </a:lnTo>
                    <a:lnTo>
                      <a:pt x="8178" y="8397"/>
                    </a:lnTo>
                    <a:lnTo>
                      <a:pt x="8132" y="8413"/>
                    </a:lnTo>
                    <a:close/>
                  </a:path>
                </a:pathLst>
              </a:custGeom>
              <a:solidFill>
                <a:srgbClr val="c81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3960" y="2963160"/>
                <a:ext cx="150840" cy="142920"/>
              </a:xfrm>
              <a:custGeom>
                <a:avLst/>
                <a:gdLst/>
                <a:ahLst/>
                <a:rect l="l" t="t" r="r" b="b"/>
                <a:pathLst>
                  <a:path w="9054" h="8607">
                    <a:moveTo>
                      <a:pt x="8374" y="8607"/>
                    </a:moveTo>
                    <a:lnTo>
                      <a:pt x="0" y="685"/>
                    </a:lnTo>
                    <a:lnTo>
                      <a:pt x="33" y="597"/>
                    </a:lnTo>
                    <a:lnTo>
                      <a:pt x="69" y="510"/>
                    </a:lnTo>
                    <a:lnTo>
                      <a:pt x="106" y="424"/>
                    </a:lnTo>
                    <a:lnTo>
                      <a:pt x="143" y="337"/>
                    </a:lnTo>
                    <a:lnTo>
                      <a:pt x="183" y="252"/>
                    </a:lnTo>
                    <a:lnTo>
                      <a:pt x="223" y="168"/>
                    </a:lnTo>
                    <a:lnTo>
                      <a:pt x="264" y="83"/>
                    </a:lnTo>
                    <a:lnTo>
                      <a:pt x="308" y="0"/>
                    </a:lnTo>
                    <a:lnTo>
                      <a:pt x="9054" y="8273"/>
                    </a:lnTo>
                    <a:lnTo>
                      <a:pt x="8971" y="8320"/>
                    </a:lnTo>
                    <a:lnTo>
                      <a:pt x="8889" y="8364"/>
                    </a:lnTo>
                    <a:lnTo>
                      <a:pt x="8805" y="8408"/>
                    </a:lnTo>
                    <a:lnTo>
                      <a:pt x="8720" y="8450"/>
                    </a:lnTo>
                    <a:lnTo>
                      <a:pt x="8634" y="8491"/>
                    </a:lnTo>
                    <a:lnTo>
                      <a:pt x="8549" y="8532"/>
                    </a:lnTo>
                    <a:lnTo>
                      <a:pt x="8462" y="8570"/>
                    </a:lnTo>
                    <a:lnTo>
                      <a:pt x="8374" y="8607"/>
                    </a:lnTo>
                    <a:close/>
                  </a:path>
                </a:pathLst>
              </a:custGeom>
              <a:solidFill>
                <a:srgbClr val="c913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6840" y="2957760"/>
                <a:ext cx="153000" cy="145800"/>
              </a:xfrm>
              <a:custGeom>
                <a:avLst/>
                <a:gdLst/>
                <a:ahLst/>
                <a:rect l="l" t="t" r="r" b="b"/>
                <a:pathLst>
                  <a:path w="9224" h="8768">
                    <a:moveTo>
                      <a:pt x="8578" y="8768"/>
                    </a:moveTo>
                    <a:lnTo>
                      <a:pt x="0" y="653"/>
                    </a:lnTo>
                    <a:lnTo>
                      <a:pt x="39" y="569"/>
                    </a:lnTo>
                    <a:lnTo>
                      <a:pt x="78" y="486"/>
                    </a:lnTo>
                    <a:lnTo>
                      <a:pt x="119" y="403"/>
                    </a:lnTo>
                    <a:lnTo>
                      <a:pt x="162" y="321"/>
                    </a:lnTo>
                    <a:lnTo>
                      <a:pt x="205" y="241"/>
                    </a:lnTo>
                    <a:lnTo>
                      <a:pt x="249" y="160"/>
                    </a:lnTo>
                    <a:lnTo>
                      <a:pt x="295" y="80"/>
                    </a:lnTo>
                    <a:lnTo>
                      <a:pt x="342" y="0"/>
                    </a:lnTo>
                    <a:lnTo>
                      <a:pt x="9224" y="8402"/>
                    </a:lnTo>
                    <a:lnTo>
                      <a:pt x="9145" y="8451"/>
                    </a:lnTo>
                    <a:lnTo>
                      <a:pt x="9066" y="8500"/>
                    </a:lnTo>
                    <a:lnTo>
                      <a:pt x="8987" y="8547"/>
                    </a:lnTo>
                    <a:lnTo>
                      <a:pt x="8907" y="8593"/>
                    </a:lnTo>
                    <a:lnTo>
                      <a:pt x="8825" y="8639"/>
                    </a:lnTo>
                    <a:lnTo>
                      <a:pt x="8744" y="8683"/>
                    </a:lnTo>
                    <a:lnTo>
                      <a:pt x="8661" y="8726"/>
                    </a:lnTo>
                    <a:lnTo>
                      <a:pt x="8578" y="8768"/>
                    </a:lnTo>
                    <a:close/>
                  </a:path>
                </a:pathLst>
              </a:custGeom>
              <a:solidFill>
                <a:srgbClr val="ca1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9360" y="2952720"/>
                <a:ext cx="155160" cy="147240"/>
              </a:xfrm>
              <a:custGeom>
                <a:avLst/>
                <a:gdLst/>
                <a:ahLst/>
                <a:rect l="l" t="t" r="r" b="b"/>
                <a:pathLst>
                  <a:path w="9359" h="8895">
                    <a:moveTo>
                      <a:pt x="8746" y="8895"/>
                    </a:moveTo>
                    <a:lnTo>
                      <a:pt x="0" y="622"/>
                    </a:lnTo>
                    <a:lnTo>
                      <a:pt x="42" y="542"/>
                    </a:lnTo>
                    <a:lnTo>
                      <a:pt x="86" y="462"/>
                    </a:lnTo>
                    <a:lnTo>
                      <a:pt x="132" y="383"/>
                    </a:lnTo>
                    <a:lnTo>
                      <a:pt x="178" y="304"/>
                    </a:lnTo>
                    <a:lnTo>
                      <a:pt x="225" y="228"/>
                    </a:lnTo>
                    <a:lnTo>
                      <a:pt x="274" y="151"/>
                    </a:lnTo>
                    <a:lnTo>
                      <a:pt x="323" y="75"/>
                    </a:lnTo>
                    <a:lnTo>
                      <a:pt x="374" y="0"/>
                    </a:lnTo>
                    <a:lnTo>
                      <a:pt x="9359" y="8499"/>
                    </a:lnTo>
                    <a:lnTo>
                      <a:pt x="9286" y="8553"/>
                    </a:lnTo>
                    <a:lnTo>
                      <a:pt x="9211" y="8605"/>
                    </a:lnTo>
                    <a:lnTo>
                      <a:pt x="9135" y="8656"/>
                    </a:lnTo>
                    <a:lnTo>
                      <a:pt x="9059" y="8706"/>
                    </a:lnTo>
                    <a:lnTo>
                      <a:pt x="8982" y="8755"/>
                    </a:lnTo>
                    <a:lnTo>
                      <a:pt x="8904" y="8804"/>
                    </a:lnTo>
                    <a:lnTo>
                      <a:pt x="8826" y="8850"/>
                    </a:lnTo>
                    <a:lnTo>
                      <a:pt x="8746" y="88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2240" y="2948040"/>
                <a:ext cx="157320" cy="149760"/>
              </a:xfrm>
              <a:custGeom>
                <a:avLst/>
                <a:gdLst/>
                <a:ahLst/>
                <a:rect l="l" t="t" r="r" b="b"/>
                <a:pathLst>
                  <a:path w="9464" h="8995">
                    <a:moveTo>
                      <a:pt x="8882" y="8995"/>
                    </a:moveTo>
                    <a:lnTo>
                      <a:pt x="0" y="593"/>
                    </a:lnTo>
                    <a:lnTo>
                      <a:pt x="47" y="517"/>
                    </a:lnTo>
                    <a:lnTo>
                      <a:pt x="95" y="441"/>
                    </a:lnTo>
                    <a:lnTo>
                      <a:pt x="144" y="366"/>
                    </a:lnTo>
                    <a:lnTo>
                      <a:pt x="194" y="291"/>
                    </a:lnTo>
                    <a:lnTo>
                      <a:pt x="245" y="217"/>
                    </a:lnTo>
                    <a:lnTo>
                      <a:pt x="298" y="145"/>
                    </a:lnTo>
                    <a:lnTo>
                      <a:pt x="351" y="72"/>
                    </a:lnTo>
                    <a:lnTo>
                      <a:pt x="406" y="0"/>
                    </a:lnTo>
                    <a:lnTo>
                      <a:pt x="9464" y="8569"/>
                    </a:lnTo>
                    <a:lnTo>
                      <a:pt x="9394" y="8626"/>
                    </a:lnTo>
                    <a:lnTo>
                      <a:pt x="9323" y="8681"/>
                    </a:lnTo>
                    <a:lnTo>
                      <a:pt x="9252" y="8737"/>
                    </a:lnTo>
                    <a:lnTo>
                      <a:pt x="9179" y="8790"/>
                    </a:lnTo>
                    <a:lnTo>
                      <a:pt x="9105" y="8843"/>
                    </a:lnTo>
                    <a:lnTo>
                      <a:pt x="9032" y="8894"/>
                    </a:lnTo>
                    <a:lnTo>
                      <a:pt x="8957" y="8945"/>
                    </a:lnTo>
                    <a:lnTo>
                      <a:pt x="8882" y="89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480" y="2943360"/>
                <a:ext cx="158400" cy="150120"/>
              </a:xfrm>
              <a:custGeom>
                <a:avLst/>
                <a:gdLst/>
                <a:ahLst/>
                <a:rect l="l" t="t" r="r" b="b"/>
                <a:pathLst>
                  <a:path w="9538" h="9064">
                    <a:moveTo>
                      <a:pt x="8985" y="9064"/>
                    </a:moveTo>
                    <a:lnTo>
                      <a:pt x="0" y="565"/>
                    </a:lnTo>
                    <a:lnTo>
                      <a:pt x="50" y="491"/>
                    </a:lnTo>
                    <a:lnTo>
                      <a:pt x="103" y="419"/>
                    </a:lnTo>
                    <a:lnTo>
                      <a:pt x="155" y="347"/>
                    </a:lnTo>
                    <a:lnTo>
                      <a:pt x="210" y="276"/>
                    </a:lnTo>
                    <a:lnTo>
                      <a:pt x="265" y="206"/>
                    </a:lnTo>
                    <a:lnTo>
                      <a:pt x="321" y="136"/>
                    </a:lnTo>
                    <a:lnTo>
                      <a:pt x="377" y="68"/>
                    </a:lnTo>
                    <a:lnTo>
                      <a:pt x="436" y="0"/>
                    </a:lnTo>
                    <a:lnTo>
                      <a:pt x="9538" y="8610"/>
                    </a:lnTo>
                    <a:lnTo>
                      <a:pt x="9471" y="8670"/>
                    </a:lnTo>
                    <a:lnTo>
                      <a:pt x="9405" y="8729"/>
                    </a:lnTo>
                    <a:lnTo>
                      <a:pt x="9336" y="8788"/>
                    </a:lnTo>
                    <a:lnTo>
                      <a:pt x="9268" y="8845"/>
                    </a:lnTo>
                    <a:lnTo>
                      <a:pt x="9198" y="8901"/>
                    </a:lnTo>
                    <a:lnTo>
                      <a:pt x="9128" y="8956"/>
                    </a:lnTo>
                    <a:lnTo>
                      <a:pt x="9057" y="9011"/>
                    </a:lnTo>
                    <a:lnTo>
                      <a:pt x="8985" y="9064"/>
                    </a:lnTo>
                    <a:close/>
                  </a:path>
                </a:pathLst>
              </a:custGeom>
              <a:solidFill>
                <a:srgbClr val="cc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9440" y="2939040"/>
                <a:ext cx="158760" cy="1512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058" y="9105"/>
                    </a:moveTo>
                    <a:lnTo>
                      <a:pt x="0" y="536"/>
                    </a:lnTo>
                    <a:lnTo>
                      <a:pt x="54" y="467"/>
                    </a:lnTo>
                    <a:lnTo>
                      <a:pt x="110" y="397"/>
                    </a:lnTo>
                    <a:lnTo>
                      <a:pt x="166" y="329"/>
                    </a:lnTo>
                    <a:lnTo>
                      <a:pt x="225" y="261"/>
                    </a:lnTo>
                    <a:lnTo>
                      <a:pt x="283" y="195"/>
                    </a:lnTo>
                    <a:lnTo>
                      <a:pt x="343" y="129"/>
                    </a:lnTo>
                    <a:lnTo>
                      <a:pt x="402" y="63"/>
                    </a:lnTo>
                    <a:lnTo>
                      <a:pt x="464" y="0"/>
                    </a:lnTo>
                    <a:lnTo>
                      <a:pt x="9581" y="8623"/>
                    </a:lnTo>
                    <a:lnTo>
                      <a:pt x="9518" y="8687"/>
                    </a:lnTo>
                    <a:lnTo>
                      <a:pt x="9455" y="8749"/>
                    </a:lnTo>
                    <a:lnTo>
                      <a:pt x="9391" y="8811"/>
                    </a:lnTo>
                    <a:lnTo>
                      <a:pt x="9326" y="8871"/>
                    </a:lnTo>
                    <a:lnTo>
                      <a:pt x="9260" y="8932"/>
                    </a:lnTo>
                    <a:lnTo>
                      <a:pt x="9194" y="8990"/>
                    </a:lnTo>
                    <a:lnTo>
                      <a:pt x="9126" y="9049"/>
                    </a:lnTo>
                    <a:lnTo>
                      <a:pt x="9058" y="9105"/>
                    </a:lnTo>
                    <a:close/>
                  </a:path>
                </a:pathLst>
              </a:custGeom>
              <a:solidFill>
                <a:srgbClr val="cd1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2680" y="2934720"/>
                <a:ext cx="159480" cy="151920"/>
              </a:xfrm>
              <a:custGeom>
                <a:avLst/>
                <a:gdLst/>
                <a:ahLst/>
                <a:rect l="l" t="t" r="r" b="b"/>
                <a:pathLst>
                  <a:path w="9595" h="9119">
                    <a:moveTo>
                      <a:pt x="9102" y="9119"/>
                    </a:moveTo>
                    <a:lnTo>
                      <a:pt x="0" y="509"/>
                    </a:lnTo>
                    <a:lnTo>
                      <a:pt x="58" y="443"/>
                    </a:lnTo>
                    <a:lnTo>
                      <a:pt x="118" y="377"/>
                    </a:lnTo>
                    <a:lnTo>
                      <a:pt x="178" y="311"/>
                    </a:lnTo>
                    <a:lnTo>
                      <a:pt x="240" y="248"/>
                    </a:lnTo>
                    <a:lnTo>
                      <a:pt x="301" y="184"/>
                    </a:lnTo>
                    <a:lnTo>
                      <a:pt x="365" y="122"/>
                    </a:lnTo>
                    <a:lnTo>
                      <a:pt x="428" y="60"/>
                    </a:lnTo>
                    <a:lnTo>
                      <a:pt x="494" y="0"/>
                    </a:lnTo>
                    <a:lnTo>
                      <a:pt x="9595" y="8610"/>
                    </a:lnTo>
                    <a:lnTo>
                      <a:pt x="9537" y="8676"/>
                    </a:lnTo>
                    <a:lnTo>
                      <a:pt x="9477" y="8742"/>
                    </a:lnTo>
                    <a:lnTo>
                      <a:pt x="9416" y="8808"/>
                    </a:lnTo>
                    <a:lnTo>
                      <a:pt x="9356" y="8871"/>
                    </a:lnTo>
                    <a:lnTo>
                      <a:pt x="9293" y="8935"/>
                    </a:lnTo>
                    <a:lnTo>
                      <a:pt x="9230" y="8997"/>
                    </a:lnTo>
                    <a:lnTo>
                      <a:pt x="9166" y="9059"/>
                    </a:lnTo>
                    <a:lnTo>
                      <a:pt x="9102" y="9119"/>
                    </a:lnTo>
                    <a:close/>
                  </a:path>
                </a:pathLst>
              </a:custGeom>
              <a:solidFill>
                <a:srgbClr val="ce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7000" y="2931120"/>
                <a:ext cx="159120" cy="1512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117" y="9105"/>
                    </a:moveTo>
                    <a:lnTo>
                      <a:pt x="0" y="482"/>
                    </a:lnTo>
                    <a:lnTo>
                      <a:pt x="62" y="418"/>
                    </a:lnTo>
                    <a:lnTo>
                      <a:pt x="126" y="356"/>
                    </a:lnTo>
                    <a:lnTo>
                      <a:pt x="189" y="294"/>
                    </a:lnTo>
                    <a:lnTo>
                      <a:pt x="255" y="234"/>
                    </a:lnTo>
                    <a:lnTo>
                      <a:pt x="320" y="173"/>
                    </a:lnTo>
                    <a:lnTo>
                      <a:pt x="387" y="115"/>
                    </a:lnTo>
                    <a:lnTo>
                      <a:pt x="454" y="57"/>
                    </a:lnTo>
                    <a:lnTo>
                      <a:pt x="523" y="0"/>
                    </a:lnTo>
                    <a:lnTo>
                      <a:pt x="9581" y="8569"/>
                    </a:lnTo>
                    <a:lnTo>
                      <a:pt x="9526" y="8638"/>
                    </a:lnTo>
                    <a:lnTo>
                      <a:pt x="9471" y="8708"/>
                    </a:lnTo>
                    <a:lnTo>
                      <a:pt x="9415" y="8776"/>
                    </a:lnTo>
                    <a:lnTo>
                      <a:pt x="9357" y="8844"/>
                    </a:lnTo>
                    <a:lnTo>
                      <a:pt x="9298" y="8910"/>
                    </a:lnTo>
                    <a:lnTo>
                      <a:pt x="9238" y="8976"/>
                    </a:lnTo>
                    <a:lnTo>
                      <a:pt x="9179" y="9042"/>
                    </a:lnTo>
                    <a:lnTo>
                      <a:pt x="9117" y="9105"/>
                    </a:lnTo>
                    <a:close/>
                  </a:path>
                </a:pathLst>
              </a:custGeom>
              <a:solidFill>
                <a:srgbClr val="cf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50960" y="2927520"/>
                <a:ext cx="158400" cy="150120"/>
              </a:xfrm>
              <a:custGeom>
                <a:avLst/>
                <a:gdLst/>
                <a:ahLst/>
                <a:rect l="l" t="t" r="r" b="b"/>
                <a:pathLst>
                  <a:path w="9537" h="9064">
                    <a:moveTo>
                      <a:pt x="9101" y="9064"/>
                    </a:moveTo>
                    <a:lnTo>
                      <a:pt x="0" y="454"/>
                    </a:lnTo>
                    <a:lnTo>
                      <a:pt x="65" y="394"/>
                    </a:lnTo>
                    <a:lnTo>
                      <a:pt x="132" y="335"/>
                    </a:lnTo>
                    <a:lnTo>
                      <a:pt x="200" y="276"/>
                    </a:lnTo>
                    <a:lnTo>
                      <a:pt x="269" y="220"/>
                    </a:lnTo>
                    <a:lnTo>
                      <a:pt x="339" y="163"/>
                    </a:lnTo>
                    <a:lnTo>
                      <a:pt x="408" y="108"/>
                    </a:lnTo>
                    <a:lnTo>
                      <a:pt x="480" y="53"/>
                    </a:lnTo>
                    <a:lnTo>
                      <a:pt x="551" y="0"/>
                    </a:lnTo>
                    <a:lnTo>
                      <a:pt x="9537" y="8499"/>
                    </a:lnTo>
                    <a:lnTo>
                      <a:pt x="9486" y="8573"/>
                    </a:lnTo>
                    <a:lnTo>
                      <a:pt x="9434" y="8645"/>
                    </a:lnTo>
                    <a:lnTo>
                      <a:pt x="9381" y="8717"/>
                    </a:lnTo>
                    <a:lnTo>
                      <a:pt x="9327" y="8789"/>
                    </a:lnTo>
                    <a:lnTo>
                      <a:pt x="9272" y="8858"/>
                    </a:lnTo>
                    <a:lnTo>
                      <a:pt x="9216" y="8928"/>
                    </a:lnTo>
                    <a:lnTo>
                      <a:pt x="9160" y="8996"/>
                    </a:lnTo>
                    <a:lnTo>
                      <a:pt x="9101" y="9064"/>
                    </a:lnTo>
                    <a:close/>
                  </a:path>
                </a:pathLst>
              </a:custGeom>
              <a:solidFill>
                <a:srgbClr val="d01a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55280" y="2923920"/>
                <a:ext cx="157320" cy="149760"/>
              </a:xfrm>
              <a:custGeom>
                <a:avLst/>
                <a:gdLst/>
                <a:ahLst/>
                <a:rect l="l" t="t" r="r" b="b"/>
                <a:pathLst>
                  <a:path w="9463" h="8995">
                    <a:moveTo>
                      <a:pt x="9058" y="8995"/>
                    </a:moveTo>
                    <a:lnTo>
                      <a:pt x="0" y="426"/>
                    </a:lnTo>
                    <a:lnTo>
                      <a:pt x="70" y="369"/>
                    </a:lnTo>
                    <a:lnTo>
                      <a:pt x="140" y="314"/>
                    </a:lnTo>
                    <a:lnTo>
                      <a:pt x="212" y="258"/>
                    </a:lnTo>
                    <a:lnTo>
                      <a:pt x="284" y="205"/>
                    </a:lnTo>
                    <a:lnTo>
                      <a:pt x="358" y="152"/>
                    </a:lnTo>
                    <a:lnTo>
                      <a:pt x="432" y="101"/>
                    </a:lnTo>
                    <a:lnTo>
                      <a:pt x="507" y="51"/>
                    </a:lnTo>
                    <a:lnTo>
                      <a:pt x="582" y="0"/>
                    </a:lnTo>
                    <a:lnTo>
                      <a:pt x="9463" y="8402"/>
                    </a:lnTo>
                    <a:lnTo>
                      <a:pt x="9417" y="8478"/>
                    </a:lnTo>
                    <a:lnTo>
                      <a:pt x="9369" y="8555"/>
                    </a:lnTo>
                    <a:lnTo>
                      <a:pt x="9319" y="8629"/>
                    </a:lnTo>
                    <a:lnTo>
                      <a:pt x="9270" y="8704"/>
                    </a:lnTo>
                    <a:lnTo>
                      <a:pt x="9218" y="8778"/>
                    </a:lnTo>
                    <a:lnTo>
                      <a:pt x="9166" y="8851"/>
                    </a:lnTo>
                    <a:lnTo>
                      <a:pt x="9112" y="8923"/>
                    </a:lnTo>
                    <a:lnTo>
                      <a:pt x="9058" y="8995"/>
                    </a:lnTo>
                    <a:close/>
                  </a:path>
                </a:pathLst>
              </a:custGeom>
              <a:solidFill>
                <a:srgbClr val="d01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0320" y="2921040"/>
                <a:ext cx="155880" cy="147600"/>
              </a:xfrm>
              <a:custGeom>
                <a:avLst/>
                <a:gdLst/>
                <a:ahLst/>
                <a:rect l="l" t="t" r="r" b="b"/>
                <a:pathLst>
                  <a:path w="9360" h="8895">
                    <a:moveTo>
                      <a:pt x="8986" y="8895"/>
                    </a:moveTo>
                    <a:lnTo>
                      <a:pt x="0" y="396"/>
                    </a:lnTo>
                    <a:lnTo>
                      <a:pt x="74" y="342"/>
                    </a:lnTo>
                    <a:lnTo>
                      <a:pt x="149" y="290"/>
                    </a:lnTo>
                    <a:lnTo>
                      <a:pt x="224" y="240"/>
                    </a:lnTo>
                    <a:lnTo>
                      <a:pt x="301" y="189"/>
                    </a:lnTo>
                    <a:lnTo>
                      <a:pt x="378" y="140"/>
                    </a:lnTo>
                    <a:lnTo>
                      <a:pt x="455" y="92"/>
                    </a:lnTo>
                    <a:lnTo>
                      <a:pt x="534" y="45"/>
                    </a:lnTo>
                    <a:lnTo>
                      <a:pt x="614" y="0"/>
                    </a:lnTo>
                    <a:lnTo>
                      <a:pt x="9360" y="8273"/>
                    </a:lnTo>
                    <a:lnTo>
                      <a:pt x="9318" y="8353"/>
                    </a:lnTo>
                    <a:lnTo>
                      <a:pt x="9273" y="8433"/>
                    </a:lnTo>
                    <a:lnTo>
                      <a:pt x="9228" y="8512"/>
                    </a:lnTo>
                    <a:lnTo>
                      <a:pt x="9182" y="8591"/>
                    </a:lnTo>
                    <a:lnTo>
                      <a:pt x="9135" y="8668"/>
                    </a:lnTo>
                    <a:lnTo>
                      <a:pt x="9087" y="8745"/>
                    </a:lnTo>
                    <a:lnTo>
                      <a:pt x="9036" y="8820"/>
                    </a:lnTo>
                    <a:lnTo>
                      <a:pt x="8986" y="8895"/>
                    </a:lnTo>
                    <a:close/>
                  </a:path>
                </a:pathLst>
              </a:custGeom>
              <a:solidFill>
                <a:srgbClr val="d11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5360" y="2917800"/>
                <a:ext cx="153720" cy="145800"/>
              </a:xfrm>
              <a:custGeom>
                <a:avLst/>
                <a:gdLst/>
                <a:ahLst/>
                <a:rect l="l" t="t" r="r" b="b"/>
                <a:pathLst>
                  <a:path w="9224" h="8767">
                    <a:moveTo>
                      <a:pt x="8881" y="8767"/>
                    </a:moveTo>
                    <a:lnTo>
                      <a:pt x="0" y="365"/>
                    </a:lnTo>
                    <a:lnTo>
                      <a:pt x="79" y="316"/>
                    </a:lnTo>
                    <a:lnTo>
                      <a:pt x="157" y="267"/>
                    </a:lnTo>
                    <a:lnTo>
                      <a:pt x="237" y="220"/>
                    </a:lnTo>
                    <a:lnTo>
                      <a:pt x="318" y="174"/>
                    </a:lnTo>
                    <a:lnTo>
                      <a:pt x="398" y="128"/>
                    </a:lnTo>
                    <a:lnTo>
                      <a:pt x="480" y="84"/>
                    </a:lnTo>
                    <a:lnTo>
                      <a:pt x="563" y="41"/>
                    </a:lnTo>
                    <a:lnTo>
                      <a:pt x="646" y="0"/>
                    </a:lnTo>
                    <a:lnTo>
                      <a:pt x="9224" y="8114"/>
                    </a:lnTo>
                    <a:lnTo>
                      <a:pt x="9185" y="8198"/>
                    </a:lnTo>
                    <a:lnTo>
                      <a:pt x="9146" y="8281"/>
                    </a:lnTo>
                    <a:lnTo>
                      <a:pt x="9104" y="8364"/>
                    </a:lnTo>
                    <a:lnTo>
                      <a:pt x="9062" y="8446"/>
                    </a:lnTo>
                    <a:lnTo>
                      <a:pt x="9019" y="8527"/>
                    </a:lnTo>
                    <a:lnTo>
                      <a:pt x="8974" y="8608"/>
                    </a:lnTo>
                    <a:lnTo>
                      <a:pt x="8929" y="8688"/>
                    </a:lnTo>
                    <a:lnTo>
                      <a:pt x="8881" y="8767"/>
                    </a:lnTo>
                    <a:close/>
                  </a:path>
                </a:pathLst>
              </a:custGeom>
              <a:solidFill>
                <a:srgbClr val="d21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0760" y="2914920"/>
                <a:ext cx="150120" cy="142920"/>
              </a:xfrm>
              <a:custGeom>
                <a:avLst/>
                <a:gdLst/>
                <a:ahLst/>
                <a:rect l="l" t="t" r="r" b="b"/>
                <a:pathLst>
                  <a:path w="9053" h="8607">
                    <a:moveTo>
                      <a:pt x="8746" y="8607"/>
                    </a:moveTo>
                    <a:lnTo>
                      <a:pt x="0" y="334"/>
                    </a:lnTo>
                    <a:lnTo>
                      <a:pt x="82" y="287"/>
                    </a:lnTo>
                    <a:lnTo>
                      <a:pt x="165" y="243"/>
                    </a:lnTo>
                    <a:lnTo>
                      <a:pt x="249" y="199"/>
                    </a:lnTo>
                    <a:lnTo>
                      <a:pt x="333" y="157"/>
                    </a:lnTo>
                    <a:lnTo>
                      <a:pt x="419" y="116"/>
                    </a:lnTo>
                    <a:lnTo>
                      <a:pt x="505" y="75"/>
                    </a:lnTo>
                    <a:lnTo>
                      <a:pt x="592" y="37"/>
                    </a:lnTo>
                    <a:lnTo>
                      <a:pt x="679" y="0"/>
                    </a:lnTo>
                    <a:lnTo>
                      <a:pt x="9053" y="7922"/>
                    </a:lnTo>
                    <a:lnTo>
                      <a:pt x="9020" y="8010"/>
                    </a:lnTo>
                    <a:lnTo>
                      <a:pt x="8985" y="8097"/>
                    </a:lnTo>
                    <a:lnTo>
                      <a:pt x="8948" y="8184"/>
                    </a:lnTo>
                    <a:lnTo>
                      <a:pt x="8910" y="8270"/>
                    </a:lnTo>
                    <a:lnTo>
                      <a:pt x="8871" y="8356"/>
                    </a:lnTo>
                    <a:lnTo>
                      <a:pt x="8831" y="8440"/>
                    </a:lnTo>
                    <a:lnTo>
                      <a:pt x="8789" y="8524"/>
                    </a:lnTo>
                    <a:lnTo>
                      <a:pt x="8746" y="8607"/>
                    </a:lnTo>
                    <a:close/>
                  </a:path>
                </a:pathLst>
              </a:custGeom>
              <a:solidFill>
                <a:srgbClr val="d31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76160" y="2912760"/>
                <a:ext cx="146880" cy="1396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578" y="8413"/>
                    </a:moveTo>
                    <a:lnTo>
                      <a:pt x="0" y="299"/>
                    </a:lnTo>
                    <a:lnTo>
                      <a:pt x="44" y="278"/>
                    </a:lnTo>
                    <a:lnTo>
                      <a:pt x="87" y="257"/>
                    </a:lnTo>
                    <a:lnTo>
                      <a:pt x="131" y="237"/>
                    </a:lnTo>
                    <a:lnTo>
                      <a:pt x="175" y="216"/>
                    </a:lnTo>
                    <a:lnTo>
                      <a:pt x="219" y="196"/>
                    </a:lnTo>
                    <a:lnTo>
                      <a:pt x="264" y="177"/>
                    </a:lnTo>
                    <a:lnTo>
                      <a:pt x="308" y="158"/>
                    </a:lnTo>
                    <a:lnTo>
                      <a:pt x="352" y="139"/>
                    </a:lnTo>
                    <a:lnTo>
                      <a:pt x="397" y="121"/>
                    </a:lnTo>
                    <a:lnTo>
                      <a:pt x="442" y="102"/>
                    </a:lnTo>
                    <a:lnTo>
                      <a:pt x="488" y="84"/>
                    </a:lnTo>
                    <a:lnTo>
                      <a:pt x="533" y="66"/>
                    </a:lnTo>
                    <a:lnTo>
                      <a:pt x="578" y="49"/>
                    </a:lnTo>
                    <a:lnTo>
                      <a:pt x="625" y="33"/>
                    </a:lnTo>
                    <a:lnTo>
                      <a:pt x="670" y="16"/>
                    </a:lnTo>
                    <a:lnTo>
                      <a:pt x="717" y="0"/>
                    </a:lnTo>
                    <a:lnTo>
                      <a:pt x="8849" y="7693"/>
                    </a:lnTo>
                    <a:lnTo>
                      <a:pt x="8834" y="7739"/>
                    </a:lnTo>
                    <a:lnTo>
                      <a:pt x="8820" y="7785"/>
                    </a:lnTo>
                    <a:lnTo>
                      <a:pt x="8805" y="7831"/>
                    </a:lnTo>
                    <a:lnTo>
                      <a:pt x="8789" y="7876"/>
                    </a:lnTo>
                    <a:lnTo>
                      <a:pt x="8774" y="7923"/>
                    </a:lnTo>
                    <a:lnTo>
                      <a:pt x="8758" y="7968"/>
                    </a:lnTo>
                    <a:lnTo>
                      <a:pt x="8741" y="8013"/>
                    </a:lnTo>
                    <a:lnTo>
                      <a:pt x="8725" y="8058"/>
                    </a:lnTo>
                    <a:lnTo>
                      <a:pt x="8707" y="8103"/>
                    </a:lnTo>
                    <a:lnTo>
                      <a:pt x="8689" y="8148"/>
                    </a:lnTo>
                    <a:lnTo>
                      <a:pt x="8672" y="8192"/>
                    </a:lnTo>
                    <a:lnTo>
                      <a:pt x="8654" y="8236"/>
                    </a:lnTo>
                    <a:lnTo>
                      <a:pt x="8635" y="8281"/>
                    </a:lnTo>
                    <a:lnTo>
                      <a:pt x="8617" y="8325"/>
                    </a:lnTo>
                    <a:lnTo>
                      <a:pt x="8597" y="8369"/>
                    </a:lnTo>
                    <a:lnTo>
                      <a:pt x="8578" y="8413"/>
                    </a:lnTo>
                    <a:close/>
                  </a:path>
                </a:pathLst>
              </a:custGeom>
              <a:solidFill>
                <a:srgbClr val="d4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81560" y="2911320"/>
                <a:ext cx="143280" cy="13608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8374" y="8183"/>
                    </a:moveTo>
                    <a:lnTo>
                      <a:pt x="0" y="261"/>
                    </a:lnTo>
                    <a:lnTo>
                      <a:pt x="46" y="242"/>
                    </a:lnTo>
                    <a:lnTo>
                      <a:pt x="92" y="223"/>
                    </a:lnTo>
                    <a:lnTo>
                      <a:pt x="139" y="205"/>
                    </a:lnTo>
                    <a:lnTo>
                      <a:pt x="185" y="187"/>
                    </a:lnTo>
                    <a:lnTo>
                      <a:pt x="231" y="169"/>
                    </a:lnTo>
                    <a:lnTo>
                      <a:pt x="279" y="152"/>
                    </a:lnTo>
                    <a:lnTo>
                      <a:pt x="325" y="136"/>
                    </a:lnTo>
                    <a:lnTo>
                      <a:pt x="373" y="119"/>
                    </a:lnTo>
                    <a:lnTo>
                      <a:pt x="420" y="102"/>
                    </a:lnTo>
                    <a:lnTo>
                      <a:pt x="467" y="87"/>
                    </a:lnTo>
                    <a:lnTo>
                      <a:pt x="516" y="71"/>
                    </a:lnTo>
                    <a:lnTo>
                      <a:pt x="563" y="56"/>
                    </a:lnTo>
                    <a:lnTo>
                      <a:pt x="612" y="42"/>
                    </a:lnTo>
                    <a:lnTo>
                      <a:pt x="660" y="28"/>
                    </a:lnTo>
                    <a:lnTo>
                      <a:pt x="707" y="14"/>
                    </a:lnTo>
                    <a:lnTo>
                      <a:pt x="757" y="0"/>
                    </a:lnTo>
                    <a:lnTo>
                      <a:pt x="8606" y="7426"/>
                    </a:lnTo>
                    <a:lnTo>
                      <a:pt x="8594" y="7474"/>
                    </a:lnTo>
                    <a:lnTo>
                      <a:pt x="8582" y="7522"/>
                    </a:lnTo>
                    <a:lnTo>
                      <a:pt x="8570" y="7571"/>
                    </a:lnTo>
                    <a:lnTo>
                      <a:pt x="8557" y="7618"/>
                    </a:lnTo>
                    <a:lnTo>
                      <a:pt x="8544" y="7667"/>
                    </a:lnTo>
                    <a:lnTo>
                      <a:pt x="8531" y="7714"/>
                    </a:lnTo>
                    <a:lnTo>
                      <a:pt x="8517" y="7761"/>
                    </a:lnTo>
                    <a:lnTo>
                      <a:pt x="8503" y="7809"/>
                    </a:lnTo>
                    <a:lnTo>
                      <a:pt x="8487" y="7856"/>
                    </a:lnTo>
                    <a:lnTo>
                      <a:pt x="8472" y="7904"/>
                    </a:lnTo>
                    <a:lnTo>
                      <a:pt x="8457" y="7951"/>
                    </a:lnTo>
                    <a:lnTo>
                      <a:pt x="8442" y="7997"/>
                    </a:lnTo>
                    <a:lnTo>
                      <a:pt x="8425" y="8044"/>
                    </a:lnTo>
                    <a:lnTo>
                      <a:pt x="8409" y="8090"/>
                    </a:lnTo>
                    <a:lnTo>
                      <a:pt x="8392" y="8137"/>
                    </a:lnTo>
                    <a:lnTo>
                      <a:pt x="8374" y="818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7680" y="2909520"/>
                <a:ext cx="138240" cy="131040"/>
              </a:xfrm>
              <a:custGeom>
                <a:avLst/>
                <a:gdLst/>
                <a:ahLst/>
                <a:rect l="l" t="t" r="r" b="b"/>
                <a:pathLst>
                  <a:path w="8319" h="7913">
                    <a:moveTo>
                      <a:pt x="8132" y="7913"/>
                    </a:moveTo>
                    <a:lnTo>
                      <a:pt x="0" y="220"/>
                    </a:lnTo>
                    <a:lnTo>
                      <a:pt x="48" y="203"/>
                    </a:lnTo>
                    <a:lnTo>
                      <a:pt x="96" y="187"/>
                    </a:lnTo>
                    <a:lnTo>
                      <a:pt x="146" y="171"/>
                    </a:lnTo>
                    <a:lnTo>
                      <a:pt x="195" y="155"/>
                    </a:lnTo>
                    <a:lnTo>
                      <a:pt x="245" y="140"/>
                    </a:lnTo>
                    <a:lnTo>
                      <a:pt x="294" y="126"/>
                    </a:lnTo>
                    <a:lnTo>
                      <a:pt x="343" y="112"/>
                    </a:lnTo>
                    <a:lnTo>
                      <a:pt x="394" y="98"/>
                    </a:lnTo>
                    <a:lnTo>
                      <a:pt x="443" y="83"/>
                    </a:lnTo>
                    <a:lnTo>
                      <a:pt x="494" y="70"/>
                    </a:lnTo>
                    <a:lnTo>
                      <a:pt x="544" y="57"/>
                    </a:lnTo>
                    <a:lnTo>
                      <a:pt x="595" y="45"/>
                    </a:lnTo>
                    <a:lnTo>
                      <a:pt x="646" y="33"/>
                    </a:lnTo>
                    <a:lnTo>
                      <a:pt x="696" y="22"/>
                    </a:lnTo>
                    <a:lnTo>
                      <a:pt x="748" y="11"/>
                    </a:lnTo>
                    <a:lnTo>
                      <a:pt x="799" y="0"/>
                    </a:lnTo>
                    <a:lnTo>
                      <a:pt x="8319" y="7114"/>
                    </a:lnTo>
                    <a:lnTo>
                      <a:pt x="8311" y="7165"/>
                    </a:lnTo>
                    <a:lnTo>
                      <a:pt x="8302" y="7216"/>
                    </a:lnTo>
                    <a:lnTo>
                      <a:pt x="8292" y="7266"/>
                    </a:lnTo>
                    <a:lnTo>
                      <a:pt x="8282" y="7317"/>
                    </a:lnTo>
                    <a:lnTo>
                      <a:pt x="8272" y="7367"/>
                    </a:lnTo>
                    <a:lnTo>
                      <a:pt x="8262" y="7418"/>
                    </a:lnTo>
                    <a:lnTo>
                      <a:pt x="8251" y="7468"/>
                    </a:lnTo>
                    <a:lnTo>
                      <a:pt x="8238" y="7519"/>
                    </a:lnTo>
                    <a:lnTo>
                      <a:pt x="8226" y="7568"/>
                    </a:lnTo>
                    <a:lnTo>
                      <a:pt x="8214" y="7617"/>
                    </a:lnTo>
                    <a:lnTo>
                      <a:pt x="8201" y="7668"/>
                    </a:lnTo>
                    <a:lnTo>
                      <a:pt x="8188" y="7717"/>
                    </a:lnTo>
                    <a:lnTo>
                      <a:pt x="8175" y="7766"/>
                    </a:lnTo>
                    <a:lnTo>
                      <a:pt x="8161" y="7815"/>
                    </a:lnTo>
                    <a:lnTo>
                      <a:pt x="8147" y="7864"/>
                    </a:lnTo>
                    <a:lnTo>
                      <a:pt x="8132" y="791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94160" y="2908080"/>
                <a:ext cx="132840" cy="126360"/>
              </a:xfrm>
              <a:custGeom>
                <a:avLst/>
                <a:gdLst/>
                <a:ahLst/>
                <a:rect l="l" t="t" r="r" b="b"/>
                <a:pathLst>
                  <a:path w="7988" h="7599">
                    <a:moveTo>
                      <a:pt x="7849" y="7599"/>
                    </a:moveTo>
                    <a:lnTo>
                      <a:pt x="0" y="173"/>
                    </a:lnTo>
                    <a:lnTo>
                      <a:pt x="51" y="158"/>
                    </a:lnTo>
                    <a:lnTo>
                      <a:pt x="104" y="145"/>
                    </a:lnTo>
                    <a:lnTo>
                      <a:pt x="155" y="132"/>
                    </a:lnTo>
                    <a:lnTo>
                      <a:pt x="208" y="119"/>
                    </a:lnTo>
                    <a:lnTo>
                      <a:pt x="260" y="107"/>
                    </a:lnTo>
                    <a:lnTo>
                      <a:pt x="313" y="95"/>
                    </a:lnTo>
                    <a:lnTo>
                      <a:pt x="366" y="84"/>
                    </a:lnTo>
                    <a:lnTo>
                      <a:pt x="419" y="73"/>
                    </a:lnTo>
                    <a:lnTo>
                      <a:pt x="472" y="62"/>
                    </a:lnTo>
                    <a:lnTo>
                      <a:pt x="525" y="51"/>
                    </a:lnTo>
                    <a:lnTo>
                      <a:pt x="579" y="41"/>
                    </a:lnTo>
                    <a:lnTo>
                      <a:pt x="632" y="32"/>
                    </a:lnTo>
                    <a:lnTo>
                      <a:pt x="687" y="23"/>
                    </a:lnTo>
                    <a:lnTo>
                      <a:pt x="740" y="15"/>
                    </a:lnTo>
                    <a:lnTo>
                      <a:pt x="795" y="7"/>
                    </a:lnTo>
                    <a:lnTo>
                      <a:pt x="849" y="0"/>
                    </a:lnTo>
                    <a:lnTo>
                      <a:pt x="7988" y="6752"/>
                    </a:lnTo>
                    <a:lnTo>
                      <a:pt x="7982" y="6807"/>
                    </a:lnTo>
                    <a:lnTo>
                      <a:pt x="7977" y="6860"/>
                    </a:lnTo>
                    <a:lnTo>
                      <a:pt x="7970" y="6914"/>
                    </a:lnTo>
                    <a:lnTo>
                      <a:pt x="7963" y="6967"/>
                    </a:lnTo>
                    <a:lnTo>
                      <a:pt x="7956" y="7021"/>
                    </a:lnTo>
                    <a:lnTo>
                      <a:pt x="7949" y="7074"/>
                    </a:lnTo>
                    <a:lnTo>
                      <a:pt x="7941" y="7128"/>
                    </a:lnTo>
                    <a:lnTo>
                      <a:pt x="7933" y="7180"/>
                    </a:lnTo>
                    <a:lnTo>
                      <a:pt x="7924" y="7233"/>
                    </a:lnTo>
                    <a:lnTo>
                      <a:pt x="7915" y="7286"/>
                    </a:lnTo>
                    <a:lnTo>
                      <a:pt x="7905" y="7338"/>
                    </a:lnTo>
                    <a:lnTo>
                      <a:pt x="7895" y="7391"/>
                    </a:lnTo>
                    <a:lnTo>
                      <a:pt x="7884" y="7443"/>
                    </a:lnTo>
                    <a:lnTo>
                      <a:pt x="7873" y="7495"/>
                    </a:lnTo>
                    <a:lnTo>
                      <a:pt x="7862" y="7547"/>
                    </a:lnTo>
                    <a:lnTo>
                      <a:pt x="7849" y="7599"/>
                    </a:lnTo>
                    <a:close/>
                  </a:path>
                </a:pathLst>
              </a:custGeom>
              <a:solidFill>
                <a:srgbClr val="d62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01360" y="2907360"/>
                <a:ext cx="126000" cy="119880"/>
              </a:xfrm>
              <a:custGeom>
                <a:avLst/>
                <a:gdLst/>
                <a:ahLst/>
                <a:rect l="l" t="t" r="r" b="b"/>
                <a:pathLst>
                  <a:path w="7602" h="7233">
                    <a:moveTo>
                      <a:pt x="7520" y="7233"/>
                    </a:moveTo>
                    <a:lnTo>
                      <a:pt x="0" y="119"/>
                    </a:lnTo>
                    <a:lnTo>
                      <a:pt x="55" y="108"/>
                    </a:lnTo>
                    <a:lnTo>
                      <a:pt x="111" y="96"/>
                    </a:lnTo>
                    <a:lnTo>
                      <a:pt x="167" y="86"/>
                    </a:lnTo>
                    <a:lnTo>
                      <a:pt x="222" y="77"/>
                    </a:lnTo>
                    <a:lnTo>
                      <a:pt x="279" y="68"/>
                    </a:lnTo>
                    <a:lnTo>
                      <a:pt x="335" y="59"/>
                    </a:lnTo>
                    <a:lnTo>
                      <a:pt x="392" y="51"/>
                    </a:lnTo>
                    <a:lnTo>
                      <a:pt x="448" y="43"/>
                    </a:lnTo>
                    <a:lnTo>
                      <a:pt x="505" y="36"/>
                    </a:lnTo>
                    <a:lnTo>
                      <a:pt x="562" y="30"/>
                    </a:lnTo>
                    <a:lnTo>
                      <a:pt x="619" y="23"/>
                    </a:lnTo>
                    <a:lnTo>
                      <a:pt x="676" y="18"/>
                    </a:lnTo>
                    <a:lnTo>
                      <a:pt x="734" y="13"/>
                    </a:lnTo>
                    <a:lnTo>
                      <a:pt x="791" y="8"/>
                    </a:lnTo>
                    <a:lnTo>
                      <a:pt x="849" y="4"/>
                    </a:lnTo>
                    <a:lnTo>
                      <a:pt x="906" y="0"/>
                    </a:lnTo>
                    <a:lnTo>
                      <a:pt x="7602" y="6333"/>
                    </a:lnTo>
                    <a:lnTo>
                      <a:pt x="7601" y="6391"/>
                    </a:lnTo>
                    <a:lnTo>
                      <a:pt x="7599" y="6447"/>
                    </a:lnTo>
                    <a:lnTo>
                      <a:pt x="7597" y="6505"/>
                    </a:lnTo>
                    <a:lnTo>
                      <a:pt x="7594" y="6561"/>
                    </a:lnTo>
                    <a:lnTo>
                      <a:pt x="7591" y="6618"/>
                    </a:lnTo>
                    <a:lnTo>
                      <a:pt x="7587" y="6675"/>
                    </a:lnTo>
                    <a:lnTo>
                      <a:pt x="7582" y="6732"/>
                    </a:lnTo>
                    <a:lnTo>
                      <a:pt x="7578" y="6787"/>
                    </a:lnTo>
                    <a:lnTo>
                      <a:pt x="7572" y="6844"/>
                    </a:lnTo>
                    <a:lnTo>
                      <a:pt x="7566" y="6900"/>
                    </a:lnTo>
                    <a:lnTo>
                      <a:pt x="7559" y="6956"/>
                    </a:lnTo>
                    <a:lnTo>
                      <a:pt x="7552" y="7011"/>
                    </a:lnTo>
                    <a:lnTo>
                      <a:pt x="7545" y="7067"/>
                    </a:lnTo>
                    <a:lnTo>
                      <a:pt x="7537" y="7122"/>
                    </a:lnTo>
                    <a:lnTo>
                      <a:pt x="7529" y="7178"/>
                    </a:lnTo>
                    <a:lnTo>
                      <a:pt x="7520" y="7233"/>
                    </a:lnTo>
                    <a:close/>
                  </a:path>
                </a:pathLst>
              </a:custGeom>
              <a:solidFill>
                <a:srgbClr val="d721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08560" y="2907360"/>
                <a:ext cx="118800" cy="11304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7139" y="6809"/>
                    </a:moveTo>
                    <a:lnTo>
                      <a:pt x="0" y="57"/>
                    </a:lnTo>
                    <a:lnTo>
                      <a:pt x="52" y="50"/>
                    </a:lnTo>
                    <a:lnTo>
                      <a:pt x="105" y="44"/>
                    </a:lnTo>
                    <a:lnTo>
                      <a:pt x="157" y="38"/>
                    </a:lnTo>
                    <a:lnTo>
                      <a:pt x="210" y="32"/>
                    </a:lnTo>
                    <a:lnTo>
                      <a:pt x="263" y="27"/>
                    </a:lnTo>
                    <a:lnTo>
                      <a:pt x="316" y="23"/>
                    </a:lnTo>
                    <a:lnTo>
                      <a:pt x="369" y="18"/>
                    </a:lnTo>
                    <a:lnTo>
                      <a:pt x="423" y="15"/>
                    </a:lnTo>
                    <a:lnTo>
                      <a:pt x="476" y="11"/>
                    </a:lnTo>
                    <a:lnTo>
                      <a:pt x="530" y="8"/>
                    </a:lnTo>
                    <a:lnTo>
                      <a:pt x="583" y="6"/>
                    </a:lnTo>
                    <a:lnTo>
                      <a:pt x="637" y="4"/>
                    </a:lnTo>
                    <a:lnTo>
                      <a:pt x="691" y="2"/>
                    </a:lnTo>
                    <a:lnTo>
                      <a:pt x="745" y="1"/>
                    </a:lnTo>
                    <a:lnTo>
                      <a:pt x="799" y="0"/>
                    </a:lnTo>
                    <a:lnTo>
                      <a:pt x="853" y="0"/>
                    </a:lnTo>
                    <a:lnTo>
                      <a:pt x="884" y="0"/>
                    </a:lnTo>
                    <a:lnTo>
                      <a:pt x="914" y="1"/>
                    </a:lnTo>
                    <a:lnTo>
                      <a:pt x="943" y="1"/>
                    </a:lnTo>
                    <a:lnTo>
                      <a:pt x="973" y="2"/>
                    </a:lnTo>
                    <a:lnTo>
                      <a:pt x="7153" y="5846"/>
                    </a:lnTo>
                    <a:lnTo>
                      <a:pt x="7156" y="5895"/>
                    </a:lnTo>
                    <a:lnTo>
                      <a:pt x="7158" y="5943"/>
                    </a:lnTo>
                    <a:lnTo>
                      <a:pt x="7160" y="5991"/>
                    </a:lnTo>
                    <a:lnTo>
                      <a:pt x="7162" y="6040"/>
                    </a:lnTo>
                    <a:lnTo>
                      <a:pt x="7164" y="6088"/>
                    </a:lnTo>
                    <a:lnTo>
                      <a:pt x="7165" y="6137"/>
                    </a:lnTo>
                    <a:lnTo>
                      <a:pt x="7165" y="6186"/>
                    </a:lnTo>
                    <a:lnTo>
                      <a:pt x="7165" y="6235"/>
                    </a:lnTo>
                    <a:lnTo>
                      <a:pt x="7165" y="6307"/>
                    </a:lnTo>
                    <a:lnTo>
                      <a:pt x="7164" y="6380"/>
                    </a:lnTo>
                    <a:lnTo>
                      <a:pt x="7162" y="6451"/>
                    </a:lnTo>
                    <a:lnTo>
                      <a:pt x="7159" y="6524"/>
                    </a:lnTo>
                    <a:lnTo>
                      <a:pt x="7155" y="6596"/>
                    </a:lnTo>
                    <a:lnTo>
                      <a:pt x="7150" y="6667"/>
                    </a:lnTo>
                    <a:lnTo>
                      <a:pt x="7145" y="6739"/>
                    </a:lnTo>
                    <a:lnTo>
                      <a:pt x="7139" y="6809"/>
                    </a:lnTo>
                    <a:close/>
                  </a:path>
                </a:pathLst>
              </a:custGeom>
              <a:solidFill>
                <a:srgbClr val="d82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6120" y="2907360"/>
                <a:ext cx="111240" cy="1051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6696" y="6345"/>
                    </a:moveTo>
                    <a:lnTo>
                      <a:pt x="0" y="12"/>
                    </a:lnTo>
                    <a:lnTo>
                      <a:pt x="48" y="9"/>
                    </a:lnTo>
                    <a:lnTo>
                      <a:pt x="96" y="7"/>
                    </a:lnTo>
                    <a:lnTo>
                      <a:pt x="144" y="5"/>
                    </a:lnTo>
                    <a:lnTo>
                      <a:pt x="192" y="3"/>
                    </a:lnTo>
                    <a:lnTo>
                      <a:pt x="240" y="2"/>
                    </a:lnTo>
                    <a:lnTo>
                      <a:pt x="288" y="1"/>
                    </a:lnTo>
                    <a:lnTo>
                      <a:pt x="337" y="0"/>
                    </a:lnTo>
                    <a:lnTo>
                      <a:pt x="385" y="0"/>
                    </a:lnTo>
                    <a:lnTo>
                      <a:pt x="470" y="1"/>
                    </a:lnTo>
                    <a:lnTo>
                      <a:pt x="555" y="2"/>
                    </a:lnTo>
                    <a:lnTo>
                      <a:pt x="639" y="5"/>
                    </a:lnTo>
                    <a:lnTo>
                      <a:pt x="723" y="9"/>
                    </a:lnTo>
                    <a:lnTo>
                      <a:pt x="807" y="14"/>
                    </a:lnTo>
                    <a:lnTo>
                      <a:pt x="891" y="20"/>
                    </a:lnTo>
                    <a:lnTo>
                      <a:pt x="974" y="27"/>
                    </a:lnTo>
                    <a:lnTo>
                      <a:pt x="1057" y="35"/>
                    </a:lnTo>
                    <a:lnTo>
                      <a:pt x="6627" y="5304"/>
                    </a:lnTo>
                    <a:lnTo>
                      <a:pt x="6635" y="5361"/>
                    </a:lnTo>
                    <a:lnTo>
                      <a:pt x="6643" y="5419"/>
                    </a:lnTo>
                    <a:lnTo>
                      <a:pt x="6650" y="5475"/>
                    </a:lnTo>
                    <a:lnTo>
                      <a:pt x="6658" y="5533"/>
                    </a:lnTo>
                    <a:lnTo>
                      <a:pt x="6664" y="5591"/>
                    </a:lnTo>
                    <a:lnTo>
                      <a:pt x="6670" y="5649"/>
                    </a:lnTo>
                    <a:lnTo>
                      <a:pt x="6675" y="5706"/>
                    </a:lnTo>
                    <a:lnTo>
                      <a:pt x="6680" y="5765"/>
                    </a:lnTo>
                    <a:lnTo>
                      <a:pt x="6684" y="5823"/>
                    </a:lnTo>
                    <a:lnTo>
                      <a:pt x="6687" y="5882"/>
                    </a:lnTo>
                    <a:lnTo>
                      <a:pt x="6690" y="5940"/>
                    </a:lnTo>
                    <a:lnTo>
                      <a:pt x="6693" y="5998"/>
                    </a:lnTo>
                    <a:lnTo>
                      <a:pt x="6695" y="6057"/>
                    </a:lnTo>
                    <a:lnTo>
                      <a:pt x="6696" y="6116"/>
                    </a:lnTo>
                    <a:lnTo>
                      <a:pt x="6697" y="6175"/>
                    </a:lnTo>
                    <a:lnTo>
                      <a:pt x="6697" y="6235"/>
                    </a:lnTo>
                    <a:lnTo>
                      <a:pt x="6697" y="6263"/>
                    </a:lnTo>
                    <a:lnTo>
                      <a:pt x="6697" y="6290"/>
                    </a:lnTo>
                    <a:lnTo>
                      <a:pt x="6697" y="6317"/>
                    </a:lnTo>
                    <a:lnTo>
                      <a:pt x="6696" y="6345"/>
                    </a:lnTo>
                    <a:close/>
                  </a:path>
                </a:pathLst>
              </a:custGeom>
              <a:solidFill>
                <a:srgbClr val="d9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24400" y="2907360"/>
                <a:ext cx="102960" cy="96840"/>
              </a:xfrm>
              <a:custGeom>
                <a:avLst/>
                <a:gdLst/>
                <a:ahLst/>
                <a:rect l="l" t="t" r="r" b="b"/>
                <a:pathLst>
                  <a:path w="6180" h="5844">
                    <a:moveTo>
                      <a:pt x="6180" y="5844"/>
                    </a:moveTo>
                    <a:lnTo>
                      <a:pt x="0" y="0"/>
                    </a:lnTo>
                    <a:lnTo>
                      <a:pt x="75" y="1"/>
                    </a:lnTo>
                    <a:lnTo>
                      <a:pt x="150" y="4"/>
                    </a:lnTo>
                    <a:lnTo>
                      <a:pt x="224" y="8"/>
                    </a:lnTo>
                    <a:lnTo>
                      <a:pt x="298" y="12"/>
                    </a:lnTo>
                    <a:lnTo>
                      <a:pt x="372" y="17"/>
                    </a:lnTo>
                    <a:lnTo>
                      <a:pt x="446" y="23"/>
                    </a:lnTo>
                    <a:lnTo>
                      <a:pt x="520" y="30"/>
                    </a:lnTo>
                    <a:lnTo>
                      <a:pt x="592" y="37"/>
                    </a:lnTo>
                    <a:lnTo>
                      <a:pt x="666" y="46"/>
                    </a:lnTo>
                    <a:lnTo>
                      <a:pt x="739" y="55"/>
                    </a:lnTo>
                    <a:lnTo>
                      <a:pt x="810" y="65"/>
                    </a:lnTo>
                    <a:lnTo>
                      <a:pt x="883" y="76"/>
                    </a:lnTo>
                    <a:lnTo>
                      <a:pt x="954" y="88"/>
                    </a:lnTo>
                    <a:lnTo>
                      <a:pt x="1026" y="100"/>
                    </a:lnTo>
                    <a:lnTo>
                      <a:pt x="1098" y="114"/>
                    </a:lnTo>
                    <a:lnTo>
                      <a:pt x="1169" y="128"/>
                    </a:lnTo>
                    <a:lnTo>
                      <a:pt x="5999" y="4697"/>
                    </a:lnTo>
                    <a:lnTo>
                      <a:pt x="6016" y="4767"/>
                    </a:lnTo>
                    <a:lnTo>
                      <a:pt x="6034" y="4837"/>
                    </a:lnTo>
                    <a:lnTo>
                      <a:pt x="6049" y="4907"/>
                    </a:lnTo>
                    <a:lnTo>
                      <a:pt x="6064" y="4978"/>
                    </a:lnTo>
                    <a:lnTo>
                      <a:pt x="6078" y="5048"/>
                    </a:lnTo>
                    <a:lnTo>
                      <a:pt x="6092" y="5119"/>
                    </a:lnTo>
                    <a:lnTo>
                      <a:pt x="6104" y="5191"/>
                    </a:lnTo>
                    <a:lnTo>
                      <a:pt x="6116" y="5262"/>
                    </a:lnTo>
                    <a:lnTo>
                      <a:pt x="6127" y="5334"/>
                    </a:lnTo>
                    <a:lnTo>
                      <a:pt x="6137" y="5406"/>
                    </a:lnTo>
                    <a:lnTo>
                      <a:pt x="6146" y="5479"/>
                    </a:lnTo>
                    <a:lnTo>
                      <a:pt x="6155" y="5552"/>
                    </a:lnTo>
                    <a:lnTo>
                      <a:pt x="6163" y="5624"/>
                    </a:lnTo>
                    <a:lnTo>
                      <a:pt x="6169" y="5698"/>
                    </a:lnTo>
                    <a:lnTo>
                      <a:pt x="6175" y="5771"/>
                    </a:lnTo>
                    <a:lnTo>
                      <a:pt x="6180" y="5844"/>
                    </a:lnTo>
                    <a:close/>
                  </a:path>
                </a:pathLst>
              </a:custGeom>
              <a:solidFill>
                <a:srgbClr val="d9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33760" y="2908080"/>
                <a:ext cx="92520" cy="87120"/>
              </a:xfrm>
              <a:custGeom>
                <a:avLst/>
                <a:gdLst/>
                <a:ahLst/>
                <a:rect l="l" t="t" r="r" b="b"/>
                <a:pathLst>
                  <a:path w="5570" h="5269">
                    <a:moveTo>
                      <a:pt x="5570" y="5269"/>
                    </a:moveTo>
                    <a:lnTo>
                      <a:pt x="0" y="0"/>
                    </a:lnTo>
                    <a:lnTo>
                      <a:pt x="87" y="10"/>
                    </a:lnTo>
                    <a:lnTo>
                      <a:pt x="172" y="20"/>
                    </a:lnTo>
                    <a:lnTo>
                      <a:pt x="258" y="32"/>
                    </a:lnTo>
                    <a:lnTo>
                      <a:pt x="344" y="45"/>
                    </a:lnTo>
                    <a:lnTo>
                      <a:pt x="429" y="59"/>
                    </a:lnTo>
                    <a:lnTo>
                      <a:pt x="513" y="74"/>
                    </a:lnTo>
                    <a:lnTo>
                      <a:pt x="597" y="92"/>
                    </a:lnTo>
                    <a:lnTo>
                      <a:pt x="681" y="109"/>
                    </a:lnTo>
                    <a:lnTo>
                      <a:pt x="764" y="127"/>
                    </a:lnTo>
                    <a:lnTo>
                      <a:pt x="847" y="147"/>
                    </a:lnTo>
                    <a:lnTo>
                      <a:pt x="930" y="167"/>
                    </a:lnTo>
                    <a:lnTo>
                      <a:pt x="1013" y="189"/>
                    </a:lnTo>
                    <a:lnTo>
                      <a:pt x="1093" y="213"/>
                    </a:lnTo>
                    <a:lnTo>
                      <a:pt x="1175" y="236"/>
                    </a:lnTo>
                    <a:lnTo>
                      <a:pt x="1256" y="261"/>
                    </a:lnTo>
                    <a:lnTo>
                      <a:pt x="1336" y="287"/>
                    </a:lnTo>
                    <a:lnTo>
                      <a:pt x="5221" y="3963"/>
                    </a:lnTo>
                    <a:lnTo>
                      <a:pt x="5251" y="4040"/>
                    </a:lnTo>
                    <a:lnTo>
                      <a:pt x="5280" y="4119"/>
                    </a:lnTo>
                    <a:lnTo>
                      <a:pt x="5308" y="4199"/>
                    </a:lnTo>
                    <a:lnTo>
                      <a:pt x="5334" y="4278"/>
                    </a:lnTo>
                    <a:lnTo>
                      <a:pt x="5360" y="4359"/>
                    </a:lnTo>
                    <a:lnTo>
                      <a:pt x="5385" y="4439"/>
                    </a:lnTo>
                    <a:lnTo>
                      <a:pt x="5408" y="4520"/>
                    </a:lnTo>
                    <a:lnTo>
                      <a:pt x="5431" y="4602"/>
                    </a:lnTo>
                    <a:lnTo>
                      <a:pt x="5452" y="4684"/>
                    </a:lnTo>
                    <a:lnTo>
                      <a:pt x="5472" y="4766"/>
                    </a:lnTo>
                    <a:lnTo>
                      <a:pt x="5492" y="4849"/>
                    </a:lnTo>
                    <a:lnTo>
                      <a:pt x="5510" y="4932"/>
                    </a:lnTo>
                    <a:lnTo>
                      <a:pt x="5526" y="5015"/>
                    </a:lnTo>
                    <a:lnTo>
                      <a:pt x="5542" y="5100"/>
                    </a:lnTo>
                    <a:lnTo>
                      <a:pt x="5557" y="5184"/>
                    </a:lnTo>
                    <a:lnTo>
                      <a:pt x="5570" y="5269"/>
                    </a:lnTo>
                    <a:close/>
                  </a:path>
                </a:pathLst>
              </a:custGeom>
              <a:solidFill>
                <a:srgbClr val="da2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44200" y="2909520"/>
                <a:ext cx="79920" cy="75600"/>
              </a:xfrm>
              <a:custGeom>
                <a:avLst/>
                <a:gdLst/>
                <a:ahLst/>
                <a:rect l="l" t="t" r="r" b="b"/>
                <a:pathLst>
                  <a:path w="4830" h="4569">
                    <a:moveTo>
                      <a:pt x="4830" y="4569"/>
                    </a:moveTo>
                    <a:lnTo>
                      <a:pt x="0" y="0"/>
                    </a:lnTo>
                    <a:lnTo>
                      <a:pt x="109" y="24"/>
                    </a:lnTo>
                    <a:lnTo>
                      <a:pt x="218" y="49"/>
                    </a:lnTo>
                    <a:lnTo>
                      <a:pt x="326" y="76"/>
                    </a:lnTo>
                    <a:lnTo>
                      <a:pt x="433" y="105"/>
                    </a:lnTo>
                    <a:lnTo>
                      <a:pt x="539" y="136"/>
                    </a:lnTo>
                    <a:lnTo>
                      <a:pt x="645" y="168"/>
                    </a:lnTo>
                    <a:lnTo>
                      <a:pt x="750" y="202"/>
                    </a:lnTo>
                    <a:lnTo>
                      <a:pt x="853" y="239"/>
                    </a:lnTo>
                    <a:lnTo>
                      <a:pt x="956" y="276"/>
                    </a:lnTo>
                    <a:lnTo>
                      <a:pt x="1058" y="315"/>
                    </a:lnTo>
                    <a:lnTo>
                      <a:pt x="1160" y="357"/>
                    </a:lnTo>
                    <a:lnTo>
                      <a:pt x="1261" y="400"/>
                    </a:lnTo>
                    <a:lnTo>
                      <a:pt x="1360" y="444"/>
                    </a:lnTo>
                    <a:lnTo>
                      <a:pt x="1459" y="491"/>
                    </a:lnTo>
                    <a:lnTo>
                      <a:pt x="1556" y="538"/>
                    </a:lnTo>
                    <a:lnTo>
                      <a:pt x="1653" y="588"/>
                    </a:lnTo>
                    <a:lnTo>
                      <a:pt x="4164" y="2962"/>
                    </a:lnTo>
                    <a:lnTo>
                      <a:pt x="4218" y="3056"/>
                    </a:lnTo>
                    <a:lnTo>
                      <a:pt x="4270" y="3150"/>
                    </a:lnTo>
                    <a:lnTo>
                      <a:pt x="4322" y="3246"/>
                    </a:lnTo>
                    <a:lnTo>
                      <a:pt x="4371" y="3342"/>
                    </a:lnTo>
                    <a:lnTo>
                      <a:pt x="4419" y="3440"/>
                    </a:lnTo>
                    <a:lnTo>
                      <a:pt x="4465" y="3538"/>
                    </a:lnTo>
                    <a:lnTo>
                      <a:pt x="4510" y="3638"/>
                    </a:lnTo>
                    <a:lnTo>
                      <a:pt x="4552" y="3737"/>
                    </a:lnTo>
                    <a:lnTo>
                      <a:pt x="4593" y="3838"/>
                    </a:lnTo>
                    <a:lnTo>
                      <a:pt x="4633" y="3941"/>
                    </a:lnTo>
                    <a:lnTo>
                      <a:pt x="4670" y="4043"/>
                    </a:lnTo>
                    <a:lnTo>
                      <a:pt x="4705" y="4147"/>
                    </a:lnTo>
                    <a:lnTo>
                      <a:pt x="4739" y="4252"/>
                    </a:lnTo>
                    <a:lnTo>
                      <a:pt x="4772" y="4357"/>
                    </a:lnTo>
                    <a:lnTo>
                      <a:pt x="4802" y="4463"/>
                    </a:lnTo>
                    <a:lnTo>
                      <a:pt x="4830" y="4569"/>
                    </a:lnTo>
                    <a:close/>
                  </a:path>
                </a:pathLst>
              </a:custGeom>
              <a:solidFill>
                <a:srgbClr val="db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56440" y="2912400"/>
                <a:ext cx="64080" cy="61200"/>
              </a:xfrm>
              <a:custGeom>
                <a:avLst/>
                <a:gdLst/>
                <a:ahLst/>
                <a:rect l="l" t="t" r="r" b="b"/>
                <a:pathLst>
                  <a:path w="3885" h="3676">
                    <a:moveTo>
                      <a:pt x="3885" y="3676"/>
                    </a:moveTo>
                    <a:lnTo>
                      <a:pt x="0" y="0"/>
                    </a:lnTo>
                    <a:lnTo>
                      <a:pt x="166" y="58"/>
                    </a:lnTo>
                    <a:lnTo>
                      <a:pt x="330" y="119"/>
                    </a:lnTo>
                    <a:lnTo>
                      <a:pt x="491" y="186"/>
                    </a:lnTo>
                    <a:lnTo>
                      <a:pt x="652" y="256"/>
                    </a:lnTo>
                    <a:lnTo>
                      <a:pt x="808" y="332"/>
                    </a:lnTo>
                    <a:lnTo>
                      <a:pt x="964" y="411"/>
                    </a:lnTo>
                    <a:lnTo>
                      <a:pt x="1116" y="493"/>
                    </a:lnTo>
                    <a:lnTo>
                      <a:pt x="1265" y="581"/>
                    </a:lnTo>
                    <a:lnTo>
                      <a:pt x="1412" y="672"/>
                    </a:lnTo>
                    <a:lnTo>
                      <a:pt x="1557" y="767"/>
                    </a:lnTo>
                    <a:lnTo>
                      <a:pt x="1698" y="865"/>
                    </a:lnTo>
                    <a:lnTo>
                      <a:pt x="1836" y="968"/>
                    </a:lnTo>
                    <a:lnTo>
                      <a:pt x="1971" y="1073"/>
                    </a:lnTo>
                    <a:lnTo>
                      <a:pt x="2104" y="1182"/>
                    </a:lnTo>
                    <a:lnTo>
                      <a:pt x="2233" y="1295"/>
                    </a:lnTo>
                    <a:lnTo>
                      <a:pt x="2359" y="1411"/>
                    </a:lnTo>
                    <a:lnTo>
                      <a:pt x="2482" y="1531"/>
                    </a:lnTo>
                    <a:lnTo>
                      <a:pt x="2601" y="1654"/>
                    </a:lnTo>
                    <a:lnTo>
                      <a:pt x="2718" y="1780"/>
                    </a:lnTo>
                    <a:lnTo>
                      <a:pt x="2830" y="1910"/>
                    </a:lnTo>
                    <a:lnTo>
                      <a:pt x="2939" y="2042"/>
                    </a:lnTo>
                    <a:lnTo>
                      <a:pt x="3045" y="2177"/>
                    </a:lnTo>
                    <a:lnTo>
                      <a:pt x="3147" y="2315"/>
                    </a:lnTo>
                    <a:lnTo>
                      <a:pt x="3245" y="2455"/>
                    </a:lnTo>
                    <a:lnTo>
                      <a:pt x="3340" y="2599"/>
                    </a:lnTo>
                    <a:lnTo>
                      <a:pt x="3429" y="2746"/>
                    </a:lnTo>
                    <a:lnTo>
                      <a:pt x="3516" y="2894"/>
                    </a:lnTo>
                    <a:lnTo>
                      <a:pt x="3598" y="3046"/>
                    </a:lnTo>
                    <a:lnTo>
                      <a:pt x="3677" y="3199"/>
                    </a:lnTo>
                    <a:lnTo>
                      <a:pt x="3750" y="3356"/>
                    </a:lnTo>
                    <a:lnTo>
                      <a:pt x="3820" y="3514"/>
                    </a:lnTo>
                    <a:lnTo>
                      <a:pt x="3885" y="3676"/>
                    </a:lnTo>
                    <a:close/>
                  </a:path>
                </a:pathLst>
              </a:custGeom>
              <a:solidFill>
                <a:srgbClr val="dc2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71560" y="2918880"/>
                <a:ext cx="41400" cy="39240"/>
              </a:xfrm>
              <a:custGeom>
                <a:avLst/>
                <a:gdLst/>
                <a:ahLst/>
                <a:rect l="l" t="t" r="r" b="b"/>
                <a:pathLst>
                  <a:path w="2511" h="2374">
                    <a:moveTo>
                      <a:pt x="2511" y="2374"/>
                    </a:moveTo>
                    <a:lnTo>
                      <a:pt x="0" y="0"/>
                    </a:lnTo>
                    <a:lnTo>
                      <a:pt x="98" y="52"/>
                    </a:lnTo>
                    <a:lnTo>
                      <a:pt x="194" y="106"/>
                    </a:lnTo>
                    <a:lnTo>
                      <a:pt x="290" y="160"/>
                    </a:lnTo>
                    <a:lnTo>
                      <a:pt x="384" y="218"/>
                    </a:lnTo>
                    <a:lnTo>
                      <a:pt x="476" y="275"/>
                    </a:lnTo>
                    <a:lnTo>
                      <a:pt x="569" y="336"/>
                    </a:lnTo>
                    <a:lnTo>
                      <a:pt x="660" y="396"/>
                    </a:lnTo>
                    <a:lnTo>
                      <a:pt x="750" y="460"/>
                    </a:lnTo>
                    <a:lnTo>
                      <a:pt x="838" y="524"/>
                    </a:lnTo>
                    <a:lnTo>
                      <a:pt x="925" y="590"/>
                    </a:lnTo>
                    <a:lnTo>
                      <a:pt x="1012" y="657"/>
                    </a:lnTo>
                    <a:lnTo>
                      <a:pt x="1097" y="726"/>
                    </a:lnTo>
                    <a:lnTo>
                      <a:pt x="1180" y="795"/>
                    </a:lnTo>
                    <a:lnTo>
                      <a:pt x="1263" y="867"/>
                    </a:lnTo>
                    <a:lnTo>
                      <a:pt x="1344" y="941"/>
                    </a:lnTo>
                    <a:lnTo>
                      <a:pt x="1424" y="1014"/>
                    </a:lnTo>
                    <a:lnTo>
                      <a:pt x="1503" y="1090"/>
                    </a:lnTo>
                    <a:lnTo>
                      <a:pt x="1580" y="1168"/>
                    </a:lnTo>
                    <a:lnTo>
                      <a:pt x="1655" y="1245"/>
                    </a:lnTo>
                    <a:lnTo>
                      <a:pt x="1730" y="1325"/>
                    </a:lnTo>
                    <a:lnTo>
                      <a:pt x="1804" y="1406"/>
                    </a:lnTo>
                    <a:lnTo>
                      <a:pt x="1875" y="1488"/>
                    </a:lnTo>
                    <a:lnTo>
                      <a:pt x="1946" y="1572"/>
                    </a:lnTo>
                    <a:lnTo>
                      <a:pt x="2014" y="1656"/>
                    </a:lnTo>
                    <a:lnTo>
                      <a:pt x="2082" y="1741"/>
                    </a:lnTo>
                    <a:lnTo>
                      <a:pt x="2147" y="1829"/>
                    </a:lnTo>
                    <a:lnTo>
                      <a:pt x="2212" y="1917"/>
                    </a:lnTo>
                    <a:lnTo>
                      <a:pt x="2275" y="2006"/>
                    </a:lnTo>
                    <a:lnTo>
                      <a:pt x="2336" y="2096"/>
                    </a:lnTo>
                    <a:lnTo>
                      <a:pt x="2396" y="2188"/>
                    </a:lnTo>
                    <a:lnTo>
                      <a:pt x="2454" y="2281"/>
                    </a:lnTo>
                    <a:lnTo>
                      <a:pt x="2511" y="2374"/>
                    </a:lnTo>
                    <a:close/>
                  </a:path>
                </a:pathLst>
              </a:custGeom>
              <a:solidFill>
                <a:srgbClr val="dd2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42760" y="2991240"/>
                <a:ext cx="28440" cy="41040"/>
              </a:xfrm>
              <a:custGeom>
                <a:avLst/>
                <a:gdLst/>
                <a:ahLst/>
                <a:rect l="l" t="t" r="r" b="b"/>
                <a:pathLst>
                  <a:path w="1726" h="2474">
                    <a:moveTo>
                      <a:pt x="1704" y="66"/>
                    </a:moveTo>
                    <a:lnTo>
                      <a:pt x="1726" y="597"/>
                    </a:lnTo>
                    <a:lnTo>
                      <a:pt x="1636" y="598"/>
                    </a:lnTo>
                    <a:lnTo>
                      <a:pt x="1551" y="600"/>
                    </a:lnTo>
                    <a:lnTo>
                      <a:pt x="1469" y="602"/>
                    </a:lnTo>
                    <a:lnTo>
                      <a:pt x="1391" y="604"/>
                    </a:lnTo>
                    <a:lnTo>
                      <a:pt x="1318" y="605"/>
                    </a:lnTo>
                    <a:lnTo>
                      <a:pt x="1246" y="607"/>
                    </a:lnTo>
                    <a:lnTo>
                      <a:pt x="1177" y="608"/>
                    </a:lnTo>
                    <a:lnTo>
                      <a:pt x="1112" y="608"/>
                    </a:lnTo>
                    <a:lnTo>
                      <a:pt x="1083" y="609"/>
                    </a:lnTo>
                    <a:lnTo>
                      <a:pt x="1053" y="611"/>
                    </a:lnTo>
                    <a:lnTo>
                      <a:pt x="1025" y="614"/>
                    </a:lnTo>
                    <a:lnTo>
                      <a:pt x="998" y="618"/>
                    </a:lnTo>
                    <a:lnTo>
                      <a:pt x="971" y="624"/>
                    </a:lnTo>
                    <a:lnTo>
                      <a:pt x="943" y="631"/>
                    </a:lnTo>
                    <a:lnTo>
                      <a:pt x="918" y="639"/>
                    </a:lnTo>
                    <a:lnTo>
                      <a:pt x="893" y="648"/>
                    </a:lnTo>
                    <a:lnTo>
                      <a:pt x="868" y="658"/>
                    </a:lnTo>
                    <a:lnTo>
                      <a:pt x="844" y="670"/>
                    </a:lnTo>
                    <a:lnTo>
                      <a:pt x="820" y="683"/>
                    </a:lnTo>
                    <a:lnTo>
                      <a:pt x="798" y="697"/>
                    </a:lnTo>
                    <a:lnTo>
                      <a:pt x="776" y="713"/>
                    </a:lnTo>
                    <a:lnTo>
                      <a:pt x="756" y="729"/>
                    </a:lnTo>
                    <a:lnTo>
                      <a:pt x="736" y="747"/>
                    </a:lnTo>
                    <a:lnTo>
                      <a:pt x="717" y="765"/>
                    </a:lnTo>
                    <a:lnTo>
                      <a:pt x="698" y="785"/>
                    </a:lnTo>
                    <a:lnTo>
                      <a:pt x="681" y="806"/>
                    </a:lnTo>
                    <a:lnTo>
                      <a:pt x="665" y="829"/>
                    </a:lnTo>
                    <a:lnTo>
                      <a:pt x="649" y="852"/>
                    </a:lnTo>
                    <a:lnTo>
                      <a:pt x="635" y="877"/>
                    </a:lnTo>
                    <a:lnTo>
                      <a:pt x="622" y="902"/>
                    </a:lnTo>
                    <a:lnTo>
                      <a:pt x="610" y="929"/>
                    </a:lnTo>
                    <a:lnTo>
                      <a:pt x="599" y="957"/>
                    </a:lnTo>
                    <a:lnTo>
                      <a:pt x="589" y="986"/>
                    </a:lnTo>
                    <a:lnTo>
                      <a:pt x="580" y="1016"/>
                    </a:lnTo>
                    <a:lnTo>
                      <a:pt x="573" y="1047"/>
                    </a:lnTo>
                    <a:lnTo>
                      <a:pt x="567" y="1080"/>
                    </a:lnTo>
                    <a:lnTo>
                      <a:pt x="562" y="1113"/>
                    </a:lnTo>
                    <a:lnTo>
                      <a:pt x="559" y="1147"/>
                    </a:lnTo>
                    <a:lnTo>
                      <a:pt x="557" y="1183"/>
                    </a:lnTo>
                    <a:lnTo>
                      <a:pt x="556" y="1219"/>
                    </a:lnTo>
                    <a:lnTo>
                      <a:pt x="557" y="1257"/>
                    </a:lnTo>
                    <a:lnTo>
                      <a:pt x="559" y="1295"/>
                    </a:lnTo>
                    <a:lnTo>
                      <a:pt x="562" y="1332"/>
                    </a:lnTo>
                    <a:lnTo>
                      <a:pt x="567" y="1367"/>
                    </a:lnTo>
                    <a:lnTo>
                      <a:pt x="573" y="1401"/>
                    </a:lnTo>
                    <a:lnTo>
                      <a:pt x="580" y="1435"/>
                    </a:lnTo>
                    <a:lnTo>
                      <a:pt x="589" y="1468"/>
                    </a:lnTo>
                    <a:lnTo>
                      <a:pt x="600" y="1499"/>
                    </a:lnTo>
                    <a:lnTo>
                      <a:pt x="611" y="1530"/>
                    </a:lnTo>
                    <a:lnTo>
                      <a:pt x="623" y="1559"/>
                    </a:lnTo>
                    <a:lnTo>
                      <a:pt x="636" y="1587"/>
                    </a:lnTo>
                    <a:lnTo>
                      <a:pt x="651" y="1614"/>
                    </a:lnTo>
                    <a:lnTo>
                      <a:pt x="666" y="1640"/>
                    </a:lnTo>
                    <a:lnTo>
                      <a:pt x="683" y="1665"/>
                    </a:lnTo>
                    <a:lnTo>
                      <a:pt x="700" y="1689"/>
                    </a:lnTo>
                    <a:lnTo>
                      <a:pt x="719" y="1711"/>
                    </a:lnTo>
                    <a:lnTo>
                      <a:pt x="739" y="1732"/>
                    </a:lnTo>
                    <a:lnTo>
                      <a:pt x="759" y="1752"/>
                    </a:lnTo>
                    <a:lnTo>
                      <a:pt x="780" y="1772"/>
                    </a:lnTo>
                    <a:lnTo>
                      <a:pt x="802" y="1789"/>
                    </a:lnTo>
                    <a:lnTo>
                      <a:pt x="825" y="1806"/>
                    </a:lnTo>
                    <a:lnTo>
                      <a:pt x="850" y="1820"/>
                    </a:lnTo>
                    <a:lnTo>
                      <a:pt x="874" y="1834"/>
                    </a:lnTo>
                    <a:lnTo>
                      <a:pt x="900" y="1846"/>
                    </a:lnTo>
                    <a:lnTo>
                      <a:pt x="925" y="1857"/>
                    </a:lnTo>
                    <a:lnTo>
                      <a:pt x="953" y="1866"/>
                    </a:lnTo>
                    <a:lnTo>
                      <a:pt x="980" y="1874"/>
                    </a:lnTo>
                    <a:lnTo>
                      <a:pt x="1008" y="1882"/>
                    </a:lnTo>
                    <a:lnTo>
                      <a:pt x="1037" y="1887"/>
                    </a:lnTo>
                    <a:lnTo>
                      <a:pt x="1066" y="1891"/>
                    </a:lnTo>
                    <a:lnTo>
                      <a:pt x="1096" y="1893"/>
                    </a:lnTo>
                    <a:lnTo>
                      <a:pt x="1126" y="1894"/>
                    </a:lnTo>
                    <a:lnTo>
                      <a:pt x="1190" y="1894"/>
                    </a:lnTo>
                    <a:lnTo>
                      <a:pt x="1257" y="1894"/>
                    </a:lnTo>
                    <a:lnTo>
                      <a:pt x="1328" y="1894"/>
                    </a:lnTo>
                    <a:lnTo>
                      <a:pt x="1401" y="1893"/>
                    </a:lnTo>
                    <a:lnTo>
                      <a:pt x="1440" y="1892"/>
                    </a:lnTo>
                    <a:lnTo>
                      <a:pt x="1478" y="1891"/>
                    </a:lnTo>
                    <a:lnTo>
                      <a:pt x="1516" y="1889"/>
                    </a:lnTo>
                    <a:lnTo>
                      <a:pt x="1556" y="1886"/>
                    </a:lnTo>
                    <a:lnTo>
                      <a:pt x="1595" y="1883"/>
                    </a:lnTo>
                    <a:lnTo>
                      <a:pt x="1634" y="1877"/>
                    </a:lnTo>
                    <a:lnTo>
                      <a:pt x="1674" y="1872"/>
                    </a:lnTo>
                    <a:lnTo>
                      <a:pt x="1713" y="1866"/>
                    </a:lnTo>
                    <a:lnTo>
                      <a:pt x="1706" y="2426"/>
                    </a:lnTo>
                    <a:lnTo>
                      <a:pt x="1637" y="2439"/>
                    </a:lnTo>
                    <a:lnTo>
                      <a:pt x="1567" y="2450"/>
                    </a:lnTo>
                    <a:lnTo>
                      <a:pt x="1495" y="2459"/>
                    </a:lnTo>
                    <a:lnTo>
                      <a:pt x="1424" y="2466"/>
                    </a:lnTo>
                    <a:lnTo>
                      <a:pt x="1351" y="2471"/>
                    </a:lnTo>
                    <a:lnTo>
                      <a:pt x="1277" y="2474"/>
                    </a:lnTo>
                    <a:lnTo>
                      <a:pt x="1205" y="2474"/>
                    </a:lnTo>
                    <a:lnTo>
                      <a:pt x="1132" y="2471"/>
                    </a:lnTo>
                    <a:lnTo>
                      <a:pt x="1059" y="2465"/>
                    </a:lnTo>
                    <a:lnTo>
                      <a:pt x="987" y="2456"/>
                    </a:lnTo>
                    <a:lnTo>
                      <a:pt x="916" y="2445"/>
                    </a:lnTo>
                    <a:lnTo>
                      <a:pt x="846" y="2430"/>
                    </a:lnTo>
                    <a:lnTo>
                      <a:pt x="777" y="2412"/>
                    </a:lnTo>
                    <a:lnTo>
                      <a:pt x="709" y="2390"/>
                    </a:lnTo>
                    <a:lnTo>
                      <a:pt x="643" y="2365"/>
                    </a:lnTo>
                    <a:lnTo>
                      <a:pt x="579" y="2335"/>
                    </a:lnTo>
                    <a:lnTo>
                      <a:pt x="518" y="2302"/>
                    </a:lnTo>
                    <a:lnTo>
                      <a:pt x="458" y="2265"/>
                    </a:lnTo>
                    <a:lnTo>
                      <a:pt x="402" y="2222"/>
                    </a:lnTo>
                    <a:lnTo>
                      <a:pt x="347" y="2176"/>
                    </a:lnTo>
                    <a:lnTo>
                      <a:pt x="297" y="2125"/>
                    </a:lnTo>
                    <a:lnTo>
                      <a:pt x="249" y="2069"/>
                    </a:lnTo>
                    <a:lnTo>
                      <a:pt x="204" y="2009"/>
                    </a:lnTo>
                    <a:lnTo>
                      <a:pt x="164" y="1942"/>
                    </a:lnTo>
                    <a:lnTo>
                      <a:pt x="128" y="1871"/>
                    </a:lnTo>
                    <a:lnTo>
                      <a:pt x="95" y="1795"/>
                    </a:lnTo>
                    <a:lnTo>
                      <a:pt x="67" y="1712"/>
                    </a:lnTo>
                    <a:lnTo>
                      <a:pt x="44" y="1624"/>
                    </a:lnTo>
                    <a:lnTo>
                      <a:pt x="25" y="1531"/>
                    </a:lnTo>
                    <a:lnTo>
                      <a:pt x="12" y="1432"/>
                    </a:lnTo>
                    <a:lnTo>
                      <a:pt x="3" y="1326"/>
                    </a:lnTo>
                    <a:lnTo>
                      <a:pt x="0" y="1213"/>
                    </a:lnTo>
                    <a:lnTo>
                      <a:pt x="3" y="1102"/>
                    </a:lnTo>
                    <a:lnTo>
                      <a:pt x="12" y="997"/>
                    </a:lnTo>
                    <a:lnTo>
                      <a:pt x="26" y="898"/>
                    </a:lnTo>
                    <a:lnTo>
                      <a:pt x="44" y="806"/>
                    </a:lnTo>
                    <a:lnTo>
                      <a:pt x="68" y="720"/>
                    </a:lnTo>
                    <a:lnTo>
                      <a:pt x="96" y="639"/>
                    </a:lnTo>
                    <a:lnTo>
                      <a:pt x="130" y="563"/>
                    </a:lnTo>
                    <a:lnTo>
                      <a:pt x="167" y="494"/>
                    </a:lnTo>
                    <a:lnTo>
                      <a:pt x="207" y="430"/>
                    </a:lnTo>
                    <a:lnTo>
                      <a:pt x="253" y="371"/>
                    </a:lnTo>
                    <a:lnTo>
                      <a:pt x="300" y="317"/>
                    </a:lnTo>
                    <a:lnTo>
                      <a:pt x="351" y="268"/>
                    </a:lnTo>
                    <a:lnTo>
                      <a:pt x="406" y="223"/>
                    </a:lnTo>
                    <a:lnTo>
                      <a:pt x="463" y="183"/>
                    </a:lnTo>
                    <a:lnTo>
                      <a:pt x="524" y="148"/>
                    </a:lnTo>
                    <a:lnTo>
                      <a:pt x="585" y="117"/>
                    </a:lnTo>
                    <a:lnTo>
                      <a:pt x="650" y="89"/>
                    </a:lnTo>
                    <a:lnTo>
                      <a:pt x="716" y="66"/>
                    </a:lnTo>
                    <a:lnTo>
                      <a:pt x="783" y="46"/>
                    </a:lnTo>
                    <a:lnTo>
                      <a:pt x="853" y="31"/>
                    </a:lnTo>
                    <a:lnTo>
                      <a:pt x="922" y="18"/>
                    </a:lnTo>
                    <a:lnTo>
                      <a:pt x="994" y="9"/>
                    </a:lnTo>
                    <a:lnTo>
                      <a:pt x="1065" y="3"/>
                    </a:lnTo>
                    <a:lnTo>
                      <a:pt x="1138" y="1"/>
                    </a:lnTo>
                    <a:lnTo>
                      <a:pt x="1211" y="0"/>
                    </a:lnTo>
                    <a:lnTo>
                      <a:pt x="1282" y="3"/>
                    </a:lnTo>
                    <a:lnTo>
                      <a:pt x="1355" y="8"/>
                    </a:lnTo>
                    <a:lnTo>
                      <a:pt x="1427" y="15"/>
                    </a:lnTo>
                    <a:lnTo>
                      <a:pt x="1498" y="25"/>
                    </a:lnTo>
                    <a:lnTo>
                      <a:pt x="1568" y="37"/>
                    </a:lnTo>
                    <a:lnTo>
                      <a:pt x="1636" y="50"/>
                    </a:lnTo>
                    <a:lnTo>
                      <a:pt x="170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11080" y="2991960"/>
                <a:ext cx="31320" cy="39960"/>
              </a:xfrm>
              <a:custGeom>
                <a:avLst/>
                <a:gdLst/>
                <a:ahLst/>
                <a:rect l="l" t="t" r="r" b="b"/>
                <a:pathLst>
                  <a:path w="1879" h="2418">
                    <a:moveTo>
                      <a:pt x="699" y="1084"/>
                    </a:moveTo>
                    <a:lnTo>
                      <a:pt x="1151" y="0"/>
                    </a:lnTo>
                    <a:lnTo>
                      <a:pt x="1879" y="0"/>
                    </a:lnTo>
                    <a:lnTo>
                      <a:pt x="1269" y="1200"/>
                    </a:lnTo>
                    <a:lnTo>
                      <a:pt x="1879" y="2418"/>
                    </a:lnTo>
                    <a:lnTo>
                      <a:pt x="1181" y="2418"/>
                    </a:lnTo>
                    <a:lnTo>
                      <a:pt x="706" y="1235"/>
                    </a:lnTo>
                    <a:lnTo>
                      <a:pt x="699" y="2418"/>
                    </a:lnTo>
                    <a:lnTo>
                      <a:pt x="0" y="2418"/>
                    </a:lnTo>
                    <a:lnTo>
                      <a:pt x="0" y="0"/>
                    </a:lnTo>
                    <a:lnTo>
                      <a:pt x="699" y="0"/>
                    </a:lnTo>
                    <a:lnTo>
                      <a:pt x="699" y="10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6160" y="2991240"/>
                <a:ext cx="30600" cy="4032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11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8360" y="2991240"/>
                <a:ext cx="32760" cy="47520"/>
              </a:xfrm>
              <a:custGeom>
                <a:avLst/>
                <a:gdLst/>
                <a:ahLst/>
                <a:rect l="l" t="t" r="r" b="b"/>
                <a:pathLst>
                  <a:path w="1980" h="2864">
                    <a:moveTo>
                      <a:pt x="820" y="564"/>
                    </a:moveTo>
                    <a:lnTo>
                      <a:pt x="820" y="694"/>
                    </a:lnTo>
                    <a:lnTo>
                      <a:pt x="820" y="812"/>
                    </a:lnTo>
                    <a:lnTo>
                      <a:pt x="820" y="921"/>
                    </a:lnTo>
                    <a:lnTo>
                      <a:pt x="820" y="1023"/>
                    </a:lnTo>
                    <a:lnTo>
                      <a:pt x="820" y="1118"/>
                    </a:lnTo>
                    <a:lnTo>
                      <a:pt x="819" y="1206"/>
                    </a:lnTo>
                    <a:lnTo>
                      <a:pt x="816" y="1288"/>
                    </a:lnTo>
                    <a:lnTo>
                      <a:pt x="813" y="1364"/>
                    </a:lnTo>
                    <a:lnTo>
                      <a:pt x="809" y="1436"/>
                    </a:lnTo>
                    <a:lnTo>
                      <a:pt x="803" y="1504"/>
                    </a:lnTo>
                    <a:lnTo>
                      <a:pt x="799" y="1538"/>
                    </a:lnTo>
                    <a:lnTo>
                      <a:pt x="795" y="1570"/>
                    </a:lnTo>
                    <a:lnTo>
                      <a:pt x="790" y="1601"/>
                    </a:lnTo>
                    <a:lnTo>
                      <a:pt x="785" y="1633"/>
                    </a:lnTo>
                    <a:lnTo>
                      <a:pt x="780" y="1664"/>
                    </a:lnTo>
                    <a:lnTo>
                      <a:pt x="773" y="1694"/>
                    </a:lnTo>
                    <a:lnTo>
                      <a:pt x="767" y="1724"/>
                    </a:lnTo>
                    <a:lnTo>
                      <a:pt x="759" y="1755"/>
                    </a:lnTo>
                    <a:lnTo>
                      <a:pt x="751" y="1784"/>
                    </a:lnTo>
                    <a:lnTo>
                      <a:pt x="743" y="1814"/>
                    </a:lnTo>
                    <a:lnTo>
                      <a:pt x="732" y="1844"/>
                    </a:lnTo>
                    <a:lnTo>
                      <a:pt x="722" y="1875"/>
                    </a:lnTo>
                    <a:lnTo>
                      <a:pt x="1272" y="1875"/>
                    </a:lnTo>
                    <a:lnTo>
                      <a:pt x="1286" y="580"/>
                    </a:lnTo>
                    <a:lnTo>
                      <a:pt x="820" y="564"/>
                    </a:lnTo>
                    <a:close/>
                    <a:moveTo>
                      <a:pt x="282" y="0"/>
                    </a:moveTo>
                    <a:lnTo>
                      <a:pt x="1728" y="0"/>
                    </a:lnTo>
                    <a:lnTo>
                      <a:pt x="1728" y="1875"/>
                    </a:lnTo>
                    <a:lnTo>
                      <a:pt x="1980" y="1875"/>
                    </a:lnTo>
                    <a:lnTo>
                      <a:pt x="1980" y="2849"/>
                    </a:lnTo>
                    <a:lnTo>
                      <a:pt x="1420" y="2864"/>
                    </a:lnTo>
                    <a:lnTo>
                      <a:pt x="1420" y="2439"/>
                    </a:lnTo>
                    <a:lnTo>
                      <a:pt x="532" y="2439"/>
                    </a:lnTo>
                    <a:lnTo>
                      <a:pt x="546" y="2849"/>
                    </a:lnTo>
                    <a:lnTo>
                      <a:pt x="0" y="2849"/>
                    </a:lnTo>
                    <a:lnTo>
                      <a:pt x="0" y="1875"/>
                    </a:lnTo>
                    <a:lnTo>
                      <a:pt x="175" y="1875"/>
                    </a:lnTo>
                    <a:lnTo>
                      <a:pt x="189" y="1838"/>
                    </a:lnTo>
                    <a:lnTo>
                      <a:pt x="201" y="1800"/>
                    </a:lnTo>
                    <a:lnTo>
                      <a:pt x="213" y="1759"/>
                    </a:lnTo>
                    <a:lnTo>
                      <a:pt x="224" y="1715"/>
                    </a:lnTo>
                    <a:lnTo>
                      <a:pt x="233" y="1670"/>
                    </a:lnTo>
                    <a:lnTo>
                      <a:pt x="242" y="1622"/>
                    </a:lnTo>
                    <a:lnTo>
                      <a:pt x="250" y="1573"/>
                    </a:lnTo>
                    <a:lnTo>
                      <a:pt x="256" y="1522"/>
                    </a:lnTo>
                    <a:lnTo>
                      <a:pt x="262" y="1469"/>
                    </a:lnTo>
                    <a:lnTo>
                      <a:pt x="268" y="1415"/>
                    </a:lnTo>
                    <a:lnTo>
                      <a:pt x="273" y="1360"/>
                    </a:lnTo>
                    <a:lnTo>
                      <a:pt x="277" y="1304"/>
                    </a:lnTo>
                    <a:lnTo>
                      <a:pt x="280" y="1247"/>
                    </a:lnTo>
                    <a:lnTo>
                      <a:pt x="283" y="1190"/>
                    </a:lnTo>
                    <a:lnTo>
                      <a:pt x="285" y="1131"/>
                    </a:lnTo>
                    <a:lnTo>
                      <a:pt x="287" y="1073"/>
                    </a:lnTo>
                    <a:lnTo>
                      <a:pt x="289" y="957"/>
                    </a:lnTo>
                    <a:lnTo>
                      <a:pt x="289" y="842"/>
                    </a:lnTo>
                    <a:lnTo>
                      <a:pt x="289" y="728"/>
                    </a:lnTo>
                    <a:lnTo>
                      <a:pt x="287" y="619"/>
                    </a:lnTo>
                    <a:lnTo>
                      <a:pt x="286" y="515"/>
                    </a:lnTo>
                    <a:lnTo>
                      <a:pt x="284" y="417"/>
                    </a:lnTo>
                    <a:lnTo>
                      <a:pt x="283" y="327"/>
                    </a:lnTo>
                    <a:lnTo>
                      <a:pt x="282" y="247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75160" y="2991240"/>
                <a:ext cx="30600" cy="4032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09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920520" y="2986920"/>
                <a:ext cx="1800" cy="6840"/>
              </a:xfrm>
              <a:custGeom>
                <a:avLst/>
                <a:gdLst/>
                <a:ahLst/>
                <a:rect l="l" t="t" r="r" b="b"/>
                <a:pathLst>
                  <a:path w="104" h="439">
                    <a:moveTo>
                      <a:pt x="0" y="177"/>
                    </a:moveTo>
                    <a:lnTo>
                      <a:pt x="0" y="0"/>
                    </a:lnTo>
                    <a:lnTo>
                      <a:pt x="14" y="54"/>
                    </a:lnTo>
                    <a:lnTo>
                      <a:pt x="28" y="108"/>
                    </a:lnTo>
                    <a:lnTo>
                      <a:pt x="42" y="163"/>
                    </a:lnTo>
                    <a:lnTo>
                      <a:pt x="55" y="217"/>
                    </a:lnTo>
                    <a:lnTo>
                      <a:pt x="68" y="273"/>
                    </a:lnTo>
                    <a:lnTo>
                      <a:pt x="80" y="328"/>
                    </a:lnTo>
                    <a:lnTo>
                      <a:pt x="92" y="384"/>
                    </a:lnTo>
                    <a:lnTo>
                      <a:pt x="104" y="439"/>
                    </a:lnTo>
                    <a:lnTo>
                      <a:pt x="91" y="407"/>
                    </a:lnTo>
                    <a:lnTo>
                      <a:pt x="79" y="374"/>
                    </a:lnTo>
                    <a:lnTo>
                      <a:pt x="66" y="340"/>
                    </a:lnTo>
                    <a:lnTo>
                      <a:pt x="53" y="308"/>
                    </a:lnTo>
                    <a:lnTo>
                      <a:pt x="40" y="275"/>
                    </a:lnTo>
                    <a:lnTo>
                      <a:pt x="27" y="242"/>
                    </a:lnTo>
                    <a:lnTo>
                      <a:pt x="13" y="21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19080" y="29808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97">
                    <a:moveTo>
                      <a:pt x="0" y="294"/>
                    </a:moveTo>
                    <a:lnTo>
                      <a:pt x="0" y="0"/>
                    </a:lnTo>
                    <a:lnTo>
                      <a:pt x="16" y="48"/>
                    </a:lnTo>
                    <a:lnTo>
                      <a:pt x="31" y="96"/>
                    </a:lnTo>
                    <a:lnTo>
                      <a:pt x="45" y="145"/>
                    </a:lnTo>
                    <a:lnTo>
                      <a:pt x="59" y="193"/>
                    </a:lnTo>
                    <a:lnTo>
                      <a:pt x="73" y="241"/>
                    </a:lnTo>
                    <a:lnTo>
                      <a:pt x="87" y="291"/>
                    </a:lnTo>
                    <a:lnTo>
                      <a:pt x="100" y="340"/>
                    </a:lnTo>
                    <a:lnTo>
                      <a:pt x="113" y="390"/>
                    </a:lnTo>
                    <a:lnTo>
                      <a:pt x="127" y="440"/>
                    </a:lnTo>
                    <a:lnTo>
                      <a:pt x="139" y="490"/>
                    </a:lnTo>
                    <a:lnTo>
                      <a:pt x="152" y="541"/>
                    </a:lnTo>
                    <a:lnTo>
                      <a:pt x="164" y="591"/>
                    </a:lnTo>
                    <a:lnTo>
                      <a:pt x="175" y="643"/>
                    </a:lnTo>
                    <a:lnTo>
                      <a:pt x="187" y="694"/>
                    </a:lnTo>
                    <a:lnTo>
                      <a:pt x="198" y="746"/>
                    </a:lnTo>
                    <a:lnTo>
                      <a:pt x="209" y="797"/>
                    </a:lnTo>
                    <a:lnTo>
                      <a:pt x="184" y="734"/>
                    </a:lnTo>
                    <a:lnTo>
                      <a:pt x="160" y="669"/>
                    </a:lnTo>
                    <a:lnTo>
                      <a:pt x="134" y="605"/>
                    </a:lnTo>
                    <a:lnTo>
                      <a:pt x="108" y="543"/>
                    </a:lnTo>
                    <a:lnTo>
                      <a:pt x="82" y="479"/>
                    </a:lnTo>
                    <a:lnTo>
                      <a:pt x="55" y="417"/>
                    </a:lnTo>
                    <a:lnTo>
                      <a:pt x="29" y="355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917280" y="297576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208" h="838">
                    <a:moveTo>
                      <a:pt x="208" y="661"/>
                    </a:moveTo>
                    <a:lnTo>
                      <a:pt x="208" y="838"/>
                    </a:lnTo>
                    <a:lnTo>
                      <a:pt x="183" y="779"/>
                    </a:lnTo>
                    <a:lnTo>
                      <a:pt x="158" y="720"/>
                    </a:lnTo>
                    <a:lnTo>
                      <a:pt x="133" y="661"/>
                    </a:lnTo>
                    <a:lnTo>
                      <a:pt x="106" y="603"/>
                    </a:lnTo>
                    <a:lnTo>
                      <a:pt x="80" y="544"/>
                    </a:lnTo>
                    <a:lnTo>
                      <a:pt x="54" y="487"/>
                    </a:lnTo>
                    <a:lnTo>
                      <a:pt x="27" y="429"/>
                    </a:lnTo>
                    <a:lnTo>
                      <a:pt x="0" y="372"/>
                    </a:lnTo>
                    <a:lnTo>
                      <a:pt x="0" y="0"/>
                    </a:lnTo>
                    <a:lnTo>
                      <a:pt x="29" y="79"/>
                    </a:lnTo>
                    <a:lnTo>
                      <a:pt x="57" y="160"/>
                    </a:lnTo>
                    <a:lnTo>
                      <a:pt x="84" y="242"/>
                    </a:lnTo>
                    <a:lnTo>
                      <a:pt x="111" y="323"/>
                    </a:lnTo>
                    <a:lnTo>
                      <a:pt x="136" y="407"/>
                    </a:lnTo>
                    <a:lnTo>
                      <a:pt x="161" y="491"/>
                    </a:lnTo>
                    <a:lnTo>
                      <a:pt x="185" y="576"/>
                    </a:lnTo>
                    <a:lnTo>
                      <a:pt x="208" y="661"/>
                    </a:lnTo>
                    <a:close/>
                  </a:path>
                </a:pathLst>
              </a:custGeom>
              <a:solidFill>
                <a:srgbClr val="e53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915480" y="297144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7" h="864">
                    <a:moveTo>
                      <a:pt x="207" y="570"/>
                    </a:moveTo>
                    <a:lnTo>
                      <a:pt x="207" y="864"/>
                    </a:lnTo>
                    <a:lnTo>
                      <a:pt x="183" y="808"/>
                    </a:lnTo>
                    <a:lnTo>
                      <a:pt x="158" y="754"/>
                    </a:lnTo>
                    <a:lnTo>
                      <a:pt x="132" y="698"/>
                    </a:lnTo>
                    <a:lnTo>
                      <a:pt x="107" y="645"/>
                    </a:lnTo>
                    <a:lnTo>
                      <a:pt x="80" y="590"/>
                    </a:lnTo>
                    <a:lnTo>
                      <a:pt x="53" y="537"/>
                    </a:lnTo>
                    <a:lnTo>
                      <a:pt x="27" y="484"/>
                    </a:lnTo>
                    <a:lnTo>
                      <a:pt x="0" y="430"/>
                    </a:lnTo>
                    <a:lnTo>
                      <a:pt x="0" y="0"/>
                    </a:lnTo>
                    <a:lnTo>
                      <a:pt x="28" y="70"/>
                    </a:lnTo>
                    <a:lnTo>
                      <a:pt x="55" y="139"/>
                    </a:lnTo>
                    <a:lnTo>
                      <a:pt x="82" y="209"/>
                    </a:lnTo>
                    <a:lnTo>
                      <a:pt x="109" y="280"/>
                    </a:lnTo>
                    <a:lnTo>
                      <a:pt x="135" y="351"/>
                    </a:lnTo>
                    <a:lnTo>
                      <a:pt x="160" y="424"/>
                    </a:lnTo>
                    <a:lnTo>
                      <a:pt x="184" y="497"/>
                    </a:lnTo>
                    <a:lnTo>
                      <a:pt x="207" y="570"/>
                    </a:lnTo>
                    <a:close/>
                  </a:path>
                </a:pathLst>
              </a:custGeom>
              <a:solidFill>
                <a:srgbClr val="e74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14040" y="29678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208" h="875">
                    <a:moveTo>
                      <a:pt x="208" y="503"/>
                    </a:moveTo>
                    <a:lnTo>
                      <a:pt x="208" y="875"/>
                    </a:lnTo>
                    <a:lnTo>
                      <a:pt x="182" y="823"/>
                    </a:lnTo>
                    <a:lnTo>
                      <a:pt x="157" y="773"/>
                    </a:lnTo>
                    <a:lnTo>
                      <a:pt x="132" y="722"/>
                    </a:lnTo>
                    <a:lnTo>
                      <a:pt x="106" y="671"/>
                    </a:lnTo>
                    <a:lnTo>
                      <a:pt x="79" y="621"/>
                    </a:lnTo>
                    <a:lnTo>
                      <a:pt x="53" y="570"/>
                    </a:lnTo>
                    <a:lnTo>
                      <a:pt x="26" y="52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27" y="62"/>
                    </a:lnTo>
                    <a:lnTo>
                      <a:pt x="54" y="123"/>
                    </a:lnTo>
                    <a:lnTo>
                      <a:pt x="81" y="185"/>
                    </a:lnTo>
                    <a:lnTo>
                      <a:pt x="108" y="248"/>
                    </a:lnTo>
                    <a:lnTo>
                      <a:pt x="134" y="310"/>
                    </a:lnTo>
                    <a:lnTo>
                      <a:pt x="159" y="374"/>
                    </a:lnTo>
                    <a:lnTo>
                      <a:pt x="183" y="438"/>
                    </a:lnTo>
                    <a:lnTo>
                      <a:pt x="208" y="503"/>
                    </a:lnTo>
                    <a:close/>
                  </a:path>
                </a:pathLst>
              </a:custGeom>
              <a:solidFill>
                <a:srgbClr val="e9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12240" y="29638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09" h="878">
                    <a:moveTo>
                      <a:pt x="209" y="448"/>
                    </a:moveTo>
                    <a:lnTo>
                      <a:pt x="209" y="878"/>
                    </a:lnTo>
                    <a:lnTo>
                      <a:pt x="183" y="830"/>
                    </a:lnTo>
                    <a:lnTo>
                      <a:pt x="158" y="782"/>
                    </a:lnTo>
                    <a:lnTo>
                      <a:pt x="132" y="734"/>
                    </a:lnTo>
                    <a:lnTo>
                      <a:pt x="107" y="686"/>
                    </a:lnTo>
                    <a:lnTo>
                      <a:pt x="81" y="639"/>
                    </a:lnTo>
                    <a:lnTo>
                      <a:pt x="54" y="592"/>
                    </a:lnTo>
                    <a:lnTo>
                      <a:pt x="27" y="545"/>
                    </a:lnTo>
                    <a:lnTo>
                      <a:pt x="0" y="499"/>
                    </a:lnTo>
                    <a:lnTo>
                      <a:pt x="0" y="0"/>
                    </a:lnTo>
                    <a:lnTo>
                      <a:pt x="28" y="54"/>
                    </a:lnTo>
                    <a:lnTo>
                      <a:pt x="55" y="109"/>
                    </a:lnTo>
                    <a:lnTo>
                      <a:pt x="82" y="164"/>
                    </a:lnTo>
                    <a:lnTo>
                      <a:pt x="108" y="221"/>
                    </a:lnTo>
                    <a:lnTo>
                      <a:pt x="134" y="277"/>
                    </a:lnTo>
                    <a:lnTo>
                      <a:pt x="159" y="333"/>
                    </a:lnTo>
                    <a:lnTo>
                      <a:pt x="184" y="391"/>
                    </a:lnTo>
                    <a:lnTo>
                      <a:pt x="209" y="448"/>
                    </a:lnTo>
                    <a:close/>
                  </a:path>
                </a:pathLst>
              </a:custGeom>
              <a:solidFill>
                <a:srgbClr val="eb6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10080" y="2961000"/>
                <a:ext cx="3600" cy="14040"/>
              </a:xfrm>
              <a:custGeom>
                <a:avLst/>
                <a:gdLst/>
                <a:ahLst/>
                <a:rect l="l" t="t" r="r" b="b"/>
                <a:pathLst>
                  <a:path w="209" h="877">
                    <a:moveTo>
                      <a:pt x="209" y="407"/>
                    </a:moveTo>
                    <a:lnTo>
                      <a:pt x="209" y="877"/>
                    </a:lnTo>
                    <a:lnTo>
                      <a:pt x="184" y="832"/>
                    </a:lnTo>
                    <a:lnTo>
                      <a:pt x="158" y="787"/>
                    </a:lnTo>
                    <a:lnTo>
                      <a:pt x="132" y="741"/>
                    </a:lnTo>
                    <a:lnTo>
                      <a:pt x="106" y="697"/>
                    </a:lnTo>
                    <a:lnTo>
                      <a:pt x="80" y="652"/>
                    </a:lnTo>
                    <a:lnTo>
                      <a:pt x="53" y="607"/>
                    </a:lnTo>
                    <a:lnTo>
                      <a:pt x="27" y="564"/>
                    </a:lnTo>
                    <a:lnTo>
                      <a:pt x="0" y="519"/>
                    </a:lnTo>
                    <a:lnTo>
                      <a:pt x="0" y="0"/>
                    </a:lnTo>
                    <a:lnTo>
                      <a:pt x="27" y="49"/>
                    </a:lnTo>
                    <a:lnTo>
                      <a:pt x="54" y="99"/>
                    </a:lnTo>
                    <a:lnTo>
                      <a:pt x="81" y="149"/>
                    </a:lnTo>
                    <a:lnTo>
                      <a:pt x="108" y="201"/>
                    </a:lnTo>
                    <a:lnTo>
                      <a:pt x="133" y="252"/>
                    </a:lnTo>
                    <a:lnTo>
                      <a:pt x="158" y="304"/>
                    </a:lnTo>
                    <a:lnTo>
                      <a:pt x="184" y="355"/>
                    </a:lnTo>
                    <a:lnTo>
                      <a:pt x="209" y="407"/>
                    </a:lnTo>
                    <a:close/>
                  </a:path>
                </a:pathLst>
              </a:custGeom>
              <a:solidFill>
                <a:srgbClr val="ed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908640" y="295776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208" h="873">
                    <a:moveTo>
                      <a:pt x="208" y="374"/>
                    </a:moveTo>
                    <a:lnTo>
                      <a:pt x="208" y="873"/>
                    </a:lnTo>
                    <a:lnTo>
                      <a:pt x="183" y="830"/>
                    </a:lnTo>
                    <a:lnTo>
                      <a:pt x="157" y="786"/>
                    </a:lnTo>
                    <a:lnTo>
                      <a:pt x="132" y="744"/>
                    </a:lnTo>
                    <a:lnTo>
                      <a:pt x="106" y="701"/>
                    </a:lnTo>
                    <a:lnTo>
                      <a:pt x="80" y="659"/>
                    </a:lnTo>
                    <a:lnTo>
                      <a:pt x="54" y="618"/>
                    </a:lnTo>
                    <a:lnTo>
                      <a:pt x="26" y="575"/>
                    </a:lnTo>
                    <a:lnTo>
                      <a:pt x="0" y="534"/>
                    </a:lnTo>
                    <a:lnTo>
                      <a:pt x="0" y="0"/>
                    </a:lnTo>
                    <a:lnTo>
                      <a:pt x="27" y="46"/>
                    </a:lnTo>
                    <a:lnTo>
                      <a:pt x="55" y="91"/>
                    </a:lnTo>
                    <a:lnTo>
                      <a:pt x="81" y="138"/>
                    </a:lnTo>
                    <a:lnTo>
                      <a:pt x="107" y="184"/>
                    </a:lnTo>
                    <a:lnTo>
                      <a:pt x="133" y="230"/>
                    </a:lnTo>
                    <a:lnTo>
                      <a:pt x="158" y="278"/>
                    </a:lnTo>
                    <a:lnTo>
                      <a:pt x="184" y="325"/>
                    </a:lnTo>
                    <a:lnTo>
                      <a:pt x="208" y="374"/>
                    </a:lnTo>
                    <a:close/>
                  </a:path>
                </a:pathLst>
              </a:custGeom>
              <a:solidFill>
                <a:srgbClr val="ef87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06840" y="29552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208" h="862">
                    <a:moveTo>
                      <a:pt x="208" y="343"/>
                    </a:moveTo>
                    <a:lnTo>
                      <a:pt x="208" y="862"/>
                    </a:lnTo>
                    <a:lnTo>
                      <a:pt x="183" y="822"/>
                    </a:lnTo>
                    <a:lnTo>
                      <a:pt x="158" y="781"/>
                    </a:lnTo>
                    <a:lnTo>
                      <a:pt x="131" y="740"/>
                    </a:lnTo>
                    <a:lnTo>
                      <a:pt x="106" y="701"/>
                    </a:lnTo>
                    <a:lnTo>
                      <a:pt x="80" y="661"/>
                    </a:lnTo>
                    <a:lnTo>
                      <a:pt x="53" y="621"/>
                    </a:lnTo>
                    <a:lnTo>
                      <a:pt x="26" y="581"/>
                    </a:lnTo>
                    <a:lnTo>
                      <a:pt x="0" y="542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54" y="84"/>
                    </a:lnTo>
                    <a:lnTo>
                      <a:pt x="80" y="126"/>
                    </a:lnTo>
                    <a:lnTo>
                      <a:pt x="106" y="169"/>
                    </a:lnTo>
                    <a:lnTo>
                      <a:pt x="132" y="212"/>
                    </a:lnTo>
                    <a:lnTo>
                      <a:pt x="158" y="255"/>
                    </a:lnTo>
                    <a:lnTo>
                      <a:pt x="183" y="299"/>
                    </a:lnTo>
                    <a:lnTo>
                      <a:pt x="208" y="343"/>
                    </a:lnTo>
                    <a:close/>
                  </a:path>
                </a:pathLst>
              </a:custGeom>
              <a:solidFill>
                <a:srgbClr val="f19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05040" y="29523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9" h="851">
                    <a:moveTo>
                      <a:pt x="209" y="317"/>
                    </a:moveTo>
                    <a:lnTo>
                      <a:pt x="209" y="851"/>
                    </a:lnTo>
                    <a:lnTo>
                      <a:pt x="184" y="813"/>
                    </a:lnTo>
                    <a:lnTo>
                      <a:pt x="158" y="773"/>
                    </a:lnTo>
                    <a:lnTo>
                      <a:pt x="132" y="735"/>
                    </a:lnTo>
                    <a:lnTo>
                      <a:pt x="106" y="698"/>
                    </a:lnTo>
                    <a:lnTo>
                      <a:pt x="80" y="659"/>
                    </a:lnTo>
                    <a:lnTo>
                      <a:pt x="54" y="621"/>
                    </a:lnTo>
                    <a:lnTo>
                      <a:pt x="28" y="584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28" y="38"/>
                    </a:lnTo>
                    <a:lnTo>
                      <a:pt x="55" y="77"/>
                    </a:lnTo>
                    <a:lnTo>
                      <a:pt x="81" y="117"/>
                    </a:lnTo>
                    <a:lnTo>
                      <a:pt x="107" y="156"/>
                    </a:lnTo>
                    <a:lnTo>
                      <a:pt x="134" y="196"/>
                    </a:lnTo>
                    <a:lnTo>
                      <a:pt x="159" y="237"/>
                    </a:lnTo>
                    <a:lnTo>
                      <a:pt x="184" y="277"/>
                    </a:lnTo>
                    <a:lnTo>
                      <a:pt x="209" y="317"/>
                    </a:lnTo>
                    <a:close/>
                  </a:path>
                </a:pathLst>
              </a:custGeom>
              <a:solidFill>
                <a:srgbClr val="f19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03600" y="295020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9" h="837">
                    <a:moveTo>
                      <a:pt x="209" y="295"/>
                    </a:moveTo>
                    <a:lnTo>
                      <a:pt x="209" y="837"/>
                    </a:lnTo>
                    <a:lnTo>
                      <a:pt x="183" y="800"/>
                    </a:lnTo>
                    <a:lnTo>
                      <a:pt x="158" y="763"/>
                    </a:lnTo>
                    <a:lnTo>
                      <a:pt x="133" y="727"/>
                    </a:lnTo>
                    <a:lnTo>
                      <a:pt x="106" y="690"/>
                    </a:lnTo>
                    <a:lnTo>
                      <a:pt x="80" y="654"/>
                    </a:lnTo>
                    <a:lnTo>
                      <a:pt x="54" y="619"/>
                    </a:lnTo>
                    <a:lnTo>
                      <a:pt x="28" y="583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8" y="36"/>
                    </a:lnTo>
                    <a:lnTo>
                      <a:pt x="54" y="71"/>
                    </a:lnTo>
                    <a:lnTo>
                      <a:pt x="80" y="109"/>
                    </a:lnTo>
                    <a:lnTo>
                      <a:pt x="106" y="145"/>
                    </a:lnTo>
                    <a:lnTo>
                      <a:pt x="133" y="182"/>
                    </a:lnTo>
                    <a:lnTo>
                      <a:pt x="159" y="219"/>
                    </a:lnTo>
                    <a:lnTo>
                      <a:pt x="184" y="257"/>
                    </a:lnTo>
                    <a:lnTo>
                      <a:pt x="209" y="295"/>
                    </a:lnTo>
                    <a:close/>
                  </a:path>
                </a:pathLst>
              </a:custGeom>
              <a:solidFill>
                <a:srgbClr val="f19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1800" y="294804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07" h="823">
                    <a:moveTo>
                      <a:pt x="207" y="277"/>
                    </a:moveTo>
                    <a:lnTo>
                      <a:pt x="207" y="823"/>
                    </a:lnTo>
                    <a:lnTo>
                      <a:pt x="182" y="788"/>
                    </a:lnTo>
                    <a:lnTo>
                      <a:pt x="157" y="754"/>
                    </a:lnTo>
                    <a:lnTo>
                      <a:pt x="131" y="719"/>
                    </a:lnTo>
                    <a:lnTo>
                      <a:pt x="106" y="684"/>
                    </a:lnTo>
                    <a:lnTo>
                      <a:pt x="79" y="650"/>
                    </a:lnTo>
                    <a:lnTo>
                      <a:pt x="53" y="616"/>
                    </a:lnTo>
                    <a:lnTo>
                      <a:pt x="26" y="581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6" y="35"/>
                    </a:lnTo>
                    <a:lnTo>
                      <a:pt x="53" y="68"/>
                    </a:lnTo>
                    <a:lnTo>
                      <a:pt x="79" y="102"/>
                    </a:lnTo>
                    <a:lnTo>
                      <a:pt x="106" y="137"/>
                    </a:lnTo>
                    <a:lnTo>
                      <a:pt x="132" y="171"/>
                    </a:lnTo>
                    <a:lnTo>
                      <a:pt x="157" y="206"/>
                    </a:lnTo>
                    <a:lnTo>
                      <a:pt x="182" y="241"/>
                    </a:lnTo>
                    <a:lnTo>
                      <a:pt x="207" y="277"/>
                    </a:lnTo>
                    <a:close/>
                  </a:path>
                </a:pathLst>
              </a:custGeom>
              <a:solidFill>
                <a:srgbClr val="f29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00360" y="29458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07" h="807">
                    <a:moveTo>
                      <a:pt x="207" y="260"/>
                    </a:moveTo>
                    <a:lnTo>
                      <a:pt x="207" y="807"/>
                    </a:lnTo>
                    <a:lnTo>
                      <a:pt x="182" y="774"/>
                    </a:lnTo>
                    <a:lnTo>
                      <a:pt x="156" y="741"/>
                    </a:lnTo>
                    <a:lnTo>
                      <a:pt x="131" y="707"/>
                    </a:lnTo>
                    <a:lnTo>
                      <a:pt x="105" y="674"/>
                    </a:lnTo>
                    <a:lnTo>
                      <a:pt x="78" y="641"/>
                    </a:lnTo>
                    <a:lnTo>
                      <a:pt x="52" y="609"/>
                    </a:lnTo>
                    <a:lnTo>
                      <a:pt x="26" y="575"/>
                    </a:lnTo>
                    <a:lnTo>
                      <a:pt x="0" y="543"/>
                    </a:lnTo>
                    <a:lnTo>
                      <a:pt x="0" y="0"/>
                    </a:lnTo>
                    <a:lnTo>
                      <a:pt x="26" y="32"/>
                    </a:lnTo>
                    <a:lnTo>
                      <a:pt x="53" y="64"/>
                    </a:lnTo>
                    <a:lnTo>
                      <a:pt x="79" y="96"/>
                    </a:lnTo>
                    <a:lnTo>
                      <a:pt x="106" y="128"/>
                    </a:lnTo>
                    <a:lnTo>
                      <a:pt x="131" y="161"/>
                    </a:lnTo>
                    <a:lnTo>
                      <a:pt x="157" y="193"/>
                    </a:lnTo>
                    <a:lnTo>
                      <a:pt x="182" y="226"/>
                    </a:lnTo>
                    <a:lnTo>
                      <a:pt x="207" y="260"/>
                    </a:lnTo>
                    <a:close/>
                  </a:path>
                </a:pathLst>
              </a:custGeom>
              <a:solidFill>
                <a:srgbClr val="f2a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98200" y="2944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90">
                    <a:moveTo>
                      <a:pt x="209" y="243"/>
                    </a:moveTo>
                    <a:lnTo>
                      <a:pt x="209" y="790"/>
                    </a:lnTo>
                    <a:lnTo>
                      <a:pt x="183" y="758"/>
                    </a:lnTo>
                    <a:lnTo>
                      <a:pt x="157" y="727"/>
                    </a:lnTo>
                    <a:lnTo>
                      <a:pt x="132" y="694"/>
                    </a:lnTo>
                    <a:lnTo>
                      <a:pt x="106" y="663"/>
                    </a:lnTo>
                    <a:lnTo>
                      <a:pt x="80" y="631"/>
                    </a:lnTo>
                    <a:lnTo>
                      <a:pt x="53" y="599"/>
                    </a:lnTo>
                    <a:lnTo>
                      <a:pt x="27" y="568"/>
                    </a:lnTo>
                    <a:lnTo>
                      <a:pt x="0" y="538"/>
                    </a:lnTo>
                    <a:lnTo>
                      <a:pt x="0" y="0"/>
                    </a:lnTo>
                    <a:lnTo>
                      <a:pt x="27" y="30"/>
                    </a:lnTo>
                    <a:lnTo>
                      <a:pt x="53" y="60"/>
                    </a:lnTo>
                    <a:lnTo>
                      <a:pt x="80" y="90"/>
                    </a:lnTo>
                    <a:lnTo>
                      <a:pt x="106" y="120"/>
                    </a:lnTo>
                    <a:lnTo>
                      <a:pt x="132" y="151"/>
                    </a:lnTo>
                    <a:lnTo>
                      <a:pt x="157" y="182"/>
                    </a:lnTo>
                    <a:lnTo>
                      <a:pt x="183" y="212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f2a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6400" y="29419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72">
                    <a:moveTo>
                      <a:pt x="209" y="229"/>
                    </a:moveTo>
                    <a:lnTo>
                      <a:pt x="209" y="772"/>
                    </a:lnTo>
                    <a:lnTo>
                      <a:pt x="183" y="742"/>
                    </a:lnTo>
                    <a:lnTo>
                      <a:pt x="157" y="710"/>
                    </a:lnTo>
                    <a:lnTo>
                      <a:pt x="131" y="680"/>
                    </a:lnTo>
                    <a:lnTo>
                      <a:pt x="106" y="650"/>
                    </a:lnTo>
                    <a:lnTo>
                      <a:pt x="80" y="620"/>
                    </a:lnTo>
                    <a:lnTo>
                      <a:pt x="53" y="590"/>
                    </a:lnTo>
                    <a:lnTo>
                      <a:pt x="26" y="560"/>
                    </a:lnTo>
                    <a:lnTo>
                      <a:pt x="0" y="530"/>
                    </a:lnTo>
                    <a:lnTo>
                      <a:pt x="0" y="0"/>
                    </a:lnTo>
                    <a:lnTo>
                      <a:pt x="27" y="29"/>
                    </a:lnTo>
                    <a:lnTo>
                      <a:pt x="53" y="57"/>
                    </a:lnTo>
                    <a:lnTo>
                      <a:pt x="80" y="85"/>
                    </a:lnTo>
                    <a:lnTo>
                      <a:pt x="106" y="113"/>
                    </a:lnTo>
                    <a:lnTo>
                      <a:pt x="132" y="142"/>
                    </a:lnTo>
                    <a:lnTo>
                      <a:pt x="157" y="171"/>
                    </a:lnTo>
                    <a:lnTo>
                      <a:pt x="183" y="200"/>
                    </a:lnTo>
                    <a:lnTo>
                      <a:pt x="209" y="229"/>
                    </a:lnTo>
                    <a:close/>
                  </a:path>
                </a:pathLst>
              </a:custGeom>
              <a:solidFill>
                <a:srgbClr val="f3a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4960" y="29401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08" h="753">
                    <a:moveTo>
                      <a:pt x="208" y="215"/>
                    </a:moveTo>
                    <a:lnTo>
                      <a:pt x="208" y="753"/>
                    </a:lnTo>
                    <a:lnTo>
                      <a:pt x="183" y="723"/>
                    </a:lnTo>
                    <a:lnTo>
                      <a:pt x="157" y="693"/>
                    </a:lnTo>
                    <a:lnTo>
                      <a:pt x="131" y="664"/>
                    </a:lnTo>
                    <a:lnTo>
                      <a:pt x="105" y="635"/>
                    </a:lnTo>
                    <a:lnTo>
                      <a:pt x="79" y="607"/>
                    </a:lnTo>
                    <a:lnTo>
                      <a:pt x="53" y="577"/>
                    </a:lnTo>
                    <a:lnTo>
                      <a:pt x="26" y="549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26" y="26"/>
                    </a:lnTo>
                    <a:lnTo>
                      <a:pt x="54" y="52"/>
                    </a:lnTo>
                    <a:lnTo>
                      <a:pt x="80" y="79"/>
                    </a:lnTo>
                    <a:lnTo>
                      <a:pt x="106" y="105"/>
                    </a:lnTo>
                    <a:lnTo>
                      <a:pt x="131" y="133"/>
                    </a:lnTo>
                    <a:lnTo>
                      <a:pt x="157" y="160"/>
                    </a:lnTo>
                    <a:lnTo>
                      <a:pt x="183" y="187"/>
                    </a:lnTo>
                    <a:lnTo>
                      <a:pt x="208" y="215"/>
                    </a:lnTo>
                    <a:close/>
                  </a:path>
                </a:pathLst>
              </a:custGeom>
              <a:solidFill>
                <a:srgbClr val="f3a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93160" y="29386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208" h="734">
                    <a:moveTo>
                      <a:pt x="208" y="204"/>
                    </a:moveTo>
                    <a:lnTo>
                      <a:pt x="208" y="734"/>
                    </a:lnTo>
                    <a:lnTo>
                      <a:pt x="183" y="706"/>
                    </a:lnTo>
                    <a:lnTo>
                      <a:pt x="157" y="677"/>
                    </a:lnTo>
                    <a:lnTo>
                      <a:pt x="131" y="650"/>
                    </a:lnTo>
                    <a:lnTo>
                      <a:pt x="105" y="622"/>
                    </a:lnTo>
                    <a:lnTo>
                      <a:pt x="79" y="594"/>
                    </a:lnTo>
                    <a:lnTo>
                      <a:pt x="53" y="567"/>
                    </a:lnTo>
                    <a:lnTo>
                      <a:pt x="26" y="539"/>
                    </a:lnTo>
                    <a:lnTo>
                      <a:pt x="0" y="511"/>
                    </a:lnTo>
                    <a:lnTo>
                      <a:pt x="0" y="0"/>
                    </a:lnTo>
                    <a:lnTo>
                      <a:pt x="26" y="25"/>
                    </a:lnTo>
                    <a:lnTo>
                      <a:pt x="53" y="50"/>
                    </a:lnTo>
                    <a:lnTo>
                      <a:pt x="79" y="75"/>
                    </a:lnTo>
                    <a:lnTo>
                      <a:pt x="105" y="101"/>
                    </a:lnTo>
                    <a:lnTo>
                      <a:pt x="131" y="126"/>
                    </a:lnTo>
                    <a:lnTo>
                      <a:pt x="157" y="152"/>
                    </a:lnTo>
                    <a:lnTo>
                      <a:pt x="183" y="178"/>
                    </a:lnTo>
                    <a:lnTo>
                      <a:pt x="208" y="204"/>
                    </a:lnTo>
                    <a:close/>
                  </a:path>
                </a:pathLst>
              </a:custGeom>
              <a:solidFill>
                <a:srgbClr val="f3a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91360" y="29368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209" h="714">
                    <a:moveTo>
                      <a:pt x="209" y="194"/>
                    </a:moveTo>
                    <a:lnTo>
                      <a:pt x="209" y="714"/>
                    </a:lnTo>
                    <a:lnTo>
                      <a:pt x="183" y="688"/>
                    </a:lnTo>
                    <a:lnTo>
                      <a:pt x="158" y="661"/>
                    </a:lnTo>
                    <a:lnTo>
                      <a:pt x="131" y="633"/>
                    </a:lnTo>
                    <a:lnTo>
                      <a:pt x="106" y="606"/>
                    </a:lnTo>
                    <a:lnTo>
                      <a:pt x="80" y="580"/>
                    </a:lnTo>
                    <a:lnTo>
                      <a:pt x="54" y="554"/>
                    </a:lnTo>
                    <a:lnTo>
                      <a:pt x="28" y="527"/>
                    </a:lnTo>
                    <a:lnTo>
                      <a:pt x="0" y="500"/>
                    </a:lnTo>
                    <a:lnTo>
                      <a:pt x="0" y="0"/>
                    </a:lnTo>
                    <a:lnTo>
                      <a:pt x="28" y="23"/>
                    </a:lnTo>
                    <a:lnTo>
                      <a:pt x="54" y="47"/>
                    </a:lnTo>
                    <a:lnTo>
                      <a:pt x="80" y="71"/>
                    </a:lnTo>
                    <a:lnTo>
                      <a:pt x="106" y="95"/>
                    </a:lnTo>
                    <a:lnTo>
                      <a:pt x="132" y="119"/>
                    </a:lnTo>
                    <a:lnTo>
                      <a:pt x="158" y="144"/>
                    </a:lnTo>
                    <a:lnTo>
                      <a:pt x="184" y="168"/>
                    </a:lnTo>
                    <a:lnTo>
                      <a:pt x="209" y="194"/>
                    </a:lnTo>
                    <a:close/>
                  </a:path>
                </a:pathLst>
              </a:custGeom>
              <a:solidFill>
                <a:srgbClr val="f4a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9920" y="293580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09" h="695">
                    <a:moveTo>
                      <a:pt x="209" y="184"/>
                    </a:moveTo>
                    <a:lnTo>
                      <a:pt x="209" y="695"/>
                    </a:lnTo>
                    <a:lnTo>
                      <a:pt x="183" y="669"/>
                    </a:lnTo>
                    <a:lnTo>
                      <a:pt x="158" y="644"/>
                    </a:lnTo>
                    <a:lnTo>
                      <a:pt x="132" y="617"/>
                    </a:lnTo>
                    <a:lnTo>
                      <a:pt x="105" y="591"/>
                    </a:lnTo>
                    <a:lnTo>
                      <a:pt x="79" y="566"/>
                    </a:lnTo>
                    <a:lnTo>
                      <a:pt x="53" y="541"/>
                    </a:lnTo>
                    <a:lnTo>
                      <a:pt x="27" y="515"/>
                    </a:lnTo>
                    <a:lnTo>
                      <a:pt x="0" y="489"/>
                    </a:lnTo>
                    <a:lnTo>
                      <a:pt x="0" y="0"/>
                    </a:lnTo>
                    <a:lnTo>
                      <a:pt x="27" y="22"/>
                    </a:lnTo>
                    <a:lnTo>
                      <a:pt x="54" y="46"/>
                    </a:lnTo>
                    <a:lnTo>
                      <a:pt x="80" y="68"/>
                    </a:lnTo>
                    <a:lnTo>
                      <a:pt x="106" y="91"/>
                    </a:lnTo>
                    <a:lnTo>
                      <a:pt x="132" y="113"/>
                    </a:lnTo>
                    <a:lnTo>
                      <a:pt x="158" y="136"/>
                    </a:lnTo>
                    <a:lnTo>
                      <a:pt x="183" y="161"/>
                    </a:lnTo>
                    <a:lnTo>
                      <a:pt x="209" y="184"/>
                    </a:lnTo>
                    <a:close/>
                  </a:path>
                </a:pathLst>
              </a:custGeom>
              <a:solidFill>
                <a:srgbClr val="f4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87400" y="29343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207" h="675">
                    <a:moveTo>
                      <a:pt x="207" y="175"/>
                    </a:moveTo>
                    <a:lnTo>
                      <a:pt x="207" y="675"/>
                    </a:lnTo>
                    <a:lnTo>
                      <a:pt x="182" y="651"/>
                    </a:lnTo>
                    <a:lnTo>
                      <a:pt x="156" y="626"/>
                    </a:lnTo>
                    <a:lnTo>
                      <a:pt x="131" y="601"/>
                    </a:lnTo>
                    <a:lnTo>
                      <a:pt x="104" y="575"/>
                    </a:lnTo>
                    <a:lnTo>
                      <a:pt x="78" y="551"/>
                    </a:lnTo>
                    <a:lnTo>
                      <a:pt x="52" y="526"/>
                    </a:lnTo>
                    <a:lnTo>
                      <a:pt x="26" y="502"/>
                    </a:lnTo>
                    <a:lnTo>
                      <a:pt x="0" y="477"/>
                    </a:lnTo>
                    <a:lnTo>
                      <a:pt x="0" y="0"/>
                    </a:lnTo>
                    <a:lnTo>
                      <a:pt x="26" y="22"/>
                    </a:lnTo>
                    <a:lnTo>
                      <a:pt x="52" y="43"/>
                    </a:lnTo>
                    <a:lnTo>
                      <a:pt x="78" y="64"/>
                    </a:lnTo>
                    <a:lnTo>
                      <a:pt x="104" y="86"/>
                    </a:lnTo>
                    <a:lnTo>
                      <a:pt x="131" y="108"/>
                    </a:lnTo>
                    <a:lnTo>
                      <a:pt x="157" y="130"/>
                    </a:lnTo>
                    <a:lnTo>
                      <a:pt x="182" y="152"/>
                    </a:lnTo>
                    <a:lnTo>
                      <a:pt x="207" y="175"/>
                    </a:lnTo>
                    <a:close/>
                  </a:path>
                </a:pathLst>
              </a:custGeom>
              <a:solidFill>
                <a:srgbClr val="f4b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85960" y="2932920"/>
                <a:ext cx="3600" cy="10440"/>
              </a:xfrm>
              <a:custGeom>
                <a:avLst/>
                <a:gdLst/>
                <a:ahLst/>
                <a:rect l="l" t="t" r="r" b="b"/>
                <a:pathLst>
                  <a:path w="207" h="654">
                    <a:moveTo>
                      <a:pt x="207" y="165"/>
                    </a:moveTo>
                    <a:lnTo>
                      <a:pt x="207" y="654"/>
                    </a:lnTo>
                    <a:lnTo>
                      <a:pt x="182" y="630"/>
                    </a:lnTo>
                    <a:lnTo>
                      <a:pt x="156" y="606"/>
                    </a:lnTo>
                    <a:lnTo>
                      <a:pt x="130" y="582"/>
                    </a:lnTo>
                    <a:lnTo>
                      <a:pt x="105" y="558"/>
                    </a:lnTo>
                    <a:lnTo>
                      <a:pt x="78" y="534"/>
                    </a:lnTo>
                    <a:lnTo>
                      <a:pt x="52" y="511"/>
                    </a:lnTo>
                    <a:lnTo>
                      <a:pt x="26" y="487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26" y="20"/>
                    </a:lnTo>
                    <a:lnTo>
                      <a:pt x="52" y="40"/>
                    </a:lnTo>
                    <a:lnTo>
                      <a:pt x="78" y="60"/>
                    </a:lnTo>
                    <a:lnTo>
                      <a:pt x="105" y="81"/>
                    </a:lnTo>
                    <a:lnTo>
                      <a:pt x="131" y="102"/>
                    </a:lnTo>
                    <a:lnTo>
                      <a:pt x="156" y="123"/>
                    </a:lnTo>
                    <a:lnTo>
                      <a:pt x="182" y="144"/>
                    </a:lnTo>
                    <a:lnTo>
                      <a:pt x="207" y="165"/>
                    </a:lnTo>
                    <a:close/>
                  </a:path>
                </a:pathLst>
              </a:custGeom>
              <a:solidFill>
                <a:srgbClr val="f5b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84160" y="293148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209" h="635">
                    <a:moveTo>
                      <a:pt x="209" y="158"/>
                    </a:moveTo>
                    <a:lnTo>
                      <a:pt x="209" y="635"/>
                    </a:lnTo>
                    <a:lnTo>
                      <a:pt x="182" y="612"/>
                    </a:lnTo>
                    <a:lnTo>
                      <a:pt x="157" y="589"/>
                    </a:lnTo>
                    <a:lnTo>
                      <a:pt x="131" y="566"/>
                    </a:lnTo>
                    <a:lnTo>
                      <a:pt x="105" y="543"/>
                    </a:lnTo>
                    <a:lnTo>
                      <a:pt x="79" y="519"/>
                    </a:lnTo>
                    <a:lnTo>
                      <a:pt x="53" y="497"/>
                    </a:lnTo>
                    <a:lnTo>
                      <a:pt x="26" y="474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53" y="39"/>
                    </a:lnTo>
                    <a:lnTo>
                      <a:pt x="79" y="59"/>
                    </a:lnTo>
                    <a:lnTo>
                      <a:pt x="106" y="78"/>
                    </a:lnTo>
                    <a:lnTo>
                      <a:pt x="131" y="98"/>
                    </a:lnTo>
                    <a:lnTo>
                      <a:pt x="157" y="118"/>
                    </a:lnTo>
                    <a:lnTo>
                      <a:pt x="182" y="138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f5b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82720" y="293040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209" h="615">
                    <a:moveTo>
                      <a:pt x="209" y="151"/>
                    </a:moveTo>
                    <a:lnTo>
                      <a:pt x="209" y="615"/>
                    </a:lnTo>
                    <a:lnTo>
                      <a:pt x="182" y="592"/>
                    </a:lnTo>
                    <a:lnTo>
                      <a:pt x="157" y="570"/>
                    </a:lnTo>
                    <a:lnTo>
                      <a:pt x="131" y="547"/>
                    </a:lnTo>
                    <a:lnTo>
                      <a:pt x="105" y="525"/>
                    </a:lnTo>
                    <a:lnTo>
                      <a:pt x="79" y="503"/>
                    </a:lnTo>
                    <a:lnTo>
                      <a:pt x="52" y="482"/>
                    </a:lnTo>
                    <a:lnTo>
                      <a:pt x="26" y="459"/>
                    </a:lnTo>
                    <a:lnTo>
                      <a:pt x="0" y="437"/>
                    </a:lnTo>
                    <a:lnTo>
                      <a:pt x="0" y="0"/>
                    </a:lnTo>
                    <a:lnTo>
                      <a:pt x="26" y="19"/>
                    </a:lnTo>
                    <a:lnTo>
                      <a:pt x="52" y="37"/>
                    </a:lnTo>
                    <a:lnTo>
                      <a:pt x="79" y="55"/>
                    </a:lnTo>
                    <a:lnTo>
                      <a:pt x="105" y="74"/>
                    </a:lnTo>
                    <a:lnTo>
                      <a:pt x="131" y="93"/>
                    </a:lnTo>
                    <a:lnTo>
                      <a:pt x="157" y="112"/>
                    </a:lnTo>
                    <a:lnTo>
                      <a:pt x="182" y="132"/>
                    </a:lnTo>
                    <a:lnTo>
                      <a:pt x="209" y="151"/>
                    </a:lnTo>
                    <a:close/>
                  </a:path>
                </a:pathLst>
              </a:custGeom>
              <a:solidFill>
                <a:srgbClr val="f5b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0920" y="2929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08" h="595">
                    <a:moveTo>
                      <a:pt x="208" y="143"/>
                    </a:moveTo>
                    <a:lnTo>
                      <a:pt x="208" y="595"/>
                    </a:lnTo>
                    <a:lnTo>
                      <a:pt x="183" y="573"/>
                    </a:lnTo>
                    <a:lnTo>
                      <a:pt x="156" y="552"/>
                    </a:lnTo>
                    <a:lnTo>
                      <a:pt x="131" y="529"/>
                    </a:lnTo>
                    <a:lnTo>
                      <a:pt x="105" y="508"/>
                    </a:lnTo>
                    <a:lnTo>
                      <a:pt x="79" y="487"/>
                    </a:lnTo>
                    <a:lnTo>
                      <a:pt x="52" y="465"/>
                    </a:lnTo>
                    <a:lnTo>
                      <a:pt x="26" y="445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26" y="18"/>
                    </a:lnTo>
                    <a:lnTo>
                      <a:pt x="52" y="35"/>
                    </a:lnTo>
                    <a:lnTo>
                      <a:pt x="79" y="53"/>
                    </a:lnTo>
                    <a:lnTo>
                      <a:pt x="105" y="70"/>
                    </a:lnTo>
                    <a:lnTo>
                      <a:pt x="131" y="89"/>
                    </a:lnTo>
                    <a:lnTo>
                      <a:pt x="156" y="107"/>
                    </a:lnTo>
                    <a:lnTo>
                      <a:pt x="183" y="125"/>
                    </a:lnTo>
                    <a:lnTo>
                      <a:pt x="208" y="143"/>
                    </a:lnTo>
                    <a:close/>
                  </a:path>
                </a:pathLst>
              </a:custGeom>
              <a:solidFill>
                <a:srgbClr val="f6b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79480" y="2928240"/>
                <a:ext cx="3240" cy="9000"/>
              </a:xfrm>
              <a:custGeom>
                <a:avLst/>
                <a:gdLst/>
                <a:ahLst/>
                <a:rect l="l" t="t" r="r" b="b"/>
                <a:pathLst>
                  <a:path w="208" h="573">
                    <a:moveTo>
                      <a:pt x="208" y="136"/>
                    </a:moveTo>
                    <a:lnTo>
                      <a:pt x="208" y="573"/>
                    </a:lnTo>
                    <a:lnTo>
                      <a:pt x="183" y="552"/>
                    </a:lnTo>
                    <a:lnTo>
                      <a:pt x="156" y="532"/>
                    </a:lnTo>
                    <a:lnTo>
                      <a:pt x="130" y="511"/>
                    </a:lnTo>
                    <a:lnTo>
                      <a:pt x="105" y="489"/>
                    </a:lnTo>
                    <a:lnTo>
                      <a:pt x="79" y="469"/>
                    </a:lnTo>
                    <a:lnTo>
                      <a:pt x="53" y="449"/>
                    </a:lnTo>
                    <a:lnTo>
                      <a:pt x="26" y="42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53" y="34"/>
                    </a:lnTo>
                    <a:lnTo>
                      <a:pt x="79" y="50"/>
                    </a:lnTo>
                    <a:lnTo>
                      <a:pt x="105" y="67"/>
                    </a:lnTo>
                    <a:lnTo>
                      <a:pt x="130" y="84"/>
                    </a:lnTo>
                    <a:lnTo>
                      <a:pt x="156" y="101"/>
                    </a:lnTo>
                    <a:lnTo>
                      <a:pt x="183" y="118"/>
                    </a:lnTo>
                    <a:lnTo>
                      <a:pt x="208" y="136"/>
                    </a:lnTo>
                    <a:close/>
                  </a:path>
                </a:pathLst>
              </a:custGeom>
              <a:solidFill>
                <a:srgbClr val="f6b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76960" y="2927160"/>
                <a:ext cx="3600" cy="9000"/>
              </a:xfrm>
              <a:custGeom>
                <a:avLst/>
                <a:gdLst/>
                <a:ahLst/>
                <a:rect l="l" t="t" r="r" b="b"/>
                <a:pathLst>
                  <a:path w="209" h="552">
                    <a:moveTo>
                      <a:pt x="209" y="129"/>
                    </a:moveTo>
                    <a:lnTo>
                      <a:pt x="209" y="552"/>
                    </a:lnTo>
                    <a:lnTo>
                      <a:pt x="183" y="531"/>
                    </a:lnTo>
                    <a:lnTo>
                      <a:pt x="158" y="511"/>
                    </a:lnTo>
                    <a:lnTo>
                      <a:pt x="131" y="492"/>
                    </a:lnTo>
                    <a:lnTo>
                      <a:pt x="105" y="472"/>
                    </a:lnTo>
                    <a:lnTo>
                      <a:pt x="79" y="452"/>
                    </a:lnTo>
                    <a:lnTo>
                      <a:pt x="53" y="431"/>
                    </a:lnTo>
                    <a:lnTo>
                      <a:pt x="26" y="412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54" y="31"/>
                    </a:lnTo>
                    <a:lnTo>
                      <a:pt x="80" y="47"/>
                    </a:lnTo>
                    <a:lnTo>
                      <a:pt x="105" y="63"/>
                    </a:lnTo>
                    <a:lnTo>
                      <a:pt x="131" y="79"/>
                    </a:lnTo>
                    <a:lnTo>
                      <a:pt x="158" y="97"/>
                    </a:lnTo>
                    <a:lnTo>
                      <a:pt x="183" y="113"/>
                    </a:lnTo>
                    <a:lnTo>
                      <a:pt x="209" y="129"/>
                    </a:lnTo>
                    <a:close/>
                  </a:path>
                </a:pathLst>
              </a:custGeom>
              <a:solidFill>
                <a:srgbClr val="f6c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75520" y="292608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209" h="532">
                    <a:moveTo>
                      <a:pt x="209" y="124"/>
                    </a:moveTo>
                    <a:lnTo>
                      <a:pt x="209" y="532"/>
                    </a:lnTo>
                    <a:lnTo>
                      <a:pt x="183" y="513"/>
                    </a:lnTo>
                    <a:lnTo>
                      <a:pt x="157" y="492"/>
                    </a:lnTo>
                    <a:lnTo>
                      <a:pt x="131" y="473"/>
                    </a:lnTo>
                    <a:lnTo>
                      <a:pt x="105" y="454"/>
                    </a:lnTo>
                    <a:lnTo>
                      <a:pt x="79" y="435"/>
                    </a:lnTo>
                    <a:lnTo>
                      <a:pt x="53" y="416"/>
                    </a:lnTo>
                    <a:lnTo>
                      <a:pt x="27" y="397"/>
                    </a:lnTo>
                    <a:lnTo>
                      <a:pt x="0" y="37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31"/>
                    </a:lnTo>
                    <a:lnTo>
                      <a:pt x="79" y="46"/>
                    </a:lnTo>
                    <a:lnTo>
                      <a:pt x="105" y="61"/>
                    </a:lnTo>
                    <a:lnTo>
                      <a:pt x="131" y="77"/>
                    </a:lnTo>
                    <a:lnTo>
                      <a:pt x="158" y="92"/>
                    </a:lnTo>
                    <a:lnTo>
                      <a:pt x="183" y="108"/>
                    </a:lnTo>
                    <a:lnTo>
                      <a:pt x="209" y="124"/>
                    </a:lnTo>
                    <a:close/>
                  </a:path>
                </a:pathLst>
              </a:custGeom>
              <a:solidFill>
                <a:srgbClr val="f7c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3720" y="292500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208" h="511">
                    <a:moveTo>
                      <a:pt x="208" y="119"/>
                    </a:moveTo>
                    <a:lnTo>
                      <a:pt x="208" y="511"/>
                    </a:lnTo>
                    <a:lnTo>
                      <a:pt x="183" y="493"/>
                    </a:lnTo>
                    <a:lnTo>
                      <a:pt x="157" y="474"/>
                    </a:lnTo>
                    <a:lnTo>
                      <a:pt x="132" y="455"/>
                    </a:lnTo>
                    <a:lnTo>
                      <a:pt x="105" y="436"/>
                    </a:lnTo>
                    <a:lnTo>
                      <a:pt x="79" y="418"/>
                    </a:lnTo>
                    <a:lnTo>
                      <a:pt x="53" y="399"/>
                    </a:lnTo>
                    <a:lnTo>
                      <a:pt x="27" y="381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29"/>
                    </a:lnTo>
                    <a:lnTo>
                      <a:pt x="79" y="44"/>
                    </a:lnTo>
                    <a:lnTo>
                      <a:pt x="105" y="58"/>
                    </a:lnTo>
                    <a:lnTo>
                      <a:pt x="132" y="73"/>
                    </a:lnTo>
                    <a:lnTo>
                      <a:pt x="157" y="89"/>
                    </a:lnTo>
                    <a:lnTo>
                      <a:pt x="183" y="104"/>
                    </a:lnTo>
                    <a:lnTo>
                      <a:pt x="208" y="119"/>
                    </a:lnTo>
                    <a:close/>
                  </a:path>
                </a:pathLst>
              </a:custGeom>
              <a:solidFill>
                <a:srgbClr val="f7c5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72280" y="29242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08" h="490">
                    <a:moveTo>
                      <a:pt x="208" y="113"/>
                    </a:moveTo>
                    <a:lnTo>
                      <a:pt x="208" y="490"/>
                    </a:lnTo>
                    <a:lnTo>
                      <a:pt x="182" y="472"/>
                    </a:lnTo>
                    <a:lnTo>
                      <a:pt x="157" y="454"/>
                    </a:lnTo>
                    <a:lnTo>
                      <a:pt x="131" y="436"/>
                    </a:lnTo>
                    <a:lnTo>
                      <a:pt x="104" y="418"/>
                    </a:lnTo>
                    <a:lnTo>
                      <a:pt x="79" y="400"/>
                    </a:lnTo>
                    <a:lnTo>
                      <a:pt x="53" y="383"/>
                    </a:lnTo>
                    <a:lnTo>
                      <a:pt x="27" y="364"/>
                    </a:lnTo>
                    <a:lnTo>
                      <a:pt x="0" y="346"/>
                    </a:lnTo>
                    <a:lnTo>
                      <a:pt x="0" y="0"/>
                    </a:lnTo>
                    <a:lnTo>
                      <a:pt x="27" y="13"/>
                    </a:lnTo>
                    <a:lnTo>
                      <a:pt x="53" y="28"/>
                    </a:lnTo>
                    <a:lnTo>
                      <a:pt x="79" y="42"/>
                    </a:lnTo>
                    <a:lnTo>
                      <a:pt x="105" y="56"/>
                    </a:lnTo>
                    <a:lnTo>
                      <a:pt x="131" y="70"/>
                    </a:lnTo>
                    <a:lnTo>
                      <a:pt x="157" y="84"/>
                    </a:lnTo>
                    <a:lnTo>
                      <a:pt x="182" y="98"/>
                    </a:lnTo>
                    <a:lnTo>
                      <a:pt x="208" y="113"/>
                    </a:lnTo>
                    <a:close/>
                  </a:path>
                </a:pathLst>
              </a:custGeom>
              <a:solidFill>
                <a:srgbClr val="f7c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70480" y="292320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08" h="471">
                    <a:moveTo>
                      <a:pt x="208" y="108"/>
                    </a:moveTo>
                    <a:lnTo>
                      <a:pt x="208" y="471"/>
                    </a:lnTo>
                    <a:lnTo>
                      <a:pt x="182" y="453"/>
                    </a:lnTo>
                    <a:lnTo>
                      <a:pt x="157" y="436"/>
                    </a:lnTo>
                    <a:lnTo>
                      <a:pt x="131" y="417"/>
                    </a:lnTo>
                    <a:lnTo>
                      <a:pt x="105" y="400"/>
                    </a:lnTo>
                    <a:lnTo>
                      <a:pt x="78" y="383"/>
                    </a:lnTo>
                    <a:lnTo>
                      <a:pt x="52" y="365"/>
                    </a:lnTo>
                    <a:lnTo>
                      <a:pt x="26" y="348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52" y="26"/>
                    </a:lnTo>
                    <a:lnTo>
                      <a:pt x="78" y="40"/>
                    </a:lnTo>
                    <a:lnTo>
                      <a:pt x="105" y="53"/>
                    </a:lnTo>
                    <a:lnTo>
                      <a:pt x="131" y="66"/>
                    </a:lnTo>
                    <a:lnTo>
                      <a:pt x="157" y="81"/>
                    </a:lnTo>
                    <a:lnTo>
                      <a:pt x="182" y="95"/>
                    </a:lnTo>
                    <a:lnTo>
                      <a:pt x="208" y="108"/>
                    </a:lnTo>
                    <a:close/>
                  </a:path>
                </a:pathLst>
              </a:custGeom>
              <a:solidFill>
                <a:srgbClr val="f8c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69040" y="292284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08" h="450">
                    <a:moveTo>
                      <a:pt x="208" y="104"/>
                    </a:moveTo>
                    <a:lnTo>
                      <a:pt x="208" y="450"/>
                    </a:lnTo>
                    <a:lnTo>
                      <a:pt x="182" y="433"/>
                    </a:lnTo>
                    <a:lnTo>
                      <a:pt x="156" y="416"/>
                    </a:lnTo>
                    <a:lnTo>
                      <a:pt x="131" y="400"/>
                    </a:lnTo>
                    <a:lnTo>
                      <a:pt x="105" y="383"/>
                    </a:lnTo>
                    <a:lnTo>
                      <a:pt x="78" y="366"/>
                    </a:lnTo>
                    <a:lnTo>
                      <a:pt x="52" y="349"/>
                    </a:lnTo>
                    <a:lnTo>
                      <a:pt x="26" y="332"/>
                    </a:lnTo>
                    <a:lnTo>
                      <a:pt x="0" y="316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52" y="26"/>
                    </a:lnTo>
                    <a:lnTo>
                      <a:pt x="78" y="39"/>
                    </a:lnTo>
                    <a:lnTo>
                      <a:pt x="105" y="52"/>
                    </a:lnTo>
                    <a:lnTo>
                      <a:pt x="131" y="64"/>
                    </a:lnTo>
                    <a:lnTo>
                      <a:pt x="156" y="77"/>
                    </a:lnTo>
                    <a:lnTo>
                      <a:pt x="182" y="90"/>
                    </a:lnTo>
                    <a:lnTo>
                      <a:pt x="208" y="104"/>
                    </a:lnTo>
                    <a:close/>
                  </a:path>
                </a:pathLst>
              </a:custGeom>
              <a:solidFill>
                <a:srgbClr val="f8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67240" y="292176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08" h="429">
                    <a:moveTo>
                      <a:pt x="208" y="98"/>
                    </a:moveTo>
                    <a:lnTo>
                      <a:pt x="208" y="429"/>
                    </a:lnTo>
                    <a:lnTo>
                      <a:pt x="182" y="413"/>
                    </a:lnTo>
                    <a:lnTo>
                      <a:pt x="156" y="396"/>
                    </a:lnTo>
                    <a:lnTo>
                      <a:pt x="130" y="379"/>
                    </a:lnTo>
                    <a:lnTo>
                      <a:pt x="105" y="363"/>
                    </a:lnTo>
                    <a:lnTo>
                      <a:pt x="79" y="347"/>
                    </a:lnTo>
                    <a:lnTo>
                      <a:pt x="52" y="331"/>
                    </a:lnTo>
                    <a:lnTo>
                      <a:pt x="26" y="315"/>
                    </a:lnTo>
                    <a:lnTo>
                      <a:pt x="0" y="299"/>
                    </a:lnTo>
                    <a:lnTo>
                      <a:pt x="0" y="0"/>
                    </a:lnTo>
                    <a:lnTo>
                      <a:pt x="26" y="11"/>
                    </a:lnTo>
                    <a:lnTo>
                      <a:pt x="52" y="23"/>
                    </a:lnTo>
                    <a:lnTo>
                      <a:pt x="79" y="36"/>
                    </a:lnTo>
                    <a:lnTo>
                      <a:pt x="105" y="48"/>
                    </a:lnTo>
                    <a:lnTo>
                      <a:pt x="130" y="61"/>
                    </a:lnTo>
                    <a:lnTo>
                      <a:pt x="156" y="73"/>
                    </a:lnTo>
                    <a:lnTo>
                      <a:pt x="182" y="86"/>
                    </a:lnTo>
                    <a:lnTo>
                      <a:pt x="208" y="98"/>
                    </a:lnTo>
                    <a:close/>
                  </a:path>
                </a:pathLst>
              </a:custGeom>
              <a:solidFill>
                <a:srgbClr val="f8c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65080" y="2921040"/>
                <a:ext cx="3600" cy="6480"/>
              </a:xfrm>
              <a:custGeom>
                <a:avLst/>
                <a:gdLst/>
                <a:ahLst/>
                <a:rect l="l" t="t" r="r" b="b"/>
                <a:pathLst>
                  <a:path w="209" h="409">
                    <a:moveTo>
                      <a:pt x="209" y="93"/>
                    </a:moveTo>
                    <a:lnTo>
                      <a:pt x="209" y="409"/>
                    </a:lnTo>
                    <a:lnTo>
                      <a:pt x="183" y="393"/>
                    </a:lnTo>
                    <a:lnTo>
                      <a:pt x="157" y="377"/>
                    </a:lnTo>
                    <a:lnTo>
                      <a:pt x="131" y="361"/>
                    </a:lnTo>
                    <a:lnTo>
                      <a:pt x="105" y="345"/>
                    </a:lnTo>
                    <a:lnTo>
                      <a:pt x="79" y="329"/>
                    </a:lnTo>
                    <a:lnTo>
                      <a:pt x="53" y="313"/>
                    </a:lnTo>
                    <a:lnTo>
                      <a:pt x="27" y="298"/>
                    </a:lnTo>
                    <a:lnTo>
                      <a:pt x="0" y="282"/>
                    </a:lnTo>
                    <a:lnTo>
                      <a:pt x="0" y="0"/>
                    </a:lnTo>
                    <a:lnTo>
                      <a:pt x="27" y="11"/>
                    </a:lnTo>
                    <a:lnTo>
                      <a:pt x="53" y="23"/>
                    </a:lnTo>
                    <a:lnTo>
                      <a:pt x="80" y="34"/>
                    </a:lnTo>
                    <a:lnTo>
                      <a:pt x="105" y="46"/>
                    </a:lnTo>
                    <a:lnTo>
                      <a:pt x="131" y="58"/>
                    </a:lnTo>
                    <a:lnTo>
                      <a:pt x="157" y="69"/>
                    </a:lnTo>
                    <a:lnTo>
                      <a:pt x="183" y="81"/>
                    </a:lnTo>
                    <a:lnTo>
                      <a:pt x="209" y="93"/>
                    </a:lnTo>
                    <a:close/>
                  </a:path>
                </a:pathLst>
              </a:custGeom>
              <a:solidFill>
                <a:srgbClr val="f9d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63280" y="291996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209" h="389">
                    <a:moveTo>
                      <a:pt x="209" y="90"/>
                    </a:moveTo>
                    <a:lnTo>
                      <a:pt x="209" y="389"/>
                    </a:lnTo>
                    <a:lnTo>
                      <a:pt x="183" y="372"/>
                    </a:lnTo>
                    <a:lnTo>
                      <a:pt x="157" y="357"/>
                    </a:lnTo>
                    <a:lnTo>
                      <a:pt x="131" y="342"/>
                    </a:lnTo>
                    <a:lnTo>
                      <a:pt x="105" y="327"/>
                    </a:lnTo>
                    <a:lnTo>
                      <a:pt x="79" y="311"/>
                    </a:lnTo>
                    <a:lnTo>
                      <a:pt x="53" y="296"/>
                    </a:lnTo>
                    <a:lnTo>
                      <a:pt x="26" y="281"/>
                    </a:lnTo>
                    <a:lnTo>
                      <a:pt x="0" y="266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3"/>
                    </a:lnTo>
                    <a:lnTo>
                      <a:pt x="105" y="44"/>
                    </a:lnTo>
                    <a:lnTo>
                      <a:pt x="131" y="56"/>
                    </a:lnTo>
                    <a:lnTo>
                      <a:pt x="157" y="67"/>
                    </a:lnTo>
                    <a:lnTo>
                      <a:pt x="183" y="78"/>
                    </a:lnTo>
                    <a:lnTo>
                      <a:pt x="209" y="90"/>
                    </a:lnTo>
                    <a:close/>
                  </a:path>
                </a:pathLst>
              </a:custGeom>
              <a:solidFill>
                <a:srgbClr val="f9d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1840" y="291924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208" h="368">
                    <a:moveTo>
                      <a:pt x="208" y="86"/>
                    </a:moveTo>
                    <a:lnTo>
                      <a:pt x="208" y="368"/>
                    </a:lnTo>
                    <a:lnTo>
                      <a:pt x="183" y="353"/>
                    </a:lnTo>
                    <a:lnTo>
                      <a:pt x="157" y="338"/>
                    </a:lnTo>
                    <a:lnTo>
                      <a:pt x="131" y="324"/>
                    </a:lnTo>
                    <a:lnTo>
                      <a:pt x="105" y="309"/>
                    </a:lnTo>
                    <a:lnTo>
                      <a:pt x="79" y="293"/>
                    </a:lnTo>
                    <a:lnTo>
                      <a:pt x="53" y="279"/>
                    </a:lnTo>
                    <a:lnTo>
                      <a:pt x="26" y="264"/>
                    </a:lnTo>
                    <a:lnTo>
                      <a:pt x="0" y="250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1"/>
                    </a:lnTo>
                    <a:lnTo>
                      <a:pt x="105" y="42"/>
                    </a:lnTo>
                    <a:lnTo>
                      <a:pt x="131" y="53"/>
                    </a:lnTo>
                    <a:lnTo>
                      <a:pt x="157" y="63"/>
                    </a:lnTo>
                    <a:lnTo>
                      <a:pt x="183" y="75"/>
                    </a:lnTo>
                    <a:lnTo>
                      <a:pt x="208" y="86"/>
                    </a:lnTo>
                    <a:close/>
                  </a:path>
                </a:pathLst>
              </a:custGeom>
              <a:solidFill>
                <a:srgbClr val="f9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60040" y="29188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8" h="348">
                    <a:moveTo>
                      <a:pt x="208" y="82"/>
                    </a:moveTo>
                    <a:lnTo>
                      <a:pt x="208" y="348"/>
                    </a:lnTo>
                    <a:lnTo>
                      <a:pt x="183" y="333"/>
                    </a:lnTo>
                    <a:lnTo>
                      <a:pt x="157" y="319"/>
                    </a:lnTo>
                    <a:lnTo>
                      <a:pt x="130" y="304"/>
                    </a:lnTo>
                    <a:lnTo>
                      <a:pt x="105" y="290"/>
                    </a:lnTo>
                    <a:lnTo>
                      <a:pt x="79" y="276"/>
                    </a:lnTo>
                    <a:lnTo>
                      <a:pt x="53" y="262"/>
                    </a:lnTo>
                    <a:lnTo>
                      <a:pt x="27" y="248"/>
                    </a:lnTo>
                    <a:lnTo>
                      <a:pt x="0" y="234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53" y="20"/>
                    </a:lnTo>
                    <a:lnTo>
                      <a:pt x="79" y="30"/>
                    </a:lnTo>
                    <a:lnTo>
                      <a:pt x="105" y="40"/>
                    </a:lnTo>
                    <a:lnTo>
                      <a:pt x="130" y="51"/>
                    </a:lnTo>
                    <a:lnTo>
                      <a:pt x="157" y="61"/>
                    </a:lnTo>
                    <a:lnTo>
                      <a:pt x="183" y="71"/>
                    </a:lnTo>
                    <a:lnTo>
                      <a:pt x="208" y="82"/>
                    </a:lnTo>
                    <a:close/>
                  </a:path>
                </a:pathLst>
              </a:custGeom>
              <a:solidFill>
                <a:srgbClr val="fad9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8600" y="291816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209" y="79"/>
                    </a:moveTo>
                    <a:lnTo>
                      <a:pt x="209" y="329"/>
                    </a:lnTo>
                    <a:lnTo>
                      <a:pt x="183" y="315"/>
                    </a:lnTo>
                    <a:lnTo>
                      <a:pt x="158" y="301"/>
                    </a:lnTo>
                    <a:lnTo>
                      <a:pt x="132" y="287"/>
                    </a:lnTo>
                    <a:lnTo>
                      <a:pt x="105" y="273"/>
                    </a:lnTo>
                    <a:lnTo>
                      <a:pt x="79" y="258"/>
                    </a:lnTo>
                    <a:lnTo>
                      <a:pt x="53" y="245"/>
                    </a:lnTo>
                    <a:lnTo>
                      <a:pt x="27" y="231"/>
                    </a:lnTo>
                    <a:lnTo>
                      <a:pt x="0" y="217"/>
                    </a:lnTo>
                    <a:lnTo>
                      <a:pt x="0" y="0"/>
                    </a:lnTo>
                    <a:lnTo>
                      <a:pt x="28" y="10"/>
                    </a:lnTo>
                    <a:lnTo>
                      <a:pt x="54" y="19"/>
                    </a:lnTo>
                    <a:lnTo>
                      <a:pt x="79" y="29"/>
                    </a:lnTo>
                    <a:lnTo>
                      <a:pt x="105" y="40"/>
                    </a:lnTo>
                    <a:lnTo>
                      <a:pt x="132" y="49"/>
                    </a:lnTo>
                    <a:lnTo>
                      <a:pt x="158" y="59"/>
                    </a:lnTo>
                    <a:lnTo>
                      <a:pt x="183" y="69"/>
                    </a:lnTo>
                    <a:lnTo>
                      <a:pt x="209" y="79"/>
                    </a:lnTo>
                    <a:close/>
                  </a:path>
                </a:pathLst>
              </a:custGeom>
              <a:solidFill>
                <a:srgbClr val="fa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56800" y="2917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08" h="308">
                    <a:moveTo>
                      <a:pt x="208" y="74"/>
                    </a:moveTo>
                    <a:lnTo>
                      <a:pt x="208" y="308"/>
                    </a:lnTo>
                    <a:lnTo>
                      <a:pt x="182" y="293"/>
                    </a:lnTo>
                    <a:lnTo>
                      <a:pt x="156" y="280"/>
                    </a:lnTo>
                    <a:lnTo>
                      <a:pt x="131" y="266"/>
                    </a:lnTo>
                    <a:lnTo>
                      <a:pt x="105" y="253"/>
                    </a:lnTo>
                    <a:lnTo>
                      <a:pt x="78" y="240"/>
                    </a:lnTo>
                    <a:lnTo>
                      <a:pt x="52" y="226"/>
                    </a:lnTo>
                    <a:lnTo>
                      <a:pt x="26" y="213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7"/>
                    </a:lnTo>
                    <a:lnTo>
                      <a:pt x="78" y="27"/>
                    </a:lnTo>
                    <a:lnTo>
                      <a:pt x="105" y="36"/>
                    </a:lnTo>
                    <a:lnTo>
                      <a:pt x="131" y="45"/>
                    </a:lnTo>
                    <a:lnTo>
                      <a:pt x="157" y="54"/>
                    </a:lnTo>
                    <a:lnTo>
                      <a:pt x="182" y="64"/>
                    </a:lnTo>
                    <a:lnTo>
                      <a:pt x="208" y="74"/>
                    </a:lnTo>
                    <a:close/>
                  </a:path>
                </a:pathLst>
              </a:custGeom>
              <a:solidFill>
                <a:srgbClr val="fa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54640" y="291708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207" h="287">
                    <a:moveTo>
                      <a:pt x="207" y="70"/>
                    </a:moveTo>
                    <a:lnTo>
                      <a:pt x="207" y="287"/>
                    </a:lnTo>
                    <a:lnTo>
                      <a:pt x="182" y="274"/>
                    </a:lnTo>
                    <a:lnTo>
                      <a:pt x="156" y="261"/>
                    </a:lnTo>
                    <a:lnTo>
                      <a:pt x="130" y="248"/>
                    </a:lnTo>
                    <a:lnTo>
                      <a:pt x="105" y="235"/>
                    </a:lnTo>
                    <a:lnTo>
                      <a:pt x="78" y="222"/>
                    </a:lnTo>
                    <a:lnTo>
                      <a:pt x="52" y="209"/>
                    </a:lnTo>
                    <a:lnTo>
                      <a:pt x="26" y="196"/>
                    </a:lnTo>
                    <a:lnTo>
                      <a:pt x="0" y="183"/>
                    </a:lnTo>
                    <a:lnTo>
                      <a:pt x="0" y="0"/>
                    </a:lnTo>
                    <a:lnTo>
                      <a:pt x="26" y="9"/>
                    </a:lnTo>
                    <a:lnTo>
                      <a:pt x="52" y="17"/>
                    </a:lnTo>
                    <a:lnTo>
                      <a:pt x="78" y="26"/>
                    </a:lnTo>
                    <a:lnTo>
                      <a:pt x="105" y="35"/>
                    </a:lnTo>
                    <a:lnTo>
                      <a:pt x="130" y="44"/>
                    </a:lnTo>
                    <a:lnTo>
                      <a:pt x="156" y="52"/>
                    </a:lnTo>
                    <a:lnTo>
                      <a:pt x="182" y="61"/>
                    </a:lnTo>
                    <a:lnTo>
                      <a:pt x="207" y="70"/>
                    </a:lnTo>
                    <a:close/>
                  </a:path>
                </a:pathLst>
              </a:custGeom>
              <a:solidFill>
                <a:srgbClr val="fb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52840" y="291672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208" h="268">
                    <a:moveTo>
                      <a:pt x="208" y="68"/>
                    </a:moveTo>
                    <a:lnTo>
                      <a:pt x="208" y="268"/>
                    </a:lnTo>
                    <a:lnTo>
                      <a:pt x="182" y="255"/>
                    </a:lnTo>
                    <a:lnTo>
                      <a:pt x="156" y="242"/>
                    </a:lnTo>
                    <a:lnTo>
                      <a:pt x="130" y="229"/>
                    </a:lnTo>
                    <a:lnTo>
                      <a:pt x="104" y="216"/>
                    </a:lnTo>
                    <a:lnTo>
                      <a:pt x="79" y="204"/>
                    </a:lnTo>
                    <a:lnTo>
                      <a:pt x="52" y="192"/>
                    </a:lnTo>
                    <a:lnTo>
                      <a:pt x="26" y="179"/>
                    </a:lnTo>
                    <a:lnTo>
                      <a:pt x="0" y="16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5"/>
                    </a:lnTo>
                    <a:lnTo>
                      <a:pt x="104" y="33"/>
                    </a:lnTo>
                    <a:lnTo>
                      <a:pt x="130" y="42"/>
                    </a:lnTo>
                    <a:lnTo>
                      <a:pt x="156" y="50"/>
                    </a:lnTo>
                    <a:lnTo>
                      <a:pt x="182" y="59"/>
                    </a:lnTo>
                    <a:lnTo>
                      <a:pt x="208" y="68"/>
                    </a:lnTo>
                    <a:close/>
                  </a:path>
                </a:pathLst>
              </a:custGeom>
              <a:solidFill>
                <a:srgbClr val="fb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51400" y="2916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209" y="65"/>
                    </a:moveTo>
                    <a:lnTo>
                      <a:pt x="209" y="248"/>
                    </a:lnTo>
                    <a:lnTo>
                      <a:pt x="183" y="236"/>
                    </a:lnTo>
                    <a:lnTo>
                      <a:pt x="157" y="224"/>
                    </a:lnTo>
                    <a:lnTo>
                      <a:pt x="131" y="211"/>
                    </a:lnTo>
                    <a:lnTo>
                      <a:pt x="105" y="199"/>
                    </a:lnTo>
                    <a:lnTo>
                      <a:pt x="79" y="187"/>
                    </a:lnTo>
                    <a:lnTo>
                      <a:pt x="52" y="175"/>
                    </a:lnTo>
                    <a:lnTo>
                      <a:pt x="26" y="162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4"/>
                    </a:lnTo>
                    <a:lnTo>
                      <a:pt x="105" y="32"/>
                    </a:lnTo>
                    <a:lnTo>
                      <a:pt x="131" y="40"/>
                    </a:lnTo>
                    <a:lnTo>
                      <a:pt x="157" y="48"/>
                    </a:lnTo>
                    <a:lnTo>
                      <a:pt x="183" y="57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fb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9600" y="291564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9" h="228">
                    <a:moveTo>
                      <a:pt x="209" y="61"/>
                    </a:moveTo>
                    <a:lnTo>
                      <a:pt x="209" y="228"/>
                    </a:lnTo>
                    <a:lnTo>
                      <a:pt x="183" y="216"/>
                    </a:lnTo>
                    <a:lnTo>
                      <a:pt x="156" y="204"/>
                    </a:lnTo>
                    <a:lnTo>
                      <a:pt x="131" y="191"/>
                    </a:lnTo>
                    <a:lnTo>
                      <a:pt x="105" y="179"/>
                    </a:lnTo>
                    <a:lnTo>
                      <a:pt x="79" y="168"/>
                    </a:lnTo>
                    <a:lnTo>
                      <a:pt x="53" y="156"/>
                    </a:lnTo>
                    <a:lnTo>
                      <a:pt x="26" y="14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30"/>
                    </a:lnTo>
                    <a:lnTo>
                      <a:pt x="131" y="37"/>
                    </a:lnTo>
                    <a:lnTo>
                      <a:pt x="156" y="45"/>
                    </a:lnTo>
                    <a:lnTo>
                      <a:pt x="183" y="53"/>
                    </a:lnTo>
                    <a:lnTo>
                      <a:pt x="209" y="61"/>
                    </a:lnTo>
                    <a:close/>
                  </a:path>
                </a:pathLst>
              </a:custGeom>
              <a:solidFill>
                <a:srgbClr val="f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48160" y="29149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8" h="208">
                    <a:moveTo>
                      <a:pt x="208" y="58"/>
                    </a:moveTo>
                    <a:lnTo>
                      <a:pt x="208" y="208"/>
                    </a:lnTo>
                    <a:lnTo>
                      <a:pt x="183" y="197"/>
                    </a:lnTo>
                    <a:lnTo>
                      <a:pt x="157" y="185"/>
                    </a:lnTo>
                    <a:lnTo>
                      <a:pt x="130" y="174"/>
                    </a:lnTo>
                    <a:lnTo>
                      <a:pt x="105" y="162"/>
                    </a:lnTo>
                    <a:lnTo>
                      <a:pt x="79" y="151"/>
                    </a:lnTo>
                    <a:lnTo>
                      <a:pt x="53" y="140"/>
                    </a:lnTo>
                    <a:lnTo>
                      <a:pt x="26" y="128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29"/>
                    </a:lnTo>
                    <a:lnTo>
                      <a:pt x="130" y="36"/>
                    </a:lnTo>
                    <a:lnTo>
                      <a:pt x="157" y="44"/>
                    </a:lnTo>
                    <a:lnTo>
                      <a:pt x="183" y="51"/>
                    </a:lnTo>
                    <a:lnTo>
                      <a:pt x="208" y="58"/>
                    </a:lnTo>
                    <a:close/>
                  </a:path>
                </a:pathLst>
              </a:custGeom>
              <a:solidFill>
                <a:srgbClr val="f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6360" y="291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208" y="56"/>
                    </a:moveTo>
                    <a:lnTo>
                      <a:pt x="208" y="189"/>
                    </a:lnTo>
                    <a:lnTo>
                      <a:pt x="182" y="178"/>
                    </a:lnTo>
                    <a:lnTo>
                      <a:pt x="157" y="167"/>
                    </a:lnTo>
                    <a:lnTo>
                      <a:pt x="130" y="156"/>
                    </a:lnTo>
                    <a:lnTo>
                      <a:pt x="104" y="144"/>
                    </a:lnTo>
                    <a:lnTo>
                      <a:pt x="78" y="133"/>
                    </a:lnTo>
                    <a:lnTo>
                      <a:pt x="53" y="122"/>
                    </a:lnTo>
                    <a:lnTo>
                      <a:pt x="27" y="11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21"/>
                    </a:lnTo>
                    <a:lnTo>
                      <a:pt x="104" y="28"/>
                    </a:lnTo>
                    <a:lnTo>
                      <a:pt x="130" y="35"/>
                    </a:lnTo>
                    <a:lnTo>
                      <a:pt x="157" y="42"/>
                    </a:lnTo>
                    <a:lnTo>
                      <a:pt x="182" y="49"/>
                    </a:lnTo>
                    <a:lnTo>
                      <a:pt x="208" y="56"/>
                    </a:lnTo>
                    <a:close/>
                  </a:path>
                </a:pathLst>
              </a:custGeom>
              <a:solidFill>
                <a:srgbClr val="fc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4200" y="291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209" h="170">
                    <a:moveTo>
                      <a:pt x="209" y="53"/>
                    </a:moveTo>
                    <a:lnTo>
                      <a:pt x="209" y="170"/>
                    </a:lnTo>
                    <a:lnTo>
                      <a:pt x="183" y="158"/>
                    </a:lnTo>
                    <a:lnTo>
                      <a:pt x="158" y="148"/>
                    </a:lnTo>
                    <a:lnTo>
                      <a:pt x="132" y="137"/>
                    </a:lnTo>
                    <a:lnTo>
                      <a:pt x="105" y="126"/>
                    </a:lnTo>
                    <a:lnTo>
                      <a:pt x="79" y="116"/>
                    </a:lnTo>
                    <a:lnTo>
                      <a:pt x="53" y="105"/>
                    </a:lnTo>
                    <a:lnTo>
                      <a:pt x="27" y="9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19"/>
                    </a:lnTo>
                    <a:lnTo>
                      <a:pt x="105" y="26"/>
                    </a:lnTo>
                    <a:lnTo>
                      <a:pt x="132" y="32"/>
                    </a:lnTo>
                    <a:lnTo>
                      <a:pt x="158" y="39"/>
                    </a:lnTo>
                    <a:lnTo>
                      <a:pt x="183" y="47"/>
                    </a:lnTo>
                    <a:lnTo>
                      <a:pt x="209" y="53"/>
                    </a:lnTo>
                    <a:close/>
                  </a:path>
                </a:pathLst>
              </a:custGeom>
              <a:solidFill>
                <a:srgbClr val="fd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2760" y="2913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208" h="150">
                    <a:moveTo>
                      <a:pt x="208" y="50"/>
                    </a:moveTo>
                    <a:lnTo>
                      <a:pt x="208" y="150"/>
                    </a:lnTo>
                    <a:lnTo>
                      <a:pt x="182" y="139"/>
                    </a:lnTo>
                    <a:lnTo>
                      <a:pt x="156" y="129"/>
                    </a:lnTo>
                    <a:lnTo>
                      <a:pt x="131" y="119"/>
                    </a:lnTo>
                    <a:lnTo>
                      <a:pt x="104" y="108"/>
                    </a:lnTo>
                    <a:lnTo>
                      <a:pt x="78" y="98"/>
                    </a:lnTo>
                    <a:lnTo>
                      <a:pt x="52" y="88"/>
                    </a:lnTo>
                    <a:lnTo>
                      <a:pt x="26" y="77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8"/>
                    </a:lnTo>
                    <a:lnTo>
                      <a:pt x="104" y="24"/>
                    </a:lnTo>
                    <a:lnTo>
                      <a:pt x="131" y="31"/>
                    </a:lnTo>
                    <a:lnTo>
                      <a:pt x="156" y="37"/>
                    </a:lnTo>
                    <a:lnTo>
                      <a:pt x="182" y="43"/>
                    </a:lnTo>
                    <a:lnTo>
                      <a:pt x="208" y="50"/>
                    </a:lnTo>
                    <a:close/>
                  </a:path>
                </a:pathLst>
              </a:custGeom>
              <a:solidFill>
                <a:srgbClr val="fd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0960" y="2913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207" y="47"/>
                    </a:moveTo>
                    <a:lnTo>
                      <a:pt x="207" y="131"/>
                    </a:lnTo>
                    <a:lnTo>
                      <a:pt x="182" y="121"/>
                    </a:lnTo>
                    <a:lnTo>
                      <a:pt x="156" y="111"/>
                    </a:lnTo>
                    <a:lnTo>
                      <a:pt x="130" y="101"/>
                    </a:lnTo>
                    <a:lnTo>
                      <a:pt x="105" y="89"/>
                    </a:lnTo>
                    <a:lnTo>
                      <a:pt x="78" y="80"/>
                    </a:lnTo>
                    <a:lnTo>
                      <a:pt x="52" y="70"/>
                    </a:lnTo>
                    <a:lnTo>
                      <a:pt x="26" y="6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7"/>
                    </a:lnTo>
                    <a:lnTo>
                      <a:pt x="105" y="23"/>
                    </a:lnTo>
                    <a:lnTo>
                      <a:pt x="130" y="29"/>
                    </a:lnTo>
                    <a:lnTo>
                      <a:pt x="156" y="35"/>
                    </a:lnTo>
                    <a:lnTo>
                      <a:pt x="182" y="41"/>
                    </a:lnTo>
                    <a:lnTo>
                      <a:pt x="207" y="47"/>
                    </a:lnTo>
                    <a:close/>
                  </a:path>
                </a:pathLst>
              </a:custGeom>
              <a:solidFill>
                <a:srgbClr val="f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39160" y="2912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08" h="110">
                    <a:moveTo>
                      <a:pt x="208" y="44"/>
                    </a:moveTo>
                    <a:lnTo>
                      <a:pt x="208" y="110"/>
                    </a:lnTo>
                    <a:lnTo>
                      <a:pt x="181" y="100"/>
                    </a:lnTo>
                    <a:lnTo>
                      <a:pt x="156" y="91"/>
                    </a:lnTo>
                    <a:lnTo>
                      <a:pt x="130" y="81"/>
                    </a:lnTo>
                    <a:lnTo>
                      <a:pt x="104" y="71"/>
                    </a:lnTo>
                    <a:lnTo>
                      <a:pt x="77" y="61"/>
                    </a:lnTo>
                    <a:lnTo>
                      <a:pt x="52" y="52"/>
                    </a:lnTo>
                    <a:lnTo>
                      <a:pt x="26" y="42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1"/>
                    </a:lnTo>
                    <a:lnTo>
                      <a:pt x="77" y="16"/>
                    </a:lnTo>
                    <a:lnTo>
                      <a:pt x="104" y="21"/>
                    </a:lnTo>
                    <a:lnTo>
                      <a:pt x="130" y="27"/>
                    </a:lnTo>
                    <a:lnTo>
                      <a:pt x="156" y="33"/>
                    </a:lnTo>
                    <a:lnTo>
                      <a:pt x="181" y="38"/>
                    </a:lnTo>
                    <a:lnTo>
                      <a:pt x="208" y="44"/>
                    </a:lnTo>
                    <a:close/>
                  </a:path>
                </a:pathLst>
              </a:custGeom>
              <a:solidFill>
                <a:srgbClr val="fe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37720" y="29127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209" y="43"/>
                    </a:moveTo>
                    <a:lnTo>
                      <a:pt x="209" y="93"/>
                    </a:lnTo>
                    <a:lnTo>
                      <a:pt x="182" y="83"/>
                    </a:lnTo>
                    <a:lnTo>
                      <a:pt x="156" y="74"/>
                    </a:lnTo>
                    <a:lnTo>
                      <a:pt x="131" y="64"/>
                    </a:lnTo>
                    <a:lnTo>
                      <a:pt x="105" y="55"/>
                    </a:lnTo>
                    <a:lnTo>
                      <a:pt x="79" y="46"/>
                    </a:lnTo>
                    <a:lnTo>
                      <a:pt x="52" y="36"/>
                    </a:lnTo>
                    <a:lnTo>
                      <a:pt x="26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0"/>
                    </a:lnTo>
                    <a:lnTo>
                      <a:pt x="79" y="17"/>
                    </a:lnTo>
                    <a:lnTo>
                      <a:pt x="105" y="22"/>
                    </a:lnTo>
                    <a:lnTo>
                      <a:pt x="131" y="27"/>
                    </a:lnTo>
                    <a:lnTo>
                      <a:pt x="157" y="33"/>
                    </a:lnTo>
                    <a:lnTo>
                      <a:pt x="182" y="38"/>
                    </a:lnTo>
                    <a:lnTo>
                      <a:pt x="209" y="43"/>
                    </a:lnTo>
                    <a:close/>
                  </a:path>
                </a:pathLst>
              </a:custGeom>
              <a:solidFill>
                <a:srgbClr val="fe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35920" y="29124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09" h="74">
                    <a:moveTo>
                      <a:pt x="209" y="41"/>
                    </a:moveTo>
                    <a:lnTo>
                      <a:pt x="209" y="74"/>
                    </a:lnTo>
                    <a:lnTo>
                      <a:pt x="183" y="64"/>
                    </a:lnTo>
                    <a:lnTo>
                      <a:pt x="156" y="55"/>
                    </a:lnTo>
                    <a:lnTo>
                      <a:pt x="131" y="46"/>
                    </a:lnTo>
                    <a:lnTo>
                      <a:pt x="105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5" y="19"/>
                    </a:lnTo>
                    <a:lnTo>
                      <a:pt x="131" y="24"/>
                    </a:lnTo>
                    <a:lnTo>
                      <a:pt x="156" y="29"/>
                    </a:lnTo>
                    <a:lnTo>
                      <a:pt x="183" y="36"/>
                    </a:lnTo>
                    <a:lnTo>
                      <a:pt x="209" y="41"/>
                    </a:lnTo>
                    <a:close/>
                  </a:path>
                </a:pathLst>
              </a:cu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35920" y="29124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04" h="37">
                    <a:moveTo>
                      <a:pt x="104" y="19"/>
                    </a:moveTo>
                    <a:lnTo>
                      <a:pt x="104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61880" y="27478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1120" y="31575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6</a:t>
              </a: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6440" y="35542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5"/>
            <a:stretch/>
          </p:blipFill>
          <p:spPr>
            <a:xfrm>
              <a:off x="590760" y="333684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474840" y="27637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Розниц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6160" y="276372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61880" y="5324400"/>
            <a:ext cx="722520" cy="1010880"/>
            <a:chOff x="461880" y="5324400"/>
            <a:chExt cx="722520" cy="1010880"/>
          </a:xfrm>
        </p:grpSpPr>
        <p:pic>
          <p:nvPicPr>
            <p:cNvPr id="738" name="" descr=""/>
            <p:cNvPicPr/>
            <p:nvPr/>
          </p:nvPicPr>
          <p:blipFill>
            <a:blip r:embed="rId6"/>
            <a:stretch/>
          </p:blipFill>
          <p:spPr>
            <a:xfrm>
              <a:off x="529200" y="5478480"/>
              <a:ext cx="587520" cy="1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461880" y="532440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1120" y="573408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5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6440" y="613080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7"/>
            <a:stretch/>
          </p:blipFill>
          <p:spPr>
            <a:xfrm>
              <a:off x="590760" y="591336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74840" y="53402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6160" y="534024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191040" y="1460520"/>
            <a:ext cx="722160" cy="976320"/>
            <a:chOff x="3191040" y="1460520"/>
            <a:chExt cx="722160" cy="976320"/>
          </a:xfrm>
        </p:grpSpPr>
        <p:sp>
          <p:nvSpPr>
            <p:cNvPr id="746" name=""/>
            <p:cNvSpPr/>
            <p:nvPr/>
          </p:nvSpPr>
          <p:spPr>
            <a:xfrm>
              <a:off x="3191040" y="1460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09760" y="1825560"/>
              <a:ext cx="68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96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13800" y="226692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" descr=""/>
            <p:cNvPicPr/>
            <p:nvPr/>
          </p:nvPicPr>
          <p:blipFill>
            <a:blip r:embed="rId8"/>
            <a:stretch/>
          </p:blipFill>
          <p:spPr>
            <a:xfrm>
              <a:off x="3318480" y="2049480"/>
              <a:ext cx="46404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3202560" y="1481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92080" y="147960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2" name="" descr=""/>
            <p:cNvPicPr/>
            <p:nvPr/>
          </p:nvPicPr>
          <p:blipFill>
            <a:blip r:embed="rId9"/>
            <a:stretch/>
          </p:blipFill>
          <p:spPr>
            <a:xfrm>
              <a:off x="3238920" y="1604880"/>
              <a:ext cx="62388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3" name=""/>
          <p:cNvGrpSpPr/>
          <p:nvPr/>
        </p:nvGrpSpPr>
        <p:grpSpPr>
          <a:xfrm>
            <a:off x="3189240" y="2747880"/>
            <a:ext cx="722520" cy="1010880"/>
            <a:chOff x="3189240" y="2747880"/>
            <a:chExt cx="722520" cy="1010880"/>
          </a:xfrm>
        </p:grpSpPr>
        <p:pic>
          <p:nvPicPr>
            <p:cNvPr id="754" name="" descr=""/>
            <p:cNvPicPr/>
            <p:nvPr/>
          </p:nvPicPr>
          <p:blipFill>
            <a:blip r:embed="rId10"/>
            <a:stretch/>
          </p:blipFill>
          <p:spPr>
            <a:xfrm>
              <a:off x="3337200" y="2898360"/>
              <a:ext cx="4262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3189240" y="274788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05440" y="276660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Прод.пит-и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28480" y="315720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2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13800" y="3554280"/>
              <a:ext cx="47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93520" y="276660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11"/>
            <a:stretch/>
          </p:blipFill>
          <p:spPr>
            <a:xfrm>
              <a:off x="3318120" y="333684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"/>
          <p:cNvGrpSpPr/>
          <p:nvPr/>
        </p:nvGrpSpPr>
        <p:grpSpPr>
          <a:xfrm>
            <a:off x="3189240" y="4035600"/>
            <a:ext cx="722520" cy="1010520"/>
            <a:chOff x="3189240" y="4035600"/>
            <a:chExt cx="722520" cy="1010520"/>
          </a:xfrm>
        </p:grpSpPr>
        <p:sp>
          <p:nvSpPr>
            <p:cNvPr id="762" name=""/>
            <p:cNvSpPr/>
            <p:nvPr/>
          </p:nvSpPr>
          <p:spPr>
            <a:xfrm>
              <a:off x="3189240" y="403560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05080" y="4054320"/>
              <a:ext cx="375120" cy="9936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трах-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28480" y="44445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6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13800" y="48416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520" y="4054320"/>
              <a:ext cx="30168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" descr=""/>
            <p:cNvPicPr/>
            <p:nvPr/>
          </p:nvPicPr>
          <p:blipFill>
            <a:blip r:embed="rId12"/>
            <a:stretch/>
          </p:blipFill>
          <p:spPr>
            <a:xfrm>
              <a:off x="3318120" y="4624200"/>
              <a:ext cx="4644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13"/>
            <a:stretch/>
          </p:blipFill>
          <p:spPr>
            <a:xfrm>
              <a:off x="3228480" y="4254120"/>
              <a:ext cx="641520" cy="9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"/>
          <p:cNvGrpSpPr/>
          <p:nvPr/>
        </p:nvGrpSpPr>
        <p:grpSpPr>
          <a:xfrm>
            <a:off x="3189240" y="5324400"/>
            <a:ext cx="722520" cy="976320"/>
            <a:chOff x="3189240" y="5324400"/>
            <a:chExt cx="722520" cy="976320"/>
          </a:xfrm>
        </p:grpSpPr>
        <p:sp>
          <p:nvSpPr>
            <p:cNvPr id="770" name=""/>
            <p:cNvSpPr/>
            <p:nvPr/>
          </p:nvSpPr>
          <p:spPr>
            <a:xfrm>
              <a:off x="3313440" y="613080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189240" y="5324400"/>
              <a:ext cx="722520" cy="976320"/>
              <a:chOff x="3189240" y="5324400"/>
              <a:chExt cx="722520" cy="976320"/>
            </a:xfrm>
          </p:grpSpPr>
          <p:sp>
            <p:nvSpPr>
              <p:cNvPr id="772" name=""/>
              <p:cNvSpPr/>
              <p:nvPr/>
            </p:nvSpPr>
            <p:spPr>
              <a:xfrm>
                <a:off x="3189240" y="5324400"/>
                <a:ext cx="722520" cy="976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3205080" y="5343480"/>
                <a:ext cx="689760" cy="773280"/>
                <a:chOff x="3205080" y="5343480"/>
                <a:chExt cx="689760" cy="773280"/>
              </a:xfrm>
            </p:grpSpPr>
            <p:pic>
              <p:nvPicPr>
                <p:cNvPr id="774" name="" descr=""/>
                <p:cNvPicPr/>
                <p:nvPr/>
              </p:nvPicPr>
              <p:blipFill>
                <a:blip r:embed="rId14"/>
                <a:srcRect l="55918" t="10503" r="28526" b="55436"/>
                <a:stretch/>
              </p:blipFill>
              <p:spPr>
                <a:xfrm>
                  <a:off x="3416040" y="5484960"/>
                  <a:ext cx="269280" cy="20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5" name=""/>
                <p:cNvSpPr/>
                <p:nvPr/>
              </p:nvSpPr>
              <p:spPr>
                <a:xfrm>
                  <a:off x="3205080" y="5343480"/>
                  <a:ext cx="375120" cy="100080"/>
                </a:xfrm>
                <a:prstGeom prst="rect">
                  <a:avLst/>
                </a:prstGeom>
                <a:solidFill>
                  <a:srgbClr val="a3bb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00" spc="-1" strike="noStrike">
                      <a:solidFill>
                        <a:srgbClr val="5f5f5f"/>
                      </a:solidFill>
                      <a:latin typeface="Arial"/>
                    </a:rPr>
                    <a:t>Металлы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228480" y="5734080"/>
                  <a:ext cx="64296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5f5f5f"/>
                      </a:solidFill>
                      <a:latin typeface="Arial"/>
                    </a:rPr>
                    <a:t>IPO </a:t>
                  </a:r>
                  <a:r>
                    <a:rPr b="0" lang="ru-RU" sz="500" spc="-1" strike="noStrike">
                      <a:solidFill>
                        <a:srgbClr val="5f5f5f"/>
                      </a:solidFill>
                      <a:latin typeface="Arial"/>
                    </a:rPr>
                    <a:t>на </a:t>
                  </a:r>
                  <a:r>
                    <a:rPr b="0" lang="en-US" sz="500" spc="-1" strike="noStrike">
                      <a:solidFill>
                        <a:srgbClr val="5f5f5f"/>
                      </a:solidFill>
                      <a:latin typeface="Arial"/>
                    </a:rPr>
                    <a:t>LSE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808080"/>
                      </a:solidFill>
                      <a:latin typeface="Arial"/>
                    </a:rPr>
                    <a:t>US$</a:t>
                  </a:r>
                  <a:r>
                    <a:rPr b="0" lang="ru-RU" sz="500" spc="-1" strike="noStrike">
                      <a:solidFill>
                        <a:srgbClr val="808080"/>
                      </a:solidFill>
                      <a:latin typeface="Arial"/>
                    </a:rPr>
                    <a:t>1</a:t>
                  </a:r>
                  <a:r>
                    <a:rPr b="0" lang="en-US" sz="500" spc="-1" strike="noStrike">
                      <a:solidFill>
                        <a:srgbClr val="808080"/>
                      </a:solidFill>
                      <a:latin typeface="Arial"/>
                    </a:rPr>
                    <a:t>,</a:t>
                  </a:r>
                  <a:r>
                    <a:rPr b="0" lang="ru-RU" sz="500" spc="-1" strike="noStrike">
                      <a:solidFill>
                        <a:srgbClr val="808080"/>
                      </a:solidFill>
                      <a:latin typeface="Arial"/>
                    </a:rPr>
                    <a:t>121 млн.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593160" y="5343480"/>
                  <a:ext cx="301680" cy="101520"/>
                </a:xfrm>
                <a:prstGeom prst="rect">
                  <a:avLst/>
                </a:prstGeom>
                <a:solidFill>
                  <a:srgbClr val="d00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00" spc="-1" strike="noStrike">
                      <a:solidFill>
                        <a:srgbClr val="ffffff"/>
                      </a:solidFill>
                      <a:latin typeface="Arial"/>
                    </a:rPr>
                    <a:t>Апр </a:t>
                  </a:r>
                  <a:r>
                    <a:rPr b="1" lang="en-US" sz="500" spc="-1" strike="noStrike">
                      <a:solidFill>
                        <a:srgbClr val="ffffff"/>
                      </a:solidFill>
                      <a:latin typeface="Arial"/>
                    </a:rPr>
                    <a:t>2007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317760" y="5913360"/>
                  <a:ext cx="46404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79" name=""/>
          <p:cNvGrpSpPr/>
          <p:nvPr/>
        </p:nvGrpSpPr>
        <p:grpSpPr>
          <a:xfrm>
            <a:off x="5916600" y="1460520"/>
            <a:ext cx="722160" cy="1010880"/>
            <a:chOff x="5916600" y="1460520"/>
            <a:chExt cx="722160" cy="1010880"/>
          </a:xfrm>
        </p:grpSpPr>
        <p:pic>
          <p:nvPicPr>
            <p:cNvPr id="780" name="" descr=""/>
            <p:cNvPicPr/>
            <p:nvPr/>
          </p:nvPicPr>
          <p:blipFill>
            <a:blip r:embed="rId16"/>
            <a:stretch/>
          </p:blipFill>
          <p:spPr>
            <a:xfrm>
              <a:off x="6027840" y="1635120"/>
              <a:ext cx="4993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5916600" y="1460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32440" y="147960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55840" y="187020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AI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36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41160" y="2266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20520" y="147960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17"/>
            <a:stretch/>
          </p:blipFill>
          <p:spPr>
            <a:xfrm>
              <a:off x="6045480" y="204948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7" name=""/>
          <p:cNvGrpSpPr/>
          <p:nvPr/>
        </p:nvGrpSpPr>
        <p:grpSpPr>
          <a:xfrm>
            <a:off x="5916600" y="2747880"/>
            <a:ext cx="722160" cy="976320"/>
            <a:chOff x="5916600" y="2747880"/>
            <a:chExt cx="722160" cy="976320"/>
          </a:xfrm>
        </p:grpSpPr>
        <p:pic>
          <p:nvPicPr>
            <p:cNvPr id="788" name="" descr=""/>
            <p:cNvPicPr/>
            <p:nvPr/>
          </p:nvPicPr>
          <p:blipFill>
            <a:blip r:embed="rId18"/>
            <a:stretch/>
          </p:blipFill>
          <p:spPr>
            <a:xfrm>
              <a:off x="6020280" y="2913120"/>
              <a:ext cx="51408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5916600" y="27478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32800" y="2766960"/>
              <a:ext cx="37440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5840" y="315756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41160" y="35542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20520" y="27669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4" name="" descr=""/>
            <p:cNvPicPr/>
            <p:nvPr/>
          </p:nvPicPr>
          <p:blipFill>
            <a:blip r:embed="rId19"/>
            <a:stretch/>
          </p:blipFill>
          <p:spPr>
            <a:xfrm>
              <a:off x="6045480" y="33368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"/>
          <p:cNvGrpSpPr/>
          <p:nvPr/>
        </p:nvGrpSpPr>
        <p:grpSpPr>
          <a:xfrm>
            <a:off x="5916600" y="4035600"/>
            <a:ext cx="722160" cy="975960"/>
            <a:chOff x="5916600" y="4035600"/>
            <a:chExt cx="722160" cy="975960"/>
          </a:xfrm>
        </p:grpSpPr>
        <p:sp>
          <p:nvSpPr>
            <p:cNvPr id="796" name=""/>
            <p:cNvSpPr/>
            <p:nvPr/>
          </p:nvSpPr>
          <p:spPr>
            <a:xfrm>
              <a:off x="5916600" y="4035600"/>
              <a:ext cx="72216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5840" y="446400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768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41160" y="48416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20"/>
            <a:stretch/>
          </p:blipFill>
          <p:spPr>
            <a:xfrm>
              <a:off x="6045480" y="46242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5929200" y="4056120"/>
              <a:ext cx="374760" cy="9936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19080" y="4054320"/>
              <a:ext cx="30168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21"/>
            <a:stretch/>
          </p:blipFill>
          <p:spPr>
            <a:xfrm>
              <a:off x="5966280" y="4179600"/>
              <a:ext cx="62352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"/>
          <p:cNvGrpSpPr/>
          <p:nvPr/>
        </p:nvGrpSpPr>
        <p:grpSpPr>
          <a:xfrm>
            <a:off x="5916600" y="5324400"/>
            <a:ext cx="722160" cy="976320"/>
            <a:chOff x="5916600" y="5324400"/>
            <a:chExt cx="722160" cy="976320"/>
          </a:xfrm>
        </p:grpSpPr>
        <p:sp>
          <p:nvSpPr>
            <p:cNvPr id="804" name=""/>
            <p:cNvSpPr/>
            <p:nvPr/>
          </p:nvSpPr>
          <p:spPr>
            <a:xfrm>
              <a:off x="5916600" y="532440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32440" y="534348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Телеком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55840" y="573408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40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41160" y="613080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20520" y="534348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22"/>
            <a:stretch/>
          </p:blipFill>
          <p:spPr>
            <a:xfrm>
              <a:off x="6045480" y="591336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23"/>
            <a:stretch/>
          </p:blipFill>
          <p:spPr>
            <a:xfrm>
              <a:off x="5969160" y="5524200"/>
              <a:ext cx="614880" cy="1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9DDF-F51C-4290-88A2-3140B5A215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СДЕЛКИ РЕНЕССАНС КАПИТАЛА НА РЫНКЕ АКЦИОНЕРНОГО КАПИТАЛА (ПРОДОЛЖЕНИЕ)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325680" y="140796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в мир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оссийской трубной компании – объем размещения составил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 со спросом, превысивши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делка была переподписана в 20 раз по верхней границе ценового диапазона – рекорд переподписки российском фондовом рынке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ъем спроса, привлеченный Ренессанс Капиталом, значительно превысил показатели других международных букранне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25680" y="40910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амое большое размещение компании по операциям с недвижимостью в России -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88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еподписка по траншу без преимущественных прав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оставила 7.9х. Впервые размещение было завершено с премией 2.5% к предыдущему закрытию, несмотря на удвоение рыночной капитализации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Третье по величине размещение локальных акций было крайне положительно встречено международными инвесто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325680" y="5433840"/>
            <a:ext cx="1278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качестве эксклюзивного букраннера Ренессанс Капитал провел частное размещение Интегры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частный характер размещения, акции были размещены с премией как к российским, так и международным компаниям-аналогам – главное достижение Ренессанс Капитал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было проведено как часть подготовки к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рекордно короткие сроки – в течение 3 нед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25680" y="274968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6560" indent="-1065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октябре 2006 г. Ренессанс Капитал успешно завершил вторичное размещени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и по операциям с недвижимостью -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44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6560" indent="-1065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Были предложены первичные акции, составляющие 93.4% существующего акционерного капитала компании, и, несмотря на удвоение рыночной капитализац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, размещение было закрыто с маленьким дисконтом к рынку в 2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381640" y="44276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Третье по величин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а тот период – было привлечено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связи с переподпиской книга была закрыта за 3 дня до определения цен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привлек больший объем спроса по сравнению с другими букранне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81640" y="543384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389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–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нига была покрыта за 1 день. Данное размещение увеличило количество акций в свободном обращении более чем н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7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прос инвесторов на акции превыс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$1.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, переподписка составила 3 раза, в результате чего был увеличен объем размещения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81640" y="342108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в 2006 г. размещение нефтегазовой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Чрезвычайно успешное размещение – несмотря на сложную структуру сделки, переподписка составил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.4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раз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лиенты Ренессанс Капитала, являясь ключевыми инвесторами размещения, также были и ценовыми лиде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381640" y="241452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марте 2006 г. Ренессанс Капитал завершил вторичное размещение компании по операциям с недвижимостью, акции которой были в основном размещены среди существующих акционеров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аташа Загвоздина провела конференц-звонки с инвесторами, на которых представила обновленные данные по исторической динамике акций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434360" y="342108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очень сложную рыночную конъюнктуру, Ренессанс Капитал успешно размест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42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рупнейшего в России производителя стал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привлек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57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щего спроса по цене размещени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обеспечил практически весь спрос в первые 8 дней размещени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434360" y="1407960"/>
            <a:ext cx="11811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торичное размещение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7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 лица основного акционера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Было предложено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0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и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что составило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40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кций в свободном обра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большой объем предложения и сложную рыночную конъюнктуру, акции были размещены с минимальным дисконтом к рынку в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.4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34360" y="241452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сентябре 2005 г. Ренессанс Капитал успешно заверш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30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частное размещение Корпорации ВСМПО-Ависма – ведущего мирового производителя тита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было проведено среди членов консорциума институциональных инвесторов, возглавляемого Ренессанс Капиталом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434360" y="5433840"/>
            <a:ext cx="11811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97200" indent="-9720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организовал 10-дневную презентационную поездку менеджмента компании по Европе и России, в результате которой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  <a:ea typeface="Gulim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личал значительный интерес со стороны инвесторов и гибкость при разме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ыпуск был размещен не только среди долгосрочных инвесторов, но и среди тех, кто поддерживает ликвидность рынка после проведения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  <a:ea typeface="Gulim"/>
              </a:rPr>
              <a:t>IP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34360" y="44276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я с листингом на Швейцарской Фондовой бирже и зарегистрированная на Британских Виргинских островах, в результате данного размещения привлекла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55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, практически удвоив свою капитализацию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Интенсивный пре-маркетинг по России, Европе и Великобритании сформировал значительный интерес со стороны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76200" y="1407960"/>
            <a:ext cx="1185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январе 2007 Ренессанс Капитал участвовал во вторичном размещен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West Siberian Resources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8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дам Ландес, ведущий аналитик нефтегазового сектора России, в рамках пре-маркетинга размещения провел не только конференц-звонки с инвесторами, но и встречи с более чем 25 инвесто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76200" y="274968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декабре 2006 г. Ренессанс Капитал в качестве Эксклюзивного глобального координатора и букраннера провел размещение 2 блоков акций Калины, общий объем которых состав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аждый из этих блоков был успешно размещен за один ден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Данное размещение позволило компании диверсифицировать свою базу акционе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76200" y="4091040"/>
            <a:ext cx="11811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за 2 дня успешно закрыл книгу заявок при вторичном размещен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91.5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млн. акций, принадлежащих акционеру Казкоммерцбанка – вскоре посл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Цена за ГДР составил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2.75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с премией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1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 последнему закрытию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р предложения состав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9.8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кций в свободном обращении 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1.4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 общего собственного капитала банк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276200" y="543384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 частного размещения 34.5% акционерного капитала Пробизнесбанка среди международных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успешно организовал структуру размещения и привлек ведущих российских и международных финансовых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-774720" y="1413000"/>
            <a:ext cx="722160" cy="97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-758880" y="1432080"/>
            <a:ext cx="374760" cy="99720"/>
          </a:xfrm>
          <a:prstGeom prst="rect">
            <a:avLst/>
          </a:prstGeom>
          <a:solidFill>
            <a:srgbClr val="a3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Нефть и Газ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-760320" y="1741320"/>
            <a:ext cx="69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5f5f5f"/>
                </a:solidFill>
                <a:latin typeface="Arial"/>
              </a:rPr>
              <a:t>Вторичное размещение на </a:t>
            </a: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L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US$389</a:t>
            </a:r>
            <a:r>
              <a:rPr b="0" lang="ru-RU" sz="500" spc="-1" strike="noStrike">
                <a:solidFill>
                  <a:srgbClr val="808080"/>
                </a:solidFill>
                <a:latin typeface="Arial"/>
              </a:rPr>
              <a:t> млн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650880" y="2219400"/>
            <a:ext cx="4730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Совместны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Букранне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-371520" y="1432080"/>
            <a:ext cx="303120" cy="1015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Янв 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-646200" y="2001960"/>
            <a:ext cx="465120" cy="203040"/>
          </a:xfrm>
          <a:prstGeom prst="rect">
            <a:avLst/>
          </a:prstGeom>
          <a:ln w="0">
            <a:noFill/>
          </a:ln>
        </p:spPr>
      </p:pic>
      <p:grpSp>
        <p:nvGrpSpPr>
          <p:cNvPr id="835" name=""/>
          <p:cNvGrpSpPr/>
          <p:nvPr/>
        </p:nvGrpSpPr>
        <p:grpSpPr>
          <a:xfrm>
            <a:off x="461880" y="1407960"/>
            <a:ext cx="722520" cy="976320"/>
            <a:chOff x="461880" y="1407960"/>
            <a:chExt cx="722520" cy="976320"/>
          </a:xfrm>
        </p:grpSpPr>
        <p:pic>
          <p:nvPicPr>
            <p:cNvPr id="836" name="" descr=""/>
            <p:cNvPicPr/>
            <p:nvPr/>
          </p:nvPicPr>
          <p:blipFill>
            <a:blip r:embed="rId2"/>
            <a:stretch/>
          </p:blipFill>
          <p:spPr>
            <a:xfrm>
              <a:off x="531000" y="1587240"/>
              <a:ext cx="5842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461880" y="140796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8080" y="14270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6280" y="1736640"/>
              <a:ext cx="6919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Стокгольмской бирж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440" y="221436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6160" y="142704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3"/>
            <a:stretch/>
          </p:blipFill>
          <p:spPr>
            <a:xfrm>
              <a:off x="590760" y="199692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"/>
          <p:cNvSpPr/>
          <p:nvPr/>
        </p:nvSpPr>
        <p:spPr>
          <a:xfrm>
            <a:off x="-782640" y="2565360"/>
            <a:ext cx="722160" cy="97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-766800" y="2584440"/>
            <a:ext cx="376200" cy="100080"/>
          </a:xfrm>
          <a:prstGeom prst="rect">
            <a:avLst/>
          </a:prstGeom>
          <a:solidFill>
            <a:srgbClr val="a3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Прод.пит-ия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-773280" y="2975040"/>
            <a:ext cx="7048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500" spc="-1" strike="noStrike">
                <a:solidFill>
                  <a:srgbClr val="5f5f5f"/>
                </a:solidFill>
                <a:latin typeface="Arial"/>
              </a:rPr>
              <a:t>на </a:t>
            </a: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L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US$251</a:t>
            </a:r>
            <a:r>
              <a:rPr b="0" lang="ru-RU" sz="500" spc="-1" strike="noStrike">
                <a:solidFill>
                  <a:srgbClr val="808080"/>
                </a:solidFill>
                <a:latin typeface="Arial"/>
              </a:rPr>
              <a:t> млн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-657360" y="3371760"/>
            <a:ext cx="473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Эксклюзивны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Букранне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-378000" y="2584440"/>
            <a:ext cx="301680" cy="1015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Май 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4"/>
          <a:stretch/>
        </p:blipFill>
        <p:spPr>
          <a:xfrm>
            <a:off x="-654120" y="3154320"/>
            <a:ext cx="465120" cy="203400"/>
          </a:xfrm>
          <a:prstGeom prst="rect">
            <a:avLst/>
          </a:prstGeom>
          <a:ln w="0">
            <a:noFill/>
          </a:ln>
        </p:spPr>
      </p:pic>
      <p:grpSp>
        <p:nvGrpSpPr>
          <p:cNvPr id="849" name=""/>
          <p:cNvGrpSpPr/>
          <p:nvPr/>
        </p:nvGrpSpPr>
        <p:grpSpPr>
          <a:xfrm>
            <a:off x="461880" y="2749680"/>
            <a:ext cx="722520" cy="1010880"/>
            <a:chOff x="461880" y="2749680"/>
            <a:chExt cx="722520" cy="1010880"/>
          </a:xfrm>
        </p:grpSpPr>
        <p:pic>
          <p:nvPicPr>
            <p:cNvPr id="850" name="" descr=""/>
            <p:cNvPicPr/>
            <p:nvPr/>
          </p:nvPicPr>
          <p:blipFill>
            <a:blip r:embed="rId5"/>
            <a:stretch/>
          </p:blipFill>
          <p:spPr>
            <a:xfrm>
              <a:off x="650880" y="295308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461880" y="27496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8080" y="276876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1120" y="31593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2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6440" y="355608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66160" y="276876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6"/>
            <a:stretch/>
          </p:blipFill>
          <p:spPr>
            <a:xfrm>
              <a:off x="590760" y="33386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7" name=""/>
          <p:cNvGrpSpPr/>
          <p:nvPr/>
        </p:nvGrpSpPr>
        <p:grpSpPr>
          <a:xfrm>
            <a:off x="461880" y="4091040"/>
            <a:ext cx="722520" cy="1010880"/>
            <a:chOff x="461880" y="4091040"/>
            <a:chExt cx="722520" cy="1010880"/>
          </a:xfrm>
        </p:grpSpPr>
        <p:pic>
          <p:nvPicPr>
            <p:cNvPr id="858" name="" descr=""/>
            <p:cNvPicPr/>
            <p:nvPr/>
          </p:nvPicPr>
          <p:blipFill>
            <a:blip r:embed="rId7"/>
            <a:srcRect l="626" t="12991" r="82371" b="83466"/>
            <a:stretch/>
          </p:blipFill>
          <p:spPr>
            <a:xfrm>
              <a:off x="495720" y="4300560"/>
              <a:ext cx="65340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461880" y="40910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8080" y="41101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69080" y="4500720"/>
              <a:ext cx="70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9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6440" y="48974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66160" y="41101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Дек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4" name="" descr=""/>
            <p:cNvPicPr/>
            <p:nvPr/>
          </p:nvPicPr>
          <p:blipFill>
            <a:blip r:embed="rId8"/>
            <a:stretch/>
          </p:blipFill>
          <p:spPr>
            <a:xfrm>
              <a:off x="590760" y="46800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"/>
          <p:cNvGrpSpPr/>
          <p:nvPr/>
        </p:nvGrpSpPr>
        <p:grpSpPr>
          <a:xfrm>
            <a:off x="461880" y="5433840"/>
            <a:ext cx="722520" cy="976320"/>
            <a:chOff x="461880" y="5433840"/>
            <a:chExt cx="722520" cy="976320"/>
          </a:xfrm>
        </p:grpSpPr>
        <p:pic>
          <p:nvPicPr>
            <p:cNvPr id="866" name="" descr=""/>
            <p:cNvPicPr/>
            <p:nvPr/>
          </p:nvPicPr>
          <p:blipFill>
            <a:blip r:embed="rId9"/>
            <a:stretch/>
          </p:blipFill>
          <p:spPr>
            <a:xfrm>
              <a:off x="501120" y="5664240"/>
              <a:ext cx="641880" cy="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461880" y="54338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8080" y="54529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080" y="5843520"/>
              <a:ext cx="7048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2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440" y="62402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6160" y="54529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Ноя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10"/>
            <a:stretch/>
          </p:blipFill>
          <p:spPr>
            <a:xfrm>
              <a:off x="590760" y="60228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3" name=""/>
          <p:cNvGrpSpPr/>
          <p:nvPr/>
        </p:nvGrpSpPr>
        <p:grpSpPr>
          <a:xfrm>
            <a:off x="2529000" y="1407960"/>
            <a:ext cx="722160" cy="976320"/>
            <a:chOff x="2529000" y="1407960"/>
            <a:chExt cx="722160" cy="976320"/>
          </a:xfrm>
        </p:grpSpPr>
        <p:pic>
          <p:nvPicPr>
            <p:cNvPr id="874" name="Client Name/Logo - Slide Master" descr=""/>
            <p:cNvPicPr/>
            <p:nvPr/>
          </p:nvPicPr>
          <p:blipFill>
            <a:blip r:embed="rId11"/>
            <a:stretch/>
          </p:blipFill>
          <p:spPr>
            <a:xfrm>
              <a:off x="2793960" y="1593720"/>
              <a:ext cx="1918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2529000" y="140796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45200" y="1427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36200" y="181764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 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,069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53560" y="221436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32920" y="142704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Окт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0" name="" descr=""/>
            <p:cNvPicPr/>
            <p:nvPr/>
          </p:nvPicPr>
          <p:blipFill>
            <a:blip r:embed="rId12"/>
            <a:stretch/>
          </p:blipFill>
          <p:spPr>
            <a:xfrm>
              <a:off x="265788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"/>
          <p:cNvGrpSpPr/>
          <p:nvPr/>
        </p:nvGrpSpPr>
        <p:grpSpPr>
          <a:xfrm>
            <a:off x="2529000" y="2749680"/>
            <a:ext cx="722160" cy="976320"/>
            <a:chOff x="2529000" y="2749680"/>
            <a:chExt cx="722160" cy="976320"/>
          </a:xfrm>
        </p:grpSpPr>
        <p:pic>
          <p:nvPicPr>
            <p:cNvPr id="882" name="" descr=""/>
            <p:cNvPicPr/>
            <p:nvPr/>
          </p:nvPicPr>
          <p:blipFill>
            <a:blip r:embed="rId13"/>
            <a:stretch/>
          </p:blipFill>
          <p:spPr>
            <a:xfrm>
              <a:off x="2580480" y="2934000"/>
              <a:ext cx="61812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2529000" y="27496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45200" y="27687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36200" y="315936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44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53560" y="35560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32920" y="27687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Окт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14"/>
            <a:stretch/>
          </p:blipFill>
          <p:spPr>
            <a:xfrm>
              <a:off x="2657880" y="33386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"/>
          <p:cNvGrpSpPr/>
          <p:nvPr/>
        </p:nvGrpSpPr>
        <p:grpSpPr>
          <a:xfrm>
            <a:off x="2529000" y="4091040"/>
            <a:ext cx="722160" cy="976320"/>
            <a:chOff x="2529000" y="4091040"/>
            <a:chExt cx="722160" cy="976320"/>
          </a:xfrm>
        </p:grpSpPr>
        <p:sp>
          <p:nvSpPr>
            <p:cNvPr id="890" name=""/>
            <p:cNvSpPr/>
            <p:nvPr/>
          </p:nvSpPr>
          <p:spPr>
            <a:xfrm>
              <a:off x="2529000" y="40910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545200" y="41101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36200" y="450072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81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53560" y="48974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32920" y="41101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Се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15"/>
            <a:stretch/>
          </p:blipFill>
          <p:spPr>
            <a:xfrm>
              <a:off x="2657880" y="468000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6"/>
            <a:stretch/>
          </p:blipFill>
          <p:spPr>
            <a:xfrm>
              <a:off x="2747160" y="4229280"/>
              <a:ext cx="2872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"/>
          <p:cNvGrpSpPr/>
          <p:nvPr/>
        </p:nvGrpSpPr>
        <p:grpSpPr>
          <a:xfrm>
            <a:off x="4597560" y="2414520"/>
            <a:ext cx="722160" cy="976320"/>
            <a:chOff x="4597560" y="2414520"/>
            <a:chExt cx="722160" cy="976320"/>
          </a:xfrm>
        </p:grpSpPr>
        <p:sp>
          <p:nvSpPr>
            <p:cNvPr id="898" name=""/>
            <p:cNvSpPr/>
            <p:nvPr/>
          </p:nvSpPr>
          <p:spPr>
            <a:xfrm>
              <a:off x="4597560" y="2414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13760" y="243360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604760" y="282420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22120" y="322092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01480" y="243360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" descr=""/>
            <p:cNvPicPr/>
            <p:nvPr/>
          </p:nvPicPr>
          <p:blipFill>
            <a:blip r:embed="rId17"/>
            <a:stretch/>
          </p:blipFill>
          <p:spPr>
            <a:xfrm>
              <a:off x="4726440" y="300348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8"/>
            <a:stretch/>
          </p:blipFill>
          <p:spPr>
            <a:xfrm>
              <a:off x="4815720" y="2552760"/>
              <a:ext cx="2872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"/>
          <p:cNvGrpSpPr/>
          <p:nvPr/>
        </p:nvGrpSpPr>
        <p:grpSpPr>
          <a:xfrm>
            <a:off x="4597560" y="3421080"/>
            <a:ext cx="722160" cy="976320"/>
            <a:chOff x="4597560" y="3421080"/>
            <a:chExt cx="722160" cy="976320"/>
          </a:xfrm>
        </p:grpSpPr>
        <p:pic>
          <p:nvPicPr>
            <p:cNvPr id="906" name="" descr=""/>
            <p:cNvPicPr/>
            <p:nvPr/>
          </p:nvPicPr>
          <p:blipFill>
            <a:blip r:embed="rId19"/>
            <a:stretch/>
          </p:blipFill>
          <p:spPr>
            <a:xfrm>
              <a:off x="4666320" y="3600360"/>
              <a:ext cx="5842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4597560" y="34210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13760" y="34401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1960" y="3749760"/>
              <a:ext cx="691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Стокгольмской бирж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6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22120" y="42274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01480" y="34401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2" name="" descr=""/>
            <p:cNvPicPr/>
            <p:nvPr/>
          </p:nvPicPr>
          <p:blipFill>
            <a:blip r:embed="rId20"/>
            <a:stretch/>
          </p:blipFill>
          <p:spPr>
            <a:xfrm>
              <a:off x="4726440" y="401004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3" name=""/>
          <p:cNvGrpSpPr/>
          <p:nvPr/>
        </p:nvGrpSpPr>
        <p:grpSpPr>
          <a:xfrm>
            <a:off x="2529000" y="5433840"/>
            <a:ext cx="722160" cy="1010880"/>
            <a:chOff x="2529000" y="5433840"/>
            <a:chExt cx="722160" cy="1010880"/>
          </a:xfrm>
        </p:grpSpPr>
        <p:sp>
          <p:nvSpPr>
            <p:cNvPr id="914" name=""/>
            <p:cNvSpPr/>
            <p:nvPr/>
          </p:nvSpPr>
          <p:spPr>
            <a:xfrm>
              <a:off x="2529000" y="54338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68240" y="585432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53560" y="62402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7" name="" descr=""/>
            <p:cNvPicPr/>
            <p:nvPr/>
          </p:nvPicPr>
          <p:blipFill>
            <a:blip r:embed="rId21"/>
            <a:stretch/>
          </p:blipFill>
          <p:spPr>
            <a:xfrm>
              <a:off x="2657880" y="60228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2541960" y="5454360"/>
              <a:ext cx="37440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31840" y="545292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л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0" name="" descr=""/>
            <p:cNvPicPr/>
            <p:nvPr/>
          </p:nvPicPr>
          <p:blipFill>
            <a:blip r:embed="rId22"/>
            <a:stretch/>
          </p:blipFill>
          <p:spPr>
            <a:xfrm>
              <a:off x="2578680" y="5578200"/>
              <a:ext cx="62352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"/>
          <p:cNvGrpSpPr/>
          <p:nvPr/>
        </p:nvGrpSpPr>
        <p:grpSpPr>
          <a:xfrm>
            <a:off x="4597560" y="4427640"/>
            <a:ext cx="722160" cy="976320"/>
            <a:chOff x="4597560" y="4427640"/>
            <a:chExt cx="722160" cy="976320"/>
          </a:xfrm>
        </p:grpSpPr>
        <p:sp>
          <p:nvSpPr>
            <p:cNvPr id="922" name=""/>
            <p:cNvSpPr/>
            <p:nvPr/>
          </p:nvSpPr>
          <p:spPr>
            <a:xfrm>
              <a:off x="4597560" y="44276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13760" y="44467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Телеком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04760" y="483732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,06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22120" y="52340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01480" y="44467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" descr=""/>
            <p:cNvPicPr/>
            <p:nvPr/>
          </p:nvPicPr>
          <p:blipFill>
            <a:blip r:embed="rId23"/>
            <a:stretch/>
          </p:blipFill>
          <p:spPr>
            <a:xfrm>
              <a:off x="4726440" y="501660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24"/>
            <a:stretch/>
          </p:blipFill>
          <p:spPr>
            <a:xfrm>
              <a:off x="4730760" y="4583160"/>
              <a:ext cx="45540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9" name="" descr=""/>
          <p:cNvPicPr/>
          <p:nvPr/>
        </p:nvPicPr>
        <p:blipFill>
          <a:blip r:embed="rId25"/>
          <a:stretch/>
        </p:blipFill>
        <p:spPr>
          <a:xfrm>
            <a:off x="-663480" y="1573200"/>
            <a:ext cx="498240" cy="13644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4597560" y="5433840"/>
            <a:ext cx="722160" cy="976320"/>
            <a:chOff x="4597560" y="5433840"/>
            <a:chExt cx="722160" cy="976320"/>
          </a:xfrm>
        </p:grpSpPr>
        <p:sp>
          <p:nvSpPr>
            <p:cNvPr id="931" name=""/>
            <p:cNvSpPr/>
            <p:nvPr/>
          </p:nvSpPr>
          <p:spPr>
            <a:xfrm>
              <a:off x="4597560" y="54338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13760" y="54529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11960" y="5762520"/>
              <a:ext cx="691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389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22120" y="62402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01480" y="54529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6" name="" descr=""/>
            <p:cNvPicPr/>
            <p:nvPr/>
          </p:nvPicPr>
          <p:blipFill>
            <a:blip r:embed="rId26"/>
            <a:stretch/>
          </p:blipFill>
          <p:spPr>
            <a:xfrm>
              <a:off x="4726440" y="60228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27"/>
            <a:stretch/>
          </p:blipFill>
          <p:spPr>
            <a:xfrm>
              <a:off x="4709160" y="5594040"/>
              <a:ext cx="497880" cy="13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8" name=""/>
          <p:cNvGrpSpPr/>
          <p:nvPr/>
        </p:nvGrpSpPr>
        <p:grpSpPr>
          <a:xfrm>
            <a:off x="6665760" y="1407960"/>
            <a:ext cx="722520" cy="1010880"/>
            <a:chOff x="6665760" y="1407960"/>
            <a:chExt cx="722520" cy="1010880"/>
          </a:xfrm>
        </p:grpSpPr>
        <p:pic>
          <p:nvPicPr>
            <p:cNvPr id="939" name="" descr=""/>
            <p:cNvPicPr/>
            <p:nvPr/>
          </p:nvPicPr>
          <p:blipFill>
            <a:blip r:embed="rId28"/>
            <a:stretch/>
          </p:blipFill>
          <p:spPr>
            <a:xfrm>
              <a:off x="6854760" y="161136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6665760" y="140796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1960" y="14270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05000" y="181764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Размещение 20%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7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90320" y="221436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70040" y="142704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Ноя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5" name="" descr=""/>
            <p:cNvPicPr/>
            <p:nvPr/>
          </p:nvPicPr>
          <p:blipFill>
            <a:blip r:embed="rId29"/>
            <a:stretch/>
          </p:blipFill>
          <p:spPr>
            <a:xfrm>
              <a:off x="679464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"/>
          <p:cNvGrpSpPr/>
          <p:nvPr/>
        </p:nvGrpSpPr>
        <p:grpSpPr>
          <a:xfrm>
            <a:off x="6665760" y="3421080"/>
            <a:ext cx="722520" cy="976320"/>
            <a:chOff x="6665760" y="3421080"/>
            <a:chExt cx="722520" cy="976320"/>
          </a:xfrm>
        </p:grpSpPr>
        <p:sp>
          <p:nvSpPr>
            <p:cNvPr id="947" name=""/>
            <p:cNvSpPr/>
            <p:nvPr/>
          </p:nvSpPr>
          <p:spPr>
            <a:xfrm>
              <a:off x="6665760" y="34210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81600" y="344016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80160" y="3851280"/>
              <a:ext cx="691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42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89960" y="422748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70040" y="34401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2" name="" descr=""/>
            <p:cNvPicPr/>
            <p:nvPr/>
          </p:nvPicPr>
          <p:blipFill>
            <a:blip r:embed="rId30"/>
            <a:stretch/>
          </p:blipFill>
          <p:spPr>
            <a:xfrm>
              <a:off x="6794640" y="401004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31"/>
            <a:stretch/>
          </p:blipFill>
          <p:spPr>
            <a:xfrm>
              <a:off x="6777000" y="3581280"/>
              <a:ext cx="497880" cy="13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4" name=""/>
          <p:cNvGrpSpPr/>
          <p:nvPr/>
        </p:nvGrpSpPr>
        <p:grpSpPr>
          <a:xfrm>
            <a:off x="6665760" y="4427640"/>
            <a:ext cx="722520" cy="976320"/>
            <a:chOff x="6665760" y="4427640"/>
            <a:chExt cx="722520" cy="976320"/>
          </a:xfrm>
        </p:grpSpPr>
        <p:pic>
          <p:nvPicPr>
            <p:cNvPr id="955" name="" descr=""/>
            <p:cNvPicPr/>
            <p:nvPr/>
          </p:nvPicPr>
          <p:blipFill>
            <a:blip r:embed="rId32"/>
            <a:stretch/>
          </p:blipFill>
          <p:spPr>
            <a:xfrm>
              <a:off x="6717240" y="4611960"/>
              <a:ext cx="61848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6665760" y="44276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81960" y="44467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2960" y="4837320"/>
              <a:ext cx="70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5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0320" y="52340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070040" y="44467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33"/>
            <a:stretch/>
          </p:blipFill>
          <p:spPr>
            <a:xfrm>
              <a:off x="6794640" y="50166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6665760" y="5433840"/>
            <a:ext cx="722520" cy="1010880"/>
            <a:chOff x="6665760" y="5433840"/>
            <a:chExt cx="722520" cy="1010880"/>
          </a:xfrm>
        </p:grpSpPr>
        <p:pic>
          <p:nvPicPr>
            <p:cNvPr id="963" name="" descr=""/>
            <p:cNvPicPr/>
            <p:nvPr/>
          </p:nvPicPr>
          <p:blipFill>
            <a:blip r:embed="rId34"/>
            <a:stretch/>
          </p:blipFill>
          <p:spPr>
            <a:xfrm>
              <a:off x="6854760" y="563724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6665760" y="54338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81960" y="54529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05000" y="584352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790320" y="62402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70040" y="54529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9" name="" descr=""/>
            <p:cNvPicPr/>
            <p:nvPr/>
          </p:nvPicPr>
          <p:blipFill>
            <a:blip r:embed="rId35"/>
            <a:stretch/>
          </p:blipFill>
          <p:spPr>
            <a:xfrm>
              <a:off x="6794640" y="60228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0" name=""/>
          <p:cNvGrpSpPr/>
          <p:nvPr/>
        </p:nvGrpSpPr>
        <p:grpSpPr>
          <a:xfrm>
            <a:off x="6665760" y="2414520"/>
            <a:ext cx="722520" cy="1010880"/>
            <a:chOff x="6665760" y="2414520"/>
            <a:chExt cx="722520" cy="1010880"/>
          </a:xfrm>
        </p:grpSpPr>
        <p:sp>
          <p:nvSpPr>
            <p:cNvPr id="971" name=""/>
            <p:cNvSpPr/>
            <p:nvPr/>
          </p:nvSpPr>
          <p:spPr>
            <a:xfrm>
              <a:off x="6665760" y="241452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681960" y="243360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74400" y="2824200"/>
              <a:ext cx="7048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90320" y="3220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070040" y="243360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Се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" descr=""/>
            <p:cNvPicPr/>
            <p:nvPr/>
          </p:nvPicPr>
          <p:blipFill>
            <a:blip r:embed="rId36"/>
            <a:stretch/>
          </p:blipFill>
          <p:spPr>
            <a:xfrm>
              <a:off x="6794640" y="300348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37"/>
            <a:stretch/>
          </p:blipFill>
          <p:spPr>
            <a:xfrm>
              <a:off x="6774120" y="2552760"/>
              <a:ext cx="50544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8" name="" descr=""/>
          <p:cNvPicPr/>
          <p:nvPr/>
        </p:nvPicPr>
        <p:blipFill>
          <a:blip r:embed="rId38"/>
          <a:stretch/>
        </p:blipFill>
        <p:spPr>
          <a:xfrm>
            <a:off x="-758880" y="2744640"/>
            <a:ext cx="674640" cy="165240"/>
          </a:xfrm>
          <a:prstGeom prst="rect">
            <a:avLst/>
          </a:prstGeom>
          <a:ln w="0">
            <a:noFill/>
          </a:ln>
        </p:spPr>
      </p:pic>
      <p:grpSp>
        <p:nvGrpSpPr>
          <p:cNvPr id="979" name=""/>
          <p:cNvGrpSpPr/>
          <p:nvPr/>
        </p:nvGrpSpPr>
        <p:grpSpPr>
          <a:xfrm>
            <a:off x="4597560" y="1407960"/>
            <a:ext cx="722160" cy="1010880"/>
            <a:chOff x="4597560" y="1407960"/>
            <a:chExt cx="722160" cy="1010880"/>
          </a:xfrm>
        </p:grpSpPr>
        <p:sp>
          <p:nvSpPr>
            <p:cNvPr id="980" name=""/>
            <p:cNvSpPr/>
            <p:nvPr/>
          </p:nvSpPr>
          <p:spPr>
            <a:xfrm>
              <a:off x="4597560" y="140796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13760" y="1427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Прод.пит-и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06200" y="181764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251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722120" y="221436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01480" y="142704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" descr=""/>
            <p:cNvPicPr/>
            <p:nvPr/>
          </p:nvPicPr>
          <p:blipFill>
            <a:blip r:embed="rId39"/>
            <a:stretch/>
          </p:blipFill>
          <p:spPr>
            <a:xfrm>
              <a:off x="472644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40"/>
            <a:stretch/>
          </p:blipFill>
          <p:spPr>
            <a:xfrm>
              <a:off x="4620960" y="1587600"/>
              <a:ext cx="67500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"/>
          <p:cNvSpPr/>
          <p:nvPr/>
        </p:nvSpPr>
        <p:spPr>
          <a:xfrm>
            <a:off x="5381640" y="140796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российской компании производящей мясную продукцию,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251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смог привлечь к компании интерес инвесторов всего мира, что привело к четырехкратной  переподписке, несмотря на отказ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Morgan Stanley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и Тройки Диалог от участия в разме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652E-8B15-4D28-9DC1-13391DA9A9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Зачем следует выходить на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0720" y="5638320"/>
            <a:ext cx="8159760" cy="685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ли листинг на бирже представляет собой один из наиболее значимых моментов в жизни компани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2120" y="1981080"/>
            <a:ext cx="815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Обеспечить доступ на рынок акционерного капит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Расширить спектр возможностей при финансировании бизнеса в будущ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низить стоимость финансирования и улучшить структуру капит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Обеспечить возможность выхода из бизнеса для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становить общепризнанную оценку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оздать новый финансовый инструмент для будущих приобретений в виде 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однять статус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лучшить возможности по материальному стимулированию менедж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2FE4-378C-4B58-80AA-F404107B9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аковы требования к публичной компани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720" y="1676520"/>
            <a:ext cx="815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остоверная и своевременная аудированная финансовая отчетность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едсказуемость выручки и прибыл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Эффективные управление ожиданиями рынка в отношении финансовых результатов компани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озрачная структура собственност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зависимость от материнской компании и основных акционеров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озрачная система корпоративного управления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правленческие ресурсы, чтобы обеспечить успешный процесс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 и справиться с последующей дополнительной нагрузкой, связанной с публичным статусом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обственная юридическая служба для соблюдения необходимых формальностей, диктуемых правилами бирж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33520" y="152388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720" y="5715000"/>
            <a:ext cx="8159760" cy="60948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едоставляет компании возможности непрерывного роста, однако за публичный статус необходимо пла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944A-134A-4797-957E-B32C4A5CF4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оцесс размещения – основные вопросы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2120" y="1523520"/>
            <a:ext cx="8159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695760" y="3772080"/>
            <a:ext cx="1828800" cy="685800"/>
          </a:xfrm>
          <a:prstGeom prst="rect">
            <a:avLst/>
          </a:prstGeom>
          <a:solidFill>
            <a:srgbClr val="b7d0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Arial"/>
              </a:rPr>
              <a:t>Основные вопросы при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48040" y="220968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8040" y="2514600"/>
            <a:ext cx="140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Бизнес-план/ страте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48240" y="2514600"/>
            <a:ext cx="1447920" cy="914400"/>
            <a:chOff x="5448240" y="2514600"/>
            <a:chExt cx="1447920" cy="914400"/>
          </a:xfrm>
        </p:grpSpPr>
        <p:sp>
          <p:nvSpPr>
            <p:cNvPr id="127" name=""/>
            <p:cNvSpPr/>
            <p:nvPr/>
          </p:nvSpPr>
          <p:spPr>
            <a:xfrm>
              <a:off x="5486400" y="2514600"/>
              <a:ext cx="137160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48240" y="281916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marL="3600" indent="-360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Изпользование привлеченного капит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324480" y="3390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86680" y="369576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4320" indent="-4320" algn="ct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f736f"/>
                </a:solidFill>
                <a:latin typeface="Arial"/>
              </a:rPr>
              <a:t>Корпорати-вное управл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533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4040" y="4838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4320" indent="-4320" algn="ct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f736f"/>
                </a:solidFill>
                <a:latin typeface="Arial"/>
              </a:rPr>
              <a:t>Стимулирова-ние менеджмен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6480" y="5143680"/>
            <a:ext cx="1447560" cy="914400"/>
            <a:chOff x="4686480" y="5143680"/>
            <a:chExt cx="1447560" cy="914400"/>
          </a:xfrm>
        </p:grpSpPr>
        <p:sp>
          <p:nvSpPr>
            <p:cNvPr id="134" name=""/>
            <p:cNvSpPr/>
            <p:nvPr/>
          </p:nvSpPr>
          <p:spPr>
            <a:xfrm>
              <a:off x="4724280" y="5143680"/>
              <a:ext cx="137124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6480" y="5448600"/>
              <a:ext cx="14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3960" indent="-396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Финансовая отчет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086280" y="5143680"/>
            <a:ext cx="1447560" cy="914400"/>
            <a:chOff x="3086280" y="5143680"/>
            <a:chExt cx="1447560" cy="914400"/>
          </a:xfrm>
        </p:grpSpPr>
        <p:sp>
          <p:nvSpPr>
            <p:cNvPr id="137" name=""/>
            <p:cNvSpPr/>
            <p:nvPr/>
          </p:nvSpPr>
          <p:spPr>
            <a:xfrm>
              <a:off x="3124080" y="5143680"/>
              <a:ext cx="137124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6280" y="5448600"/>
              <a:ext cx="14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marL="4320" indent="-432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Структура капита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676520" y="4533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8360" y="4838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ивидендная 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390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3695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труктура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33720" y="2514600"/>
            <a:ext cx="1676160" cy="914400"/>
            <a:chOff x="2133720" y="2514600"/>
            <a:chExt cx="1676160" cy="914400"/>
          </a:xfrm>
        </p:grpSpPr>
        <p:sp>
          <p:nvSpPr>
            <p:cNvPr id="144" name=""/>
            <p:cNvSpPr/>
            <p:nvPr/>
          </p:nvSpPr>
          <p:spPr>
            <a:xfrm>
              <a:off x="2286000" y="2514600"/>
              <a:ext cx="137160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720" y="2666880"/>
              <a:ext cx="1676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5760" indent="-576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Связи с инвестора-ми/публи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9CE0-1CF5-43E6-BFA0-5C7E4EE6F2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з чего складывается процесс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720" y="1371600"/>
            <a:ext cx="815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ля успешного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бходимо четкое структурирование и эффективное исполнение каждого этапа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533520" y="175248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1905120"/>
            <a:ext cx="2971800" cy="4419360"/>
            <a:chOff x="533520" y="1905120"/>
            <a:chExt cx="2971800" cy="4419360"/>
          </a:xfrm>
        </p:grpSpPr>
        <p:sp>
          <p:nvSpPr>
            <p:cNvPr id="150" name=""/>
            <p:cNvSpPr/>
            <p:nvPr/>
          </p:nvSpPr>
          <p:spPr>
            <a:xfrm>
              <a:off x="533520" y="1905120"/>
              <a:ext cx="2971800" cy="304560"/>
            </a:xfrm>
            <a:prstGeom prst="rect">
              <a:avLst/>
            </a:prstGeom>
            <a:solidFill>
              <a:srgbClr val="b7d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Подготовка </a:t>
              </a:r>
              <a:r>
                <a:rPr b="1" lang="en-US" sz="12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20" y="2209680"/>
              <a:ext cx="2971800" cy="4114800"/>
            </a:xfrm>
            <a:prstGeom prst="rect">
              <a:avLst/>
            </a:prstGeom>
            <a:noFill/>
            <a:ln w="9360">
              <a:solidFill>
                <a:srgbClr val="b7d0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анный этап является самым продолжительны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олжно быть приложено максимум усилий, чтобы убедиться в том, что компания отвечает высоким стандартам рынка и готова к тому, чтобы стать публично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 u="sng">
                  <a:solidFill>
                    <a:srgbClr val="6f736f"/>
                  </a:solidFill>
                  <a:uFillTx/>
                  <a:latin typeface="Arial"/>
                </a:rPr>
                <a:t>Основные направления рабо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едварительное позиционир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оверка бизнеса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окументация, регламентирующая корпоративное управле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одготовка просп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Вопросы бухгалтерской отчет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Раскрытие факторов привлекательности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Структура размещ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одготовка к маркетированию </a:t>
              </a:r>
              <a:r>
                <a:rPr b="1" lang="en-US" sz="11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86200" y="1905120"/>
            <a:ext cx="2438280" cy="4419360"/>
            <a:chOff x="3886200" y="1905120"/>
            <a:chExt cx="2438280" cy="4419360"/>
          </a:xfrm>
        </p:grpSpPr>
        <p:sp>
          <p:nvSpPr>
            <p:cNvPr id="153" name=""/>
            <p:cNvSpPr/>
            <p:nvPr/>
          </p:nvSpPr>
          <p:spPr>
            <a:xfrm>
              <a:off x="3886200" y="1905120"/>
              <a:ext cx="2438280" cy="304560"/>
            </a:xfrm>
            <a:prstGeom prst="rect">
              <a:avLst/>
            </a:prstGeom>
            <a:solidFill>
              <a:srgbClr val="b7d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Маркетирование </a:t>
              </a:r>
              <a:r>
                <a:rPr b="1" lang="en-US" sz="12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6200" y="2209680"/>
              <a:ext cx="2438280" cy="4114800"/>
            </a:xfrm>
            <a:prstGeom prst="rect">
              <a:avLst/>
            </a:prstGeom>
            <a:noFill/>
            <a:ln w="9360">
              <a:solidFill>
                <a:srgbClr val="b7d0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Компания начнет собственное маркетирование, как только будет гот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оцесс должен быть проведен без изъянов, чтобы максимизировать стоимость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 u="sng">
                  <a:solidFill>
                    <a:srgbClr val="6f736f"/>
                  </a:solidFill>
                  <a:uFillTx/>
                  <a:latin typeface="Arial"/>
                </a:rPr>
                <a:t>Основные направления рабо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Намерение объявить о размеще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Встречи с инвестора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6f736f"/>
                  </a:solidFill>
                  <a:latin typeface="Arial"/>
                </a:rPr>
                <a:t>Roadshow </a:t>
              </a: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и сбор заяво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Определение цены размещения и распределение акц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Стабилиз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781680" y="1905120"/>
            <a:ext cx="1828800" cy="30456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marL="5040" indent="-50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Обращение бумаг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2209680"/>
            <a:ext cx="1828800" cy="4114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Market Mak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Связи с инвесто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ериодические</a:t>
            </a: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 roadshow </a:t>
            </a: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для поддержания информационного пото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Регулярное информирование рын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Непрерывная аналитическая поддерж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905120"/>
            <a:ext cx="0" cy="4419360"/>
          </a:xfrm>
          <a:prstGeom prst="line">
            <a:avLst/>
          </a:prstGeom>
          <a:ln w="25560">
            <a:solidFill>
              <a:srgbClr val="b7d0b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743200"/>
            <a:ext cx="228600" cy="2590920"/>
          </a:xfrm>
          <a:prstGeom prst="rightArrow">
            <a:avLst>
              <a:gd name="adj1" fmla="val 48528"/>
              <a:gd name="adj2" fmla="val 10000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743200"/>
            <a:ext cx="228600" cy="2590920"/>
          </a:xfrm>
          <a:prstGeom prst="rightArrow">
            <a:avLst>
              <a:gd name="adj1" fmla="val 48528"/>
              <a:gd name="adj2" fmla="val 10000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6324120" y="5562720"/>
            <a:ext cx="30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6480" indent="-6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До </a:t>
            </a: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552720" y="5562720"/>
            <a:ext cx="30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90000"/>
          </a:bodyPr>
          <a:p>
            <a:pPr marL="5760" indent="-57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После </a:t>
            </a: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E38F-32E7-4E90-BBC2-DFFA09598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лючевые факторы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720" y="1523520"/>
            <a:ext cx="8159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67160" y="3429000"/>
            <a:ext cx="2209680" cy="1600200"/>
            <a:chOff x="3467160" y="3429000"/>
            <a:chExt cx="2209680" cy="1600200"/>
          </a:xfrm>
        </p:grpSpPr>
        <p:sp>
          <p:nvSpPr>
            <p:cNvPr id="165" name=""/>
            <p:cNvSpPr/>
            <p:nvPr/>
          </p:nvSpPr>
          <p:spPr>
            <a:xfrm>
              <a:off x="3467160" y="3429000"/>
              <a:ext cx="2209680" cy="16002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43480" y="403884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Успешное </a:t>
              </a:r>
              <a:r>
                <a:rPr b="1" lang="en-US" sz="16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00800" y="2209680"/>
            <a:ext cx="2209680" cy="914400"/>
            <a:chOff x="6400800" y="2209680"/>
            <a:chExt cx="2209680" cy="914400"/>
          </a:xfrm>
        </p:grpSpPr>
        <p:sp>
          <p:nvSpPr>
            <p:cNvPr id="168" name=""/>
            <p:cNvSpPr/>
            <p:nvPr/>
          </p:nvSpPr>
          <p:spPr>
            <a:xfrm>
              <a:off x="6400800" y="22096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6760" y="24382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marL="3600" indent="-3600" algn="ctr">
                <a:lnSpc>
                  <a:spcPct val="7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6f736f"/>
                  </a:solidFill>
                  <a:latin typeface="Arial"/>
                </a:rPr>
                <a:t>Оптимальная структура размещения и выбор торговой площад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5410080"/>
            <a:ext cx="2209680" cy="914400"/>
            <a:chOff x="6400800" y="5410080"/>
            <a:chExt cx="2209680" cy="914400"/>
          </a:xfrm>
        </p:grpSpPr>
        <p:sp>
          <p:nvSpPr>
            <p:cNvPr id="171" name=""/>
            <p:cNvSpPr/>
            <p:nvPr/>
          </p:nvSpPr>
          <p:spPr>
            <a:xfrm>
              <a:off x="6400800" y="54100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6760" y="56386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8000"/>
            </a:bodyPr>
            <a:p>
              <a:pPr marL="5040" indent="-504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Правильно выбранный мом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520" y="2209680"/>
            <a:ext cx="2209680" cy="914400"/>
            <a:chOff x="533520" y="2209680"/>
            <a:chExt cx="2209680" cy="914400"/>
          </a:xfrm>
        </p:grpSpPr>
        <p:sp>
          <p:nvSpPr>
            <p:cNvPr id="174" name=""/>
            <p:cNvSpPr/>
            <p:nvPr/>
          </p:nvSpPr>
          <p:spPr>
            <a:xfrm>
              <a:off x="533520" y="22096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24382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marL="3600" indent="-360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Правильное позиционирова-ние 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33520" y="5410080"/>
            <a:ext cx="2209680" cy="914400"/>
            <a:chOff x="533520" y="5410080"/>
            <a:chExt cx="2209680" cy="914400"/>
          </a:xfrm>
        </p:grpSpPr>
        <p:sp>
          <p:nvSpPr>
            <p:cNvPr id="177" name=""/>
            <p:cNvSpPr/>
            <p:nvPr/>
          </p:nvSpPr>
          <p:spPr>
            <a:xfrm>
              <a:off x="533520" y="54100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480" y="56386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2000"/>
            </a:bodyPr>
            <a:p>
              <a:pPr marL="3960" indent="-396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Грамотное маркетирование на рынке добычаа ак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8150400">
            <a:off x="5562000" y="2971440"/>
            <a:ext cx="609480" cy="609480"/>
          </a:xfrm>
          <a:prstGeom prst="rightArrow">
            <a:avLst>
              <a:gd name="adj1" fmla="val 51167"/>
              <a:gd name="adj2" fmla="val 262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057800">
            <a:off x="2971440" y="495252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3407600">
            <a:off x="5562000" y="495252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786400">
            <a:off x="2971440" y="2971800"/>
            <a:ext cx="609480" cy="609480"/>
          </a:xfrm>
          <a:prstGeom prst="rightArrow">
            <a:avLst>
              <a:gd name="adj1" fmla="val 51167"/>
              <a:gd name="adj2" fmla="val 262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2BE4-47D1-45ED-96D0-974FA0541F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очему некоторы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оказываются неудачным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0720" y="1523520"/>
            <a:ext cx="815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Компания не готова к тому, чтобы быть публичной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достаточный финансовый и операционный контроль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 достигнутые финансовые цел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правильное позиционирование компани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удачно выбранный момент размещения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Завышенная цена на момент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привлекательная / недостаточно развитая «биржевая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история»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пытные консультанты по размещению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птимальная структура собственности / неправильное распределение среди инвесторов в момент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достаточная ликвидность акций компании после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720" y="5486400"/>
            <a:ext cx="8159760" cy="685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Неудачно проведенно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/или недостигнутые цели в части выручки и прибыли посл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будут долго преследовать компанию и существенно увеличат стоимость ее капи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33520" y="150480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533520" y="533412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C74B-B3FC-4D64-87FA-EFFB0A31B7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br>
              <a:rPr sz="1600"/>
            </a:b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азмунайгаз Разведка и Добыч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720" y="5867280"/>
            <a:ext cx="8159760" cy="53352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480" indent="-64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Казмунай РД» стало крупнейшим в истории Казахстана (2,3 млрд.долл.) и значительно повысило узнаваемость Казахстана среди международных инвесторов. Котировки акций также значительно повысились после </a:t>
            </a:r>
            <a:r>
              <a:rPr b="1" lang="en-US" sz="1200" spc="-1" strike="noStrike">
                <a:solidFill>
                  <a:srgbClr val="6f736f"/>
                </a:solidFill>
                <a:latin typeface="Arial"/>
              </a:rPr>
              <a:t>I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579132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57913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62120" y="1447920"/>
            <a:ext cx="160020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5040" y="1447920"/>
            <a:ext cx="1866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56204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marL="106200" indent="-10620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8.11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Добыча за янв-сент 2006 возросла на 2% до 52.2 млн. барр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5040" y="1562040"/>
            <a:ext cx="1866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1360" indent="-1713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29.12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ыручка за 9 мес. 2006 увеличилась на   21.4% до 2.4 млрд. до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514600"/>
            <a:ext cx="205740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876920" y="1352520"/>
            <a:ext cx="1980720" cy="723960"/>
            <a:chOff x="4876920" y="1352520"/>
            <a:chExt cx="1980720" cy="723960"/>
          </a:xfrm>
        </p:grpSpPr>
        <p:sp>
          <p:nvSpPr>
            <p:cNvPr id="198" name=""/>
            <p:cNvSpPr/>
            <p:nvPr/>
          </p:nvSpPr>
          <p:spPr>
            <a:xfrm>
              <a:off x="4876920" y="1447920"/>
              <a:ext cx="198072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1352520"/>
              <a:ext cx="19807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171360" indent="-17136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5. 29.05.07 КМГ получает право приобрести 50% в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ations Ener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553080" y="2438280"/>
            <a:ext cx="205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1360" indent="-1713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2.07.07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обыча за 1 полугодие 2007 возросла на 6% до 36.3 млн.ба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904760" y="3524400"/>
            <a:ext cx="685800" cy="666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81080"/>
            <a:ext cx="47880" cy="2514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190600" y="1828800"/>
            <a:ext cx="524160" cy="685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19360" y="1981080"/>
            <a:ext cx="685800" cy="17528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105160" y="2590920"/>
            <a:ext cx="1447560" cy="180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6040" y="4192560"/>
            <a:ext cx="1447560" cy="6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3815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marL="69480" indent="-69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3.12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Добыча за янв-нояб 2006 возросла на 2% до 64.1 млн. барр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114800" y="3944880"/>
            <a:ext cx="1447560" cy="723960"/>
            <a:chOff x="4114800" y="3944880"/>
            <a:chExt cx="1447560" cy="723960"/>
          </a:xfrm>
        </p:grpSpPr>
        <p:sp>
          <p:nvSpPr>
            <p:cNvPr id="209" name=""/>
            <p:cNvSpPr/>
            <p:nvPr/>
          </p:nvSpPr>
          <p:spPr>
            <a:xfrm>
              <a:off x="4114800" y="4040280"/>
              <a:ext cx="14475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3944880"/>
              <a:ext cx="1447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171360" indent="-17136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. 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5.03.07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МГ приобретет 50% Казгермунай з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.07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рд. дол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H="1" flipV="1">
            <a:off x="3171600" y="4038480"/>
            <a:ext cx="942840" cy="2685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8520" y="3505320"/>
            <a:ext cx="2784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08800" indent="-2088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Фондовая истор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Казмунайгаз Р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3986280"/>
            <a:ext cx="2209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ривлекательный регио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3-</a:t>
            </a: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я крупнейшая компания Казахстана по добыч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отенциал роста прибы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Отношения с НК КМГ – статус основной казахстанской компан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Значительные финансовые возможности для ро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6095880" y="3924360"/>
            <a:ext cx="236232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AACA-ACE0-4792-8F47-B95D360D8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27:49Z</dcterms:created>
  <dc:creator>Kozyrev D.</dc:creator>
  <dc:description/>
  <dc:language>en-US</dc:language>
  <cp:lastModifiedBy>Juassov</cp:lastModifiedBy>
  <dcterms:modified xsi:type="dcterms:W3CDTF">2007-09-24T06:56:17Z</dcterms:modified>
  <cp:revision>58</cp:revision>
  <dc:subject/>
  <dc:title>Slide 1</dc:title>
</cp:coreProperties>
</file>