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D497-EB47-41F0-9029-2E6305E8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E5AD-411B-4F38-A91F-540F3BF4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9CD4-EAC5-4F13-AE1A-C48BDA0E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83D3-EF39-414D-B557-5D420CBB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7B33-E252-440A-9F5A-E1E85623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90B3-9F99-498A-A981-A30D46B2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F5D8-6155-4CE5-8D9E-7DDE9049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1ED5-54AA-4D69-8AE2-1F17E817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7144-CF8B-466B-BF20-DCC9A1A1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464A-7C72-4EF2-9E6C-A0E15D01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E135-BDBB-4349-98A4-255251C0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12B6-2631-4A2C-865F-6D29CD8B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1711-0D78-4E58-81E0-C11F63F5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B537-80C9-42D4-828A-42A75B01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E40C-4B5E-4D47-AC78-105562EA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A4D9-DE56-493F-8E3B-E6CB32B0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32E3-0F96-48CA-9444-B39383A9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574-11AE-4DEB-B21F-AB4B0E16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3BF8-B3AB-4338-9E98-F950DCE7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FF3E-E823-484C-8C8D-46B2DDDB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E45A-3C42-447B-BEDC-ED632732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AA2D-0DB6-41CA-80EC-2CB2FA3D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5408-A103-4BC6-912B-2E29CE7A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F40-E308-4DEA-A4A0-16EB7D88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81FD-5FE2-4191-9D4A-8708DA736C1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913B-EE28-4CBB-B39E-6B03E740432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Проблемы аудита финансовой отчетности компаний, выходящих на организованный фондовый рынок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одифицированные отче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тступление от стандарто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граничение масштаба ауди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тступление от стандарт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щественное и убедите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настолько существенное и убедите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рицательное м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нение с оговор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граничение масштаба ауди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щественное и убедите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настолько существенное и убедите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каз от выражения м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нение с оговор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ажность ауди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удиторский отчет подтверждает надежность финансовой отчет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ределяет слабости или отсутствие внутреннего контро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ределяет риски, которые существуют, но которые не были установле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ет возможность руководству обсудить идеи с независимым, знающим профессиона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могает предприятию определить способы выполнения дальнейших план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Что препятствует успешному проведению ауди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граничения объема раб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готовность компании к ауди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понимание ответственности, связанной с аудитом финансовой отчет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предоставление сопутствующей документ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верное понимание целей ауди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верное представление требуемого объема раб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Что препятствует успешному проведению ауди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желание раскрывать информацию, являющуюся существенной для ауди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менение в составе персонала бухгалте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понимание, возникающее в процессе об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четкое разделение обязанностей между аудитором и клиен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влечение других специалис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рганизационные пробле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мена корпоративного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мена организационной струк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сутствие  взаимосвязи между финансовым руководств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бота с иностранными финансовыми консультант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дготовка к аудит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бор оптимальной организационной струк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ганизационно-правовые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заимоотношения с финансовыми консультант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одготовка проекта финансовой  отчетност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ровень работников бухгалтерской служ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ециалист по подготовке финансовой отчетности в соответствии с МСФ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еходный пери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ответствие  листинговым требования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обходимость в услугах других специалистов (оценщики, актуарии и т.п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тветственность аудитор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учить достаточное соответствующ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удиторское доказательство для выражения своего м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блемы ауди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бота аудиторских организа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товность компании к проведению ауди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Ответственность за финансовую отчет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удит финансовой отчетности не освобождает руководство субъекта от ответственности за предоставленную отче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Ответственность руководства комп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дотвращение и выявление фактов мошенничества, а такж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шибок и несоответствие законам и нормативным акта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 счет выполнения и постоянного эффективного функционирования адекватных систем бухгалтерского учета и внутреннего контрол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ущественные оценки и сужд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Являются основными аспектами споров руководства компании с аудиторам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ребуется высокий уровень профессиональных бухгалтеров в составе ключевого финансового руководства компан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ребует значительного времени для принятия реш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ребует сопоставимости излагаемых оценок и суждений из периода в период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сновные разноглас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олидированная и отдельная отчет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авнительн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рректировка ошибок и изменения в учетной полит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формация о связанных сторон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нцип непрерыв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сроченный налог на прибы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бытия после отчетной д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межуточная финансовая отчет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Существенные аспекты финансовой отчетности – консолидированная и отдельная отчетность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олидированная финансовая отчетность включает отчетность всех компаний, которые находятся под контролем материнской компании, включая компании специального назна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троль - возможность управлять финансовой и хозяйственной политикой компании таким образом, чтобы получать выгоды от ее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дельная отчетность – отчетность материнской компании без учета дочерних и совместных комп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жнос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солидированная отчетность содержит более полную информацию, чем отдельна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ределение всех компаний, которые находятся под контролем материнской компании, независимо от того, владеет ли материнская компания контрольным пакетом акц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Существенные аспекты финансовой отчетности – консолидированная и отдельная отчетность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Исключения из общего требования представлять КФО по МСФО, если материнская компания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Monotype Sorts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сама- 100%-ная дочка, либо владельцы доли меньшинства не требуют представления КФ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Monotype Sorts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не имеет публично обращаемых ценных бумаг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Monotype Sorts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не представляла свою фин. отчетность для целей публичного размещения ценных бумаг на фондовом рынке, 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Monotype Sorts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ее промежуточная или главная материнская компания представляет КФО по МСФ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Существенные аспекты финансовой отчетности – сравнительная информац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авнительн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еспечивает информацию о финансовом положении и результатах по сравнению с предыдущим периодом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емонстрирует темпы роста или динамику изменений в ответ на изменения в стратегии компани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ычно требуется сравнительная информация за один предшествующий период, но некоторые биржи требуют сравнительную информацию за два предшествующих период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равнительная информация важна для аналитиков для оценки тенденции деятельности компании, а также сравнения  с другими компаниям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Существенные аспекты финансовой отчетности – корректировка ошибок и изменения в учетной политик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ректировка ошибок и изменения в учетной политике требуют перерасчета всех сравнительных дан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жнос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инимизировать вероятность возникновения ошибок путем модернизации системы внутреннего контроля и регулярного повышения квалификации бухгалтерских кадр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значально выбрать приемлемую учетную политику согласно имеющимся стандартам бухгалтерского уче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вязанные сторо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ридические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зические л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ончательный владелец комп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черние компании, холдинги, совместные предприятия, ассоциированные комп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бственник с правом контроля или существенного влияния на компанию и его близкие члены семь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полнительный директор или другой руководитель с обязанностями по планированию, управлению и контролю компании, и члены их сем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вязанные стороны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При наличии КОНТРОЛЯ, СУЩЕСТВЕННОГО ВЛИЯНИЯ, СОВМЕСТНОГО КОНТРОЛЯ информация о взаимоотношениях между связанными сторонами должна быть раскрыта независимо от того, проводились ли операции между ни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абота аудиторских компа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ормативно-правовые отнош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ачество проведенного ауди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Существенные аспекты финансовой отчетности – принцип непрерывност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облюдение принципа непрерывно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ecff"/>
                </a:solidFill>
                <a:latin typeface="Arial"/>
              </a:rPr>
              <a:t>Финансовая отчетность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товится на основе стандартов бухгалтерского уче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наличии сомнений в непрерывности деятельности – включается пояснительный параграф о причинах сомнений руковод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ecff"/>
                </a:solidFill>
                <a:latin typeface="Arial"/>
              </a:rPr>
              <a:t>Аудиторское заключение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яснительный параграф в случае наличия сомнений касательно непрерывности деятельности компан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Существенные аспекты финансовой отчетности – подоходный налог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Отсроченный подоходный на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дет учет разниц, возникающих между бухгалтерским учетом и расчетом текущего подоходного нало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606920" y="1317600"/>
            <a:ext cx="1731960" cy="4165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847600" y="1289160"/>
            <a:ext cx="1724040" cy="32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76400" y="1957320"/>
            <a:ext cx="3273480" cy="1822680"/>
          </a:xfrm>
          <a:prstGeom prst="rect">
            <a:avLst/>
          </a:prstGeom>
          <a:solidFill>
            <a:srgbClr val="0068ae"/>
          </a:solidFill>
          <a:ln w="9360">
            <a:solidFill>
              <a:srgbClr val="a11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Корректирующ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П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события, существовавшие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на дату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баланс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67280" y="1968480"/>
            <a:ext cx="3273480" cy="1822680"/>
          </a:xfrm>
          <a:prstGeom prst="rect">
            <a:avLst/>
          </a:prstGeom>
          <a:solidFill>
            <a:srgbClr val="0068ae"/>
          </a:solidFill>
          <a:ln w="9360">
            <a:solidFill>
              <a:srgbClr val="a11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Некорректирующ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бытия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озникшие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после даты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баланс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22400" y="1312920"/>
            <a:ext cx="1725840" cy="58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89640" y="1330200"/>
            <a:ext cx="1647720" cy="586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9560" y="4521240"/>
            <a:ext cx="3273480" cy="703800"/>
          </a:xfrm>
          <a:prstGeom prst="rect">
            <a:avLst/>
          </a:prstGeom>
          <a:noFill/>
          <a:ln w="9360">
            <a:solidFill>
              <a:srgbClr val="a11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Непрерывность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18240" y="5521320"/>
            <a:ext cx="3273120" cy="398880"/>
          </a:xfrm>
          <a:prstGeom prst="rect">
            <a:avLst/>
          </a:prstGeom>
          <a:noFill/>
          <a:ln w="9360">
            <a:solidFill>
              <a:srgbClr val="a11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 Дивиде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200" y="323640"/>
            <a:ext cx="7613640" cy="417240"/>
          </a:xfrm>
          <a:prstGeom prst="rect">
            <a:avLst/>
          </a:prstGeom>
          <a:noFill/>
          <a:ln w="0">
            <a:noFill/>
          </a:ln>
        </p:spPr>
        <p:txBody>
          <a:bodyPr lIns="914400" rIns="182880" tIns="325800" bIns="14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7a3104"/>
                </a:solidFill>
                <a:latin typeface="Arial"/>
              </a:rPr>
              <a:t>События после отчетной даты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43880" y="2746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СФО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920" y="260280"/>
            <a:ext cx="52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106"/>
                </a:solidFill>
                <a:latin typeface="Arial"/>
              </a:rPr>
              <a:t>Признание и 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726912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5106"/>
                </a:solidFill>
                <a:latin typeface="Arial"/>
              </a:rPr>
              <a:t>1. Корректирующие события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дебное разбирательств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азрешилось после даты баланса -- признать резерв в балансе вместо  раскрытия условного обязательств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анкротство дебитор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сле даты баланса -- подтверждает, что убыток существовал уже на дату баланса и необходимо уменьшить дебиторскую задолженност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дажа основных средств по цене ниже балансово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оим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сле даты баланса подтверждает, что на дату баланса уже произошло снижение их чистой цены реализац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наружение случая мошенничества (недостачи ТМЦ) или ошиб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свидетельствующее, что отчетность на дату баланса отражала реальность неправильн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39200" y="274680"/>
            <a:ext cx="12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СФО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787392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5106"/>
                </a:solidFill>
                <a:latin typeface="Arial"/>
              </a:rPr>
              <a:t>2. НЕкорректирующие события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7732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ижение рыночной стоимости инвестиц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период между датой баланса и датой утверждения отчетности к выпуск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ммы, признанные в финансовой отчетности на дату баланса,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Е должны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корректироватьс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дение рыночной стоимости, как правило, отражает условия, возникшие в последующем периоде, и не связано с состоянием инвестиции на дату баланса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этому предприятие не корректирует сумму, по которой такие инвестиции были признаны в финансовой отчет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39200" y="274680"/>
            <a:ext cx="12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СФО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880" y="1555560"/>
            <a:ext cx="8763120" cy="48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4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приобретение или продажа дочернего предприятия посл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четной дат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4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принятие плана по прекращению определенного сегмента деятельнос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4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разрушение активов компании от пожара посл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четной да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4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объявление реструктуризац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504720" y="272520"/>
            <a:ext cx="7848720" cy="5353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lIns="914400" rIns="182880" tIns="402480" bIns="9144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5106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cc5106"/>
                </a:solidFill>
                <a:latin typeface="Arial"/>
              </a:rPr>
              <a:t>НЕкорректирующие события</a:t>
            </a:r>
            <a:br>
              <a:rPr sz="2400"/>
            </a:br>
            <a:r>
              <a:rPr b="1" lang="ru-RU" sz="2400" spc="-1" strike="noStrike">
                <a:solidFill>
                  <a:srgbClr val="7a3104"/>
                </a:solidFill>
                <a:latin typeface="Arial"/>
              </a:rPr>
              <a:t>примеры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39200" y="274680"/>
            <a:ext cx="12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СФО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c5106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cc5106"/>
                </a:solidFill>
                <a:latin typeface="Arial"/>
              </a:rPr>
              <a:t>НЕкорректирующие события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выпуск акций, долговых обязательств компан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существенные изменения в рыночной цене приобретенных ценных бумаг третьих лиц  или изменения валютных курсо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начало судебного разбирательства из-за событий, произошедших после даты баланс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я о смене в составе акционеров и в составе Совета Директоров</a:t>
            </a:r>
            <a:r>
              <a:rPr b="0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омежуточная финансовая отчет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оевременная и надежная промежуточная финансовая отчетность обеспечивает лучшие возможности для инвесторов, кредиторов и иных лиц лучше понять способность компании генерировать прибыль и потоки денежных средств, а также ее финансовое положение и ликвид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екомендуемые политики и процедур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ниторинг правовых требова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стема внутреннего контр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декс профессионального по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ужба внутреннего аудита или наличие аудиторского комит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Что такое аудит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лью аудита финансовой отчетности является выражение мнения аудитора о том, что финансовая отчетность подготовлена во всех существенных аспектах в соответствии с принятыми стандартами финансовой отче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Профессия аудитора характеризуется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ладением профессиональными навыками, приобретенными во время обучения и образ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нятием на себя ответственности как по отношению к обществу в целом , так и по отношению к клиен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казанием услуг, отвечающих самым высоким требованиям норм и правил поведения и выполнения аудиторских у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Социальная роль аудитор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ветственность перед обществ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д акционер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д руководств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д регулирующими орган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удиторский отч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зого</a:t>
            </a: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в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чный отчет аудитора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qualified Opinio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ение аудитора без оговор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ндарты финансовой отчетности (МСФ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СБ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ммы и раскры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яемая учетная поли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яемые учетные оцен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ставление финансовой отчетности в цел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вень существе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удиторский отч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ифицированный отчет аудито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Modified Repor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2960" indent="-3121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влияет на мнение аудито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1360" indent="-336960">
              <a:spcBef>
                <a:spcPts val="55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яснительный параграф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Emphasis of Matt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2960" indent="-3121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ияет на мнение аудито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1360" indent="-336960">
              <a:spcBef>
                <a:spcPts val="55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нение с оговорками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Qualified Opinio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81360" indent="-336960">
              <a:spcBef>
                <a:spcPts val="55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тказ от мнения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Disclaimer of Opinio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81360" indent="-336960">
              <a:spcBef>
                <a:spcPts val="55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трицательное мнение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Adverse Opinio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813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вень существен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Аудиторский отчет – поясняющий параграф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нцип непрерывности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начительная неопределенность, разрешение которой зависит от будущих событий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uassov</cp:lastModifiedBy>
  <dcterms:modified xsi:type="dcterms:W3CDTF">2007-09-24T07:16:1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