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Click to move the slide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4DE-E318-4F72-A0D9-5E86FE5439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МХ – 738 эмитентов, 857 млрд. долл. 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a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– 4785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тентов, 141,8 млрд. долл. - 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D4BE-DB04-4A0D-AC34-C168A648D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B368-DE99-4E28-893D-3CEACD955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8CBB-6205-443F-961D-87AB15274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9457-D9EB-411F-A61F-5B14E8D14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255FE-7A5E-42B4-A643-3B46D97D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04D92-83C1-4CC3-A754-FF4E6853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EF60-D2E1-4267-9629-B024EE9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10DAB-8261-41FA-B143-D5B3A761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F74C7-2256-4CDC-B9A2-EC22A1FB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2AFBB-49B9-4427-8714-C494DD75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E8216-468B-4F4D-8480-22658E2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2E50-77B0-4FE5-8CFF-8F6B79401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75690-68D9-4458-B987-38D3E8D5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28265-0A41-4A0A-A283-BEFE8B6F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88E1A-6EC9-4B21-98EB-EFB4276D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9FDF-032F-42BD-935C-EF387BB9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D6A8D-440A-433E-AF52-C6598560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9080-FC9C-4A1A-9FBE-293260F35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35EB-E0D8-4171-9429-E594B13C1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698E-72CD-42F9-9595-D82E6D1CA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B8CA-AC89-4406-9BEA-C7D3D2E47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D32E-7B3A-48FF-A5BD-4C0B0AC73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B529-F15F-46C2-A894-F3A201C7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D839-D030-49CF-8096-0C47B7DB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Click to edit the title text format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Click to edit the outline text format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Second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2" marL="1143000" indent="-22860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Third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3" marL="1600200" indent="-22860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Four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4" marL="2057400" indent="-22860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Fif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5" marL="2057400" indent="-228600">
              <a:spcBef>
                <a:spcPts val="476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Six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6" marL="2057400" indent="-228600">
              <a:spcBef>
                <a:spcPts val="476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Seven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0D3A-9EED-46C8-BC45-E84A986BEC01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cap="sq" w="2844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95280" y="6381720"/>
            <a:ext cx="5067360" cy="33012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Click to edit the title text format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FAD9-7C0E-41CF-B1C1-5958AA523A5E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4337"/>
                </a:solidFill>
                <a:latin typeface="Microsoft Sans Serif"/>
              </a:rPr>
              <a:t>Click to edit the outline text format</a:t>
            </a:r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27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Microsoft Sans Serif"/>
              </a:rPr>
              <a:t>Фондовая биржа ММВБ: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Microsoft Sans Serif"/>
              </a:rPr>
              <a:t>возможности для эмитентов стран СНГ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1d4944"/>
                </a:solidFill>
                <a:latin typeface="Microsoft Sans Serif"/>
              </a:rPr>
              <a:t>сентябрь</a:t>
            </a:r>
            <a:r>
              <a:rPr b="0" lang="ru-RU" sz="2000" spc="-1" strike="noStrike">
                <a:solidFill>
                  <a:srgbClr val="1d4944"/>
                </a:solidFill>
                <a:latin typeface="Microsoft Sans Serif"/>
              </a:rPr>
              <a:t> </a:t>
            </a:r>
            <a:r>
              <a:rPr b="1" lang="ru-RU" sz="2000" spc="-1" strike="noStrike">
                <a:solidFill>
                  <a:srgbClr val="1d4944"/>
                </a:solidFill>
                <a:latin typeface="Microsoft Sans Serif"/>
              </a:rPr>
              <a:t>2007 г.</a:t>
            </a:r>
            <a:endParaRPr b="1" lang="en-US" sz="2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4653000"/>
          <a:ext cx="201636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653000"/>
                    <a:ext cx="201636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24000" y="494172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4581360"/>
            <a:ext cx="507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Times New Roman"/>
              </a:rPr>
              <a:t>Заместитель Генерального директора – руководитель  СВК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Times New Roman"/>
              </a:rPr>
              <a:t>Фондовой биржи ММВБ</a:t>
            </a:r>
            <a:br>
              <a:rPr sz="2400"/>
            </a:br>
            <a:r>
              <a:rPr b="1" lang="ru-RU" sz="2400" spc="-1" strike="noStrike">
                <a:solidFill>
                  <a:srgbClr val="1d4944"/>
                </a:solidFill>
                <a:latin typeface="Times New Roman"/>
              </a:rPr>
              <a:t>Бородин И.А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8920"/>
            <a:ext cx="9144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Варианты организации размещений акций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на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Б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ММВБ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5445000"/>
            <a:ext cx="8569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1484280"/>
            <a:ext cx="3888000" cy="824040"/>
          </a:xfrm>
          <a:prstGeom prst="rect">
            <a:avLst/>
          </a:prstGeom>
          <a:noFill/>
          <a:ln w="22320">
            <a:solidFill>
              <a:srgbClr val="71a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2-й: предложение на открытом рынке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пакета зарегистрированных акций</a:t>
            </a:r>
            <a:r>
              <a:rPr b="1" lang="en-US" sz="1600" spc="-1" strike="noStrike">
                <a:solidFill>
                  <a:srgbClr val="1d4337"/>
                </a:solidFill>
                <a:latin typeface="Times New Roman"/>
              </a:rPr>
              <a:t> (SPO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557360"/>
            <a:ext cx="3600360" cy="580680"/>
          </a:xfrm>
          <a:prstGeom prst="rect">
            <a:avLst/>
          </a:prstGeom>
          <a:noFill/>
          <a:ln w="22320">
            <a:solidFill>
              <a:srgbClr val="71a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337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-й: публичное размещение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новой эмиссии акций (</a:t>
            </a:r>
            <a:r>
              <a:rPr b="1" lang="en-US" sz="1600" spc="-1" strike="noStrike">
                <a:solidFill>
                  <a:srgbClr val="1d4337"/>
                </a:solidFill>
                <a:latin typeface="Times New Roman"/>
              </a:rPr>
              <a:t>IPO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2133720"/>
            <a:ext cx="4537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определение компанией цены размещения и реализация в течение 45 дней (в течение 20 дней в случае листинга в секторе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B)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 существующими акционерами преимущественного права на покупку акций (вне ФБ ММВБ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сбор  ФБ ММВБ заявок от инвесторов/либо вне ФБ ММВБ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определение компанией окончательной цены размещения (отличной от первоначальной не более чем на 10%)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/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 в случае листинга в секторе В возможно определение цены после реализации преимущественного права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сделки с инвесторами по продаже акций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расчеты и перевод денежных средств от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IPO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1844640"/>
            <a:ext cx="720720" cy="0"/>
          </a:xfrm>
          <a:prstGeom prst="line">
            <a:avLst/>
          </a:prstGeom>
          <a:ln w="34920">
            <a:solidFill>
              <a:srgbClr val="71ad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2421000"/>
            <a:ext cx="4033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аккумуляция владельцами компании пакета зарегистрированных акций предназначенных для продажи (вне ФБ ММВБ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формирование клиентской базы инвесторов, сбор предварительных заявок на покупку (возможно участие ФБ ММВБ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определение компанией цены размещения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сделки на ФБ ММВБ по продаже акций инвесторам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расчеты и перевод денежных средств от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SPO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8070-F485-4F75-9DC0-9C9BFCC4A8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Допуск ценных бумаг к размещению</a:t>
            </a:r>
            <a:br>
              <a:rPr sz="2800"/>
            </a:br>
            <a:r>
              <a:rPr b="1" lang="ru-RU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и торгам при </a:t>
            </a:r>
            <a:r>
              <a:rPr b="1" lang="en-US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IPO</a:t>
            </a:r>
            <a:r>
              <a:rPr b="1" lang="ru-RU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SPO</a:t>
            </a:r>
            <a:endParaRPr b="1" lang="en-US" sz="28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102360" y="3583080"/>
          <a:ext cx="108252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2360" y="3583080"/>
                    <a:ext cx="10825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484280"/>
            <a:ext cx="2122560" cy="79236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IPO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первичный рынок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492280"/>
            <a:ext cx="2729160" cy="87480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Допуск акций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к размещению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92360" y="2275920"/>
            <a:ext cx="304560" cy="21564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948360" y="2275920"/>
            <a:ext cx="304920" cy="21564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21400" y="4508640"/>
            <a:ext cx="2514600" cy="60948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котировальные списки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429000"/>
            <a:ext cx="2232000" cy="122400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!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ировальные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ски «В» «И»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984920"/>
            <a:ext cx="3313080" cy="74916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е торги в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ировальных списках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21440" y="4221000"/>
            <a:ext cx="1619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е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.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1484280"/>
            <a:ext cx="2122200" cy="79236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SPO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вторичный рынок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2492280"/>
            <a:ext cx="2729160" cy="87480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Включение акций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в ПВЦБ *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3645000"/>
            <a:ext cx="2514600" cy="60948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вторичные торги 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в ПВЦБ (аукцион)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3645000"/>
            <a:ext cx="2514600" cy="60948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биржевое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размещение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92360" y="3357720"/>
            <a:ext cx="304560" cy="28728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51800" y="3357720"/>
            <a:ext cx="304920" cy="28728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667640" y="4220280"/>
            <a:ext cx="304920" cy="28764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1844640"/>
            <a:ext cx="1440000" cy="0"/>
          </a:xfrm>
          <a:prstGeom prst="line">
            <a:avLst/>
          </a:prstGeom>
          <a:ln cap="sq" w="66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427280" y="1844640"/>
            <a:ext cx="1584360" cy="0"/>
          </a:xfrm>
          <a:prstGeom prst="line">
            <a:avLst/>
          </a:prstGeom>
          <a:ln cap="sq" w="66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1844640"/>
            <a:ext cx="0" cy="1584360"/>
          </a:xfrm>
          <a:prstGeom prst="line">
            <a:avLst/>
          </a:prstGeom>
          <a:ln cap="sq" w="66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356000" y="4653000"/>
            <a:ext cx="304920" cy="28728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5445000"/>
            <a:ext cx="2843280" cy="792360"/>
          </a:xfrm>
          <a:prstGeom prst="rect">
            <a:avLst/>
          </a:prstGeom>
          <a:solidFill>
            <a:srgbClr val="71ad49"/>
          </a:solidFill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*ПВЦБ – перечень внесписочных 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ценных бумаг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E84F-17BB-4FFA-A7C5-FCB7841FCF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d4944"/>
                </a:solidFill>
                <a:latin typeface="Microsoft Sans Serif"/>
              </a:rPr>
              <a:t>IPO российских компаний в 2006 г.</a:t>
            </a:r>
            <a:endParaRPr b="1" lang="en-US" sz="29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844640"/>
          <a:ext cx="7653240" cy="3995640"/>
        </p:xfrm>
        <a:graphic>
          <a:graphicData uri="http://schemas.openxmlformats.org/drawingml/2006/table">
            <a:tbl>
              <a:tblPr/>
              <a:tblGrid>
                <a:gridCol w="307800"/>
                <a:gridCol w="1239840"/>
                <a:gridCol w="1011240"/>
                <a:gridCol w="1114560"/>
                <a:gridCol w="1011240"/>
                <a:gridCol w="874800"/>
                <a:gridCol w="939600"/>
                <a:gridCol w="1154160"/>
              </a:tblGrid>
              <a:tr h="423720"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Компания-эмитен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r>
                        <a:rPr b="1" lang="en-US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IPO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Бирж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Объем IPO</a:t>
                      </a:r>
                      <a:r>
                        <a:rPr b="1" lang="en-US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млн.долл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Процент </a:t>
                      </a:r>
                      <a:r>
                        <a:rPr b="1" lang="en-US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IPO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Ценовой коридор,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долл. СШ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Цена размещения,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долл. СШ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НК Роснефть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.07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 40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,85 – 7,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ТМК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.10.2006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 07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,60 – 5,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Северсталь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08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 06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1,00 - 13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2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Комстар-О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7.02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 00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6,50 – 8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7,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Trader Media East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7.02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65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ГК-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1.10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59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,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,076 – 0,09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Система-Гал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3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96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6,7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92,0 – 229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14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Магни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8.04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6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8,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4,0 – 2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СТС-Меди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1.06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ASDAQ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46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3,50 – 15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аспадска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0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1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,00 – 2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,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ЧЦЗ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7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81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27,5 -15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67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Группа Черкизово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.05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1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7,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 212,5 –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 037,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 28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Группа Разгуля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6.03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4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,00 – 4,8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,8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Верофарм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.04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9,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4,00-29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8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ЦМ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5.12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5,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,5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Белон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5.06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8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25E0-18A6-4AD8-B3A8-2E932DE394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Соотношение объемов IPO в России и за рубежом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71560" y="1773360"/>
          <a:ext cx="595800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1773360"/>
                    <a:ext cx="59580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796000" y="6308640"/>
            <a:ext cx="30970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3684-899F-4F28-A125-7A41E2F64B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Жизнь после </a:t>
            </a: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IPO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Акции компаний, проводивших размещение на российских биржах, имеют лучшую биржевую историю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Российские инвесторы поддерживают рынок</a:t>
            </a:r>
            <a:r>
              <a:rPr b="0" lang="en-US" sz="18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акций компании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Внутри страны цены менее волатильны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357720"/>
          <a:ext cx="8893440" cy="2911320"/>
        </p:xfrm>
        <a:graphic>
          <a:graphicData uri="http://schemas.openxmlformats.org/drawingml/2006/table">
            <a:tbl>
              <a:tblPr/>
              <a:tblGrid>
                <a:gridCol w="1271520"/>
                <a:gridCol w="1268640"/>
                <a:gridCol w="1271520"/>
                <a:gridCol w="1270080"/>
                <a:gridCol w="1271520"/>
                <a:gridCol w="1268280"/>
                <a:gridCol w="1271880"/>
              </a:tblGrid>
              <a:tr h="378720">
                <a:tc row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Компании, проведши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дин месяц посл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Шесть месяцев посл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дин год посл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пережали рынок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тставали от рынка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пережали рынок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тставали от рынка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пережали рынок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тставали от рынка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</a:tr>
              <a:tr h="844200"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На внутреннем рынке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</a:tr>
              <a:tr h="844200"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На внешнем рынке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Динамика цены после </a:t>
            </a:r>
            <a:r>
              <a:rPr b="1" lang="en-US" sz="1800" spc="-1" strike="noStrike">
                <a:solidFill>
                  <a:srgbClr val="1d4337"/>
                </a:solidFill>
                <a:latin typeface="Times New Roman"/>
              </a:rPr>
              <a:t>IPO</a:t>
            </a: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 в сравнении с индексом ММВБ,</a:t>
            </a:r>
            <a:r>
              <a:rPr b="1" lang="en-US" sz="18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кол-во компаний.</a:t>
            </a:r>
            <a:r>
              <a:rPr b="1" lang="en-US" sz="1800" spc="-1" strike="noStrike">
                <a:solidFill>
                  <a:srgbClr val="1d4337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6424560"/>
            <a:ext cx="356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*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По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м Ю. Данилова и ММВБ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E32E-6872-4CEF-A90F-ADE90BD4A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Microsoft Sans Serif"/>
              </a:rPr>
              <a:t>Объем торгов депозитарными расписками (ADR/GDR) и акциями российских компаний в 2006 – 2007 г.</a:t>
            </a:r>
            <a:endParaRPr b="1" lang="en-US" sz="24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марта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484280"/>
          <a:ext cx="8424720" cy="4251240"/>
        </p:xfrm>
        <a:graphic>
          <a:graphicData uri="http://schemas.openxmlformats.org/drawingml/2006/table">
            <a:tbl>
              <a:tblPr/>
              <a:tblGrid>
                <a:gridCol w="1800360"/>
                <a:gridCol w="744480"/>
                <a:gridCol w="795240"/>
                <a:gridCol w="717480"/>
                <a:gridCol w="793800"/>
                <a:gridCol w="608040"/>
                <a:gridCol w="619200"/>
                <a:gridCol w="809640"/>
                <a:gridCol w="728640"/>
                <a:gridCol w="807840"/>
              </a:tblGrid>
              <a:tr h="28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Зарубежные рынки, млн. долл.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Российский рынок, млн. долл.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DB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LSE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NYSE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%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%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РТС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МВБ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Январь 200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006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867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55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629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41,2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58,8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543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468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074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феврал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85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2528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627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540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1,7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3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3549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854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7695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арт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47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4523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50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921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4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5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6149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7583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8566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апрел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2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92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22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463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2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8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7167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346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7820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ай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446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7710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82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3977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4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5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64406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927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4479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юн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02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0591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864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5158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2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3506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498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9008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юл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045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6965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632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643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2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1500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17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9182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август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4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442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28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113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8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2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5973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526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3447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сентя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065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365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95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382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1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0607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0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9106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октя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149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677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41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568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188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17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9963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ноя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027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0894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21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4042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5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5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7503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69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5334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дека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52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862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550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365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1,9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8,1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61961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044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9916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того 2006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69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4350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765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0806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1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9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80749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9153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21595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95280" y="5734080"/>
          <a:ext cx="8424720" cy="288720"/>
        </p:xfrm>
        <a:graphic>
          <a:graphicData uri="http://schemas.openxmlformats.org/drawingml/2006/table">
            <a:tbl>
              <a:tblPr/>
              <a:tblGrid>
                <a:gridCol w="1825560"/>
                <a:gridCol w="719280"/>
                <a:gridCol w="795240"/>
                <a:gridCol w="717480"/>
                <a:gridCol w="793800"/>
                <a:gridCol w="608040"/>
                <a:gridCol w="619200"/>
                <a:gridCol w="809640"/>
                <a:gridCol w="728640"/>
                <a:gridCol w="80784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Январь – июль 2007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2795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88544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3374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24713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8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1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62887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554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54333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7B18C-D332-4CDF-924A-E7AE2049CB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: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рост количества участников и инвесторов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324320" y="1989000"/>
          <a:ext cx="4711680" cy="3310200"/>
        </p:xfrm>
        <a:graphic>
          <a:graphicData uri="http://schemas.openxmlformats.org/drawingml/2006/table">
            <a:tbl>
              <a:tblPr/>
              <a:tblGrid>
                <a:gridCol w="1513080"/>
                <a:gridCol w="1025280"/>
                <a:gridCol w="1150920"/>
                <a:gridCol w="10224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Инвесторы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Январь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1, 200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Январь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1, 200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Июль 1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 200</a:t>
                      </a: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108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03 93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34 440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64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03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Юридические лиц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 268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 069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25 56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Частные инвестор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85 73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09 714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6 54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Нерезидент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78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14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59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Институц. инвестор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Times New Roman"/>
                          <a:ea typeface="Arial CYR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4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 51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9 33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1484280"/>
          <a:ext cx="423720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2372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апреля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 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C790-5E59-4609-94A8-FD95245AC2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24000" y="1052640"/>
          <a:ext cx="8280360" cy="5314680"/>
        </p:xfrm>
        <a:graphic>
          <a:graphicData uri="http://schemas.openxmlformats.org/drawingml/2006/table">
            <a:tbl>
              <a:tblPr/>
              <a:tblGrid>
                <a:gridCol w="2484360"/>
                <a:gridCol w="1171440"/>
                <a:gridCol w="647640"/>
                <a:gridCol w="595440"/>
                <a:gridCol w="463680"/>
                <a:gridCol w="709560"/>
                <a:gridCol w="350640"/>
                <a:gridCol w="752760"/>
                <a:gridCol w="1104840"/>
              </a:tblGrid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Основные требовани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-ный список «А» 1-го уровн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-ный список «А» 2-го уровн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писок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«Б»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писок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«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В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»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писок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«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И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»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Доля обыкновенных акций, которая находится во владении одного лица и (или) его аффилированных лиц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более 75%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более 75%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более 90%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апитализация акци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10 млрд. АП - 3 млрд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3 млрд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П – 1 млрд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1,5 млрд. АП – 500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60 млн. АП – 25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Объем выпуска облигаци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1 млрд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500 млн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300 млн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300 млн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рок существовани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менее 1 год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- не менее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Облигации - не менее 6 мес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Безубыточность баланса эмитент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2 года из последних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2 года из последних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- 2 года из последних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Ежемесячный объем сделок за последние 3 месяц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- 25 млн. Обл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– 10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– 2,5 млн. Обл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– 1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– 1,5 млн. Обл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– 500 тыс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облюдение эмитентом Кодекса корпоративного поведени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Формализованные требования по соблюдению Кодекса при наличии подтверждающих документов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Финансовая отчетность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МСФО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US GAAP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826920" y="260280"/>
            <a:ext cx="81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Требования ФБ ММВБ при включении ценных бумаг в Котировальные списки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F434-8C87-45D1-977E-94F65E8331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Итак, предпосылки созданы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Регулятивный режим – дружелюбный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нфраструктура адекватна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Ликвидность вполне достаточна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нвесторская база - присутствует 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здержки низкие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сторический опыт? Есть успешные примеры!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3E9E-AF3A-4363-AAB7-5FF37FF07A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Новации 2007 г.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Сектор инновационных и растущих компаний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Биржевые облигаци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6DC5-7E40-478E-B49C-1E5B995EF8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Times New Roman"/>
              </a:rPr>
              <a:t>Фондовая биржа ММВБ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Times New Roman"/>
              </a:rPr>
              <a:t>на российском фондовом рынке</a:t>
            </a:r>
            <a:r>
              <a:rPr b="1" lang="ru-RU" sz="2600" spc="-1" strike="noStrike">
                <a:solidFill>
                  <a:srgbClr val="1d4944"/>
                </a:solidFill>
                <a:latin typeface="Microsoft Sans Serif"/>
              </a:rPr>
              <a:t> </a:t>
            </a:r>
            <a:endParaRPr b="1" lang="en-US" sz="26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07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В 2006 г. доля ФБ ММВБ в обороте российского фондового рынка составила около 90%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Объем торгов за 2006 г. составил 755 млрд. долл., что в 3,3 раза больше объема торгов за 2005 г.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Объем торгов за январь-август 2007 г. составил 1 018,2 млрд. долл., что в 2,4 раза больше объема торгов на аналогичную дату 2006 г.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97" name=""/>
          <p:cNvSpPr/>
          <p:nvPr/>
        </p:nvSpPr>
        <p:spPr>
          <a:xfrm>
            <a:off x="-324000" y="530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08400" y="1628640"/>
          <a:ext cx="413388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8400" y="1628640"/>
                    <a:ext cx="4133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4A04-7A87-4E6C-BBAC-449F8FE60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1773360"/>
            <a:ext cx="749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Российская депозитарная расписка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- именная эмиссионная ценная бумага, не имеющая номинальной стоимости, удостоверяющая право собственности на определенное количество акций или облигаций иностранного эмитента (представляемых ценных бумаг) и закрепляющая право ее владельца требовать от эмитента РДР получения взамен РДР соответствующего количества представляемых ценных бумаг и оказания услуг, связанных с осуществлением владельцем российской депозитарной расписки прав, закрепленных представляемыми ценными бумагами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DA40-9B39-46C5-BE4B-5DE78A8359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177336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Эмитентом РДР может быть российский депозитарий, соответствующий требованиям, установленным ФСФР. Причем это может быть как кредитная, так и некредитная организация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Предусмотрена возможность выпуска как спонсируемых программ РДР, когда заключается договор между  эмитентом базового актива и российским депозитарием – эмитентом РДР, так и не спонсируемых. В последнем случае представляемые ценные бумаги должны быть включены в листинг зарубежных фондовых бирж, список которых устанавливается ФСФР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E9E2-84CC-4D26-8DA0-9EF656DC4F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РДР – инструмент, интересный многим категориям эмитентов и инвесторов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■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Компаниям стран СНГ, прежде всего Казахстана, Узбекистана, Украины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Зарубежным компаниям, владеющим активами на территории России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Зарубежным компаниям, имеющим бизнес интересы в России, а значит и потребности в российской валюте для реализации своих бизнес планов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C0F1-230E-4411-9D58-D970082F1D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803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Microsoft Sans Serif"/>
              </a:rPr>
              <a:t>Схема выпуска российских депозитарных расписок</a:t>
            </a:r>
            <a:endParaRPr b="1" lang="en-US" sz="24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89856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Garamond"/>
                <a:ea typeface="Arial"/>
              </a:rPr>
              <a:t>Государство СНГ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98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Росси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4221000"/>
            <a:ext cx="1655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Инвестор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2565360"/>
            <a:ext cx="1871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Андеррайтер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492280"/>
            <a:ext cx="172872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ЭМИТЕНТ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195280" y="2708280"/>
            <a:ext cx="431640" cy="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4365720"/>
            <a:ext cx="1224000" cy="64260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Банк кастоди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9" idx="1"/>
            <a:endCxn id="201" idx="1"/>
          </p:cNvCxnSpPr>
          <p:nvPr/>
        </p:nvCxnSpPr>
        <p:spPr>
          <a:xfrm flipH="1" flipV="1" rot="10800000">
            <a:off x="468000" y="2689560"/>
            <a:ext cx="2160" cy="2010600"/>
          </a:xfrm>
          <a:prstGeom prst="bentConnector3">
            <a:avLst>
              <a:gd name="adj1" fmla="val -14400000"/>
            </a:avLst>
          </a:prstGeom>
          <a:ln w="9360">
            <a:solidFill>
              <a:srgbClr val="1d4337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948360" y="2349360"/>
            <a:ext cx="1800360" cy="91692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Эмитент РДР (депозитарий)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419640" y="2924280"/>
            <a:ext cx="288720" cy="129672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35280" y="2924280"/>
            <a:ext cx="5113080" cy="1441440"/>
          </a:xfrm>
          <a:prstGeom prst="line">
            <a:avLst/>
          </a:prstGeom>
          <a:ln w="9360">
            <a:solidFill>
              <a:srgbClr val="1d4337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Книга заявок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450864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Заявки на приобретение РДР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2997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Выпуск РДР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141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Перевод базового актива в соответствии с книгой заявок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08720" y="2997000"/>
            <a:ext cx="1798560" cy="187164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852640"/>
            <a:ext cx="0" cy="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5373720"/>
            <a:ext cx="2592360" cy="64260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Расчетно-торговая система ФБ ММВБ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812000" y="5013360"/>
            <a:ext cx="0" cy="21600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96360" y="4221000"/>
            <a:ext cx="1296720" cy="73332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Garamond"/>
                <a:ea typeface="Arial"/>
              </a:rPr>
              <a:t>Расчетный депозитарий(НДЦ)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85080" y="2997360"/>
            <a:ext cx="0" cy="107928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01080" y="5013360"/>
            <a:ext cx="0" cy="21600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364000" y="2997000"/>
            <a:ext cx="2232360" cy="266364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27280" y="2492280"/>
            <a:ext cx="1871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Андеррайтер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869000"/>
            <a:ext cx="1655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Инвестор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5589720"/>
            <a:ext cx="1655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Инвестор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203640" y="2924280"/>
            <a:ext cx="503280" cy="216216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916000" y="2923920"/>
            <a:ext cx="647640" cy="266364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508720" y="2997360"/>
            <a:ext cx="1511280" cy="129528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21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Счет номинального держания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876720" y="2997360"/>
            <a:ext cx="863640" cy="223200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378936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4722480"/>
            <a:ext cx="16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Листинг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D9B3-BE4D-44F4-B6C7-EB3D6D00EA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Контакты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1773360"/>
            <a:ext cx="82821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Адрес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Москва, Б. Кисловский пер., 13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Телефон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95) 234-48-1</a:t>
            </a: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Факс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95) 705-96-22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E-mail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savvinov@micex.com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Сайт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www.micex.ru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B4A7-A2A6-4B99-9386-05515DBC34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 - рост ликвидности рынка </a:t>
            </a: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(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среднедневной объем торгов</a:t>
            </a: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)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460520"/>
          <a:ext cx="8964720" cy="46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60520"/>
                    <a:ext cx="896472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BCB4-A352-4E2D-8945-DB6E685B8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: 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рост количества эмитентов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66100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337"/>
                </a:solidFill>
                <a:latin typeface="Microsoft Sans Serif"/>
              </a:rPr>
              <a:t>*</a:t>
            </a:r>
            <a:r>
              <a:rPr b="0" lang="ru-RU" sz="1600" spc="-1" strike="noStrike">
                <a:solidFill>
                  <a:srgbClr val="1d4337"/>
                </a:solidFill>
                <a:latin typeface="Microsoft Sans Serif"/>
              </a:rPr>
              <a:t>включая паи ПИФов и еврооблигации РФ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* Данные на 1 сентября</a:t>
            </a:r>
            <a:r>
              <a:rPr b="0" lang="en-US" sz="1800" spc="-1" strike="noStrike">
                <a:solidFill>
                  <a:srgbClr val="1d4337"/>
                </a:solidFill>
                <a:latin typeface="Times New Roman"/>
              </a:rPr>
              <a:t> 200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6200" y="1557360"/>
          <a:ext cx="4040280" cy="45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6200" y="1557360"/>
                    <a:ext cx="40402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8000" y="1125360"/>
          <a:ext cx="4535280" cy="4138920"/>
        </p:xfrm>
        <a:graphic>
          <a:graphicData uri="http://schemas.openxmlformats.org/drawingml/2006/table">
            <a:tbl>
              <a:tblPr/>
              <a:tblGrid>
                <a:gridCol w="1224000"/>
                <a:gridCol w="792000"/>
                <a:gridCol w="719280"/>
                <a:gridCol w="792000"/>
                <a:gridCol w="1008000"/>
              </a:tblGrid>
              <a:tr h="1024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Эмитенты на ФБ ММВБ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января 200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января 200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января 200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1 августа 200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Всего эмитент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41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85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30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637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Эмитенты акци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6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Эмитенты облигаци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7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4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6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8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7F1A-063C-483B-852A-A9B48CA4F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46836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 – положение в мире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484280"/>
          <a:ext cx="8137440" cy="4772160"/>
        </p:xfrm>
        <a:graphic>
          <a:graphicData uri="http://schemas.openxmlformats.org/drawingml/2006/table">
            <a:tbl>
              <a:tblPr/>
              <a:tblGrid>
                <a:gridCol w="3036960"/>
                <a:gridCol w="2611440"/>
                <a:gridCol w="2489040"/>
              </a:tblGrid>
              <a:tr h="317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борот торгов рынка акций  за январь-июль 200</a:t>
                      </a:r>
                      <a:r>
                        <a:rPr b="1" lang="en-US" sz="16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 года и кол-во эмитент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млрд долл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число эмитент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NY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5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50,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84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NASDAQ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34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78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London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6 532,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61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Tokyo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 800,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39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Euronext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 214,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951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Deutsche B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  <a:ea typeface="Microsoft Sans Serif"/>
                        </a:rPr>
                        <a:t>ö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r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515,4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65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Shanghai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349,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52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Hong Kong Ex&amp;Cl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922,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19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ФБ 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ММВБ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96,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Singapore Ex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12,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6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Wiener B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  <a:ea typeface="Microsoft Sans Serif"/>
                        </a:rPr>
                        <a:t>ö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r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5,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0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Warsaw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872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2,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872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0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872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марта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5763-60D4-4B5C-AF36-33A5F17E0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Б ММВБ – инвестиционный характер рынка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9360">
            <a:solidFill>
              <a:srgbClr val="1d4337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Microsoft Sans Serif"/>
              </a:rPr>
              <a:t>Доля нерезидентов</a:t>
            </a:r>
            <a:endParaRPr b="0" lang="en-US" sz="20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Объем торгов нерезидентов вырос с 15,2 % в 2005 г. до 32,0 в июле 2007 г.</a:t>
            </a:r>
            <a:r>
              <a:rPr b="0" lang="ru-RU" sz="1600" spc="-1" strike="noStrike">
                <a:solidFill>
                  <a:srgbClr val="1d4337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Microsoft Sans Serif"/>
              </a:rPr>
              <a:t>2. Сегмент крупных сделок.</a:t>
            </a:r>
            <a:endParaRPr b="0" lang="en-US" sz="20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егмент крупных сделок (свыше 5 млн.руб.) 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275 млрд.руб. или 29,5% от общего оборота торгов на ФБ ММВБ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редний размер сделки – 11,5 млн.руб.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В 7 раз больше суммарного оборота рынков акций РТС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В 1,3 раза больше оборота биржевого рынка депозитарных расписок на акции российских компаний на </a:t>
            </a:r>
            <a:r>
              <a:rPr b="0" lang="en-US" sz="1800" spc="-1" strike="noStrike">
                <a:solidFill>
                  <a:srgbClr val="1d4337"/>
                </a:solidFill>
                <a:latin typeface="Microsoft Sans Serif"/>
              </a:rPr>
              <a:t>IOB LSE</a:t>
            </a: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егмент очень крупных сделок (свыше 50 млн.руб.) 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37,2 млрд.руб. или 4,0% общего оборота торгов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редний размер сделки – 108 млн.руб.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Равен суммарному обороту рынков РТС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Более 17% от суммарного оборота биржевого рынка депозитарных расписок на акции российских компаний на </a:t>
            </a:r>
            <a:r>
              <a:rPr b="0" lang="en-US" sz="1800" spc="-1" strike="noStrike">
                <a:solidFill>
                  <a:srgbClr val="1d4337"/>
                </a:solidFill>
                <a:latin typeface="Microsoft Sans Serif"/>
              </a:rPr>
              <a:t>IOB LSE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d4337"/>
                </a:solidFill>
                <a:latin typeface="Microsoft Sans Serif"/>
              </a:rPr>
              <a:t> </a:t>
            </a:r>
            <a:endParaRPr b="0" lang="en-US" sz="9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0D32-D517-4DBA-B28C-16BACF4906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Способы привлечения инвестиций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781360"/>
            <a:ext cx="2422800" cy="863640"/>
          </a:xfrm>
          <a:prstGeom prst="rect">
            <a:avLst/>
          </a:prstGeom>
          <a:noFill/>
          <a:ln w="2232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Внутреннее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финансирование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2133720"/>
            <a:ext cx="2206440" cy="884160"/>
          </a:xfrm>
          <a:prstGeom prst="rect">
            <a:avLst/>
          </a:prstGeom>
          <a:noFill/>
          <a:ln w="2232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Долговые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1628640"/>
            <a:ext cx="2494080" cy="790560"/>
          </a:xfrm>
          <a:prstGeom prst="rect">
            <a:avLst/>
          </a:prstGeom>
          <a:noFill/>
          <a:ln w="2232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Акционерный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капитал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3141720"/>
            <a:ext cx="273672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Кредит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Вексел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Рублевые     облигации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Еврооблигации и производные </a:t>
            </a: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продукт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2565360"/>
            <a:ext cx="2879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Частное  размещение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Стратегический инвестор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IPO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789360"/>
            <a:ext cx="2438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Собственные средства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Капитал    владельцев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68B5-3EFD-47A9-BA43-0258563CA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4716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За 2006 г. размещено 238 выпусков корпоративных облигаций (КО) на общую сумму более 17 млрд. долл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За 1999 – 2006 гг. размещено 726 выпусков КО 628 компаний на сумму 40 млрд. долл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Сейчас торгуются 430 КО 316 компаний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Крупнейший выпуск по объему 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Внешторгбанк – 15 млрд. руб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2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Самый «маленький» по объему 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2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ИС – лизинг – 19 млн. руб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Рынок корпоративных облигаций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59280" y="1557360"/>
          <a:ext cx="4021200" cy="44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557360"/>
                    <a:ext cx="40212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июля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 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6DF7-7504-4EC5-BB6F-A61FD5CC8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IPO -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выбор торговой площадки: 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Позиция эмитента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Times New Roman"/>
              </a:rPr>
              <a:t>Факторы выбора</a:t>
            </a:r>
            <a:r>
              <a:rPr b="0" lang="ru-RU" sz="2800" spc="-1" strike="noStrike">
                <a:solidFill>
                  <a:srgbClr val="1d494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944"/>
                </a:solidFill>
                <a:latin typeface="Times New Roman"/>
              </a:rPr>
              <a:t>Технология размещения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Размер сделк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Целевая инвесторская база 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Критическая масса ликвидности 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Законодательство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Требования листинга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здержк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сторический опыт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3F2C-77F5-4CAA-B85B-96E3143733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2:46:37Z</dcterms:created>
  <dc:creator>User</dc:creator>
  <dc:description/>
  <dc:language>en-US</dc:language>
  <cp:lastModifiedBy>Juassov</cp:lastModifiedBy>
  <dcterms:modified xsi:type="dcterms:W3CDTF">2007-09-24T07:12:50Z</dcterms:modified>
  <cp:revision>1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