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5272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33120" y="74088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5272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63EBFB5-F2D5-49E7-BB8B-DB565E9463C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2720" y="938052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6DBEBAC-B948-42FB-974E-559A5CB136A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1C2B-5580-4471-9355-F455C35F1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7676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F425-BCE0-4628-A9F8-C1534A511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132C-FDC4-433E-8FE4-9487F36D1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24092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24092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7676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7676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7676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E014-A995-4B12-A16A-2745E5DBB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7A41-DA2F-43E3-B187-687CC129A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77676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24092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24092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77676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77676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77676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DB83-ECE7-405D-A925-72D9003A7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FB6B-7D0C-4409-9B2C-2BCE5D18F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0544-7A85-40AD-B57C-5C12F6A6B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29A5-1B44-41F4-86DA-6338848E4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04FA-35DA-48C7-88BB-EFA6A3617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E7E2-3939-4EB6-8889-F68087965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F0E8-1ACD-4313-9B24-34593CAC5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ffcc00"/>
              </a:buClr>
              <a:buSzPct val="9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8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800"/>
              </a:spcBef>
              <a:buClr>
                <a:srgbClr val="ffcc00"/>
              </a:buClr>
              <a:buSzPct val="11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8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800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1920" y="6431040"/>
            <a:ext cx="419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5C44-2EB5-4952-9C8E-3197C3A22626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814320"/>
            <a:ext cx="7696080" cy="28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ffcc00"/>
              </a:buClr>
              <a:buSzPct val="9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8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800"/>
              </a:spcBef>
              <a:buClr>
                <a:srgbClr val="ffcc00"/>
              </a:buClr>
              <a:buSzPct val="11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8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800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28400" y="4971600"/>
            <a:ext cx="7148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жегодная конференция</a:t>
            </a:r>
            <a:r>
              <a:rPr b="1" lang="kk-K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ASE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о финансовому рынку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сык-Куль, 2007 го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ый Банк Республики Казахстан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иртанов 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Динамика изменений объемов интервенций НБРК на основной сессии КФБ и среднебиржевой курс за 2006 год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2" name="Rectangle 3"/>
          <p:cNvGraphicFramePr/>
          <p:nvPr/>
        </p:nvGraphicFramePr>
        <p:xfrm>
          <a:off x="0" y="1004760"/>
          <a:ext cx="9144000" cy="528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04760"/>
                    <a:ext cx="914400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83EE-B2FE-4378-AEEE-1A78E90BAA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Золотовалютные резервы НБ РК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5" name="Rectangle 3"/>
          <p:cNvGraphicFramePr/>
          <p:nvPr/>
        </p:nvGraphicFramePr>
        <p:xfrm>
          <a:off x="838080" y="1244520"/>
          <a:ext cx="7620120" cy="486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44520"/>
                    <a:ext cx="76201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AB85-8471-42DD-998F-377F97A1D3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циональный Фонд РК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8" name="Rectangle 3"/>
          <p:cNvGraphicFramePr/>
          <p:nvPr/>
        </p:nvGraphicFramePr>
        <p:xfrm>
          <a:off x="1015920" y="1246320"/>
          <a:ext cx="7772400" cy="504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920" y="1246320"/>
                    <a:ext cx="777240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4577-92BB-4F52-BADB-45E1FC97D7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инамика изменения спрэдов между АА и ВВ за последние три месяца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49591" r="0" b="8599"/>
          <a:stretch/>
        </p:blipFill>
        <p:spPr>
          <a:xfrm>
            <a:off x="800280" y="1338120"/>
            <a:ext cx="7619760" cy="465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C4D2-F145-49A7-B3AE-13929AEFA7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Индекс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KazPrime</a:t>
            </a:r>
            <a:endParaRPr b="1" lang="en-US" sz="2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22009" r="0" b="9108"/>
          <a:stretch/>
        </p:blipFill>
        <p:spPr>
          <a:xfrm>
            <a:off x="762120" y="1287360"/>
            <a:ext cx="7645320" cy="479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7967-62D1-45C3-A333-257582625D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244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Операций Национального Банка по предоставлению ликвидности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7" name="Rectangle 3"/>
          <p:cNvGraphicFramePr/>
          <p:nvPr/>
        </p:nvGraphicFramePr>
        <p:xfrm>
          <a:off x="647640" y="1486080"/>
          <a:ext cx="7772400" cy="48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640" y="1486080"/>
                    <a:ext cx="7772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1A9D-4641-4A4E-B74D-E729661DF4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Динамика изменений объемов интервенций НБРК на основной сессии КФБ в корреляции со среднебиржевым курсом </a:t>
            </a:r>
            <a:br>
              <a:rPr sz="1800"/>
            </a:b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0" name="Rectangle 3"/>
          <p:cNvGraphicFramePr/>
          <p:nvPr/>
        </p:nvGraphicFramePr>
        <p:xfrm>
          <a:off x="812880" y="1133640"/>
          <a:ext cx="7810560" cy="465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2880" y="1133640"/>
                    <a:ext cx="7810560" cy="46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4946-6CFD-4AC9-9037-B9BE8C7111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ациональный Банк Республики Казахстан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9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07C5-2CF0-492C-953E-DB41E8880B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244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Валовый внутренний продукт и прямые инвестиции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7" name="Rectangle 3"/>
          <p:cNvGraphicFramePr/>
          <p:nvPr/>
        </p:nvGraphicFramePr>
        <p:xfrm>
          <a:off x="1143000" y="1258920"/>
          <a:ext cx="7569360" cy="457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258920"/>
                    <a:ext cx="756936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737F-CD0A-471C-A5B1-701FD62C87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овокупные активы: банковский сектор, страховой сектор и пенсионные накопления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0" name="Rectangle 3"/>
          <p:cNvGraphicFramePr/>
          <p:nvPr/>
        </p:nvGraphicFramePr>
        <p:xfrm>
          <a:off x="1292400" y="1241280"/>
          <a:ext cx="7153200" cy="485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2400" y="1241280"/>
                    <a:ext cx="7153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B5ED-F56F-4FF0-9D1D-BF992F4BDE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Вклады населения и кредиты экономике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Rectangle 3"/>
          <p:cNvGraphicFramePr/>
          <p:nvPr/>
        </p:nvGraphicFramePr>
        <p:xfrm>
          <a:off x="1041480" y="1427040"/>
          <a:ext cx="7353360" cy="452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1427040"/>
                    <a:ext cx="735336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807C-2FF8-4F24-9044-2424A89CEB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Капитализация акций на внутреннем финансовом рынке Казахстана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6" name="Rectangle 3"/>
          <p:cNvGraphicFramePr/>
          <p:nvPr/>
        </p:nvGraphicFramePr>
        <p:xfrm>
          <a:off x="954000" y="1050840"/>
          <a:ext cx="7500960" cy="53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0" y="1050840"/>
                    <a:ext cx="750096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D2E9-661E-4A65-9B24-6E4BE71A7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Капитализация облигаций на внутреннем финансовом рынке Казахстана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Rectangle 3"/>
          <p:cNvGraphicFramePr/>
          <p:nvPr/>
        </p:nvGraphicFramePr>
        <p:xfrm>
          <a:off x="1030320" y="1241280"/>
          <a:ext cx="7424640" cy="485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0320" y="1241280"/>
                    <a:ext cx="742464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7890-2915-454C-93A3-463F6F44B5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Валовый внешний долг и заимствования коммерческих банков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2" name="Rectangle 3"/>
          <p:cNvGraphicFramePr/>
          <p:nvPr/>
        </p:nvGraphicFramePr>
        <p:xfrm>
          <a:off x="1041480" y="1231920"/>
          <a:ext cx="7351560" cy="401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1231920"/>
                    <a:ext cx="73515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AE0F-3472-41A8-89A8-175EB6A9C8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Объемы производства нефти в Казахстане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44160" y="5216040"/>
            <a:ext cx="7378920" cy="8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SzPct val="9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По данным статистического обзора мирового рынка энергоносителей от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British Petroleum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tatistical Review of World Energy 2007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Rectangle 3"/>
          <p:cNvGraphicFramePr/>
          <p:nvPr/>
        </p:nvGraphicFramePr>
        <p:xfrm>
          <a:off x="952560" y="1114560"/>
          <a:ext cx="7505640" cy="491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2560" y="1114560"/>
                    <a:ext cx="750564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0199-69BA-4F33-BF1E-59DE085738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Rectangle 3"/>
          <p:cNvGraphicFramePr/>
          <p:nvPr/>
        </p:nvGraphicFramePr>
        <p:xfrm>
          <a:off x="988920" y="1162080"/>
          <a:ext cx="697572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8920" y="1162080"/>
                    <a:ext cx="6975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244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Инфляция в Казахстане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0D8A-064F-4ACA-BF31-B7CE8B85DC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4T12:38:07Z</dcterms:created>
  <dc:creator>laskda</dc:creator>
  <dc:description/>
  <dc:language>en-US</dc:language>
  <cp:lastModifiedBy>Juassov</cp:lastModifiedBy>
  <cp:lastPrinted>2004-10-12T10:25:35Z</cp:lastPrinted>
  <dcterms:modified xsi:type="dcterms:W3CDTF">2007-09-24T07:12:06Z</dcterms:modified>
  <cp:revision>791</cp:revision>
  <dc:subject/>
  <dc:title>The Republic of Kazakhstan</dc:title>
</cp:coreProperties>
</file>