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wmf" ContentType="image/x-wmf"/>
  <Override PartName="/ppt/media/image4.jpeg" ContentType="image/jpeg"/>
  <Override PartName="/ppt/media/image12.png" ContentType="image/png"/>
  <Override PartName="/ppt/media/image1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9.jpeg" ContentType="image/jpeg"/>
  <Override PartName="/ppt/media/image7.png" ContentType="image/png"/>
  <Override PartName="/ppt/media/image15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941-A2DC-4FE1-8430-1262F5BB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F85-508B-402B-84E6-8933DCA7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EA3-60C4-4351-8E46-0AF61C55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44E-9D1B-4482-9CEB-4CAC48B0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F65-E223-41BD-834A-E4DFBE92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F7B-B98A-42AE-9992-F4789680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9E7-190B-4B00-A0BD-D49B554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C41-DA7E-449A-ADAC-1F0CFBA6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C92-A99F-419D-B734-99176408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B0F-4311-4C47-8BC5-214F37BA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D81-6F94-457F-AC15-641E5502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C97-BDFF-4403-850E-AD34193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6A2C-D05E-490F-B98C-2B9F518FE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tras.kz/" TargetMode="External"/><Relationship Id="rId3" Type="http://schemas.openxmlformats.org/officeDocument/2006/relationships/hyperlink" Target="http://www.corpgov.kz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0" r="0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267000" y="2565360"/>
            <a:ext cx="5877000" cy="137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2781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ыт управления активами в Казахстане: реалии и перспекти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3336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ЖЕГОДНАЯ КОНФЕРЕНЦИЯ КАЗАХСТАНСКОЙ ФОНДОВОЙ БИРЖИ ПО ФИНАНСОВОМУ РЫ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36572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гарин Ерла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Прав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 «Сентрас Секьюрити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060640"/>
            <a:ext cx="45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ык-Куль, 18-19 сентября 200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4072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АЕВЫЕ ФОНДЫ И КОРПОРАТИВНОЕ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413000"/>
            <a:ext cx="820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ы и НПФы в лице управляющих компаний будут основными двигателями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поративному Управл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 стороны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и успешное принятие Кодекса Корпоративного Управления повышает в целом привлекательность казахстанского фондового рынка для портфельных инвес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ИФов и пенсионных фондов есть прямой интерес в отлаженной системе Корпоративного Управления среди местных корпоративных клиентов, а также в соблюдении прав миноритарных акцион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ПИФы работают с акциями казахстанских предприятий, консультируют своих клиентов, они, прежде всего, заинтересованы в том, чтобы на рынке обращались только бумаги надежных предприятий с низким уровнем рис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24000" y="515772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2444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ДИНАМИКА КОЛИЧЕСТВА ПАЕВЫХ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661000"/>
            <a:ext cx="860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01.01.2005 г. было зарегистрировано лишь 2 фонда, на 01.01.2006 г. – 45, а уже на 01.01.2007 г. – 86 (% соотношение изменения количества фондов за 2006 г. - 52,3%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01.07. 2007 – 149 (прирост с начала года составил 73.2%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14240" y="981000"/>
          <a:ext cx="78789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981000"/>
                    <a:ext cx="7878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4360" y="53856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: АФ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ДИНАМИКА КОЛИЧЕСТВА ПАЙЩ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6674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аевых фондах под управлением АО «Сентрас Секьюритиз»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йщика, что составля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от вкладчиков ПИФов 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907920"/>
          <a:ext cx="856908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07920"/>
                    <a:ext cx="8569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50920" y="5444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: АФ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24440"/>
            <a:ext cx="874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ДИНАМИКА СТОИМОСТИ АКТИВОВ,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$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200" y="566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ы открытых ПИФов состав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8$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лн., интервальных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лн., закрытых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9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</a:t>
            </a:r>
            <a:r>
              <a:rPr b="0" lang="ru-RU" sz="1800" spc="-1" strike="noStrike">
                <a:solidFill>
                  <a:srgbClr val="333399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907920"/>
          <a:ext cx="79977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7997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24000" y="53856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: АФ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280" y="333360"/>
            <a:ext cx="88567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ДОХОДНОСТЬ ПИФОВ в РК ДО И ПОСЛЕ «КРИЗИС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052640"/>
          <a:ext cx="8136000" cy="4279680"/>
        </p:xfrm>
        <a:graphic>
          <a:graphicData uri="http://schemas.openxmlformats.org/drawingml/2006/table">
            <a:tbl>
              <a:tblPr/>
              <a:tblGrid>
                <a:gridCol w="2141640"/>
                <a:gridCol w="1998720"/>
                <a:gridCol w="1996920"/>
                <a:gridCol w="19987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стоимости пая за месяц 01/05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стоимости пая за месяц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8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НАЧЕ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РАС СЕКЬЮРИ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Ы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MI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ЕТНЫЙ ДВ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Ф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ВОР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INVEST.K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 FI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СНА КАПИ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30200" y="566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падением роста индексов на международных рынках капиталов доходности ПИФов за месяц заметно снизились. Продолжение следу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37300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nvestfunds.k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9000"/>
            <a:ext cx="914400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ИНДЕКС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Dow Jones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 – С ЯНВАРЯ 2006 ПО СЕНТЯБРЬ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28180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50860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весторы понесли потери по ипотечным облигациям США, в связи с резким увеличением не возвратных кредитов, и посчитали, что это приведет к замедлению роста потребления и соответственно к замедлению роста 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80924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7280" y="404640"/>
            <a:ext cx="8856720" cy="8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ИНДЕКС РТС – С ЯНВАРЯ 2006 ПО СЕНТЯБРЬ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114560"/>
            <a:ext cx="8064360" cy="400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55954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РТС был менее волатильным, чем индексы развитых стран, что показывает больший интерес инвесторов к рынкам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1696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280" y="260280"/>
            <a:ext cx="8856720" cy="8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Индекс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KASE -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С ЯНВАРЯ 2006 ПО СЕНТЯБРЬ 2007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2200" y="1074600"/>
            <a:ext cx="8713800" cy="4154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55368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падение испытали акции крупных Казахстанских эмитентов, выпустившие депозитарные расписки на международных рынках капит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и МСБ не испытали значительных изме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22864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0600" y="2565360"/>
            <a:ext cx="90234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0000"/>
                </a:solidFill>
                <a:latin typeface="Arial"/>
              </a:rPr>
              <a:t>Какие существуют проблемы и перспективы?</a:t>
            </a:r>
            <a:br>
              <a:rPr sz="3200"/>
            </a:b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7280" y="549360"/>
            <a:ext cx="88567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Новый Вид Фондов: ЗПИФРИ «Параллельный фонд прямых инвестиций Сентрас» -    </a:t>
            </a:r>
            <a:br>
              <a:rPr sz="2400"/>
            </a:b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СЕНТРАС ФОНД ПРЯМЫХ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557360"/>
          <a:ext cx="8372160" cy="4641840"/>
        </p:xfrm>
        <a:graphic>
          <a:graphicData uri="http://schemas.openxmlformats.org/drawingml/2006/table">
            <a:tbl>
              <a:tblPr/>
              <a:tblGrid>
                <a:gridCol w="3100320"/>
                <a:gridCol w="5271840"/>
              </a:tblGrid>
              <a:tr h="1205640">
                <a:tc gridSpan="2">
                  <a:txBody>
                    <a:bodyPr lIns="0" rIns="0" tIns="0" bIns="0" anchor="t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7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нируемая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питала: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D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дет инвестирован в 7-10 компаний п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D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-7 млн. на компа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ок деятельности – 10 лет +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0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11"/>
                        </a:spcBef>
                        <a:spcAft>
                          <a:spcPts val="711"/>
                        </a:spcAft>
                        <a:tabLst>
                          <a:tab algn="l" pos="0"/>
                          <a:tab algn="l" pos="34596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ые отрасл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28735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требительский сектор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нансовый сект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28735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ырьевой сектор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ьтернативные телеко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128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11"/>
                        </a:spcBef>
                        <a:spcAft>
                          <a:spcPts val="711"/>
                        </a:spcAft>
                        <a:tabLst>
                          <a:tab algn="l" pos="0"/>
                          <a:tab algn="l" pos="34596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устремленные и компетентные предпринимат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ании с хорошими базовыми предпосылк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вигающиеся или потенциальные лидеры отрас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152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11"/>
                        </a:spcBef>
                        <a:spcAft>
                          <a:spcPts val="711"/>
                        </a:spcAft>
                        <a:tabLst>
                          <a:tab algn="l" pos="0"/>
                          <a:tab algn="l" pos="34596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ограф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захстан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нтральная Аз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d7a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РЕДИСЛО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19700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268280"/>
          <a:ext cx="8229600" cy="4083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85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сли Вы не думаете о будущем, у Вас его и не будет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Голсуорс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Голсуорси (1867-1933) - выдающийся английский прозаик и драматург, один из крупнейших писателей-реалистов первой трети ХХ века. В 1932 году Голсуорси была присуждена Нобелевская прем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1079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ТРАНСФЕРАГЕНТ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765000"/>
            <a:ext cx="85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2006 года АО «Казпочт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 трансферагентские услуги на рынке ценных бумаг – прием документов на приобретение и выкуп ПИФ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а представляет собой - принцип «одного окна» - клиенты могут в одном филиале оформить все необходимые документы и произвести оплату п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малоизвестностью ПИФов в Казахстане уровень продаж не оправдал ожиданий на данный момен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Сентрас: в течение года была осуществлена всего одна сделка на покупку п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20000"/>
                </a:solidFill>
                <a:latin typeface="Arial"/>
              </a:rPr>
              <a:t>НОВШЕСТВО: БАНКИ – ТРАНСФЕРАГ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ления  АФН о совмещении видов профдеятельности на РЦБ внесено дополнение, в соответствии с которым </a:t>
            </a:r>
            <a:r>
              <a:rPr b="1" lang="ru-RU" sz="1800" spc="-1" strike="noStrike">
                <a:solidFill>
                  <a:srgbClr val="d20000"/>
                </a:solidFill>
                <a:latin typeface="Arial"/>
              </a:rPr>
              <a:t>БА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и полноправными трансфераг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шный опыт России – оказание банками трансферагентски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1079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СЕНТРАС В РЕГИО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765000"/>
            <a:ext cx="8569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 Сентрас Секьюритиз планирует в ближайшие 2-3 года активное продвижение ПИФов во всех регионах стра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95600"/>
          <a:ext cx="8229600" cy="43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95600"/>
                    <a:ext cx="822960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6028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РОДВИЖЕНИЕ ПИФОВ СОВМЕСТНЫМИ УСИЛИЯМИ ВСЕХ УПРАВЛЯЮЩИХ КОМПАНИЙ В 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824840"/>
            <a:ext cx="84247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трас берется возглавить обширную совместную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РЕКЛАМНУЮ КОМП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х Управляющих компаний в стране и продвигать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ПИФ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и населени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лбор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емин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териалы в 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ало время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НЕ ПОЛАГАТЬСЯ НА БЮДЖЕТНЫЕ СРЕДСТВА, А САМИМ ДВИГАТЬ НОВ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6028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НОВШЕСТВО: ЛИСТИНГ ПИФОВ НА БИР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3366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для пайщиков приобрести или продать па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юбое вре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минуя Управляющую Комп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ае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верие инвес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 только к фонду, но и в целом к институту коллективных 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стр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ключения сд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ежать различных огранич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 покупке и продаже паев, которые могут содержаться в Правилах 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79280" y="4437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ЖИДАЕМЫЕ ПРОБЛЕМЫ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83664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захстане сложилась практика, что большинство закрытых фондов предоставляет своим пайщик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ь вых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закрытого фо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подобная практи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ает смы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ржевую торговлю па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К предоставляет возможность выхода в определенные промежутки времени, то в условиях зачаточного рынка паев, биржевая торговл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ва ли  будет востребо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астоящий момент в Республи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достаточного количества фон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чающим требованиям предполагаемого листинга, и инвесторов способных создать биржевой рынок па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ктивизации биржевого рынка важно не столько количество фондов в Республике, 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пайщиков и потенциальных инвесто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отовых войти в фо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155736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465300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ЖИДАЕМЫЕ ПРОБЛЕМЫ (2)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0200" y="907920"/>
            <a:ext cx="846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яс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 процедурам размещения паев на бир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ьезной проблемой на наш взгляд может стать листингов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е о налич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ой динамики до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казывает практика развитых фондовых рынков (США, Великобритания Россия) листинговые требования для паев не содержат требования по наличию доходности, что совершенно правильно. В соответствии  с требованиями закона УК должны предупреждать пайщиков, что стоимость паев может как увеличиваться, так и уменьшаться, в связи с этим требования листинга о наличии обязательной положительной доходности представляются не лог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158292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19640" y="357336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08720" cy="3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КАК НАВРЕДИТЬ ИМИДЖУ ПИФОВ В Р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677760"/>
            <a:ext cx="828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90792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ессивные ставки доходности – больше вреда, чем польз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тор должен обращать внимание на содержание рекламных продуктов, предназначенных для широкого распространения, в частности билбор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пердоход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лько настораживает, в значительной степени порождает недоверие к таким формам инвес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тор должен проверять достоверность рекламных сведений, в особенности все, что касается доходности фо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buClr>
                <a:srgbClr val="d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20000"/>
                </a:solidFill>
                <a:latin typeface="Arial"/>
              </a:rPr>
              <a:t>РЕГУЛЯТОР ДОЛЖЕН ОПРЕДЕЛИТЬ СОДЕРЖАНИЕ РЕКЛАМЫ В ЧАСТИ ДОХОДНОСТИ, НА ПРЕДМЕТ ОТСУТСТВИЯ ЭЛЕМЕНТОВ МАНИПУЛИРОВАНИЯ ПРИ ЗАКЛЮЧЕНИИ ТАКИХ «СУПЕР» СДЕЛОК И Т.Д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549360"/>
            <a:ext cx="88567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281240"/>
            <a:ext cx="8496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евые фонды особенно схем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ат свой стремительный рос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рынке управления активами появятся фонды с несмешанным портфелем и более длинным сроком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стинг паев на КФБ неминуемо приведет к росту популярности ПИФов как альтернативного инструмента инвест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лько совместными усилиями управляющих компаний целесообразно продвигать идею ПИФов и не полагаясь только на госпрограм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строго регламентировать рекламу доходности ПИФов для поддержания их позитивного имидж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32944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ГРУППА СЕНТ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2817720" cy="2117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419640" y="981000"/>
            <a:ext cx="2441520" cy="2089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00720" y="1052640"/>
            <a:ext cx="2529000" cy="211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41400" y="3357720"/>
            <a:ext cx="2839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444600"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Инвестиционный </a:t>
            </a:r>
            <a:br>
              <a:rPr sz="1900"/>
            </a:b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банкинг</a:t>
            </a:r>
            <a:r>
              <a:rPr b="1" lang="en-US" sz="1100" spc="-1" strike="noStrike">
                <a:solidFill>
                  <a:srgbClr val="000000"/>
                </a:solidFill>
                <a:latin typeface="Europe_Ext_KZ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24720" y="3429000"/>
            <a:ext cx="32374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44460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Прямые инвестиции</a:t>
            </a:r>
            <a:r>
              <a:rPr b="1" i="1" lang="en-US" sz="19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Europe_Ext_KZ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429000"/>
            <a:ext cx="2422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 algn="r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Страхов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4076640"/>
            <a:ext cx="3095640" cy="18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рокерск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евые фо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вестиционный банк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нсультационные услуги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0 профессион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4149720"/>
            <a:ext cx="3313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инансов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требительски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ырьево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ьтернативные телекоммун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5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фессионалов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4221000"/>
            <a:ext cx="309564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счастных случа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 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фессион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87280" y="2349360"/>
            <a:ext cx="6718320" cy="187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Arial"/>
              </a:rPr>
              <a:t>ВОПРОСЫ И 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1803600" cy="186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648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КЛЮЧЕВЫЕ ФАКТЫ О ПИФАХ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84247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института коллективных инвестиций в Казахстане проходит доволь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ому способствует действующее законодательство, регулирующее деятельность инвестиционных 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был принять Закон «Об Инвестиционных Фондах», разработаны все необходимые НПА, создан первый фонд и управляющая компания, </a:t>
            </a:r>
            <a:r>
              <a:rPr b="1" lang="ru-RU" sz="2000" spc="-1" strike="noStrike">
                <a:solidFill>
                  <a:srgbClr val="d20000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 одной сделки заключено не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2004 году опыт первого закона был учтен и уже вновь принятый закон стал гораздо либеральнее, что и способствовало развитию данного инстит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0000"/>
                </a:solidFill>
                <a:latin typeface="Arial"/>
              </a:rPr>
              <a:t>Закон «Об Инвестиционных Фондах» – от 7 июля 20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1099800" cy="166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136000" cy="647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0000"/>
                </a:solidFill>
                <a:latin typeface="Arial"/>
              </a:rPr>
              <a:t>АО «СЕНТРАС СЕКЬЮРИТИЗ» - «Превращая идеи в капита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3716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захстан, Алматы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500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рманова, 24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изнес Центр, 9 эт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: +7 327 259 88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с: +7 327 259 88 8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il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rpgov.kz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сайт по корпуправлению в 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907920"/>
            <a:ext cx="6718320" cy="187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33360"/>
            <a:ext cx="8964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СНОВНЫЕ ПОЛОЖИТЕЛЬНЫЕ МОМЕНТЫ ПИФ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765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астоящий момент не облагаются налогами инвестиционные доходы фо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стоимости пая осуществляется, исходя из чистых активов фонда без вычета нал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бождены от налогообложения дивиденды по паям и акциям физически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налога на прирост стоимости пая при его выкупе управляющей компанией от физически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ым моментом является также и то, что по предварительным договоренностям Министерство экономики и бюджетного планирования РК выразило согласие не менять систему налогообложения фондов до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79280" y="386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79280" y="479736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333360"/>
            <a:ext cx="8964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ШИРОКИЕ ВОЗМОЖНОСТИ ДЛЯ ИНВ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620640"/>
            <a:ext cx="8425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дам предоставлена возможность инвестировани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финансовые инструменты, но и в имущество и имущественные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регистрации прав на недвижимое имущество и сделок с ним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принят 26 июля 2007 года и вступил в силу 19 августа 2007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проекте имеется статья о регистрации прав собственности на недвижимость, купленную за счет активов ПИФ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инятием данного закона проблема покупки недвижимости за счет ПИФов может быть реш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2925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5280" y="508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7280" y="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ЛИБЕРАЛЬНЫЙ РЕЖИМ ИНВЕСТИРОВАНИЯ ДЛЯ РИСКОВЫХ ФОНДОВ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266840"/>
            <a:ext cx="842472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заключения сделок с не финансовыми инструментами без ограничений от объема собственных а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покупки 100% выпущенных финансовых инструментов одного юридическ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покупки активов других фондов, находящихся в управлении данной ком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совершать «короткие продажи», в том числе заключать сделки без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з ограничений совершать сделки с производными бума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совершения заемных операц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0000"/>
                </a:solidFill>
                <a:latin typeface="Arial"/>
              </a:rPr>
              <a:t>Все вышеизложенные факторы позволяют повышать ДОХОД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9280" y="3213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7928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79280" y="5013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79280" y="5661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7280" y="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СНЯТИЕ ОГРАНИЧЕНИЙ ПО СОЗДАНИЮ ДОЧЕРНИХ ПРЕДПРИЯТИЙ ДЛЯ РИСКОВЫХ ФОНДОВ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6966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ятие ограничений позволяет акционерным фондам финансировать проекты без ограничений по объему инвест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ем самым повышается эффективность да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3068640"/>
            <a:ext cx="201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7280" y="33336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ПЕРАТИВНОСТЬ НАЧИСЛЕНИЯ ПАЕВ И ВЫДАЧИ ДЕНЕГ ДЕРЖАТЕЛЮ ПА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966680"/>
            <a:ext cx="842472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Законом, Управляющая Компания обязана, в срок не более одного рабочего д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дня принятия заявки передать деньги заяв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ое обстоятельство повышает привлекательность фондов, как объектов инв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3429000"/>
            <a:ext cx="201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17136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РИНЦИП ЦЕН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23408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Форвардное ценообразован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фактически установленное в Законе, исключает возможность злоупотребления со стороны управляющих при выкупе и продаже п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кольку оценка активов и определение стоимости пая происходит после принятия всех заявок, Управляющая Компания не имеет возможности давать рекомендаци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филиированным л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7:49Z</dcterms:created>
  <dc:creator>Вадим Червяков</dc:creator>
  <dc:description/>
  <dc:language>en-US</dc:language>
  <cp:lastModifiedBy>Juassov</cp:lastModifiedBy>
  <dcterms:modified xsi:type="dcterms:W3CDTF">2007-09-24T07:14:13Z</dcterms:modified>
  <cp:revision>99</cp:revision>
  <dc:subject/>
  <dc:title>Слайд 1</dc:title>
</cp:coreProperties>
</file>