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A5C-A7FC-4DA8-9840-18E7636D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AE4-0571-41EA-85A9-F68932B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D6E-4F72-4A06-B472-C0EA0C8D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8A0-A3B8-4805-86B7-05978BBB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728-D0AA-4372-B46A-AA00A82F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E59-9149-455F-A612-8AA5BBB0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4C2-FBD5-4CAD-9390-EE8907E3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436-CAFC-469B-AC46-77F70833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E99-14DB-4D91-98A9-8362B05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0D5-7D69-4601-9D16-A709C7A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898-AD8B-431A-9A04-E28F7FA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211-CCDA-444C-A2C0-57FB979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0CE-172A-46F1-BA5E-C5375BCF6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hyperlink" Target="mailto:kase@kase.kz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981000"/>
            <a:ext cx="8381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ОДЕРНИЗАЦИЯ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ЛИСТИНГОВЫХ ТРЕБОВАНИЙ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АЗАХСТАНСКОЙ ФОНДОВОЙ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БИРЖИ (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ASE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4005360"/>
            <a:ext cx="712944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ЕЖЕГОДНАЯ КОНФЕРЕНЦИЯ КАЗАХСТАНСКОЙ ФОНДОВОЙ БИРЖИ ПО ФИНАНСОВОМУ РЫН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ссык-Куль – Аврор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8–19 сентября 2007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524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РЫНОК БУДЕТ РАЗДЕЛЕН Н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819520"/>
            <a:ext cx="8534160" cy="459720"/>
          </a:xfrm>
          <a:prstGeom prst="rect">
            <a:avLst/>
          </a:prstGeom>
          <a:solidFill>
            <a:srgbClr val="33cc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657600"/>
            <a:ext cx="853416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95680"/>
            <a:ext cx="8534160" cy="45972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ПАЕВ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666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9448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"голубых фишек" (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Blue_Chips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акций субъектов среднего предпринимательства (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Mid_Cap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start-up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, предназначенный для акций "молодых", "растущих" комп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600200"/>
            <a:ext cx="8534520" cy="459720"/>
          </a:xfrm>
          <a:prstGeom prst="rect">
            <a:avLst/>
          </a:prstGeom>
          <a:solidFill>
            <a:srgbClr val="33ccc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8380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95280"/>
            <a:ext cx="83822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438280"/>
            <a:ext cx="9448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Рынок облигаций не будет подразделяться по категориям листинговых требований, поскольку основным качественным ориентиром для покупателей и держателей облигаций должны стать их рейтинговые оцен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53452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0666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28600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истема листинговых требований к паям паевых инвестиционных фондов будет развиваться по мере активизации организованного рынка этого нового для Казахстана инструмен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447920"/>
            <a:ext cx="853452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ПАЕВ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 Narrow"/>
              </a:rPr>
              <a:t>СВЯЗЬ С НАМИ</a:t>
            </a:r>
            <a:r>
              <a:rPr b="1" lang="en-US" sz="3200" spc="-1" strike="noStrike">
                <a:solidFill>
                  <a:srgbClr val="ccecff"/>
                </a:solidFill>
                <a:latin typeface="Arial Narrow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11320"/>
            <a:ext cx="8915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Интернет адре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Narrow"/>
                <a:ea typeface="Arial"/>
                <a:hlinkClick r:id="rId1"/>
              </a:rPr>
              <a:t>www.kase.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e-mail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Narrow"/>
                <a:ea typeface="Arial"/>
                <a:hlinkClick r:id="rId2"/>
              </a:rPr>
              <a:t>kase@kase.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телефон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(+7 327)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37 53 00, 272 98 98, 237 53 11, 272 06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фак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(+7 327)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96 64 02, 272 09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адре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Казахстан,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г. Алматы, пр. Достык,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9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37702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ПЕКТР ИНСТРУМЕНТОВ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990720"/>
          <a:ext cx="85978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97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ЕКТР ИНСТРУМЕНТОВ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172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 Narrow"/>
              </a:rPr>
              <a:t>На рынок репо приходится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65,1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%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Arial Narrow"/>
              </a:rPr>
              <a:t>общего оборота 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99072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767560" y="133200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Валюта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59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215,4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9200" y="3789360"/>
            <a:ext cx="132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Н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7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629,2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436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6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392,7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4941720"/>
            <a:ext cx="168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Прямое репо с Н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0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70,6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589720"/>
            <a:ext cx="152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Авторепо с НЦБ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17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237,5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360" y="4495680"/>
            <a:ext cx="148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Авторепо с 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08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253,8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7840" y="5734080"/>
            <a:ext cx="179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Прямое репо с 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 057,4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,5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67120" y="3263760"/>
            <a:ext cx="130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05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092,1</a:t>
            </a:r>
            <a:br>
              <a:rPr sz="2400"/>
            </a:br>
            <a:r>
              <a:rPr b="0" lang="ru-RU" sz="1600" spc="-1" strike="noStrike">
                <a:solidFill>
                  <a:srgbClr val="ffff99"/>
                </a:solidFill>
                <a:latin typeface="Arial Narrow"/>
              </a:rPr>
              <a:t>млн </a:t>
            </a:r>
            <a:r>
              <a:rPr b="0" lang="en-US" sz="1600" spc="-1" strike="noStrike">
                <a:solidFill>
                  <a:srgbClr val="ffff99"/>
                </a:solidFill>
                <a:latin typeface="Arial Narrow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75960" y="98100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СТП РФЦА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386,6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,2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920" y="160020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abd"/>
                </a:solidFill>
                <a:latin typeface="Arial Narrow"/>
              </a:rPr>
              <a:t>По состоянию на 01.09.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официальный спи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В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список "Нелистинговые ценные бумаг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специальная торговая площадка регионального финансового центра города Алм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С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1219320"/>
          <a:ext cx="395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395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419720" y="1219320"/>
          <a:ext cx="3954240" cy="46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219320"/>
                    <a:ext cx="39542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8153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267080" y="1190520"/>
          <a:ext cx="420876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90520"/>
                    <a:ext cx="420876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88800" y="1190520"/>
          <a:ext cx="394668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800" y="1190520"/>
                    <a:ext cx="39466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ПРОЦЕДУРА ЛИСТ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057400"/>
            <a:ext cx="541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3526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181480"/>
            <a:ext cx="7467480" cy="53352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ние вопроса о включе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ых бума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523880"/>
            <a:ext cx="4419720" cy="533520"/>
          </a:xfrm>
          <a:prstGeom prst="flowChartProcess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пакета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708280"/>
            <a:ext cx="4876920" cy="533520"/>
          </a:xfrm>
          <a:prstGeom prst="flowChartProcess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мотрение зая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962520"/>
            <a:ext cx="4190760" cy="53316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заклю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3434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962520"/>
            <a:ext cx="3733920" cy="53316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тивированный от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3526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5720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1337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ЛИСТИНГОВЫЕ ТРЕБОВАНИ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62864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47920"/>
            <a:ext cx="8640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остановление Правления АФН "О требованиях к эмитентам и их ценным бумагам, допускаемым (допущенным) к обращению на фондовой бирже, а также к отдельным категориям списка фондовой биржи" от 15 марта 2004 года № 63 (устанавливает нижний порог листинговых требований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риказ Председателя Агентства Республики Казахстан по регулированию деятельности регионального финансового центра города Алматы "Об установлении требований к эмитентам, чьи ценные бумаги предполагаются к включению или включены в список специальной торговой площадки регионального финансового центра города Алматы, а также к таким ценным бумагам” от 08 сентября 2006 года №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внутренний документ </a:t>
            </a:r>
            <a:r>
              <a:rPr b="0" lang="en-US" sz="1700" spc="-1" strike="noStrike">
                <a:solidFill>
                  <a:srgbClr val="ebeabd"/>
                </a:solidFill>
                <a:latin typeface="Arial Narrow"/>
              </a:rPr>
              <a:t>KASE</a:t>
            </a: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 "Листинговые правила" (устанавливает детальные листинговые требования для "внутренних" корпоративных ценных бумаг, листинговые процедуры </a:t>
            </a:r>
            <a:br>
              <a:rPr sz="1700"/>
            </a:b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и листинговые сборы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внутренний документ </a:t>
            </a:r>
            <a:r>
              <a:rPr b="0" lang="en-US" sz="1700" spc="-1" strike="noStrike">
                <a:solidFill>
                  <a:srgbClr val="ebeabd"/>
                </a:solidFill>
                <a:latin typeface="Arial Narrow"/>
              </a:rPr>
              <a:t>KASE</a:t>
            </a: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 "Листинговые требования </a:t>
            </a:r>
            <a:br>
              <a:rPr sz="1700"/>
            </a:b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к иностранным ценным бумагам и казахстанским депозитарным распискам«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равила организации и функционирования специальной торговой площадки регионального финансового центра города Алматы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эти и другие упомянутые в настоящей презентации нормативные документы доступны на </a:t>
            </a:r>
            <a:r>
              <a:rPr b="0" lang="en-US" sz="17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kase.k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Нормативная б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ЛИСТИНГОВЫЕ ТРЕБОВАНИЯ…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Организационно-правовая фор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13372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Срок существ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7432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Финансовая отчетность в соответствии с МСФ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3336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Ау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402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Требования к финансовым показател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56084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Объем выпуска ценных бума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21496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Маркет-мейк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84532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Корпоративный код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ОСНОВНЫЕ ЛИСТИНГОВЫЕ ТРЕБОВАНИЯ:</a:t>
            </a: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44:47Z</dcterms:created>
  <dc:creator>Azamat</dc:creator>
  <dc:description/>
  <dc:language>en-US</dc:language>
  <cp:lastModifiedBy>Juassov</cp:lastModifiedBy>
  <dcterms:modified xsi:type="dcterms:W3CDTF">2007-09-24T07:12:21Z</dcterms:modified>
  <cp:revision>648</cp:revision>
  <dc:subject/>
  <dc:title>Презентация PowerPoint</dc:title>
</cp:coreProperties>
</file>