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7E24-205F-41EB-8380-4E877AD16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48AB-914D-4814-8929-989A5906F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D845-6FC7-4307-B4CB-9E9BF4AB7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C622-A76F-4AA9-BB1E-C677A943C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9F42-DC92-4282-9BF2-7FF55A7F9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70BD-4683-48DA-9F10-B408BB463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E326-4C46-4BA7-A98C-056AC961E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5F78-6586-4C15-B129-374BAF7E9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8458-8691-4990-8BAB-EF6109B44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D3CA-469E-4766-97E1-6F84F912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7EAD-57B2-4218-A738-3067E31B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E64B-F322-4106-A975-AB3C3E11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76582-22F7-4DF6-95D1-AE1E5584E0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26640" y="2565000"/>
            <a:ext cx="723924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Отчет АО «Банк Развития Казахстан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5178240"/>
            <a:ext cx="91440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ллегия АО ФУР «Казын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007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219560" y="30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924360" y="549360"/>
            <a:ext cx="1295280" cy="115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Корпоративное управ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339640" y="1773360"/>
            <a:ext cx="6553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СДЕЛАНО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формирован Совет Директоров с участием независимого директора, повышена прозрачность ба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формирован новый менеджмент  банка и лизинговой компан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ведены структурные изменения и административная реформ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РЕЗУЛЬТАТЫ: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формированы полноценные фронт, миддл и бэк офис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начительно сократились сроки рассмотрения проектов и увеличился объем одобренных проек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79280" y="1916280"/>
            <a:ext cx="2089080" cy="3673440"/>
            <a:chOff x="179280" y="1916280"/>
            <a:chExt cx="2089080" cy="367344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179280" y="1916280"/>
              <a:ext cx="2089080" cy="367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 txBox="1"/>
            <p:nvPr/>
          </p:nvSpPr>
          <p:spPr>
            <a:xfrm>
              <a:off x="179280" y="1916280"/>
              <a:ext cx="2089080" cy="3673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3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" name="logo-о" descr=""/>
          <p:cNvPicPr/>
          <p:nvPr/>
        </p:nvPicPr>
        <p:blipFill>
          <a:blip r:embed="rId2"/>
          <a:stretch/>
        </p:blipFill>
        <p:spPr>
          <a:xfrm>
            <a:off x="108000" y="5877000"/>
            <a:ext cx="93672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DB14-BFA7-49CC-B2C7-31D959E8B7B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4000" y="260280"/>
            <a:ext cx="8424720" cy="825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ейтинги и Международная деятельность Бан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1773360"/>
            <a:ext cx="17668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ru-RU" sz="1600" spc="-1" strike="noStrike">
                <a:solidFill>
                  <a:srgbClr val="faa100"/>
                </a:solidFill>
                <a:latin typeface="Arial"/>
              </a:rPr>
              <a:t>Повышение рейтингов Банка в 2006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1989000"/>
            <a:ext cx="358560" cy="385920"/>
          </a:xfrm>
          <a:custGeom>
            <a:avLst/>
            <a:gdLst>
              <a:gd name="textAreaLeft" fmla="*/ 0 w 358560"/>
              <a:gd name="textAreaRight" fmla="*/ 358560 w 358560"/>
              <a:gd name="textAreaTop" fmla="*/ 0 h 385920"/>
              <a:gd name="textAreaBottom" fmla="*/ 386280 h 385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aa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00360" y="1643040"/>
            <a:ext cx="5950080" cy="1009080"/>
          </a:xfrm>
          <a:prstGeom prst="rect">
            <a:avLst/>
          </a:prstGeom>
          <a:noFill/>
          <a:ln w="28440">
            <a:solidFill>
              <a:srgbClr val="e09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520" rIns="65520" tIns="65520" bIns="65520" anchor="ctr">
            <a:spAutoFit/>
          </a:bodyPr>
          <a:p>
            <a:pPr lvl="2" marL="208080" indent="-20484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ru-RU" sz="1600" spc="-1" strike="noStrike">
                <a:solidFill>
                  <a:srgbClr val="faa100"/>
                </a:solidFill>
                <a:latin typeface="Arial"/>
              </a:rPr>
              <a:t>Standard &amp; Poor`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6633"/>
                </a:solidFill>
                <a:latin typeface="Arial"/>
              </a:rPr>
              <a:t>BBB (</a:t>
            </a:r>
            <a:r>
              <a:rPr b="1" lang="ru-RU" sz="1600" spc="-1" strike="noStrike">
                <a:solidFill>
                  <a:srgbClr val="996633"/>
                </a:solidFill>
                <a:latin typeface="Arial"/>
              </a:rPr>
              <a:t>стабильны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208080" indent="-20484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600" spc="-1" strike="noStrike">
                <a:solidFill>
                  <a:srgbClr val="faa100"/>
                </a:solidFill>
                <a:latin typeface="Arial"/>
              </a:rPr>
              <a:t>Moody’s</a:t>
            </a:r>
            <a:r>
              <a:rPr b="1" lang="en-US" sz="1600" spc="-1" strike="noStrike">
                <a:solidFill>
                  <a:srgbClr val="faa1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a1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aa1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996633"/>
                </a:solidFill>
                <a:latin typeface="Arial"/>
              </a:rPr>
              <a:t>А2 (стабильный) выше суверенн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208080" indent="-20484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600" spc="-1" strike="noStrike">
                <a:solidFill>
                  <a:srgbClr val="faa100"/>
                </a:solidFill>
                <a:latin typeface="Arial"/>
              </a:rPr>
              <a:t>Fitch Ratings</a:t>
            </a:r>
            <a:r>
              <a:rPr b="1" lang="ru-RU" sz="1600" spc="-1" strike="noStrike">
                <a:solidFill>
                  <a:srgbClr val="faa1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aa1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996633"/>
                </a:solidFill>
                <a:latin typeface="Arial"/>
              </a:rPr>
              <a:t>ВВВ (позитивны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2924280"/>
            <a:ext cx="17510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ru-RU" sz="1600" spc="-1" strike="noStrike">
                <a:solidFill>
                  <a:srgbClr val="646464"/>
                </a:solidFill>
                <a:latin typeface="Arial"/>
              </a:rPr>
              <a:t>Международная деятель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24000" y="2924280"/>
            <a:ext cx="358920" cy="533160"/>
          </a:xfrm>
          <a:custGeom>
            <a:avLst/>
            <a:gdLst>
              <a:gd name="textAreaLeft" fmla="*/ 0 w 358920"/>
              <a:gd name="textAreaRight" fmla="*/ 359280 w 35892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64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00360" y="2746440"/>
            <a:ext cx="5959440" cy="1104840"/>
          </a:xfrm>
          <a:prstGeom prst="rect">
            <a:avLst/>
          </a:prstGeom>
          <a:noFill/>
          <a:ln w="2844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520" rIns="65520" tIns="65520" bIns="65520" anchor="ctr">
            <a:spAutoFit/>
          </a:bodyPr>
          <a:p>
            <a:pPr lvl="2" marL="208080" indent="-204840">
              <a:lnSpc>
                <a:spcPct val="100000"/>
              </a:lnSpc>
              <a:spcBef>
                <a:spcPts val="726"/>
              </a:spcBef>
              <a:buClr>
                <a:srgbClr val="646464"/>
              </a:buClr>
              <a:buFont typeface="Wingdings" charset="2"/>
              <a:buChar char=""/>
              <a:tabLst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ru-RU" sz="1600" spc="-1" strike="noStrike">
                <a:solidFill>
                  <a:srgbClr val="646464"/>
                </a:solidFill>
                <a:latin typeface="Arial"/>
              </a:rPr>
              <a:t>Со-финансирование с международными институтами развития в рамках Межбанковского Объединения ШОС, ЕврАзЭС, проектах Всемирного  и Европейского Банков Разви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119700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СДЕЛА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414972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РЕЗУЛЬТ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340000" y="4508640"/>
            <a:ext cx="64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4797360"/>
            <a:ext cx="8569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амые высокие рейтинги среди казахстанских бан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знанный партнер в регионе ЦА международными институтами разви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logo-о" descr=""/>
          <p:cNvPicPr/>
          <p:nvPr/>
        </p:nvPicPr>
        <p:blipFill>
          <a:blip r:embed="rId1"/>
          <a:stretch/>
        </p:blipFill>
        <p:spPr>
          <a:xfrm>
            <a:off x="108000" y="5950080"/>
            <a:ext cx="863640" cy="771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C17F-1BF7-4F43-B9F0-54F4CC23BE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Финансовые показатели деятельности за 2006 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еспечена прибыльность деятельности Ба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чественный портфель кредитов (нет ни одного проблемного займа, сформирован необходимый объем провизий на уровне 4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питализация Банка составила св. 550 млн. долл. С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logo-о" descr=""/>
          <p:cNvPicPr/>
          <p:nvPr/>
        </p:nvPicPr>
        <p:blipFill>
          <a:blip r:embed="rId1"/>
          <a:stretch/>
        </p:blipFill>
        <p:spPr>
          <a:xfrm>
            <a:off x="108000" y="5950080"/>
            <a:ext cx="863640" cy="7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648C-5735-49DB-93C8-F690F4013D9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50920" y="260280"/>
            <a:ext cx="8569080" cy="7923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Средние показат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97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6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436680" y="1295280"/>
            <a:ext cx="8472240" cy="4258440"/>
            <a:chOff x="436680" y="1295280"/>
            <a:chExt cx="8472240" cy="4258440"/>
          </a:xfrm>
        </p:grpSpPr>
        <p:sp>
          <p:nvSpPr>
            <p:cNvPr id="70" name=""/>
            <p:cNvSpPr/>
            <p:nvPr/>
          </p:nvSpPr>
          <p:spPr>
            <a:xfrm>
              <a:off x="1164960" y="1376280"/>
              <a:ext cx="6933240" cy="331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164960" y="4210200"/>
              <a:ext cx="693324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164960" y="3745800"/>
              <a:ext cx="693324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164960" y="3269520"/>
              <a:ext cx="693324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64960" y="2793240"/>
              <a:ext cx="693324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164960" y="2318760"/>
              <a:ext cx="6933240" cy="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164960" y="1852560"/>
              <a:ext cx="6933240" cy="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164960" y="1376280"/>
              <a:ext cx="6933240" cy="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164960" y="1376280"/>
              <a:ext cx="6933240" cy="3310200"/>
            </a:xfrm>
            <a:prstGeom prst="rect">
              <a:avLst/>
            </a:prstGeom>
            <a:noFill/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64960" y="1376280"/>
              <a:ext cx="1440" cy="3310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118880" y="4686840"/>
              <a:ext cx="91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118880" y="4210200"/>
              <a:ext cx="91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118880" y="3745800"/>
              <a:ext cx="91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118880" y="3269520"/>
              <a:ext cx="91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118880" y="2793240"/>
              <a:ext cx="91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18880" y="2318760"/>
              <a:ext cx="918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8880" y="1852560"/>
              <a:ext cx="918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118880" y="1376280"/>
              <a:ext cx="918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64960" y="4686840"/>
              <a:ext cx="6933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1164960" y="4646520"/>
              <a:ext cx="1440" cy="81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2551320" y="4646520"/>
              <a:ext cx="1440" cy="81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3937680" y="4646520"/>
              <a:ext cx="1440" cy="81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5324040" y="4646520"/>
              <a:ext cx="1800" cy="81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6710040" y="4646520"/>
              <a:ext cx="1800" cy="81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8098200" y="4646520"/>
              <a:ext cx="1440" cy="81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1859040" y="2620800"/>
              <a:ext cx="1386000" cy="162360"/>
            </a:xfrm>
            <a:prstGeom prst="line">
              <a:avLst/>
            </a:prstGeom>
            <a:ln w="33480">
              <a:solidFill>
                <a:srgbClr val="008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245040" y="2428200"/>
              <a:ext cx="1386000" cy="192600"/>
            </a:xfrm>
            <a:prstGeom prst="line">
              <a:avLst/>
            </a:prstGeom>
            <a:ln w="33480">
              <a:solidFill>
                <a:srgbClr val="008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4631400" y="1780920"/>
              <a:ext cx="1386360" cy="646920"/>
            </a:xfrm>
            <a:prstGeom prst="line">
              <a:avLst/>
            </a:prstGeom>
            <a:ln w="33480">
              <a:solidFill>
                <a:srgbClr val="008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018120" y="1781280"/>
              <a:ext cx="1386000" cy="192600"/>
            </a:xfrm>
            <a:prstGeom prst="line">
              <a:avLst/>
            </a:prstGeom>
            <a:ln w="33480">
              <a:solidFill>
                <a:srgbClr val="008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859040" y="2075040"/>
              <a:ext cx="1386000" cy="303480"/>
            </a:xfrm>
            <a:prstGeom prst="line">
              <a:avLst/>
            </a:prstGeom>
            <a:ln w="33480">
              <a:solidFill>
                <a:srgbClr val="ff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245040" y="2378880"/>
              <a:ext cx="1386000" cy="374400"/>
            </a:xfrm>
            <a:prstGeom prst="line">
              <a:avLst/>
            </a:prstGeom>
            <a:ln w="33480">
              <a:solidFill>
                <a:srgbClr val="ff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631400" y="2753640"/>
              <a:ext cx="1386360" cy="160920"/>
            </a:xfrm>
            <a:prstGeom prst="line">
              <a:avLst/>
            </a:prstGeom>
            <a:ln w="33480">
              <a:solidFill>
                <a:srgbClr val="ff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6018120" y="2814840"/>
              <a:ext cx="1386000" cy="99000"/>
            </a:xfrm>
            <a:prstGeom prst="line">
              <a:avLst/>
            </a:prstGeom>
            <a:ln w="33480">
              <a:solidFill>
                <a:srgbClr val="ff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1859040" y="4251600"/>
              <a:ext cx="1386000" cy="81360"/>
            </a:xfrm>
            <a:prstGeom prst="line">
              <a:avLst/>
            </a:prstGeom>
            <a:ln w="33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3245040" y="4200480"/>
              <a:ext cx="1386000" cy="51120"/>
            </a:xfrm>
            <a:prstGeom prst="line">
              <a:avLst/>
            </a:prstGeom>
            <a:ln w="33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4631400" y="4098960"/>
              <a:ext cx="1386360" cy="101160"/>
            </a:xfrm>
            <a:prstGeom prst="line">
              <a:avLst/>
            </a:prstGeom>
            <a:ln w="33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018120" y="4099320"/>
              <a:ext cx="1386000" cy="21240"/>
            </a:xfrm>
            <a:prstGeom prst="line">
              <a:avLst/>
            </a:prstGeom>
            <a:ln w="33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789920" y="2722320"/>
              <a:ext cx="124560" cy="112680"/>
            </a:xfrm>
            <a:prstGeom prst="rect">
              <a:avLst/>
            </a:prstGeom>
            <a:solidFill>
              <a:srgbClr val="0080c0"/>
            </a:solidFill>
            <a:ln w="11160">
              <a:solidFill>
                <a:srgbClr val="008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176280" y="2561040"/>
              <a:ext cx="124560" cy="110880"/>
            </a:xfrm>
            <a:prstGeom prst="rect">
              <a:avLst/>
            </a:prstGeom>
            <a:solidFill>
              <a:srgbClr val="0080c0"/>
            </a:solidFill>
            <a:ln w="11160">
              <a:solidFill>
                <a:srgbClr val="008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62640" y="2368440"/>
              <a:ext cx="124560" cy="111240"/>
            </a:xfrm>
            <a:prstGeom prst="rect">
              <a:avLst/>
            </a:prstGeom>
            <a:solidFill>
              <a:srgbClr val="0080c0"/>
            </a:solidFill>
            <a:ln w="11160">
              <a:solidFill>
                <a:srgbClr val="008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949000" y="1719720"/>
              <a:ext cx="126360" cy="112680"/>
            </a:xfrm>
            <a:prstGeom prst="rect">
              <a:avLst/>
            </a:prstGeom>
            <a:solidFill>
              <a:srgbClr val="0080c0"/>
            </a:solidFill>
            <a:ln w="11160">
              <a:solidFill>
                <a:srgbClr val="008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335720" y="1912680"/>
              <a:ext cx="126000" cy="112680"/>
            </a:xfrm>
            <a:prstGeom prst="rect">
              <a:avLst/>
            </a:prstGeom>
            <a:solidFill>
              <a:srgbClr val="0080c0"/>
            </a:solidFill>
            <a:ln w="11160">
              <a:solidFill>
                <a:srgbClr val="008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89920" y="2015280"/>
              <a:ext cx="136080" cy="120960"/>
            </a:xfrm>
            <a:custGeom>
              <a:avLst/>
              <a:gdLst/>
              <a:ahLst/>
              <a:rect l="l" t="t" r="r" b="b"/>
              <a:pathLst>
                <a:path w="83" h="98">
                  <a:moveTo>
                    <a:pt x="42" y="0"/>
                  </a:moveTo>
                  <a:lnTo>
                    <a:pt x="83" y="49"/>
                  </a:lnTo>
                  <a:lnTo>
                    <a:pt x="42" y="98"/>
                  </a:lnTo>
                  <a:lnTo>
                    <a:pt x="0" y="49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8080"/>
            </a:solidFill>
            <a:ln w="1116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176280" y="2318760"/>
              <a:ext cx="136080" cy="120960"/>
            </a:xfrm>
            <a:custGeom>
              <a:avLst/>
              <a:gdLst/>
              <a:ahLst/>
              <a:rect l="l" t="t" r="r" b="b"/>
              <a:pathLst>
                <a:path w="83" h="98">
                  <a:moveTo>
                    <a:pt x="42" y="0"/>
                  </a:moveTo>
                  <a:lnTo>
                    <a:pt x="83" y="49"/>
                  </a:lnTo>
                  <a:lnTo>
                    <a:pt x="42" y="98"/>
                  </a:lnTo>
                  <a:lnTo>
                    <a:pt x="0" y="49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8080"/>
            </a:solidFill>
            <a:ln w="1116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562640" y="2692080"/>
              <a:ext cx="136080" cy="122760"/>
            </a:xfrm>
            <a:custGeom>
              <a:avLst/>
              <a:gdLst/>
              <a:ahLst/>
              <a:rect l="l" t="t" r="r" b="b"/>
              <a:pathLst>
                <a:path w="83" h="98">
                  <a:moveTo>
                    <a:pt x="42" y="0"/>
                  </a:moveTo>
                  <a:lnTo>
                    <a:pt x="83" y="49"/>
                  </a:lnTo>
                  <a:lnTo>
                    <a:pt x="42" y="98"/>
                  </a:lnTo>
                  <a:lnTo>
                    <a:pt x="0" y="49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8080"/>
            </a:solidFill>
            <a:ln w="1116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949000" y="2854800"/>
              <a:ext cx="136080" cy="120960"/>
            </a:xfrm>
            <a:custGeom>
              <a:avLst/>
              <a:gdLst/>
              <a:ahLst/>
              <a:rect l="l" t="t" r="r" b="b"/>
              <a:pathLst>
                <a:path w="83" h="98">
                  <a:moveTo>
                    <a:pt x="42" y="0"/>
                  </a:moveTo>
                  <a:lnTo>
                    <a:pt x="83" y="49"/>
                  </a:lnTo>
                  <a:lnTo>
                    <a:pt x="42" y="98"/>
                  </a:lnTo>
                  <a:lnTo>
                    <a:pt x="0" y="49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8080"/>
            </a:solidFill>
            <a:ln w="1116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335720" y="2753640"/>
              <a:ext cx="137520" cy="120960"/>
            </a:xfrm>
            <a:custGeom>
              <a:avLst/>
              <a:gdLst/>
              <a:ahLst/>
              <a:rect l="l" t="t" r="r" b="b"/>
              <a:pathLst>
                <a:path w="84" h="98">
                  <a:moveTo>
                    <a:pt x="42" y="0"/>
                  </a:moveTo>
                  <a:lnTo>
                    <a:pt x="84" y="49"/>
                  </a:lnTo>
                  <a:lnTo>
                    <a:pt x="42" y="98"/>
                  </a:lnTo>
                  <a:lnTo>
                    <a:pt x="0" y="49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8080"/>
            </a:solidFill>
            <a:ln w="1116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78400" y="4262040"/>
              <a:ext cx="170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flipV="1">
              <a:off x="1789560" y="4271400"/>
              <a:ext cx="68760" cy="61560"/>
            </a:xfrm>
            <a:prstGeom prst="line">
              <a:avLst/>
            </a:prstGeom>
            <a:ln w="11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859040" y="4333320"/>
              <a:ext cx="67320" cy="59400"/>
            </a:xfrm>
            <a:prstGeom prst="line">
              <a:avLst/>
            </a:prstGeom>
            <a:ln w="11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1789560" y="4333320"/>
              <a:ext cx="68760" cy="59400"/>
            </a:xfrm>
            <a:prstGeom prst="line">
              <a:avLst/>
            </a:prstGeom>
            <a:ln w="11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1859040" y="4271400"/>
              <a:ext cx="67320" cy="61560"/>
            </a:xfrm>
            <a:prstGeom prst="line">
              <a:avLst/>
            </a:prstGeom>
            <a:ln w="11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164760" y="4180680"/>
              <a:ext cx="170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 flipV="1">
              <a:off x="3175920" y="4190400"/>
              <a:ext cx="68760" cy="61200"/>
            </a:xfrm>
            <a:prstGeom prst="line">
              <a:avLst/>
            </a:prstGeom>
            <a:ln w="11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245040" y="4251600"/>
              <a:ext cx="67320" cy="61560"/>
            </a:xfrm>
            <a:prstGeom prst="line">
              <a:avLst/>
            </a:prstGeom>
            <a:ln w="11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3175920" y="4251600"/>
              <a:ext cx="68760" cy="61560"/>
            </a:xfrm>
            <a:prstGeom prst="line">
              <a:avLst/>
            </a:prstGeom>
            <a:ln w="11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3245040" y="4190400"/>
              <a:ext cx="67320" cy="61200"/>
            </a:xfrm>
            <a:prstGeom prst="line">
              <a:avLst/>
            </a:prstGeom>
            <a:ln w="11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51120" y="4131000"/>
              <a:ext cx="1706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 flipV="1">
              <a:off x="4562280" y="4140720"/>
              <a:ext cx="68760" cy="59760"/>
            </a:xfrm>
            <a:prstGeom prst="line">
              <a:avLst/>
            </a:prstGeom>
            <a:ln w="11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631400" y="4200480"/>
              <a:ext cx="67320" cy="61200"/>
            </a:xfrm>
            <a:prstGeom prst="line">
              <a:avLst/>
            </a:prstGeom>
            <a:ln w="11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4562280" y="4200480"/>
              <a:ext cx="68760" cy="61200"/>
            </a:xfrm>
            <a:prstGeom prst="line">
              <a:avLst/>
            </a:prstGeom>
            <a:ln w="11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4631400" y="4140720"/>
              <a:ext cx="67320" cy="59760"/>
            </a:xfrm>
            <a:prstGeom prst="line">
              <a:avLst/>
            </a:prstGeom>
            <a:ln w="11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937480" y="4027680"/>
              <a:ext cx="170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 flipV="1">
              <a:off x="5949000" y="4038120"/>
              <a:ext cx="69120" cy="61200"/>
            </a:xfrm>
            <a:prstGeom prst="line">
              <a:avLst/>
            </a:prstGeom>
            <a:ln w="11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018120" y="4099320"/>
              <a:ext cx="66960" cy="61200"/>
            </a:xfrm>
            <a:prstGeom prst="line">
              <a:avLst/>
            </a:prstGeom>
            <a:ln w="11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949000" y="4099320"/>
              <a:ext cx="69120" cy="61200"/>
            </a:xfrm>
            <a:prstGeom prst="line">
              <a:avLst/>
            </a:prstGeom>
            <a:ln w="11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6018120" y="4038120"/>
              <a:ext cx="66960" cy="61200"/>
            </a:xfrm>
            <a:prstGeom prst="line">
              <a:avLst/>
            </a:prstGeom>
            <a:ln w="11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324200" y="4049280"/>
              <a:ext cx="170280" cy="1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7335360" y="4059360"/>
              <a:ext cx="68760" cy="61200"/>
            </a:xfrm>
            <a:prstGeom prst="line">
              <a:avLst/>
            </a:prstGeom>
            <a:ln w="11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04480" y="4120920"/>
              <a:ext cx="68760" cy="59760"/>
            </a:xfrm>
            <a:prstGeom prst="line">
              <a:avLst/>
            </a:prstGeom>
            <a:ln w="11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7335360" y="4120920"/>
              <a:ext cx="68760" cy="59760"/>
            </a:xfrm>
            <a:prstGeom prst="line">
              <a:avLst/>
            </a:prstGeom>
            <a:ln w="11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7404480" y="4059360"/>
              <a:ext cx="68760" cy="61200"/>
            </a:xfrm>
            <a:prstGeom prst="line">
              <a:avLst/>
            </a:prstGeom>
            <a:ln w="11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98200" y="1376280"/>
              <a:ext cx="1440" cy="3310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52480" y="4686840"/>
              <a:ext cx="90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052480" y="4140720"/>
              <a:ext cx="900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052480" y="3583080"/>
              <a:ext cx="90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052480" y="3035520"/>
              <a:ext cx="90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052480" y="2480040"/>
              <a:ext cx="90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052480" y="1932480"/>
              <a:ext cx="90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052480" y="1376280"/>
              <a:ext cx="900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1859040" y="3906360"/>
              <a:ext cx="1386000" cy="396360"/>
            </a:xfrm>
            <a:prstGeom prst="line">
              <a:avLst/>
            </a:prstGeom>
            <a:ln w="3348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3245040" y="2753280"/>
              <a:ext cx="1386000" cy="1153080"/>
            </a:xfrm>
            <a:prstGeom prst="line">
              <a:avLst/>
            </a:prstGeom>
            <a:ln w="3348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631400" y="2753640"/>
              <a:ext cx="1386360" cy="525960"/>
            </a:xfrm>
            <a:prstGeom prst="line">
              <a:avLst/>
            </a:prstGeom>
            <a:ln w="3348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6018120" y="1425960"/>
              <a:ext cx="1386000" cy="1852920"/>
            </a:xfrm>
            <a:prstGeom prst="line">
              <a:avLst/>
            </a:prstGeom>
            <a:ln w="3348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89920" y="4241880"/>
              <a:ext cx="136080" cy="120960"/>
            </a:xfrm>
            <a:custGeom>
              <a:avLst/>
              <a:gdLst/>
              <a:ahLst/>
              <a:rect l="l" t="t" r="r" b="b"/>
              <a:pathLst>
                <a:path w="83" h="98">
                  <a:moveTo>
                    <a:pt x="42" y="0"/>
                  </a:moveTo>
                  <a:lnTo>
                    <a:pt x="83" y="98"/>
                  </a:lnTo>
                  <a:lnTo>
                    <a:pt x="0" y="98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cc99ff"/>
            </a:solidFill>
            <a:ln w="1116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176280" y="3846960"/>
              <a:ext cx="136080" cy="120960"/>
            </a:xfrm>
            <a:custGeom>
              <a:avLst/>
              <a:gdLst/>
              <a:ahLst/>
              <a:rect l="l" t="t" r="r" b="b"/>
              <a:pathLst>
                <a:path w="83" h="98">
                  <a:moveTo>
                    <a:pt x="42" y="0"/>
                  </a:moveTo>
                  <a:lnTo>
                    <a:pt x="83" y="98"/>
                  </a:lnTo>
                  <a:lnTo>
                    <a:pt x="0" y="98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cc99ff"/>
            </a:solidFill>
            <a:ln w="1116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562640" y="2692080"/>
              <a:ext cx="136080" cy="122760"/>
            </a:xfrm>
            <a:custGeom>
              <a:avLst/>
              <a:gdLst/>
              <a:ahLst/>
              <a:rect l="l" t="t" r="r" b="b"/>
              <a:pathLst>
                <a:path w="83" h="98">
                  <a:moveTo>
                    <a:pt x="42" y="0"/>
                  </a:moveTo>
                  <a:lnTo>
                    <a:pt x="83" y="98"/>
                  </a:lnTo>
                  <a:lnTo>
                    <a:pt x="0" y="98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cc99ff"/>
            </a:solidFill>
            <a:ln w="1116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949000" y="3218040"/>
              <a:ext cx="136080" cy="122760"/>
            </a:xfrm>
            <a:custGeom>
              <a:avLst/>
              <a:gdLst/>
              <a:ahLst/>
              <a:rect l="l" t="t" r="r" b="b"/>
              <a:pathLst>
                <a:path w="83" h="98">
                  <a:moveTo>
                    <a:pt x="42" y="0"/>
                  </a:moveTo>
                  <a:lnTo>
                    <a:pt x="83" y="98"/>
                  </a:lnTo>
                  <a:lnTo>
                    <a:pt x="0" y="98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cc99ff"/>
            </a:solidFill>
            <a:ln w="1116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335720" y="1366560"/>
              <a:ext cx="137520" cy="120960"/>
            </a:xfrm>
            <a:custGeom>
              <a:avLst/>
              <a:gdLst/>
              <a:ahLst/>
              <a:rect l="l" t="t" r="r" b="b"/>
              <a:pathLst>
                <a:path w="84" h="98">
                  <a:moveTo>
                    <a:pt x="42" y="0"/>
                  </a:moveTo>
                  <a:lnTo>
                    <a:pt x="84" y="98"/>
                  </a:lnTo>
                  <a:lnTo>
                    <a:pt x="0" y="98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cc99ff"/>
            </a:solidFill>
            <a:ln w="1116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530480" y="1892520"/>
              <a:ext cx="41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1,46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530120" y="2733840"/>
              <a:ext cx="32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7,91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199320" y="2662560"/>
              <a:ext cx="32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8,7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24480" y="2824920"/>
              <a:ext cx="32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8,07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540680" y="2136240"/>
              <a:ext cx="32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9,57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155280" y="1629000"/>
              <a:ext cx="41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2,3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313800" y="2176200"/>
              <a:ext cx="32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9,7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848960" y="1852560"/>
              <a:ext cx="41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1,04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586760" y="2803680"/>
              <a:ext cx="32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8,19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961600" y="2662560"/>
              <a:ext cx="32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7,47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89120" y="4424400"/>
              <a:ext cx="32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,5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278160" y="3998160"/>
              <a:ext cx="32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,84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29520" y="3946680"/>
              <a:ext cx="32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,0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917320" y="3857040"/>
              <a:ext cx="32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,48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06000" y="4140720"/>
              <a:ext cx="32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,38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144120" y="3198240"/>
              <a:ext cx="503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7 79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701000" y="4110840"/>
              <a:ext cx="41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8 50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972880" y="3735720"/>
              <a:ext cx="503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2 047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688640" y="2621160"/>
              <a:ext cx="503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2 55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428960" y="1517400"/>
              <a:ext cx="503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4 577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8600" y="4606920"/>
              <a:ext cx="32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0,0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68600" y="4131000"/>
              <a:ext cx="32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,0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68600" y="3664440"/>
              <a:ext cx="32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,0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68600" y="3188520"/>
              <a:ext cx="32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6,0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68600" y="2712240"/>
              <a:ext cx="32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8,0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7960" y="2235960"/>
              <a:ext cx="41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0,0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87960" y="1771560"/>
              <a:ext cx="41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2,0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7960" y="1295280"/>
              <a:ext cx="41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4,0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700640" y="479952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086280" y="479952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00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473000" y="479952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860080" y="479952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245720" y="479952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006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6200000">
              <a:off x="462240" y="2895840"/>
              <a:ext cx="146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213040" y="4606920"/>
              <a:ext cx="41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 00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213040" y="4059360"/>
              <a:ext cx="503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0 00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213040" y="3501720"/>
              <a:ext cx="503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5 00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213040" y="2955960"/>
              <a:ext cx="503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0 00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213040" y="2398680"/>
              <a:ext cx="503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5 00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213040" y="1852560"/>
              <a:ext cx="503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30 00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213040" y="1295280"/>
              <a:ext cx="503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35 00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6200000">
              <a:off x="8550360" y="2858760"/>
              <a:ext cx="518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сумма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64560" y="5224320"/>
              <a:ext cx="317880" cy="1440"/>
            </a:xfrm>
            <a:prstGeom prst="line">
              <a:avLst/>
            </a:prstGeom>
            <a:ln w="33480">
              <a:solidFill>
                <a:srgbClr val="008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77600" y="5182560"/>
              <a:ext cx="80280" cy="71280"/>
            </a:xfrm>
            <a:prstGeom prst="rect">
              <a:avLst/>
            </a:prstGeom>
            <a:solidFill>
              <a:srgbClr val="0080c0"/>
            </a:solidFill>
            <a:ln w="11160">
              <a:solidFill>
                <a:srgbClr val="008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24560" y="5142600"/>
              <a:ext cx="3006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Средневзвешенный срок кредита, года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721760" y="5224320"/>
              <a:ext cx="317880" cy="1440"/>
            </a:xfrm>
            <a:prstGeom prst="line">
              <a:avLst/>
            </a:prstGeom>
            <a:ln w="33480">
              <a:solidFill>
                <a:srgbClr val="ff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835160" y="5182560"/>
              <a:ext cx="91800" cy="81000"/>
            </a:xfrm>
            <a:custGeom>
              <a:avLst/>
              <a:gdLst/>
              <a:ahLst/>
              <a:rect l="l" t="t" r="r" b="b"/>
              <a:pathLst>
                <a:path w="56" h="65">
                  <a:moveTo>
                    <a:pt x="28" y="0"/>
                  </a:moveTo>
                  <a:lnTo>
                    <a:pt x="56" y="33"/>
                  </a:lnTo>
                  <a:lnTo>
                    <a:pt x="28" y="65"/>
                  </a:lnTo>
                  <a:lnTo>
                    <a:pt x="0" y="33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8080"/>
            </a:solidFill>
            <a:ln w="1116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082480" y="5142600"/>
              <a:ext cx="3394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Средневзвешенная ставка кредитования, %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64560" y="5436720"/>
              <a:ext cx="317880" cy="1440"/>
            </a:xfrm>
            <a:prstGeom prst="line">
              <a:avLst/>
            </a:prstGeom>
            <a:ln w="33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67520" y="5384880"/>
              <a:ext cx="124920" cy="1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 flipV="1">
              <a:off x="777240" y="5395320"/>
              <a:ext cx="45720" cy="41040"/>
            </a:xfrm>
            <a:prstGeom prst="line">
              <a:avLst/>
            </a:prstGeom>
            <a:ln w="11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23320" y="5436720"/>
              <a:ext cx="46080" cy="39600"/>
            </a:xfrm>
            <a:prstGeom prst="line">
              <a:avLst/>
            </a:prstGeom>
            <a:ln w="11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777240" y="5436720"/>
              <a:ext cx="45720" cy="39600"/>
            </a:xfrm>
            <a:prstGeom prst="line">
              <a:avLst/>
            </a:prstGeom>
            <a:ln w="11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823320" y="5395320"/>
              <a:ext cx="46080" cy="41040"/>
            </a:xfrm>
            <a:prstGeom prst="line">
              <a:avLst/>
            </a:prstGeom>
            <a:ln w="11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024200" y="5355360"/>
              <a:ext cx="3319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Средневзвешенный льготный период, года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721760" y="5436720"/>
              <a:ext cx="317880" cy="1440"/>
            </a:xfrm>
            <a:prstGeom prst="line">
              <a:avLst/>
            </a:prstGeom>
            <a:ln w="3348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835160" y="5395320"/>
              <a:ext cx="91800" cy="81000"/>
            </a:xfrm>
            <a:custGeom>
              <a:avLst/>
              <a:gdLst/>
              <a:ahLst/>
              <a:rect l="l" t="t" r="r" b="b"/>
              <a:pathLst>
                <a:path w="56" h="66">
                  <a:moveTo>
                    <a:pt x="28" y="0"/>
                  </a:moveTo>
                  <a:lnTo>
                    <a:pt x="56" y="66"/>
                  </a:lnTo>
                  <a:lnTo>
                    <a:pt x="0" y="6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cc99ff"/>
            </a:solidFill>
            <a:ln w="1116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084640" y="5355360"/>
              <a:ext cx="319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Средний размер кредита, тыс.долл.США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3203640" y="5734080"/>
            <a:ext cx="5559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Ставки кредитования БВ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2003 – 13,2%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2005 – 12,2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2004 – 12,3%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2006 – 12,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logo-о" descr=""/>
          <p:cNvPicPr/>
          <p:nvPr/>
        </p:nvPicPr>
        <p:blipFill>
          <a:blip r:embed="rId1"/>
          <a:stretch/>
        </p:blipFill>
        <p:spPr>
          <a:xfrm>
            <a:off x="108000" y="5950080"/>
            <a:ext cx="863640" cy="771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50C2-EA9B-4540-A3EB-155774C0C4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4000" y="189000"/>
            <a:ext cx="8569080" cy="64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Устойчивый рост кредитного портфе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457200" y="1828800"/>
            <a:ext cx="8218440" cy="3993480"/>
            <a:chOff x="457200" y="1828800"/>
            <a:chExt cx="8218440" cy="3993480"/>
          </a:xfrm>
        </p:grpSpPr>
        <p:sp>
          <p:nvSpPr>
            <p:cNvPr id="221" name=""/>
            <p:cNvSpPr/>
            <p:nvPr/>
          </p:nvSpPr>
          <p:spPr>
            <a:xfrm>
              <a:off x="457200" y="1828800"/>
              <a:ext cx="8218440" cy="38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108440" y="2012400"/>
              <a:ext cx="6758640" cy="305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108440" y="2012400"/>
              <a:ext cx="6758640" cy="305208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350720" y="5047560"/>
              <a:ext cx="325440" cy="172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472120" y="4925160"/>
              <a:ext cx="325440" cy="139320"/>
            </a:xfrm>
            <a:prstGeom prst="rect">
              <a:avLst/>
            </a:prstGeom>
            <a:gradFill rotWithShape="0">
              <a:gsLst>
                <a:gs pos="0">
                  <a:srgbClr val="ba646c"/>
                </a:gs>
                <a:gs pos="100000">
                  <a:srgbClr val="753f4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605760" y="4374000"/>
              <a:ext cx="327240" cy="690840"/>
            </a:xfrm>
            <a:prstGeom prst="rect">
              <a:avLst/>
            </a:prstGeom>
            <a:gradFill rotWithShape="0">
              <a:gsLst>
                <a:gs pos="0">
                  <a:srgbClr val="ba646c"/>
                </a:gs>
                <a:gs pos="100000">
                  <a:srgbClr val="753f4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728960" y="4155120"/>
              <a:ext cx="325440" cy="909360"/>
            </a:xfrm>
            <a:prstGeom prst="rect">
              <a:avLst/>
            </a:prstGeom>
            <a:gradFill rotWithShape="0">
              <a:gsLst>
                <a:gs pos="0">
                  <a:srgbClr val="ba646c"/>
                </a:gs>
                <a:gs pos="100000">
                  <a:srgbClr val="753f4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852520" y="3280680"/>
              <a:ext cx="325440" cy="1784160"/>
            </a:xfrm>
            <a:prstGeom prst="rect">
              <a:avLst/>
            </a:prstGeom>
            <a:gradFill rotWithShape="0">
              <a:gsLst>
                <a:gs pos="0">
                  <a:srgbClr val="ba646c"/>
                </a:gs>
                <a:gs pos="100000">
                  <a:srgbClr val="753f4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986160" y="2370600"/>
              <a:ext cx="325440" cy="2693880"/>
            </a:xfrm>
            <a:prstGeom prst="rect">
              <a:avLst/>
            </a:prstGeom>
            <a:gradFill rotWithShape="0">
              <a:gsLst>
                <a:gs pos="0">
                  <a:srgbClr val="ba646c"/>
                </a:gs>
                <a:gs pos="100000">
                  <a:srgbClr val="753f4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676160" y="5047560"/>
              <a:ext cx="312840" cy="1728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797920" y="4950720"/>
              <a:ext cx="325440" cy="11376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a181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33360" y="4749480"/>
              <a:ext cx="313200" cy="31500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a181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054760" y="4575240"/>
              <a:ext cx="313200" cy="48924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a181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177960" y="4304160"/>
              <a:ext cx="325440" cy="76068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a181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311960" y="3796920"/>
              <a:ext cx="313200" cy="126756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a181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108440" y="2012400"/>
              <a:ext cx="1080" cy="3052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060200" y="5064840"/>
              <a:ext cx="957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60200" y="4557960"/>
              <a:ext cx="957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60200" y="4050720"/>
              <a:ext cx="957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060200" y="3543120"/>
              <a:ext cx="957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060200" y="3026880"/>
              <a:ext cx="957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060200" y="2519640"/>
              <a:ext cx="957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060200" y="2012400"/>
              <a:ext cx="957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1108440" y="5029920"/>
              <a:ext cx="108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2231280" y="502992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3365640" y="5029920"/>
              <a:ext cx="108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4487040" y="502992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5610240" y="5029920"/>
              <a:ext cx="108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6744240" y="502992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7867440" y="5029920"/>
              <a:ext cx="108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867440" y="2012400"/>
              <a:ext cx="1080" cy="3052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819200" y="5064840"/>
              <a:ext cx="961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819200" y="4557960"/>
              <a:ext cx="961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819200" y="4050720"/>
              <a:ext cx="961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819200" y="3543120"/>
              <a:ext cx="961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819200" y="3026880"/>
              <a:ext cx="961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819200" y="2519640"/>
              <a:ext cx="961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819200" y="2012400"/>
              <a:ext cx="961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1676160" y="4680000"/>
              <a:ext cx="1121400" cy="332640"/>
            </a:xfrm>
            <a:prstGeom prst="line">
              <a:avLst/>
            </a:prstGeom>
            <a:ln w="63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2797920" y="4199040"/>
              <a:ext cx="1123200" cy="480600"/>
            </a:xfrm>
            <a:prstGeom prst="line">
              <a:avLst/>
            </a:prstGeom>
            <a:ln w="63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3921120" y="3796560"/>
              <a:ext cx="1133640" cy="402120"/>
            </a:xfrm>
            <a:prstGeom prst="line">
              <a:avLst/>
            </a:prstGeom>
            <a:ln w="63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5054760" y="3183840"/>
              <a:ext cx="1123200" cy="612720"/>
            </a:xfrm>
            <a:prstGeom prst="line">
              <a:avLst/>
            </a:prstGeom>
            <a:ln w="63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6177960" y="2519280"/>
              <a:ext cx="1121400" cy="664200"/>
            </a:xfrm>
            <a:prstGeom prst="line">
              <a:avLst/>
            </a:prstGeom>
            <a:ln w="63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639080" y="4985640"/>
              <a:ext cx="72720" cy="52200"/>
            </a:xfrm>
            <a:custGeom>
              <a:avLst/>
              <a:gdLst/>
              <a:ahLst/>
              <a:rect l="l" t="t" r="r" b="b"/>
              <a:pathLst>
                <a:path w="47" h="45">
                  <a:moveTo>
                    <a:pt x="24" y="0"/>
                  </a:moveTo>
                  <a:lnTo>
                    <a:pt x="47" y="45"/>
                  </a:lnTo>
                  <a:lnTo>
                    <a:pt x="0" y="45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9933"/>
            </a:solidFill>
            <a:ln w="5076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761920" y="4654440"/>
              <a:ext cx="73080" cy="52200"/>
            </a:xfrm>
            <a:custGeom>
              <a:avLst/>
              <a:gdLst/>
              <a:ahLst/>
              <a:rect l="l" t="t" r="r" b="b"/>
              <a:pathLst>
                <a:path w="47" h="45">
                  <a:moveTo>
                    <a:pt x="23" y="0"/>
                  </a:moveTo>
                  <a:lnTo>
                    <a:pt x="47" y="45"/>
                  </a:lnTo>
                  <a:lnTo>
                    <a:pt x="0" y="45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9933"/>
            </a:solidFill>
            <a:ln w="5076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883680" y="4172760"/>
              <a:ext cx="72720" cy="52200"/>
            </a:xfrm>
            <a:custGeom>
              <a:avLst/>
              <a:gdLst/>
              <a:ahLst/>
              <a:rect l="l" t="t" r="r" b="b"/>
              <a:pathLst>
                <a:path w="47" h="45">
                  <a:moveTo>
                    <a:pt x="24" y="0"/>
                  </a:moveTo>
                  <a:lnTo>
                    <a:pt x="47" y="45"/>
                  </a:lnTo>
                  <a:lnTo>
                    <a:pt x="0" y="45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9933"/>
            </a:solidFill>
            <a:ln w="5076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019480" y="3770280"/>
              <a:ext cx="70920" cy="52200"/>
            </a:xfrm>
            <a:custGeom>
              <a:avLst/>
              <a:gdLst/>
              <a:ahLst/>
              <a:rect l="l" t="t" r="r" b="b"/>
              <a:pathLst>
                <a:path w="46" h="45">
                  <a:moveTo>
                    <a:pt x="23" y="0"/>
                  </a:moveTo>
                  <a:lnTo>
                    <a:pt x="46" y="45"/>
                  </a:lnTo>
                  <a:lnTo>
                    <a:pt x="0" y="45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9933"/>
            </a:solidFill>
            <a:ln w="5076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140880" y="3158280"/>
              <a:ext cx="72720" cy="52200"/>
            </a:xfrm>
            <a:custGeom>
              <a:avLst/>
              <a:gdLst/>
              <a:ahLst/>
              <a:rect l="l" t="t" r="r" b="b"/>
              <a:pathLst>
                <a:path w="47" h="45">
                  <a:moveTo>
                    <a:pt x="24" y="0"/>
                  </a:moveTo>
                  <a:lnTo>
                    <a:pt x="47" y="45"/>
                  </a:lnTo>
                  <a:lnTo>
                    <a:pt x="0" y="45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9933"/>
            </a:solidFill>
            <a:ln w="5076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264080" y="2493000"/>
              <a:ext cx="70920" cy="52200"/>
            </a:xfrm>
            <a:custGeom>
              <a:avLst/>
              <a:gdLst/>
              <a:ahLst/>
              <a:rect l="l" t="t" r="r" b="b"/>
              <a:pathLst>
                <a:path w="46" h="45">
                  <a:moveTo>
                    <a:pt x="23" y="0"/>
                  </a:moveTo>
                  <a:lnTo>
                    <a:pt x="46" y="45"/>
                  </a:lnTo>
                  <a:lnTo>
                    <a:pt x="0" y="45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9933"/>
            </a:solidFill>
            <a:ln w="5076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363320" y="490536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6,9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80040" y="479268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39,9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671640" y="423324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678,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788720" y="401004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894,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756040" y="3118680"/>
              <a:ext cx="46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 757,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945120" y="2169360"/>
              <a:ext cx="46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 646,8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810080" y="490536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5,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52640" y="479268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08,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9720" y="456804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306,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086440" y="440280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478,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137640" y="411084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48,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319520" y="3623760"/>
              <a:ext cx="46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 250,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661400" y="4792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628720" y="451116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819600" y="40100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937760" y="362376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278040" y="322920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7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408440" y="244980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902880" y="4995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32600" y="448560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8680" y="398052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 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98680" y="347112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 5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98680" y="295704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 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98680" y="244980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 5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98680" y="194148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 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284480" y="5160240"/>
              <a:ext cx="768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1.01.200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93360" y="5160240"/>
              <a:ext cx="59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1.01.0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614040" y="5160240"/>
              <a:ext cx="59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1.01.0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750560" y="5160240"/>
              <a:ext cx="59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1.01.0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871240" y="5160240"/>
              <a:ext cx="59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1.01.0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995160" y="5160240"/>
              <a:ext cx="59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1.01.0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987320" y="4995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986600" y="44856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986600" y="3980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986600" y="34711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986600" y="29570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986600" y="244980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986600" y="194148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16200000">
              <a:off x="7586640" y="3240000"/>
              <a:ext cx="162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количество проект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70040" y="5502240"/>
              <a:ext cx="313200" cy="61560"/>
            </a:xfrm>
            <a:prstGeom prst="rect">
              <a:avLst/>
            </a:prstGeom>
            <a:gradFill rotWithShape="0">
              <a:gsLst>
                <a:gs pos="0">
                  <a:srgbClr val="ba646c"/>
                </a:gs>
                <a:gs pos="100000">
                  <a:srgbClr val="753f4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133280" y="5456880"/>
              <a:ext cx="23270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Стоимость одобренных проект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582720" y="5502240"/>
              <a:ext cx="313200" cy="6156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a181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937320" y="5457960"/>
              <a:ext cx="2760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Участие Банка в одобренных проекта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829560" y="5537160"/>
              <a:ext cx="325440" cy="720"/>
            </a:xfrm>
            <a:prstGeom prst="line">
              <a:avLst/>
            </a:prstGeom>
            <a:ln w="63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950520" y="5511600"/>
              <a:ext cx="71280" cy="52200"/>
            </a:xfrm>
            <a:custGeom>
              <a:avLst/>
              <a:gdLst/>
              <a:ahLst/>
              <a:rect l="l" t="t" r="r" b="b"/>
              <a:pathLst>
                <a:path w="46" h="45">
                  <a:moveTo>
                    <a:pt x="23" y="0"/>
                  </a:moveTo>
                  <a:lnTo>
                    <a:pt x="46" y="45"/>
                  </a:lnTo>
                  <a:lnTo>
                    <a:pt x="0" y="45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9933"/>
            </a:solidFill>
            <a:ln w="5076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187760" y="5457960"/>
              <a:ext cx="1163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Кол-во проект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312480" y="914400"/>
            <a:ext cx="827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обренные с начала деятельности Бан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 финансированию инвестиционные проекты и экспортные опера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участие Банка в них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нарастающим итогом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млн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logo-о" descr=""/>
          <p:cNvPicPr/>
          <p:nvPr/>
        </p:nvPicPr>
        <p:blipFill>
          <a:blip r:embed="rId1"/>
          <a:stretch/>
        </p:blipFill>
        <p:spPr>
          <a:xfrm>
            <a:off x="108000" y="5950080"/>
            <a:ext cx="863640" cy="77148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1295280" y="5943600"/>
            <a:ext cx="7391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В 2007 году Банк планирует профинансировать проекты на сумму 3,3 млрд. долл. США с участием Банка на сумму 1,5 млрд. долл. СШ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8728-EA36-4E88-836C-D4B040A905B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"/>
          <p:cNvGrpSpPr/>
          <p:nvPr/>
        </p:nvGrpSpPr>
        <p:grpSpPr>
          <a:xfrm>
            <a:off x="0" y="1143000"/>
            <a:ext cx="9448920" cy="5564880"/>
            <a:chOff x="0" y="1143000"/>
            <a:chExt cx="9448920" cy="5564880"/>
          </a:xfrm>
        </p:grpSpPr>
        <p:graphicFrame>
          <p:nvGraphicFramePr>
            <p:cNvPr id="320" name=""/>
            <p:cNvGraphicFramePr/>
            <p:nvPr/>
          </p:nvGraphicFramePr>
          <p:xfrm>
            <a:off x="2438280" y="1905120"/>
            <a:ext cx="4676760" cy="3311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2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38280" y="1905120"/>
                      <a:ext cx="4676760" cy="3311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22" name=""/>
            <p:cNvGrpSpPr/>
            <p:nvPr/>
          </p:nvGrpSpPr>
          <p:grpSpPr>
            <a:xfrm>
              <a:off x="0" y="1600200"/>
              <a:ext cx="2666880" cy="2057400"/>
              <a:chOff x="0" y="1600200"/>
              <a:chExt cx="2666880" cy="2057400"/>
            </a:xfrm>
          </p:grpSpPr>
          <p:sp>
            <p:nvSpPr>
              <p:cNvPr id="323" name=""/>
              <p:cNvSpPr txBox="1"/>
              <p:nvPr/>
            </p:nvSpPr>
            <p:spPr>
              <a:xfrm>
                <a:off x="0" y="1600200"/>
                <a:ext cx="2666880" cy="2057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Готовые ткани , х/б пряжа, хлопок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 </a:t>
                </a: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-волокно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Метизы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(</a:t>
                </a: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зап.части для с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/</a:t>
                </a: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х техники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 </a:t>
                </a: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Соевая продук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Резинотехнические издел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Теле- и видео аппаратура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Хризотил – асбес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Свинец и попутная продукция</a:t>
                </a:r>
                <a:r>
                  <a:rPr b="1" lang="ru-RU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Продукция переработки овечьей шерсти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3657600" y="3048120"/>
              <a:ext cx="268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К а з а х с т а 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467480" y="3429000"/>
              <a:ext cx="152424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Кита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04920" y="5029200"/>
              <a:ext cx="152388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Испа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295280" y="6400800"/>
              <a:ext cx="152424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Турц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867280" y="6248520"/>
              <a:ext cx="152424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Кыргызста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62120" y="1295280"/>
              <a:ext cx="152388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Росс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04920" y="3733920"/>
              <a:ext cx="152388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Украи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467480" y="4495680"/>
              <a:ext cx="152424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Узбекиста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238880" y="1295280"/>
              <a:ext cx="152424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СШ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467480" y="2438280"/>
              <a:ext cx="152424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Южная Коре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038480" y="6400800"/>
              <a:ext cx="152424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Таджикиста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819520" y="5715000"/>
              <a:ext cx="152388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Афганиста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265720" y="1143000"/>
              <a:ext cx="15415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Великобрита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819520" y="1143000"/>
              <a:ext cx="152388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Швейцар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 flipV="1">
              <a:off x="4114440" y="1447920"/>
              <a:ext cx="228600" cy="121896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9" name=""/>
            <p:cNvGrpSpPr/>
            <p:nvPr/>
          </p:nvGrpSpPr>
          <p:grpSpPr>
            <a:xfrm>
              <a:off x="0" y="4038480"/>
              <a:ext cx="2286000" cy="914400"/>
              <a:chOff x="0" y="4038480"/>
              <a:chExt cx="2286000" cy="914400"/>
            </a:xfrm>
          </p:grpSpPr>
          <p:sp>
            <p:nvSpPr>
              <p:cNvPr id="340" name=""/>
              <p:cNvSpPr txBox="1"/>
              <p:nvPr/>
            </p:nvSpPr>
            <p:spPr>
              <a:xfrm>
                <a:off x="0" y="4038480"/>
                <a:ext cx="2286000" cy="914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Х/б пряжа, хлопок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 </a:t>
                </a: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-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 </a:t>
                </a: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волокно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Соевая продук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Резинотехнические издел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Свинец и попутная продукция</a:t>
                </a:r>
                <a:r>
                  <a:rPr b="1" lang="ru-RU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152280" y="5334120"/>
              <a:ext cx="2133720" cy="457200"/>
              <a:chOff x="152280" y="5334120"/>
              <a:chExt cx="2133720" cy="457200"/>
            </a:xfrm>
          </p:grpSpPr>
          <p:sp>
            <p:nvSpPr>
              <p:cNvPr id="342" name=""/>
              <p:cNvSpPr txBox="1"/>
              <p:nvPr/>
            </p:nvSpPr>
            <p:spPr>
              <a:xfrm>
                <a:off x="152280" y="5334120"/>
                <a:ext cx="213372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Продукция переработки овечьей шерсти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1219320" y="5791320"/>
              <a:ext cx="1828800" cy="685800"/>
              <a:chOff x="1219320" y="5791320"/>
              <a:chExt cx="1828800" cy="685800"/>
            </a:xfrm>
          </p:grpSpPr>
          <p:sp>
            <p:nvSpPr>
              <p:cNvPr id="344" name=""/>
              <p:cNvSpPr txBox="1"/>
              <p:nvPr/>
            </p:nvSpPr>
            <p:spPr>
              <a:xfrm>
                <a:off x="1219320" y="5791320"/>
                <a:ext cx="1828800" cy="685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Продукция переработки овечьей шерсти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5" name=""/>
            <p:cNvSpPr/>
            <p:nvPr/>
          </p:nvSpPr>
          <p:spPr>
            <a:xfrm>
              <a:off x="2895480" y="5410080"/>
              <a:ext cx="1420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Мука пшенична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038480" y="6095880"/>
              <a:ext cx="1420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Мука пшенична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5638680" y="5181480"/>
              <a:ext cx="2286000" cy="1067040"/>
              <a:chOff x="5638680" y="5181480"/>
              <a:chExt cx="2286000" cy="1067040"/>
            </a:xfrm>
          </p:grpSpPr>
          <p:sp>
            <p:nvSpPr>
              <p:cNvPr id="348" name=""/>
              <p:cNvSpPr txBox="1"/>
              <p:nvPr/>
            </p:nvSpPr>
            <p:spPr>
              <a:xfrm>
                <a:off x="5638680" y="5181480"/>
                <a:ext cx="2286000" cy="1067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36000" rIns="36000" tIns="46800" bIns="4680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Теле- и видео аппаратура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Продукция переработки овечьей шерсти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Мука пшенична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Соевая продук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7543800" y="4800600"/>
              <a:ext cx="1905120" cy="914400"/>
              <a:chOff x="7543800" y="4800600"/>
              <a:chExt cx="1905120" cy="914400"/>
            </a:xfrm>
          </p:grpSpPr>
          <p:sp>
            <p:nvSpPr>
              <p:cNvPr id="350" name=""/>
              <p:cNvSpPr txBox="1"/>
              <p:nvPr/>
            </p:nvSpPr>
            <p:spPr>
              <a:xfrm>
                <a:off x="7543800" y="4800600"/>
                <a:ext cx="1905120" cy="914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Резинотехнические издел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Мука пшенична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Хризотил - асбес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7315200" y="3809880"/>
              <a:ext cx="1981080" cy="457200"/>
              <a:chOff x="7315200" y="3809880"/>
              <a:chExt cx="1981080" cy="457200"/>
            </a:xfrm>
          </p:grpSpPr>
          <p:sp>
            <p:nvSpPr>
              <p:cNvPr id="352" name=""/>
              <p:cNvSpPr txBox="1"/>
              <p:nvPr/>
            </p:nvSpPr>
            <p:spPr>
              <a:xfrm>
                <a:off x="7315200" y="3809880"/>
                <a:ext cx="198108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Продукция переработки овечьей шерсти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"/>
            <p:cNvSpPr/>
            <p:nvPr/>
          </p:nvSpPr>
          <p:spPr>
            <a:xfrm>
              <a:off x="7162920" y="2743200"/>
              <a:ext cx="1981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Икра и рыбы осетровых пород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010280" y="1600200"/>
              <a:ext cx="19814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Хризотил - асбес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Икра и рыбы осетровых пород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5257800" y="1447920"/>
              <a:ext cx="1676520" cy="304560"/>
              <a:chOff x="5257800" y="1447920"/>
              <a:chExt cx="1676520" cy="304560"/>
            </a:xfrm>
          </p:grpSpPr>
          <p:sp>
            <p:nvSpPr>
              <p:cNvPr id="356" name=""/>
              <p:cNvSpPr txBox="1"/>
              <p:nvPr/>
            </p:nvSpPr>
            <p:spPr>
              <a:xfrm>
                <a:off x="5257800" y="1447920"/>
                <a:ext cx="1676520" cy="30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Хлопок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 </a:t>
                </a: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-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 </a:t>
                </a: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волокно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2819520" y="1447920"/>
              <a:ext cx="1676160" cy="457200"/>
              <a:chOff x="2819520" y="1447920"/>
              <a:chExt cx="1676160" cy="457200"/>
            </a:xfrm>
          </p:grpSpPr>
          <p:sp>
            <p:nvSpPr>
              <p:cNvPr id="358" name=""/>
              <p:cNvSpPr txBox="1"/>
              <p:nvPr/>
            </p:nvSpPr>
            <p:spPr>
              <a:xfrm>
                <a:off x="2819520" y="1447920"/>
                <a:ext cx="16761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Свинец и попутная продукция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9" name=""/>
            <p:cNvSpPr/>
            <p:nvPr/>
          </p:nvSpPr>
          <p:spPr>
            <a:xfrm flipH="1" flipV="1">
              <a:off x="2286000" y="1523880"/>
              <a:ext cx="1905120" cy="152424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5180760" y="1447560"/>
              <a:ext cx="685800" cy="114300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5638680" y="1599840"/>
              <a:ext cx="2362320" cy="114300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6019920" y="2743200"/>
              <a:ext cx="2209680" cy="45720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248520" y="3428280"/>
              <a:ext cx="1218960" cy="15228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942880" y="3961800"/>
              <a:ext cx="1523880" cy="68580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09360" y="4267080"/>
              <a:ext cx="1143000" cy="198144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4724280" y="4419000"/>
              <a:ext cx="76320" cy="198108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3580920" y="4114080"/>
              <a:ext cx="762120" cy="160020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1980720" y="3809160"/>
              <a:ext cx="2133720" cy="259092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1828800" y="4114080"/>
              <a:ext cx="1371600" cy="106668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1828440" y="3656880"/>
              <a:ext cx="1676520" cy="22860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250920" y="228600"/>
            <a:ext cx="842472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География товарных потоков проектов Ба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A465-4F8D-4F45-A5E3-A5E8FC9075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304920" y="228600"/>
            <a:ext cx="3124080" cy="916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егиональная структура инвестиционных прое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334120" y="228600"/>
            <a:ext cx="3124080" cy="916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траслевая структура инвестиционных прое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0" y="1447920"/>
          <a:ext cx="4952880" cy="3733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7920"/>
                    <a:ext cx="495288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" name=""/>
          <p:cNvGraphicFramePr/>
          <p:nvPr/>
        </p:nvGraphicFramePr>
        <p:xfrm>
          <a:off x="4410000" y="1219320"/>
          <a:ext cx="4734000" cy="4352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0000" y="1219320"/>
                    <a:ext cx="4734000" cy="43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78" name="logo-о" descr=""/>
          <p:cNvPicPr/>
          <p:nvPr/>
        </p:nvPicPr>
        <p:blipFill>
          <a:blip r:embed="rId5"/>
          <a:stretch/>
        </p:blipFill>
        <p:spPr>
          <a:xfrm>
            <a:off x="179280" y="5950080"/>
            <a:ext cx="863640" cy="771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17C3-E8F9-4E7B-981D-903E2416BB8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214920" y="152280"/>
            <a:ext cx="8616240" cy="764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Дальнейшее развитие и совершенствование деятельности Банка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04920" y="2971800"/>
            <a:ext cx="1828800" cy="15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Новые стратегии и формы финансир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209680" y="3429000"/>
            <a:ext cx="358920" cy="385920"/>
          </a:xfrm>
          <a:custGeom>
            <a:avLst/>
            <a:gdLst>
              <a:gd name="textAreaLeft" fmla="*/ 0 w 358920"/>
              <a:gd name="textAreaRight" fmla="*/ 359280 w 358920"/>
              <a:gd name="textAreaTop" fmla="*/ 0 h 385920"/>
              <a:gd name="textAreaBottom" fmla="*/ 386280 h 385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666880" y="1443240"/>
            <a:ext cx="6248520" cy="443808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520" rIns="65520" tIns="65520" bIns="65520" anchor="ctr">
            <a:spAutoFit/>
          </a:bodyPr>
          <a:p>
            <a:pPr lvl="2" marL="208080" indent="-204840">
              <a:lnSpc>
                <a:spcPct val="100000"/>
              </a:lnSpc>
              <a:spcBef>
                <a:spcPts val="99"/>
              </a:spcBef>
              <a:buClr>
                <a:srgbClr val="faa100"/>
              </a:buClr>
              <a:buFont typeface="Wingdings" charset="2"/>
              <a:buChar char=""/>
              <a:tabLst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ru-RU" sz="2000" spc="-1" strike="noStrike" u="sng">
                <a:solidFill>
                  <a:srgbClr val="800000"/>
                </a:solidFill>
                <a:uFillTx/>
                <a:latin typeface="Arial"/>
              </a:rPr>
              <a:t>Новые инвестиционные приоритеты: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инфраструктура, проекты за рубежом, организация концессионных проектов ГЧ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08080" indent="-204840">
              <a:lnSpc>
                <a:spcPct val="100000"/>
              </a:lnSpc>
              <a:spcBef>
                <a:spcPts val="99"/>
              </a:spcBef>
              <a:buClr>
                <a:srgbClr val="faa100"/>
              </a:buClr>
              <a:buFont typeface="Wingdings" charset="2"/>
              <a:buChar char=""/>
              <a:tabLst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ru-RU" sz="2000" spc="-1" strike="noStrike" u="sng">
                <a:solidFill>
                  <a:srgbClr val="800000"/>
                </a:solidFill>
                <a:uFillTx/>
                <a:latin typeface="Arial"/>
              </a:rPr>
              <a:t>Инвестиционный банкинг: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поддержка казахстанского фондового рынка и развития РФЦА посредством выпуска инфраструктурных и корпоративных облигаций, содействие клиентам Банка по выходу на международные рынки капитала посредством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IPO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, управление денежными активами (планируется выпуск облигаций Банка на сумму 4,7 млрд. тенге на РФЦ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08080" indent="-204840">
              <a:lnSpc>
                <a:spcPct val="100000"/>
              </a:lnSpc>
              <a:spcBef>
                <a:spcPts val="99"/>
              </a:spcBef>
              <a:buClr>
                <a:srgbClr val="faa100"/>
              </a:buClr>
              <a:buFont typeface="Wingdings" charset="2"/>
              <a:buChar char=""/>
              <a:tabLst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ru-RU" sz="2000" spc="-1" strike="noStrike" u="sng">
                <a:solidFill>
                  <a:srgbClr val="800000"/>
                </a:solidFill>
                <a:uFillTx/>
                <a:latin typeface="Arial"/>
              </a:rPr>
              <a:t>Консалтинг по проект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08080" indent="-204840">
              <a:lnSpc>
                <a:spcPct val="100000"/>
              </a:lnSpc>
              <a:spcBef>
                <a:spcPts val="99"/>
              </a:spcBef>
              <a:buClr>
                <a:srgbClr val="faa100"/>
              </a:buClr>
              <a:buFont typeface="Wingdings" charset="2"/>
              <a:buChar char=""/>
              <a:tabLst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logo-о" descr=""/>
          <p:cNvPicPr/>
          <p:nvPr/>
        </p:nvPicPr>
        <p:blipFill>
          <a:blip r:embed="rId1"/>
          <a:stretch/>
        </p:blipFill>
        <p:spPr>
          <a:xfrm>
            <a:off x="108000" y="6013440"/>
            <a:ext cx="792000" cy="708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AEAC-855F-415A-92D6-8C58C16CE0F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2T06:54:54Z</dcterms:created>
  <dc:creator>AnarO</dc:creator>
  <dc:description/>
  <dc:language>en-US</dc:language>
  <cp:lastModifiedBy>zaure</cp:lastModifiedBy>
  <dcterms:modified xsi:type="dcterms:W3CDTF">2007-01-24T08:28:25Z</dcterms:modified>
  <cp:revision>59</cp:revision>
  <dc:subject/>
  <dc:title>Слайд 1</dc:title>
</cp:coreProperties>
</file>